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5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A15-A50E-458F-8186-D54ABA41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68F-9A8F-45BE-9632-F075EA79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3AB-C49C-4F5B-98D7-70A4ED9D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61F6-166B-4B69-9D7A-6CA8EC98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639-2016-491C-970B-8FEB885C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9D5-DCCC-4A5B-8A61-F083F4D2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F5A-B504-4B61-BA94-4A0F1B0B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5E6-3B69-40BB-A16D-8F209AAF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313-8252-4714-9980-37F06673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78B-3672-4389-BF61-1926003A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E21-FC66-4680-9F2D-854B6C33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9AF-015B-4BE1-9057-CDDDD4C9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C91F-0C75-402E-B687-632441AA24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139160" cy="25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учения – основное условие успешного обуч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4716360" y="486252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ец Елена Серге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отива у школьников</a:t>
            </a:r>
            <a:br>
              <a:rPr sz="38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тива достижения как системы самооценк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еалистического уровня притяз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чувства ответствен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уверенности ученика в своих си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фективные реак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от деятель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ое самоутвержд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ость и уны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ученная беспомощность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j0300826"/>
          <p:cNvPicPr/>
          <p:nvPr/>
        </p:nvPicPr>
        <p:blipFill>
          <a:blip r:embed="rId1"/>
          <a:stretch/>
        </p:blipFill>
        <p:spPr>
          <a:xfrm>
            <a:off x="6588000" y="4941720"/>
            <a:ext cx="1805040" cy="123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j0304505"/>
          <p:cNvPicPr/>
          <p:nvPr/>
        </p:nvPicPr>
        <p:blipFill>
          <a:blip r:embed="rId2"/>
          <a:stretch/>
        </p:blipFill>
        <p:spPr>
          <a:xfrm>
            <a:off x="1258920" y="4941720"/>
            <a:ext cx="1805040" cy="1236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развития </a:t>
            </a: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го мотива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рок и кабинет более привлекательными и интересн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й материал должен включаться в «картину мира» ученика, связываться с его жизненным опы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«метод проектов», проблемное обуч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развития </a:t>
            </a: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х мотивов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раб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соревн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объяснение и взаимоконтро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и психологическая безопас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к объяснению нового матери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влияния педагога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ю достижения на уроке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учеников на самооценку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т разного уровня развития мотива дости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туации выб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ответственности за удачи и промах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рефлек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ы мотивационной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ы учения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 уч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 уч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цел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j0216708"/>
          <p:cNvPicPr/>
          <p:nvPr/>
        </p:nvPicPr>
        <p:blipFill>
          <a:blip r:embed="rId1"/>
          <a:stretch/>
        </p:blipFill>
        <p:spPr>
          <a:xfrm>
            <a:off x="6443640" y="3284640"/>
            <a:ext cx="2265480" cy="295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 учения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ее отношение школьника к учению, осознание значимости у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отив учения</a:t>
            </a: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дительная причина, внутреннее личностное побуждение к действию, осознанная заинтересованность в его соверш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целей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ученика на выполнение отдельных действий, входящих в учебную деятельность. Через постановку целей воплощаются мотивы уч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 -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ребёнка  на воздействие внутренних и внешних раздражителей. Эмоции зависят от  особенностей учебной деятельности школьника, они сопровождают процесс учения и  предшествуют ему. Деятельность, сопровождаемая эмоциями , протекает успешнее  той деятельности, к которой человек  принуждает себя холодными доводами рассуд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ы -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-эмоциональное отношение школьника к учению. Для учителя это  соотношение смысла учения, характера мотивов, зрелости целей и особенностей эмоц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ые понятия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Моти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буждение к деятельности, связанное с удовлетворением потребности человека (принадлежит субъекту повед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Мотив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система факторов,  влияющих на поведение человека;            2)  процесс, который стимулирует и поддерживает поведенческую активность на определённом уров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на уроках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форма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и информатики школьники любых классов идут с удовольствием, и связано это пока с тем, что компьютер сам по себе уже является стимулом к изучению предмета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информатика и вычислительная техника, проникнув во многие сферы человеческой деятельности человека, постепенно становятся неотъемлемой частью практически всех профессий, прочно входят в наш быт, образование, культуру. Именно поэтому знание информатики, умение использовать компьютер совершенно необходимы любому образованному человеку в современном обществ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 — область человеческой деятельности, связанной с процессами хранения, преобразования и передачи информа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 задача в процессе изучения информатики — не только научиться пользоваться компьютером, но и осознать его возможности, определить роль, которую он играет в   жизни каждого человека, понять, какую помощь он может оказать   при исследовании окружающего ми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мотив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лляция к жизненному опыту учащих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а на то, что приобретаемое сегодня знание понадобится при изучении какого-то последующего материала, важность овладения которым сомнения не вызывае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облемной ситу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ы, квадворды, сканворды, ребусы, творческие сочинения и т.п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ой подход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нестандартных задач на смекалку и логик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е и практико-ориентированные проек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ы учения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 мотив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мотив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8" descr="j0213279"/>
          <p:cNvPicPr/>
          <p:nvPr/>
        </p:nvPicPr>
        <p:blipFill>
          <a:blip r:embed="rId1"/>
          <a:stretch/>
        </p:blipFill>
        <p:spPr>
          <a:xfrm>
            <a:off x="5884920" y="3789360"/>
            <a:ext cx="2547720" cy="2604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особ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 клас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потребность приобрести новый статус, узнать нов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-4 клас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 переломный эта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-8 клас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меньшение старательности, падение авторитета педаго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9-11 клас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вышение мотивации 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моти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1125360"/>
          <a:ext cx="8064720" cy="4526280"/>
        </p:xfrm>
        <a:graphic>
          <a:graphicData uri="http://schemas.openxmlformats.org/drawingml/2006/table">
            <a:tbl>
              <a:tblPr/>
              <a:tblGrid>
                <a:gridCol w="3816360"/>
                <a:gridCol w="4248360"/>
              </a:tblGrid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Times New Roman"/>
                          <a:ea typeface="Times New Roman"/>
                        </a:rPr>
                        <a:t>Потреб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Times New Roman"/>
                          <a:ea typeface="Times New Roman"/>
                        </a:rPr>
                        <a:t>Мотивы 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актуализация, самосозн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амопознание, развитие представлений о себе и своих возможностя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етические и творческие потре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иятно творческое озарение, приведение в порядок взглядов на ми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интеллектуального уровня (понимание, объясн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Интересно учить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уважение, самовоспри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Достижения (учиться хорошо, чтобы уважать себя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адлежность (любовь, принятие групп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оциальные: учиться, чтобы уважали и люб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опасность (физическая  и психологическ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од угрозой наказаний: учиться, чтобы не наказа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и выживания (пища, вода, жильё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Материальные: учиться, чтобы получить вознагражд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мотивация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ленные в ходе учебной деятельности задачи не только понятны учащимся, но и внутренне приняты ими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j0288928"/>
          <p:cNvPicPr/>
          <p:nvPr/>
        </p:nvPicPr>
        <p:blipFill>
          <a:blip r:embed="rId1"/>
          <a:stretch/>
        </p:blipFill>
        <p:spPr>
          <a:xfrm>
            <a:off x="6012000" y="4292640"/>
            <a:ext cx="230508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ирование -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 мотивационными процессами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развития собственных мотивов ученика (внутренние источники активности ребёнк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е стимулирование, использование системы поощрений и наказаний (метод «кнута и пряника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j0283557"/>
          <p:cNvPicPr/>
          <p:nvPr/>
        </p:nvPicPr>
        <p:blipFill>
          <a:blip r:embed="rId1"/>
          <a:stretch/>
        </p:blipFill>
        <p:spPr>
          <a:xfrm>
            <a:off x="4788000" y="4653000"/>
            <a:ext cx="3924360" cy="1865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j0216574"/>
          <p:cNvPicPr/>
          <p:nvPr/>
        </p:nvPicPr>
        <p:blipFill>
          <a:blip r:embed="rId2"/>
          <a:stretch/>
        </p:blipFill>
        <p:spPr>
          <a:xfrm>
            <a:off x="1692360" y="4508640"/>
            <a:ext cx="1832040" cy="1585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ие источники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1267920"/>
            <a:ext cx="77724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к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к способу 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к людям, организующим процесс или участвующим в нё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самовыражении и самопрезен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самопознании и самовоспит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творческой позиции, проявление нестандартности, создание нового проду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значимости происходящего для себя и для друг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социальном призн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ние наказания, получение выгод и преиму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развития 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 достижения успеха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успех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избегать неудач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j0300840"/>
          <p:cNvPicPr/>
          <p:nvPr/>
        </p:nvPicPr>
        <p:blipFill>
          <a:blip r:embed="rId1"/>
          <a:stretch/>
        </p:blipFill>
        <p:spPr>
          <a:xfrm>
            <a:off x="6156360" y="4170240"/>
            <a:ext cx="2303280" cy="1940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7T16:28:21Z</dcterms:created>
  <dc:creator>User</dc:creator>
  <dc:description/>
  <dc:language>en-US</dc:language>
  <cp:lastModifiedBy>Учитель</cp:lastModifiedBy>
  <dcterms:modified xsi:type="dcterms:W3CDTF">2015-02-24T06:04:10Z</dcterms:modified>
  <cp:revision>9</cp:revision>
  <dc:subject/>
  <dc:title>Слайд 1</dc:title>
</cp:coreProperties>
</file>