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D6A-2591-43B8-B0B3-9A4BC3D9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0A8-986F-4C0D-B13D-58804223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DCD-912F-4C2F-B261-5AAF21C7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2D9-FB17-4F9C-9FCF-679008F3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9A1-6C7D-4E8D-935B-921A35F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118-9386-45BC-ACB8-5D324584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630-DA4D-430C-8242-C8CD1F29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0A8-8716-4E7A-8B8F-452F2C16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776-5235-4D86-986A-BA7F44ED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8BD-3D55-4895-A57A-8DB8133D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6F3-002D-4E7D-AD74-A4703D4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A0C-6723-49CE-96B5-C569795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5FD7-4849-4C69-A1E0-E6AE5A94BC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7139160" cy="25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учения – основное условие успешного обуч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4716360" y="48625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ец Елена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отива у школьников</a:t>
            </a:r>
            <a:br>
              <a:rPr sz="38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тива достижения как системы самооценк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еалистического уровня притяз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ответств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уверенности ученика в своих си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фективные реа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е самоутвержд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сть и уны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ученная беспомощность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j0300826"/>
          <p:cNvPicPr/>
          <p:nvPr/>
        </p:nvPicPr>
        <p:blipFill>
          <a:blip r:embed="rId1"/>
          <a:stretch/>
        </p:blipFill>
        <p:spPr>
          <a:xfrm>
            <a:off x="6588000" y="4941720"/>
            <a:ext cx="1805040" cy="123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304505"/>
          <p:cNvPicPr/>
          <p:nvPr/>
        </p:nvPicPr>
        <p:blipFill>
          <a:blip r:embed="rId2"/>
          <a:stretch/>
        </p:blipFill>
        <p:spPr>
          <a:xfrm>
            <a:off x="1258920" y="4941720"/>
            <a:ext cx="180504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го мотив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рок и кабинет более привлекательными и интерес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материал должен включаться в «картину мира» ученика, связываться с его жизненным опы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«метод проектов», проблемное обу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х мотив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соревн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бъяснение и взаимоконтро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и психологическая безопас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объяснению нов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влияния педагога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ю достижения на уроке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учеников на самооценку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т разного уровня развития мотива дост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выб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ответственности за удачи и промах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рефлек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мотивационной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ы учения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j0216708"/>
          <p:cNvPicPr/>
          <p:nvPr/>
        </p:nvPicPr>
        <p:blipFill>
          <a:blip r:embed="rId1"/>
          <a:stretch/>
        </p:blipFill>
        <p:spPr>
          <a:xfrm>
            <a:off x="6443640" y="3284640"/>
            <a:ext cx="2265480" cy="295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учения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е отношение школьника к учению, осознание значимости у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отив учения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ительная причина, внутреннее личностное побуждение к действию, осознанная заинтересованность в его соверш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елей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ченика на выполнение отдельных действий, входящих в учебную деятельность. Через постановку целей воплощаются мотивы уч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-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ребёнка  на воздействие внутренних и внешних раздражителей. Эмоции зависят от  особенностей учебной деятельности школьника, они сопровождают процесс учения и  предшествуют ему. Деятельность, сопровождаемая эмоциями , протекает успешнее  той деятельности, к которой человек  принуждает себя холодными доводами рассуд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 -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эмоциональное отношение школьника к учению. Для учителя это  соотношение смысла учения, характера мотивов, зрелости целей и особенностей эмоц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поняти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оти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буждение к деятельности, связанное с удовлетворением потребности человека (принадлежит субъекту повед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отив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система факторов,  влияющих на поведение человека;            2)  процесс, который стимулирует и поддерживает поведенческую активность на определённом уров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на уроках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и информатики школьники любых классов идут с удовольствием, и связано это пока с тем, что компьютер сам по себе уже является стимулом к изучению предмет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информатика и вычислительная техника, проникнув во многие сферы человеческой деятельности человека, постепенно становятся неотъемлемой частью практически всех профессий, прочно входят в наш быт, образование, культуру. Именно поэтому знание информатики, умение использовать компьютер совершенно необходимы любому образованному человеку в современном обществ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— область человеческой деятельности, связанной с процессами хранения, преобразования и передачи информ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 задача в процессе изучения информатики — не только научиться пользоваться компьютером, но и осознать его возможности, определить роль, которую он играет в   жизни каждого человека, понять, какую помощь он может оказать   при исследовании окружающего ми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мотив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к жизненному опыту уча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а на то, что приобретаемое сегодня знание понадобится при изучении какого-то последующего материала, важность овладения которым сомнения не вызыва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ой ситу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квадворды, сканворды, ребусы, творческие сочинения и т.п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й подхо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нестандартных задач на смекалку и логик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и практико-ориентированные прое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ы учения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мотив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мотив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j0213279"/>
          <p:cNvPicPr/>
          <p:nvPr/>
        </p:nvPicPr>
        <p:blipFill>
          <a:blip r:embed="rId1"/>
          <a:stretch/>
        </p:blipFill>
        <p:spPr>
          <a:xfrm>
            <a:off x="5884920" y="3789360"/>
            <a:ext cx="254772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 клас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потребность приобрести новый статус, узнать но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-4 клас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 переломный эта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-8 клас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меньшение старательности, падение авторитета педаго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9-11 клас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вышение мотивации 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моти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125360"/>
          <a:ext cx="8064720" cy="4526280"/>
        </p:xfrm>
        <a:graphic>
          <a:graphicData uri="http://schemas.openxmlformats.org/drawingml/2006/table">
            <a:tbl>
              <a:tblPr/>
              <a:tblGrid>
                <a:gridCol w="3816360"/>
                <a:gridCol w="424836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Times New Roman"/>
                          <a:ea typeface="Times New Roman"/>
                        </a:rPr>
                        <a:t>Мотивы 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актуализация, самос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амопознание, развитие представлений о себе и своих возможност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ие и творческие потре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иятно творческое озарение, приведение в порядок взглядов на ми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интеллектуального уровня (понимание, объясн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нтересно учить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уважение, само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остижения (учиться хорошо, чтобы уважать себ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адлежность (любовь, принятие групп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оциальные: учиться, чтобы уважали и люби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сть (физическая  и психологическ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од угрозой наказаний: учиться, чтобы не наказ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и выживания (пища, вода, жильё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Материальные: учиться, чтобы получить вознагражд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мотивация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в ходе учебной деятельности задачи не только понятны учащимся, но и внутренне приняты ими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j0288928"/>
          <p:cNvPicPr/>
          <p:nvPr/>
        </p:nvPicPr>
        <p:blipFill>
          <a:blip r:embed="rId1"/>
          <a:stretch/>
        </p:blipFill>
        <p:spPr>
          <a:xfrm>
            <a:off x="6012000" y="4292640"/>
            <a:ext cx="230508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ние -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 мотивационными процессам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собственных мотивов ученика (внутренние источники активности ребён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е стимулирование, использование системы поощрений и наказаний (метод «кнута и пряника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j0283557"/>
          <p:cNvPicPr/>
          <p:nvPr/>
        </p:nvPicPr>
        <p:blipFill>
          <a:blip r:embed="rId1"/>
          <a:stretch/>
        </p:blipFill>
        <p:spPr>
          <a:xfrm>
            <a:off x="4788000" y="4653000"/>
            <a:ext cx="3924360" cy="186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216574"/>
          <p:cNvPicPr/>
          <p:nvPr/>
        </p:nvPicPr>
        <p:blipFill>
          <a:blip r:embed="rId2"/>
          <a:stretch/>
        </p:blipFill>
        <p:spPr>
          <a:xfrm>
            <a:off x="1692360" y="4508640"/>
            <a:ext cx="1832040" cy="158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е источники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77724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способу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людям, организующим процесс или участвующим в н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амовыражении и самопрезен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амопознании и самовосп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творческой позиции, проявление нестандартности, создание нового проду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значимости происходящего для себя и для друг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оциальном призн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ние наказания, получение выгод и преиму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 достижения успех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успех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избегать неуда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j0300840"/>
          <p:cNvPicPr/>
          <p:nvPr/>
        </p:nvPicPr>
        <p:blipFill>
          <a:blip r:embed="rId1"/>
          <a:stretch/>
        </p:blipFill>
        <p:spPr>
          <a:xfrm>
            <a:off x="6156360" y="4170240"/>
            <a:ext cx="2303280" cy="194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16:28:21Z</dcterms:created>
  <dc:creator>User</dc:creator>
  <dc:description/>
  <dc:language>en-US</dc:language>
  <cp:lastModifiedBy>Учитель</cp:lastModifiedBy>
  <dcterms:modified xsi:type="dcterms:W3CDTF">2015-02-24T06:04:10Z</dcterms:modified>
  <cp:revision>9</cp:revision>
  <dc:subject/>
  <dc:title>Слайд 1</dc:title>
</cp:coreProperties>
</file>