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BAA8-1D72-4547-9E67-744E35D547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FF41-A649-416A-9B4F-26D9FC7C57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473C-9270-4482-A876-5CF7FB095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D7D2-3A7C-46D9-8A87-8AF4B56A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B9D7-D7CF-445D-9219-D8A95EA0F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E7A3-6C22-45B7-9689-69EDAF24E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88B0-EE37-4492-80E1-D41E0C91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F637-233B-421E-A5A7-41F962EE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30CC-B920-4E92-95D8-29E9D9C5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FA6E-889C-4148-AF98-BD58E742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C315-A023-495D-A1EB-BED8403D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F24C-070B-445B-A4F6-1D475105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1CD5-53F5-4C84-B824-AC54A6C9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1250-0633-473D-8885-0586945F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3A4F-ED11-47BA-9EFB-2AF0C650C9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042920" y="404640"/>
            <a:ext cx="7139160" cy="35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разовательное учреждени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редняя общеобразовательная школа № 11 г. Павлово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НПК «Одиссея разума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ДЕЛЕНИЕ: ФИЗИКО-МАТЕМАТИЧЕСКО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КЦИЯ: ИНФОРМАЦИОННО-ТЕХНОЛОГИЧЕСКА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ЕКТНАЯ РАБОТА НА ТЕМУ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ГОТОВКА К ГИА В СД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ODL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4788000" y="3933720"/>
            <a:ext cx="360036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втор: Краснов Максим, 17 л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ласс: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уководитель: Зубец Елена Сергеев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итель информатики и ИК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БОУ СОШ </a:t>
            </a:r>
            <a:r>
              <a:rPr b="0" lang="ba-RU" sz="1600" spc="-1" strike="noStrike">
                <a:solidFill>
                  <a:srgbClr val="000000"/>
                </a:solidFill>
                <a:latin typeface="Times New Roman"/>
              </a:rPr>
              <a:t>№11 г. Павло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24" descr="C:\Documents and Settings\Administrator\Local Settings\Temporary Internet Files\Content.Word\Новый рисунок.bmp"/>
          <p:cNvPicPr/>
          <p:nvPr/>
        </p:nvPicPr>
        <p:blipFill>
          <a:blip r:embed="rId1"/>
          <a:stretch/>
        </p:blipFill>
        <p:spPr>
          <a:xfrm>
            <a:off x="971640" y="404640"/>
            <a:ext cx="6913440" cy="6120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2. Текс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Рисунок 22" descr="C:\Documents and Settings\Administrator\Local Settings\Temporary Internet Files\Content.Word\Новый рисунок.bmp"/>
          <p:cNvPicPr/>
          <p:nvPr/>
        </p:nvPicPr>
        <p:blipFill>
          <a:blip r:embed="rId1"/>
          <a:stretch/>
        </p:blipFill>
        <p:spPr>
          <a:xfrm>
            <a:off x="1979640" y="1341360"/>
            <a:ext cx="5113440" cy="5135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3. Зад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Рисунок 104" descr="C:\Documents and Settings\Administrator\Local Settings\Temporary Internet Files\Content.Word\Новый рисунок.bmp"/>
          <p:cNvPicPr/>
          <p:nvPr/>
        </p:nvPicPr>
        <p:blipFill>
          <a:blip r:embed="rId1"/>
          <a:stretch/>
        </p:blipFill>
        <p:spPr>
          <a:xfrm>
            <a:off x="2627280" y="1341360"/>
            <a:ext cx="3600360" cy="4496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5. Гиперссыл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Рисунок 23" descr="C:\Documents and Settings\Administrator\Local Settings\Temporary Internet Files\Content.Word\Новый рисунок.bmp"/>
          <p:cNvPicPr/>
          <p:nvPr/>
        </p:nvPicPr>
        <p:blipFill>
          <a:blip r:embed="rId1"/>
          <a:stretch/>
        </p:blipFill>
        <p:spPr>
          <a:xfrm>
            <a:off x="1619280" y="1123920"/>
            <a:ext cx="5905440" cy="5478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5. Тес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Рисунок 26" descr="C:\Documents and Settings\Administrator\Local Settings\Temporary Internet Files\Content.Word\Новый рисунок.bmp"/>
          <p:cNvPicPr/>
          <p:nvPr/>
        </p:nvPicPr>
        <p:blipFill>
          <a:blip r:embed="rId1"/>
          <a:stretch/>
        </p:blipFill>
        <p:spPr>
          <a:xfrm>
            <a:off x="1476360" y="1268280"/>
            <a:ext cx="5832360" cy="4988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6. Вопро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Рисунок 102" descr="C:\Documents and Settings\Administrator\Local Settings\Temporary Internet Files\Content.Word\Новый рисунок.bmp"/>
          <p:cNvPicPr/>
          <p:nvPr/>
        </p:nvPicPr>
        <p:blipFill>
          <a:blip r:embed="rId1"/>
          <a:stretch/>
        </p:blipFill>
        <p:spPr>
          <a:xfrm>
            <a:off x="826920" y="3860640"/>
            <a:ext cx="6942240" cy="2475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27" descr="C:\Documents and Settings\Administrator\Local Settings\Temporary Internet Files\Content.Word\Новый рисунок.bmp"/>
          <p:cNvPicPr/>
          <p:nvPr/>
        </p:nvPicPr>
        <p:blipFill>
          <a:blip r:embed="rId2"/>
          <a:stretch/>
        </p:blipFill>
        <p:spPr>
          <a:xfrm>
            <a:off x="1187280" y="1484280"/>
            <a:ext cx="6459840" cy="2102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28" descr="C:\Documents and Settings\Administrator\Local Settings\Temporary Internet Files\Content.Word\Новый рисунок.bmp"/>
          <p:cNvPicPr/>
          <p:nvPr/>
        </p:nvPicPr>
        <p:blipFill>
          <a:blip r:embed="rId1"/>
          <a:stretch/>
        </p:blipFill>
        <p:spPr>
          <a:xfrm>
            <a:off x="2158920" y="2276640"/>
            <a:ext cx="4753080" cy="4244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Создание тренировочного тес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Рисунок 103" descr="C:\Documents and Settings\Administrator\Local Settings\Temporary Internet Files\Content.Word\Новый рисунок.bmp"/>
          <p:cNvPicPr/>
          <p:nvPr/>
        </p:nvPicPr>
        <p:blipFill>
          <a:blip r:embed="rId1"/>
          <a:stretch/>
        </p:blipFill>
        <p:spPr>
          <a:xfrm>
            <a:off x="900000" y="1270080"/>
            <a:ext cx="5759640" cy="3541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1979640" y="4941720"/>
            <a:ext cx="3816360" cy="1562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Банк вопросов тес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Рисунок 105" descr="C:\Documents and Settings\Administrator\Local Settings\Temporary Internet Files\Content.Word\Новый рисунок.bmp"/>
          <p:cNvPicPr/>
          <p:nvPr/>
        </p:nvPicPr>
        <p:blipFill>
          <a:blip r:embed="rId1"/>
          <a:stretch/>
        </p:blipFill>
        <p:spPr>
          <a:xfrm>
            <a:off x="2556000" y="1341360"/>
            <a:ext cx="3384360" cy="4834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Структура темы (модуля) кур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Рисунок 106" descr="C:\Documents and Settings\Administrator\Local Settings\Temporary Internet Files\Content.Word\Новый рисунок.bmp"/>
          <p:cNvPicPr/>
          <p:nvPr/>
        </p:nvPicPr>
        <p:blipFill>
          <a:blip r:embed="rId1"/>
          <a:stretch/>
        </p:blipFill>
        <p:spPr>
          <a:xfrm>
            <a:off x="611280" y="1916280"/>
            <a:ext cx="767880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Системы дистанционного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C:\Users\Учитель\Desktop\moodle.jpg"/>
          <p:cNvPicPr/>
          <p:nvPr/>
        </p:nvPicPr>
        <p:blipFill>
          <a:blip r:embed="rId1"/>
          <a:stretch/>
        </p:blipFill>
        <p:spPr>
          <a:xfrm>
            <a:off x="611280" y="1893960"/>
            <a:ext cx="3398760" cy="1633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Учитель\Desktop\i.jpg"/>
          <p:cNvPicPr/>
          <p:nvPr/>
        </p:nvPicPr>
        <p:blipFill>
          <a:blip r:embed="rId2"/>
          <a:stretch/>
        </p:blipFill>
        <p:spPr>
          <a:xfrm>
            <a:off x="6300720" y="2133720"/>
            <a:ext cx="2200320" cy="1428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Учитель\Desktop\PrometheanPlanet_Small.jpg"/>
          <p:cNvPicPr/>
          <p:nvPr/>
        </p:nvPicPr>
        <p:blipFill>
          <a:blip r:embed="rId3"/>
          <a:stretch/>
        </p:blipFill>
        <p:spPr>
          <a:xfrm>
            <a:off x="611280" y="4076640"/>
            <a:ext cx="2943000" cy="2165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Учитель\Desktop\i (1).jpg"/>
          <p:cNvPicPr/>
          <p:nvPr/>
        </p:nvPicPr>
        <p:blipFill>
          <a:blip r:embed="rId4"/>
          <a:stretch/>
        </p:blipFill>
        <p:spPr>
          <a:xfrm>
            <a:off x="4284720" y="3770280"/>
            <a:ext cx="1884240" cy="1635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Тематический план кур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Рисунок 107" descr="C:\Documents and Settings\Administrator\Local Settings\Temporary Internet Files\Content.Word\Новый рисунок.bmp"/>
          <p:cNvPicPr/>
          <p:nvPr/>
        </p:nvPicPr>
        <p:blipFill>
          <a:blip r:embed="rId1"/>
          <a:stretch/>
        </p:blipFill>
        <p:spPr>
          <a:xfrm>
            <a:off x="1692360" y="1238400"/>
            <a:ext cx="5688000" cy="5013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Итоговый тес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3995640" y="1557360"/>
            <a:ext cx="4753080" cy="244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3273480" cy="4608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5092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Спасибо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за внимание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Сферы применения СД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C:\Users\Учитель\Desktop\scheme_dou.jpg"/>
          <p:cNvPicPr/>
          <p:nvPr/>
        </p:nvPicPr>
        <p:blipFill>
          <a:blip r:embed="rId1"/>
          <a:stretch/>
        </p:blipFill>
        <p:spPr>
          <a:xfrm>
            <a:off x="1038240" y="1052640"/>
            <a:ext cx="7067520" cy="5256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Система дистанционного обучения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ood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71280" y="2637000"/>
            <a:ext cx="554508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Moodle - система дистанционного обучения, включающая в себя средства для разработки дистанционных курс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09520" y="765000"/>
            <a:ext cx="1955880" cy="1482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Times New Roman"/>
              </a:rPr>
              <a:t>Преимущества системы дистанционного обучения Moodl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79280" y="160020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м преимуществом системы дистанционного обучения Moodle является возможность ее бесплатного использования. При этом функциональность системы дистанционного обучения Moodle не уступает коммерческим аналог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ще одним важным преимуществом системы дистанционного обучения Moodle является то, что она распространяется в открытом исходном коде, что позволяет адаптировать ее под специфику задач, которые должны быть решены с ее помощь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троенные в систему дистанционного обучения Moodle средства разработки дистанционных курсов позволяют снизить стоимость разработки учебного контента и решить проблемы совместимости разработанных дистанционных курсов с СД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же к преимуществам системы дистанционного обучения Moodle следует отнести легкость инсталляции, а также обновления при переходе на новые верс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Регистр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Рисунок 99" descr="C:\Documents and Settings\Administrator\Local Settings\Temporary Internet Files\Content.Word\Новый рисунок.bmp"/>
          <p:cNvPicPr/>
          <p:nvPr/>
        </p:nvPicPr>
        <p:blipFill>
          <a:blip r:embed="rId1"/>
          <a:stretch/>
        </p:blipFill>
        <p:spPr>
          <a:xfrm>
            <a:off x="1619280" y="1763640"/>
            <a:ext cx="5473800" cy="3710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Times New Roman"/>
              </a:rPr>
              <a:t>Основы работы в системе дистанционного обучения </a:t>
            </a:r>
            <a:r>
              <a:rPr b="0" i="1" lang="en-US" sz="3600" spc="-1" strike="noStrike">
                <a:solidFill>
                  <a:srgbClr val="0000ff"/>
                </a:solidFill>
                <a:latin typeface="Times New Roman"/>
              </a:rPr>
              <a:t>Moodl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Объект 2" descr=""/>
          <p:cNvPicPr/>
          <p:nvPr/>
        </p:nvPicPr>
        <p:blipFill>
          <a:blip r:embed="rId1"/>
          <a:stretch/>
        </p:blipFill>
        <p:spPr>
          <a:xfrm>
            <a:off x="365040" y="1554120"/>
            <a:ext cx="832176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Добавление кур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Рисунок 100" descr="C:\Documents and Settings\Administrator\Local Settings\Temporary Internet Files\Content.Word\Новый рисунок.bmp"/>
          <p:cNvPicPr/>
          <p:nvPr/>
        </p:nvPicPr>
        <p:blipFill>
          <a:blip r:embed="rId1"/>
          <a:stretch/>
        </p:blipFill>
        <p:spPr>
          <a:xfrm>
            <a:off x="1258920" y="1268280"/>
            <a:ext cx="6049800" cy="5100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Добавление элементов кур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132000" y="1483920"/>
            <a:ext cx="2170080" cy="6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Рисунок 101" descr="C:\Documents and Settings\Administrator\Local Settings\Temporary Internet Files\Content.Word\Новый рисунок.bmp"/>
          <p:cNvPicPr/>
          <p:nvPr/>
        </p:nvPicPr>
        <p:blipFill>
          <a:blip r:embed="rId1"/>
          <a:stretch/>
        </p:blipFill>
        <p:spPr>
          <a:xfrm>
            <a:off x="2124000" y="2146320"/>
            <a:ext cx="4248360" cy="4076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Учитель</cp:lastModifiedBy>
  <cp:lastPrinted>2015-02-25T06:18:33Z</cp:lastPrinted>
  <dcterms:modified xsi:type="dcterms:W3CDTF">2015-02-25T06:47:01Z</dcterms:modified>
  <cp:revision>12</cp:revision>
  <dc:subject/>
  <dc:title>Слайд 1</dc:title>
</cp:coreProperties>
</file>