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8C5-3928-4074-A868-9F06819A56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FA28-011B-40BC-BD4F-6314BC43D1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884-DBBC-4351-A703-DFA73B47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5A2-42B6-4A6A-A489-427166BD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7BF-B1F6-4B9D-A6B1-AED102AA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D21-7E38-449D-95CA-965E8898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965-D67E-4483-936D-2794D4CC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5D9-377C-4B38-8950-A9B87B0B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8C4-1E63-4EF3-A9CD-D8371A84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A85-D8A7-49A7-ACA3-F86E0072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466-DB9D-4652-A042-88044D4B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13B-8832-4F00-815A-3F93EE9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2CD-A8B5-4EE6-9D0C-A88FE617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C2C-2CDA-46B6-802B-0013E4B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B620-ADF5-4F7B-A6E9-4BC8E8E6FE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42920" y="404640"/>
            <a:ext cx="713916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 № 11 г. Павлово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НПК «Одиссея разум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ДЕЛЕНИЕ: ФИЗИКО-МАТЕМАТИЧЕСК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КЦИЯ: ИНФОРМАЦИОННО-ТЕХНОЛОГИЧЕСКА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НАЯ РАБОТА НА ТЕМУ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КА К ГИА В СД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ODL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788000" y="3933720"/>
            <a:ext cx="3600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: Краснов Максим, 17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Зубец Елена Сергее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информатики и ИК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БОУ СОШ </a:t>
            </a:r>
            <a:r>
              <a:rPr b="0" lang="ba-RU" sz="1600" spc="-1" strike="noStrike">
                <a:solidFill>
                  <a:srgbClr val="000000"/>
                </a:solidFill>
                <a:latin typeface="Times New Roman"/>
              </a:rPr>
              <a:t>№11 г. Павло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4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971640" y="404640"/>
            <a:ext cx="691344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2. Тек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22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979640" y="1341360"/>
            <a:ext cx="5113440" cy="513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3.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104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627280" y="1341360"/>
            <a:ext cx="360036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5. Гиперссыл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Рисунок 23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619280" y="1123920"/>
            <a:ext cx="5905440" cy="547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5.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26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476360" y="1268280"/>
            <a:ext cx="5832360" cy="498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6. В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102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826920" y="3860640"/>
            <a:ext cx="6942240" cy="2475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7" descr="C:\Documents and Settings\Administrator\Local Settings\Temporary Internet Files\Content.Word\Новый рисунок.bmp"/>
          <p:cNvPicPr/>
          <p:nvPr/>
        </p:nvPicPr>
        <p:blipFill>
          <a:blip r:embed="rId2"/>
          <a:stretch/>
        </p:blipFill>
        <p:spPr>
          <a:xfrm>
            <a:off x="1187280" y="1484280"/>
            <a:ext cx="6459840" cy="210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8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158920" y="2276640"/>
            <a:ext cx="4753080" cy="4244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оздание тренировочного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103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900000" y="1270080"/>
            <a:ext cx="5759640" cy="354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979640" y="4941720"/>
            <a:ext cx="3816360" cy="1562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Банк вопросов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05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556000" y="1341360"/>
            <a:ext cx="3384360" cy="4834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труктура темы (модуля)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106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611280" y="1916280"/>
            <a:ext cx="76788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истемы дистанционного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C:\Users\Учитель\Desktop\moodle.jpg"/>
          <p:cNvPicPr/>
          <p:nvPr/>
        </p:nvPicPr>
        <p:blipFill>
          <a:blip r:embed="rId1"/>
          <a:stretch/>
        </p:blipFill>
        <p:spPr>
          <a:xfrm>
            <a:off x="611280" y="1893960"/>
            <a:ext cx="3398760" cy="163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Учитель\Desktop\i.jpg"/>
          <p:cNvPicPr/>
          <p:nvPr/>
        </p:nvPicPr>
        <p:blipFill>
          <a:blip r:embed="rId2"/>
          <a:stretch/>
        </p:blipFill>
        <p:spPr>
          <a:xfrm>
            <a:off x="6300720" y="2133720"/>
            <a:ext cx="2200320" cy="14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Учитель\Desktop\PrometheanPlanet_Small.jpg"/>
          <p:cNvPicPr/>
          <p:nvPr/>
        </p:nvPicPr>
        <p:blipFill>
          <a:blip r:embed="rId3"/>
          <a:stretch/>
        </p:blipFill>
        <p:spPr>
          <a:xfrm>
            <a:off x="611280" y="4076640"/>
            <a:ext cx="2943000" cy="216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Учитель\Desktop\i (1).jpg"/>
          <p:cNvPicPr/>
          <p:nvPr/>
        </p:nvPicPr>
        <p:blipFill>
          <a:blip r:embed="rId4"/>
          <a:stretch/>
        </p:blipFill>
        <p:spPr>
          <a:xfrm>
            <a:off x="4284720" y="3770280"/>
            <a:ext cx="188424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Тематический план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107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692360" y="1238400"/>
            <a:ext cx="5688000" cy="501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Итоговый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475308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27348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феры применения СД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Users\Учитель\Desktop\scheme_dou.jpg"/>
          <p:cNvPicPr/>
          <p:nvPr/>
        </p:nvPicPr>
        <p:blipFill>
          <a:blip r:embed="rId1"/>
          <a:stretch/>
        </p:blipFill>
        <p:spPr>
          <a:xfrm>
            <a:off x="1038240" y="1052640"/>
            <a:ext cx="706752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истема дистанционного обучения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o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71280" y="2637000"/>
            <a:ext cx="554508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Moodle - система дистанционного обучения, включающая в себя средства для разработки дистанционных кур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9520" y="765000"/>
            <a:ext cx="1955880" cy="1482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Преимущества системы дистанционного обучения Mood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 преимуществом системы дистанционного обучения Moodle является возможность ее бесплатного использования. При этом функциональность системы дистанционного обучения Moodle не уступает коммерческим аналог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е одним важным преимуществом системы дистанционного обучения Moodle является то, что она распространяется в открытом исходном коде, что позволяет адаптировать ее под специфику задач, которые должны быть решены с ее помощ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троенные в систему дистанционного обучения Moodle средства разработки дистанционных курсов позволяют снизить стоимость разработки учебного контента и решить проблемы совместимости разработанных дистанционных курсов с С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же к преимуществам системы дистанционного обучения Moodle следует отнести легкость инсталляции, а также обновления при переходе на новые верс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егист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99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619280" y="1763640"/>
            <a:ext cx="5473800" cy="3710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imes New Roman"/>
              </a:rPr>
              <a:t>Основы работы в системе дистанционного обучения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Mood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Объект 2" descr=""/>
          <p:cNvPicPr/>
          <p:nvPr/>
        </p:nvPicPr>
        <p:blipFill>
          <a:blip r:embed="rId1"/>
          <a:stretch/>
        </p:blipFill>
        <p:spPr>
          <a:xfrm>
            <a:off x="365040" y="1554120"/>
            <a:ext cx="83217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обавление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100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1258920" y="1268280"/>
            <a:ext cx="6049800" cy="510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обавление элементов кур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2000" y="1483920"/>
            <a:ext cx="217008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101" descr="C:\Documents and Settings\Administrator\Local Settings\Temporary Internet Files\Content.Word\Новый рисунок.bmp"/>
          <p:cNvPicPr/>
          <p:nvPr/>
        </p:nvPicPr>
        <p:blipFill>
          <a:blip r:embed="rId1"/>
          <a:stretch/>
        </p:blipFill>
        <p:spPr>
          <a:xfrm>
            <a:off x="2124000" y="2146320"/>
            <a:ext cx="424836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Учитель</cp:lastModifiedBy>
  <cp:lastPrinted>2015-02-25T06:18:33Z</cp:lastPrinted>
  <dcterms:modified xsi:type="dcterms:W3CDTF">2015-02-25T06:47:01Z</dcterms:modified>
  <cp:revision>12</cp:revision>
  <dc:subject/>
  <dc:title>Слайд 1</dc:title>
</cp:coreProperties>
</file>