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2.gif" ContentType="image/gif"/>
  <Override PartName="/ppt/media/image29.jpeg" ContentType="image/jpeg"/>
  <Override PartName="/ppt/media/image6.gif" ContentType="image/gif"/>
  <Override PartName="/ppt/media/image10.png" ContentType="image/png"/>
  <Override PartName="/ppt/media/image27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24.jpeg" ContentType="image/jpeg"/>
  <Override PartName="/ppt/media/image15.png" ContentType="image/png"/>
  <Override PartName="/ppt/media/image28.gif" ContentType="image/gif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7980-2FBC-43D7-B223-CD6BE2AC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CDD1-A0C6-4361-910A-B3A0F99E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E50B-4C36-4CDE-943C-F96B5B3C1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6C99-9311-4E58-9477-180E62D8C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E654-9670-49D2-BF1A-B714B22E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F7DC-489E-4A68-96C3-158B545B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AEB6-37BB-49DD-A271-38958DF9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9106-246E-457C-9B49-550CA29F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167F-8025-4A69-9896-77E95E7B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E52E-F7F7-4930-8600-F7A08590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7330-4D34-409A-B5BD-7F9F6461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04BD-0188-4C62-AD8C-42843993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FE7A-BB29-44BF-B1A8-FECF801B5D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gif"/><Relationship Id="rId3" Type="http://schemas.openxmlformats.org/officeDocument/2006/relationships/image" Target="../media/image29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01069061"/>
          <p:cNvPicPr/>
          <p:nvPr/>
        </p:nvPicPr>
        <p:blipFill>
          <a:blip r:embed="rId1"/>
          <a:srcRect l="4123" t="5361" r="5154" b="528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fire9"/>
          <p:cNvPicPr/>
          <p:nvPr/>
        </p:nvPicPr>
        <p:blipFill>
          <a:blip r:embed="rId2"/>
          <a:stretch/>
        </p:blipFill>
        <p:spPr>
          <a:xfrm>
            <a:off x="0" y="704880"/>
            <a:ext cx="9144000" cy="61531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0" y="2852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Имена, опаленные войн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rekviem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9"/>
          <p:cNvSpPr/>
          <p:nvPr/>
        </p:nvSpPr>
        <p:spPr>
          <a:xfrm>
            <a:off x="0" y="386064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ЗОЯ  КОСМОДЕМЬЯНСКА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Untitled-5(2)"/>
          <p:cNvPicPr/>
          <p:nvPr/>
        </p:nvPicPr>
        <p:blipFill>
          <a:blip r:embed="rId4"/>
          <a:stretch/>
        </p:blipFill>
        <p:spPr>
          <a:xfrm>
            <a:off x="3419640" y="0"/>
            <a:ext cx="2450880" cy="30686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1"/>
          <p:cNvSpPr/>
          <p:nvPr/>
        </p:nvSpPr>
        <p:spPr>
          <a:xfrm>
            <a:off x="250920" y="6093000"/>
            <a:ext cx="86421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01069061"/>
          <p:cNvPicPr/>
          <p:nvPr/>
        </p:nvPicPr>
        <p:blipFill>
          <a:blip r:embed="rId1"/>
          <a:srcRect l="4123" t="5361" r="5154" b="528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468360" y="2133720"/>
            <a:ext cx="842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«О задержании Космодемьянской мне стало известно только 15 января, то есть после освобождения деревни Петрищево, когда нашими частями было обнаружено ее тело. Потом мы виделись с Клубковым - он сказал, что в деревне встретил немцев и ничего не успел сделать. Пошел обратно на место встречи, и его захватили в плен, откуда он бежал. Меня тогда уже удивило, что сам он о Зое не спрашивал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Из протокола допроса Бориса Крайнов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01069061"/>
          <p:cNvPicPr/>
          <p:nvPr/>
        </p:nvPicPr>
        <p:blipFill>
          <a:blip r:embed="rId1"/>
          <a:srcRect l="4123" t="5361" r="5154" b="528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з протокола допроса Василия Клубк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0" y="1125360"/>
            <a:ext cx="9144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«Когда я подходил к зданиям, которые должен был поджечь, то видел, что участки Космодемьянской и Крайнова загорелись. Подойдя к дому, я разбил бутылку зажигательной смеси и бросил ее, но она не загорелась. В это время я увидел невдалеке от себя двух немецких часовых и решил убежать в лес, расположенный в 300 метрах от деревни. Как только я прибежал в лес, на меня навалились два немецких солдата и сдали немецкому офицеру. Он наставил на меня револьвер и потребовал, чтобы я выдал, кто вместе со мной прибыл поджигать деревню. Я рассказал, что нас всего пришло трое, назвал имена Крайнова и Космодемьянской. Офицер немедленно отдал какое-то приказание и через какое-то время привели Зою. Ее спрашивали, как она поджигала деревню. Космодемьянская отвечала, что деревню она не поджигала. После этого офицер начал избивать ее и требовал показаний, она молчала, и тогда ее раздели догола и в течение 2-3 часов избивали резиновыми палками. Но Космодемьянская говорила одно: "Убейте меня, я вам ничего не расскажу". Даже имени своего не назвала. Твердила, что зовут ее Таня. После чего ее увели, и я ее больше не видел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01069061"/>
          <p:cNvPicPr/>
          <p:nvPr/>
        </p:nvPicPr>
        <p:blipFill>
          <a:blip r:embed="rId1"/>
          <a:srcRect l="4123" t="5361" r="5154" b="528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g545"/>
          <p:cNvPicPr/>
          <p:nvPr/>
        </p:nvPicPr>
        <p:blipFill>
          <a:blip r:embed="rId2"/>
          <a:stretch/>
        </p:blipFill>
        <p:spPr>
          <a:xfrm>
            <a:off x="539640" y="333360"/>
            <a:ext cx="8282160" cy="6120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01069061"/>
          <p:cNvPicPr/>
          <p:nvPr/>
        </p:nvPicPr>
        <p:blipFill>
          <a:blip r:embed="rId1"/>
          <a:srcRect l="4123" t="5361" r="5154" b="5281"/>
          <a:stretch/>
        </p:blipFill>
        <p:spPr>
          <a:xfrm>
            <a:off x="0" y="-2700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179280" y="1197000"/>
            <a:ext cx="579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 основании этих событий пленения Зои Космодемьянской в начале 1990-х гг. Была сконструирована сенсационная верс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b9043"/>
          <p:cNvPicPr/>
          <p:nvPr/>
        </p:nvPicPr>
        <p:blipFill>
          <a:blip r:embed="rId2"/>
          <a:stretch/>
        </p:blipFill>
        <p:spPr>
          <a:xfrm>
            <a:off x="6284880" y="115920"/>
            <a:ext cx="2751120" cy="4032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7" name="Picture 5" descr="burnedvillage"/>
          <p:cNvPicPr/>
          <p:nvPr/>
        </p:nvPicPr>
        <p:blipFill>
          <a:blip r:embed="rId3"/>
          <a:stretch/>
        </p:blipFill>
        <p:spPr>
          <a:xfrm>
            <a:off x="684360" y="4138560"/>
            <a:ext cx="7569000" cy="2719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01069061"/>
          <p:cNvPicPr/>
          <p:nvPr/>
        </p:nvPicPr>
        <p:blipFill>
          <a:blip r:embed="rId1"/>
          <a:srcRect l="4123" t="5361" r="5154" b="528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179280" y="11592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ассказывают деревенские жители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img15"/>
          <p:cNvPicPr/>
          <p:nvPr/>
        </p:nvPicPr>
        <p:blipFill>
          <a:blip r:embed="rId2"/>
          <a:srcRect l="0" t="1478" r="11789" b="5595"/>
          <a:stretch/>
        </p:blipFill>
        <p:spPr>
          <a:xfrm>
            <a:off x="250920" y="1341360"/>
            <a:ext cx="2496960" cy="4321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1" name="Text Box 5"/>
          <p:cNvSpPr/>
          <p:nvPr/>
        </p:nvSpPr>
        <p:spPr>
          <a:xfrm>
            <a:off x="3276720" y="1413000"/>
            <a:ext cx="5616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"Её привели к нам три патруля. Один держал её руки сзади... Один её прижал к печке, а двое стали обыскивать. Во время обыска были и остальные солдаты, которые жили в хате ( 15-20 человек). Позже старший из них скомандовал: «Русь, марш», и она повернулась и пошла со связанными руками... Больше я ничего не знаю, куда их повели. При допросе переводчика не было. С ней не разговаривали, вопросов ей не задавали. При обыске она стояла с опущенной головой, не улыбалась, не рыдала, ничего не говорила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rekviem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115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01069061"/>
          <p:cNvPicPr/>
          <p:nvPr/>
        </p:nvPicPr>
        <p:blipFill>
          <a:blip r:embed="rId1"/>
          <a:srcRect l="4123" t="5361" r="5154" b="528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179280" y="11592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ассказывают деревенские жители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816360" y="1052640"/>
            <a:ext cx="53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"...Привели её после Седовых. Я топила печь. Смотрю - ведут. Стали допрашив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79280" y="4508640"/>
            <a:ext cx="54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ороли её 4 немца, 4 раза пороли ремнями... Её спрашивали и пороли, она молчит, её опять поро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4d79b726f254"/>
          <p:cNvPicPr/>
          <p:nvPr/>
        </p:nvPicPr>
        <p:blipFill>
          <a:blip r:embed="rId2"/>
          <a:stretch/>
        </p:blipFill>
        <p:spPr>
          <a:xfrm>
            <a:off x="179280" y="765000"/>
            <a:ext cx="3635640" cy="2724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98" name="Picture 10" descr="зоя и саша космод"/>
          <p:cNvPicPr/>
          <p:nvPr/>
        </p:nvPicPr>
        <p:blipFill>
          <a:blip r:embed="rId3"/>
          <a:stretch/>
        </p:blipFill>
        <p:spPr>
          <a:xfrm>
            <a:off x="6012000" y="3284640"/>
            <a:ext cx="2565360" cy="3211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01069061"/>
          <p:cNvPicPr/>
          <p:nvPr/>
        </p:nvPicPr>
        <p:blipFill>
          <a:blip r:embed="rId1"/>
          <a:srcRect l="4123" t="5361" r="5154" b="528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179280" y="11592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ассказывают деревенские жители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genre57_2"/>
          <p:cNvPicPr/>
          <p:nvPr/>
        </p:nvPicPr>
        <p:blipFill>
          <a:blip r:embed="rId2"/>
          <a:stretch/>
        </p:blipFill>
        <p:spPr>
          <a:xfrm>
            <a:off x="3780000" y="2054160"/>
            <a:ext cx="5365440" cy="4803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2" name="Text Box 5"/>
          <p:cNvSpPr/>
          <p:nvPr/>
        </p:nvSpPr>
        <p:spPr>
          <a:xfrm>
            <a:off x="250920" y="98100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"Её привели и посадили на скамейку, и она охнула. Губы у нее были темные-темные, испекшиеся и вздутое лицо на лб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50920" y="2997360"/>
            <a:ext cx="338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инут 20 таскали по улице босиком, позже опять привели. Так, её водили с 10 до 2 часов ночи по улице, по снегу босик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под небом россии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600"/>
                            </p:stCondLst>
                            <p:childTnLst>
                              <p:par>
                                <p:cTn id="174" nodeType="after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21120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01069061"/>
          <p:cNvPicPr/>
          <p:nvPr/>
        </p:nvPicPr>
        <p:blipFill>
          <a:blip r:embed="rId1"/>
          <a:srcRect l="4123" t="5361" r="5154" b="5281"/>
          <a:stretch/>
        </p:blipFill>
        <p:spPr>
          <a:xfrm>
            <a:off x="0" y="-2700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округ виселицы было много германцев и граждан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Kosm1"/>
          <p:cNvPicPr/>
          <p:nvPr/>
        </p:nvPicPr>
        <p:blipFill>
          <a:blip r:embed="rId2"/>
          <a:stretch/>
        </p:blipFill>
        <p:spPr>
          <a:xfrm>
            <a:off x="179280" y="1125360"/>
            <a:ext cx="4062600" cy="5328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8" name="Text Box 5"/>
          <p:cNvSpPr/>
          <p:nvPr/>
        </p:nvSpPr>
        <p:spPr>
          <a:xfrm>
            <a:off x="4356000" y="1700280"/>
            <a:ext cx="478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одвели к виселице, скомандовали расширить круг вокруг виселицы и стали её фотографиро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284720" y="4653000"/>
            <a:ext cx="48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на произнесла: "Товарищи, победа будет за нами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rekviem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01069061"/>
          <p:cNvPicPr/>
          <p:nvPr/>
        </p:nvPicPr>
        <p:blipFill>
          <a:blip r:embed="rId1"/>
          <a:srcRect l="4123" t="5361" r="5154" b="528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900000" y="505764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Ей восемнадцать: скромна, стройна.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Без страха на смерть идёт.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мерть от врага ей не страшна –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а Родину жизнь отда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06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kosm1уап"/>
          <p:cNvPicPr/>
          <p:nvPr/>
        </p:nvPicPr>
        <p:blipFill>
          <a:blip r:embed="rId3"/>
          <a:stretch/>
        </p:blipFill>
        <p:spPr>
          <a:xfrm>
            <a:off x="3132000" y="0"/>
            <a:ext cx="2818080" cy="4968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zoom dir="ou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01069061"/>
          <p:cNvPicPr/>
          <p:nvPr/>
        </p:nvPicPr>
        <p:blipFill>
          <a:blip r:embed="rId1"/>
          <a:srcRect l="4123" t="5361" r="5154" b="528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468360" y="333360"/>
            <a:ext cx="8424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16 февраля 1942 г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ое Космодемьянской присвоили звание Героя Советского Сою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kosmodemyanskaya1"/>
          <p:cNvPicPr/>
          <p:nvPr/>
        </p:nvPicPr>
        <p:blipFill>
          <a:blip r:embed="rId2"/>
          <a:stretch/>
        </p:blipFill>
        <p:spPr>
          <a:xfrm>
            <a:off x="2681280" y="2060640"/>
            <a:ext cx="3598920" cy="4797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01069061"/>
          <p:cNvPicPr/>
          <p:nvPr/>
        </p:nvPicPr>
        <p:blipFill>
          <a:blip r:embed="rId1"/>
          <a:srcRect l="4123" t="5361" r="5154" b="528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zoya"/>
          <p:cNvPicPr/>
          <p:nvPr/>
        </p:nvPicPr>
        <p:blipFill>
          <a:blip r:embed="rId2"/>
          <a:stretch/>
        </p:blipFill>
        <p:spPr>
          <a:xfrm>
            <a:off x="2987640" y="981000"/>
            <a:ext cx="3629160" cy="5327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0" name="Picture 5" descr="USSR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1547640" y="404640"/>
            <a:ext cx="2232360" cy="1595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01069061"/>
          <p:cNvPicPr/>
          <p:nvPr/>
        </p:nvPicPr>
        <p:blipFill>
          <a:blip r:embed="rId1"/>
          <a:srcRect l="4123" t="5361" r="5154" b="528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1835280" y="26028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тветьте на вопросы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1747"/>
          <p:cNvPicPr/>
          <p:nvPr/>
        </p:nvPicPr>
        <p:blipFill>
          <a:blip r:embed="rId2"/>
          <a:stretch/>
        </p:blipFill>
        <p:spPr>
          <a:xfrm>
            <a:off x="6516720" y="2205000"/>
            <a:ext cx="2449440" cy="3024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1" name="Text Box 7"/>
          <p:cNvSpPr/>
          <p:nvPr/>
        </p:nvSpPr>
        <p:spPr>
          <a:xfrm>
            <a:off x="179280" y="1125360"/>
            <a:ext cx="70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каком возрасте совершила свой подвиг Зоя Космодемьянска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0" y="3213000"/>
            <a:ext cx="6300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к называлась деревня, где фашисты поймали партизанку?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08000" y="5373720"/>
            <a:ext cx="7777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 какой целью партизаны поджигали дома в деревне?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01069061"/>
          <p:cNvPicPr/>
          <p:nvPr/>
        </p:nvPicPr>
        <p:blipFill>
          <a:blip r:embed="rId1"/>
          <a:srcRect l="4123" t="5361" r="5154" b="528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1835280" y="26028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тветьте на вопросы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post-1220860886"/>
          <p:cNvPicPr/>
          <p:nvPr/>
        </p:nvPicPr>
        <p:blipFill>
          <a:blip r:embed="rId2"/>
          <a:stretch/>
        </p:blipFill>
        <p:spPr>
          <a:xfrm>
            <a:off x="250920" y="1413000"/>
            <a:ext cx="2928960" cy="4392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7" name="Text Box 5"/>
          <p:cNvSpPr/>
          <p:nvPr/>
        </p:nvSpPr>
        <p:spPr>
          <a:xfrm>
            <a:off x="3635280" y="1268280"/>
            <a:ext cx="550872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к фашисты старались добыть информацию от партизанки?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3635280" y="3573360"/>
            <a:ext cx="55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к расправились немцы с Зоей Космодемьянско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348000" y="5229360"/>
            <a:ext cx="57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кие качества проявились в этой девушке во время допроса и казн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01069061"/>
          <p:cNvPicPr/>
          <p:nvPr/>
        </p:nvPicPr>
        <p:blipFill>
          <a:blip r:embed="rId1"/>
          <a:srcRect l="4123" t="5361" r="5154" b="528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179280" y="981000"/>
            <a:ext cx="57960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кой наградой посмертно удостоена в 1942 году Зоя Космодемьянская?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835280" y="26028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тветьте на вопросы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zoyaа"/>
          <p:cNvPicPr/>
          <p:nvPr/>
        </p:nvPicPr>
        <p:blipFill>
          <a:blip r:embed="rId2"/>
          <a:stretch/>
        </p:blipFill>
        <p:spPr>
          <a:xfrm>
            <a:off x="6084720" y="1700280"/>
            <a:ext cx="2835360" cy="3902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4" name="Text Box 6"/>
          <p:cNvSpPr/>
          <p:nvPr/>
        </p:nvSpPr>
        <p:spPr>
          <a:xfrm>
            <a:off x="179280" y="2852640"/>
            <a:ext cx="57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де находится могила партизанки, Героя Советского Союза Зои Космодемьянской?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79280" y="4869000"/>
            <a:ext cx="597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рывки из какого литературного произведения прозвучали сегодня? Кто автор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01069061"/>
          <p:cNvPicPr/>
          <p:nvPr/>
        </p:nvPicPr>
        <p:blipFill>
          <a:blip r:embed="rId1"/>
          <a:srcRect l="4123" t="5361" r="5154" b="528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8"/>
          <p:cNvSpPr/>
          <p:nvPr/>
        </p:nvSpPr>
        <p:spPr>
          <a:xfrm>
            <a:off x="250920" y="18900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Ы ПОМНИМ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9" descr="1915_s"/>
          <p:cNvPicPr/>
          <p:nvPr/>
        </p:nvPicPr>
        <p:blipFill>
          <a:blip r:embed="rId2"/>
          <a:stretch/>
        </p:blipFill>
        <p:spPr>
          <a:xfrm>
            <a:off x="6084720" y="0"/>
            <a:ext cx="2600640" cy="1878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vechogon"/>
          <p:cNvPicPr/>
          <p:nvPr/>
        </p:nvPicPr>
        <p:blipFill>
          <a:blip r:embed="rId3"/>
          <a:stretch/>
        </p:blipFill>
        <p:spPr>
          <a:xfrm>
            <a:off x="1332000" y="2308320"/>
            <a:ext cx="6827760" cy="4549680"/>
          </a:xfrm>
          <a:prstGeom prst="rect">
            <a:avLst/>
          </a:prstGeom>
          <a:ln w="0">
            <a:noFill/>
          </a:ln>
        </p:spPr>
      </p:pic>
      <p:pic>
        <p:nvPicPr>
          <p:cNvPr id="140" name="rekviem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13494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01069061"/>
          <p:cNvPicPr/>
          <p:nvPr/>
        </p:nvPicPr>
        <p:blipFill>
          <a:blip r:embed="rId1"/>
          <a:srcRect l="4123" t="5361" r="5154" b="528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044284"/>
          <p:cNvPicPr/>
          <p:nvPr/>
        </p:nvPicPr>
        <p:blipFill>
          <a:blip r:embed="rId2"/>
          <a:stretch/>
        </p:blipFill>
        <p:spPr>
          <a:xfrm>
            <a:off x="250920" y="549360"/>
            <a:ext cx="4411440" cy="5472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3" name="Text Box 4"/>
          <p:cNvSpPr/>
          <p:nvPr/>
        </p:nvSpPr>
        <p:spPr>
          <a:xfrm>
            <a:off x="4788000" y="2565360"/>
            <a:ext cx="42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ать Зои Космодемьянс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01069061"/>
          <p:cNvPicPr/>
          <p:nvPr/>
        </p:nvPicPr>
        <p:blipFill>
          <a:blip r:embed="rId1"/>
          <a:srcRect l="4123" t="5361" r="5154" b="528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971640" y="5305320"/>
            <a:ext cx="72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Жизнь была скудна и небог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ети подрастали без от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аленькая мамина зарплата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есяц не дотянешь до кон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20820"/>
          <p:cNvPicPr/>
          <p:nvPr/>
        </p:nvPicPr>
        <p:blipFill>
          <a:blip r:embed="rId2"/>
          <a:stretch/>
        </p:blipFill>
        <p:spPr>
          <a:xfrm>
            <a:off x="2771640" y="0"/>
            <a:ext cx="3754440" cy="5229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01069061"/>
          <p:cNvPicPr/>
          <p:nvPr/>
        </p:nvPicPr>
        <p:blipFill>
          <a:blip r:embed="rId1"/>
          <a:srcRect l="4123" t="5361" r="5154" b="528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611280" y="18900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оя Космодемьянская сделала свой шаг в бессмертие в 1941 г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654_1"/>
          <p:cNvPicPr/>
          <p:nvPr/>
        </p:nvPicPr>
        <p:blipFill>
          <a:blip r:embed="rId2"/>
          <a:stretch/>
        </p:blipFill>
        <p:spPr>
          <a:xfrm>
            <a:off x="1763640" y="1484280"/>
            <a:ext cx="6335640" cy="5145120"/>
          </a:xfrm>
          <a:prstGeom prst="rect">
            <a:avLst/>
          </a:prstGeom>
          <a:ln w="0">
            <a:noFill/>
          </a:ln>
        </p:spPr>
      </p:pic>
      <p:pic>
        <p:nvPicPr>
          <p:cNvPr id="60" name="ballada_o_soldate.mp3" descr=""/>
          <p:cNvPicPr/>
          <p:nvPr/>
        </p:nvPicPr>
        <p:blipFill>
          <a:blip r:embed="rId3"/>
          <a:stretch/>
        </p:blipFill>
        <p:spPr>
          <a:xfrm>
            <a:off x="4788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230897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01069061"/>
          <p:cNvPicPr/>
          <p:nvPr/>
        </p:nvPicPr>
        <p:blipFill>
          <a:blip r:embed="rId1"/>
          <a:srcRect l="4123" t="5361" r="5154" b="528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image_small"/>
          <p:cNvPicPr/>
          <p:nvPr/>
        </p:nvPicPr>
        <p:blipFill>
          <a:blip r:embed="rId2"/>
          <a:stretch/>
        </p:blipFill>
        <p:spPr>
          <a:xfrm>
            <a:off x="0" y="0"/>
            <a:ext cx="4049640" cy="2511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3" name="Text Box 4"/>
          <p:cNvSpPr/>
          <p:nvPr/>
        </p:nvSpPr>
        <p:spPr>
          <a:xfrm>
            <a:off x="0" y="2803680"/>
            <a:ext cx="6192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тояло начало учебного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Был утренний воздух прохладен и слад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леновая, злая, сухая пого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шуршание листьев и шорох тетрад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о в этом учебном году по-друг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Зенитки, взведённые в сквериках рыж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девятом часу ты выходишь из дом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овсем налегке, без тетрадок и книж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не эта дорога твоя незнак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другой стороне двести первая шк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сенней Москвой, по путёвке райком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идёт комсомолка в МК комсом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сенней Москвою, октябрьской Москвою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5Apuwt"/>
          <p:cNvPicPr/>
          <p:nvPr/>
        </p:nvPicPr>
        <p:blipFill>
          <a:blip r:embed="rId3"/>
          <a:stretch/>
        </p:blipFill>
        <p:spPr>
          <a:xfrm>
            <a:off x="6140520" y="1195560"/>
            <a:ext cx="3003480" cy="41781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5" name="proschanie_slavyanki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56764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01069061"/>
          <p:cNvPicPr/>
          <p:nvPr/>
        </p:nvPicPr>
        <p:blipFill>
          <a:blip r:embed="rId1"/>
          <a:srcRect l="4123" t="5361" r="5154" b="528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kosmodemyanskaya"/>
          <p:cNvPicPr/>
          <p:nvPr/>
        </p:nvPicPr>
        <p:blipFill>
          <a:blip r:embed="rId2"/>
          <a:stretch/>
        </p:blipFill>
        <p:spPr>
          <a:xfrm>
            <a:off x="250920" y="1197000"/>
            <a:ext cx="3932280" cy="39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8" name="Text Box 5"/>
          <p:cNvSpPr/>
          <p:nvPr/>
        </p:nvSpPr>
        <p:spPr>
          <a:xfrm>
            <a:off x="4572000" y="4221000"/>
            <a:ext cx="41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ля ликвидирования населенных пунктов, в которых находились немцы, было принято решение бросить немедленно все си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4716360" y="549360"/>
            <a:ext cx="417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разу после начала войны Зоя записалась в добровольцы, и ее определили в разведшкол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01069061"/>
          <p:cNvPicPr/>
          <p:nvPr/>
        </p:nvPicPr>
        <p:blipFill>
          <a:blip r:embed="rId1"/>
          <a:srcRect l="4123" t="5361" r="5154" b="528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324000" y="18900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У деревни Петрищево 22 ноября оказались только трое - Космодемьянская, Клубков и более опытный Борис Крайн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house-on-fire"/>
          <p:cNvPicPr/>
          <p:nvPr/>
        </p:nvPicPr>
        <p:blipFill>
          <a:blip r:embed="rId2"/>
          <a:stretch/>
        </p:blipFill>
        <p:spPr>
          <a:xfrm>
            <a:off x="1547640" y="1484280"/>
            <a:ext cx="6100920" cy="4581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3" name="Text Box 5"/>
          <p:cNvSpPr/>
          <p:nvPr/>
        </p:nvSpPr>
        <p:spPr>
          <a:xfrm>
            <a:off x="250920" y="616572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Зоя должна поджечь дома в южной части дерев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01069061"/>
          <p:cNvPicPr/>
          <p:nvPr/>
        </p:nvPicPr>
        <p:blipFill>
          <a:blip r:embed="rId1"/>
          <a:srcRect l="4123" t="5361" r="5154" b="528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belorusskie%20partizany"/>
          <p:cNvPicPr/>
          <p:nvPr/>
        </p:nvPicPr>
        <p:blipFill>
          <a:blip r:embed="rId2"/>
          <a:stretch/>
        </p:blipFill>
        <p:spPr>
          <a:xfrm>
            <a:off x="2627280" y="71280"/>
            <a:ext cx="4141800" cy="6742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11:48:53Z</dcterms:created>
  <dc:creator>Ershova</dc:creator>
  <dc:description/>
  <dc:language>en-US</dc:language>
  <cp:lastModifiedBy>Admin</cp:lastModifiedBy>
  <dcterms:modified xsi:type="dcterms:W3CDTF">2010-05-10T09:12:47Z</dcterms:modified>
  <cp:revision>63</cp:revision>
  <dc:subject/>
  <dc:title>Слайд 1</dc:title>
</cp:coreProperties>
</file>