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6D1-87E2-4411-A51F-9E54082F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DAF-2DAD-457F-BBA0-3E8C10E0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9B6-02BE-456D-BF23-61D5F4BE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717-BC37-4E48-A48F-59DB52C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A11-2D0A-4927-AA78-022939F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67F-5DCA-4051-B5E0-B61ECEF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F73-3610-4C5D-A8F6-5DDBB18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608-FAEF-4534-8407-11FE444D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0E3-A0E9-4DD9-9B89-A00F91EB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B21-F209-4744-8FAC-4D598D8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56D-F733-46C3-9B9E-590827D3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221-DE96-491B-8BC2-C13F349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91C-CF5F-45B7-8416-E062C5144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01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2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3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5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6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7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8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9:21:08Z</dcterms:created>
  <dc:creator>1</dc:creator>
  <dc:description/>
  <dc:language>en-US</dc:language>
  <cp:lastModifiedBy>1</cp:lastModifiedBy>
  <dcterms:modified xsi:type="dcterms:W3CDTF">2015-04-08T19:22:09Z</dcterms:modified>
  <cp:revision>1</cp:revision>
  <dc:subject/>
  <dc:title>Презентация PowerPoint</dc:title>
</cp:coreProperties>
</file>