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10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gif" ContentType="image/gi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EE83-92E1-44AF-A9A4-1C9739EBF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4E0B-2CD4-46C6-8C13-D43C8F846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6D62-62BC-4377-B44B-617C4A090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744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288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36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744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288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D599-CF52-49BB-ABC0-48D5EB404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BD694-8F6E-45D5-B205-FE40CAC356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AE8E8-AA0A-4DAD-8384-055F6ADCDD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977FB-C525-4DAB-B385-764ADC5D71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0FC3C-A54A-47FD-8D3C-FE343A3A94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748CE-9A89-4B41-8252-922C5A4101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B8DD8-E592-43D0-BF7D-7F5A06BAE6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1DDC3-EE37-4C18-A9ED-96A7B082C6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6703-5AAD-438D-84D5-AB3E1CFA4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68DA0-89FD-459D-AB7D-C7896B986F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832D2-5BC3-49AA-9619-37FAE5BCC3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200D6-1C17-41DF-84B8-70AE657E63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272F2-D781-493A-B3E3-1BAB5E72EA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744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288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36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744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288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38ED5-B8C9-4478-9C2E-38D39DE52A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22C-4CE4-456F-A297-60127E44B2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76DC-74DF-44B7-8D09-DF22F67D7C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CA8-FF52-4EAC-A683-2514472EB8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A4CE-6815-4579-B895-6FA927F946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D60A-651D-4657-95EF-905E85F80A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A4B7-220C-4AC9-9B2B-F046A1EBA8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F952-4B08-4371-94BF-1DF288012B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9787-0444-4AC4-A5DF-0AFA5A763A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F03E-8184-4135-ABFD-3B4FCCA407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613-6CEB-4868-A51E-AE9B0F548E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EDE-5408-463D-87CF-42DDB26917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057F-1837-4898-85B3-786020D739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744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288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36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744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288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8B8-1749-489E-9637-7B6C4512C3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8CF04-BE88-4B1A-B1E4-EA75A4ED48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46D16-0D38-4F01-8991-124561FE67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13B3E-AA3D-440C-9390-7BCC6BCC3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7F69-FE42-4C8E-BE32-96DA117F6A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3914E-B1A5-47F9-8D3C-66CF673AF0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1E7A4-6C49-4170-87AE-64D903DB64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CD94A-DE87-4144-89B4-57FD880ABFE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B6731-D30B-4286-A54B-9BE4F20E31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3B3F3-B6C7-49E8-B3B3-2B2FA0B76C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52ED0-FA61-45F6-A402-DFFA3148418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EB321-4883-4CDD-BDA2-8B4CBD9D8D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FD71B-1F3B-45E9-BB76-5A838A8A75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744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288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36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744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288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7EAF4-469A-4A62-8A26-33D6ED0AC30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0D3DD-0799-497D-9C57-7EF906DAB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BA6E-484E-4233-BF2A-42B8CA7F1A1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FCE86-A260-405E-909C-82AAD5BCA93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F0B4E-4453-45CB-8AB4-94A457001F4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2B71A-01DB-4A87-BA09-3569141ADF7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1054D-B6DF-499B-9EDB-0397DDE237C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1FC54-164F-4A8D-B334-74B48460182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DEC38-2BFA-49E8-B607-44F0E5E3216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8C670-E72B-4627-93DA-E628D3ECB74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77EE5-E089-4E85-85DA-13CF65B20F6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09F5A-3C44-41D6-A44F-9C2FB6A9172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F5AC2-D18F-4C6C-8A29-91AF1D68D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9FCA-E6BE-4CBC-99FF-42B70101D2B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744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288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36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744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288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AD10C-1CD4-4788-83F7-0CC40F23198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58F9-D833-4542-81E7-5445226469C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621D-4D3F-4363-A519-7DB3526E0B6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D63E-0D0C-4523-A326-2B4DF422341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E9A5-7CDB-434C-A764-E59241576A6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6517-B31B-4CB5-B5F4-863D0DCA9B1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5A14-BEDE-4D9C-AA51-B837598DC97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2140-B8DD-4C24-82F4-7F3351FD7F1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BF30-6C11-4FE6-858B-71094C33948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B0DF-7525-4CC8-A1B5-56E5BC5B8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4BDF-13F2-455A-B2C3-97E231FA655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7704-0F9F-461A-A229-FF889242956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9A18-A562-44D9-A648-FAE392386A4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744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288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36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744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288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4BC4-283C-4FFF-B971-17684DFBC59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2FEFC8-BC2B-4410-829A-D1C8EB375ED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A024F3-0107-4320-9D97-23AF9E8D4E1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CAE701-707C-4864-8385-290F91A8CE3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A4FA6D-0CEE-4073-8C37-AA0E512A53A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A32A7C-CC54-49B7-8A5B-72F5232074E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A85E38-1E56-4AAC-A995-38491F4A5CC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3CCAAE-50A7-4D5A-B206-587EE2366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A05B-9FC5-4208-B445-8AD944DADAA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0571A2-3E9E-4161-96E2-D99BDB276F6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4B9FB1-2277-475B-91CD-160FBDA4744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B1B8F9-F194-44A3-B354-F92C3D7EA91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4AD175-3541-43FF-B9D0-8780A497F41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744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288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36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744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288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869575-7C2C-4FD1-B71F-369A2A8A65F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132EC-07C3-4652-A17F-7091000D7B1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80AA6-A2DA-480B-9EBE-343849BBEB3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13F99-A4C3-4406-A597-B43B756D9A0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0ED75-E75A-4982-9284-4573DF43373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28EBC-95E8-4F39-8468-C2FAC5896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D031-E83E-49FF-8854-A818CD59AD1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6480"/>
            <a:ext cx="814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BF111-9E8D-4A87-B754-DD45BA3623A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BDEEC-1B7A-4D20-92CA-4A16AB001F2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68B1D-11FB-4A50-9C1B-C2AEC0AC95E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6527C-1CF9-4047-9A23-E8AC4F17611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360" y="3961440"/>
            <a:ext cx="81486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BF78D-914C-4B5C-9918-F56643725B0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87640" y="15998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36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87640" y="3961440"/>
            <a:ext cx="3976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BAEE3-4EF1-43FA-9C5D-92467E39A56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36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744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2880" y="15998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36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744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2880" y="3961440"/>
            <a:ext cx="26236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55A0E-DE14-479B-87FA-2BEB3F19A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6095880" y="6245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1208160"/>
            <a:ext cx="528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45AD2-8C3B-4A9D-BF06-349060DA378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068880"/>
            <a:ext cx="205416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8000640" y="228240"/>
            <a:ext cx="833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775f55"/>
                </a:solidFill>
                <a:latin typeface="Calibr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2B4D7FE-B0D2-4614-B7B9-40C7601B4D93}" type="slidenum">
              <a:rPr b="1" lang="ru-RU" sz="1400" spc="-1" strike="noStrike">
                <a:solidFill>
                  <a:srgbClr val="775f55"/>
                </a:solidFill>
                <a:latin typeface="Calibri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6248520"/>
            <a:ext cx="2664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-360" y="1752480"/>
            <a:ext cx="1290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4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7F6696A-9C84-4D4C-ACC4-15211E5F3669}" type="slidenum">
              <a:rPr b="1" lang="ru-RU" sz="24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6248520"/>
            <a:ext cx="2664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4"/>
          </p:nvPr>
        </p:nvSpPr>
        <p:spPr>
          <a:xfrm>
            <a:off x="0" y="1234800"/>
            <a:ext cx="528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F1E6FD-5F41-4B77-A45B-EC3903C6F780}" type="slidenum">
              <a:rPr b="1" lang="ru-RU" sz="14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6248520"/>
            <a:ext cx="2664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5"/>
          </p:nvPr>
        </p:nvSpPr>
        <p:spPr>
          <a:xfrm>
            <a:off x="0" y="1234800"/>
            <a:ext cx="528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14B5FE-105E-43CB-BFA2-33DCD292274D}" type="slidenum">
              <a:rPr b="1" lang="ru-RU" sz="14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6248520"/>
            <a:ext cx="2664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6"/>
          </p:nvPr>
        </p:nvSpPr>
        <p:spPr>
          <a:xfrm>
            <a:off x="0" y="6248160"/>
            <a:ext cx="52848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775f55"/>
                </a:solidFill>
                <a:latin typeface="Calibr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BFEA3A-F3DB-4A1C-ABEA-4A4563A7C2CA}" type="slidenum">
              <a:rPr b="1" lang="ru-RU" sz="1400" spc="-1" strike="noStrike">
                <a:solidFill>
                  <a:srgbClr val="775f55"/>
                </a:solidFill>
                <a:latin typeface="Calibri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/>
          <p:nvPr/>
        </p:nvSpPr>
        <p:spPr>
          <a:xfrm>
            <a:off x="6248520" y="6248520"/>
            <a:ext cx="2663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7"/>
          </p:nvPr>
        </p:nvSpPr>
        <p:spPr>
          <a:xfrm>
            <a:off x="0" y="4667400"/>
            <a:ext cx="14428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8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3320798-F996-40E6-946F-B180D222E02D}" type="slidenum">
              <a:rPr b="1" lang="ru-RU" sz="28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480"/>
            <a:ext cx="814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360" y="1599840"/>
            <a:ext cx="81486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/>
          <p:nvPr/>
        </p:nvSpPr>
        <p:spPr>
          <a:xfrm>
            <a:off x="6553080" y="6248520"/>
            <a:ext cx="2206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8"/>
          </p:nvPr>
        </p:nvSpPr>
        <p:spPr>
          <a:xfrm>
            <a:off x="6411960" y="-360"/>
            <a:ext cx="528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3661DA-45DC-4EAF-85DB-46604A573A5D}" type="slidenum">
              <a:rPr b="1" lang="ru-RU" sz="14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-6zfjESxMgI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nfourok.ru/site/go?href=%23sdfootnote1sym" TargetMode="External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160720" y="71280"/>
            <a:ext cx="5865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35313"/>
                </a:solidFill>
                <a:latin typeface="Arial"/>
              </a:rPr>
              <a:t>Управление образования Сосновского муниципальн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835313"/>
                </a:solidFill>
                <a:latin typeface="Arial"/>
              </a:rPr>
              <a:t>МБОУ Сосновская средняя общеобразовательная школа №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19040" y="144360"/>
            <a:ext cx="1309680" cy="1295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806480" y="798480"/>
            <a:ext cx="640080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Областной этап конкур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c4e10"/>
                </a:solidFill>
                <a:latin typeface="Arial"/>
              </a:rPr>
              <a:t>«Учитель года – 2015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496800" y="1917720"/>
            <a:ext cx="8431200" cy="24750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511280" y="4560840"/>
            <a:ext cx="640080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Конкурсное задание  «Методический семинар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учителя русского языка и литерат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c4e10"/>
                </a:solidFill>
                <a:latin typeface="Arial"/>
              </a:rPr>
              <a:t>Лизякиной Ирины Константинов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5280" y="333360"/>
            <a:ext cx="8424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Приёмы технологии «Развития критического мышления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50920" y="466560"/>
          <a:ext cx="8713800" cy="6512040"/>
        </p:xfrm>
        <a:graphic>
          <a:graphicData uri="http://schemas.openxmlformats.org/drawingml/2006/table">
            <a:tbl>
              <a:tblPr/>
              <a:tblGrid>
                <a:gridCol w="1441440"/>
                <a:gridCol w="2016000"/>
                <a:gridCol w="2016000"/>
                <a:gridCol w="3240360"/>
              </a:tblGrid>
              <a:tr h="500400"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чек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п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ятельност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ятельност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щихс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ы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емы и метод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 Вызов: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актуализация имеющихся знаний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робуждение интереса к получению новой информации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остановка учеником собственных целей обучени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равлена на вызов у учащихся уже имеющихся знаний по изучаемому вопросу, активизацию их деятельности, мотивацию к дальнейшей работ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ик «вспоминает», что ему известно по изучаемому вопросу (делает предположения), систематизирует информацию до изучения нового материала, задает вопросы, на которые хочет получить ответ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ление списка «известной информации»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каз-предположение по ключевым словам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стематизация материала (графическая): кластеры, схемы, таблицы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ные и неверные утверждения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путанные логические цепочки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зговая атака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лемные вопросы, и т.д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</a:tr>
              <a:tr h="466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ция, полученная на стадии вызова, выслушивается, записывается, обсуждается.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б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я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либ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арах или группа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Осмысление содержания: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олучение новой информации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корректировка учеником поставленных целей обучени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равлена на сохранение интереса к теме при непосредственной работе с новой информацией, постепенное продвижение от знания «старого» к «новому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ик читает (слушает) текст, используя предложенные учителем активные методы чтения, делает пометки на полях или ведет записи по мере осмысления новой информа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 активного чтения: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нсерт»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фишбоун»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деал»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дение различных записей типа двойных дневников, бортовых журналов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путы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иск ответов на поставленные в первой части урока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</a:tr>
              <a:tr h="652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стадии осмысления содержания осуществляется непосредственный контакт с новой информацией (текст, фильм, лекции, материал параграфа). Работа ведется индивидуально или в парах. В групповой работе должны присутствовать два элемента – индивидуальный поиск и обмен идеями, причем личный поиск непременно предшествует обмену мнениям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96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Рефлексия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размышление, рождение нового знания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постановка учеником новых целей обучения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ю следует: вернуть учащихся к первоначальным записям-предположениям; внести изменения; дать творческие, исследовательские или практические задания на основе изученной информа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щиеся соотносят «новую» информацию со «старой», используя знания, полученные на стадии осмысления содержание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олнение схем, кластеров, таблиц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ановление причинно-следственных связей между блоками информаци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 к ключевым словам, верным и неверным утверждениям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ы на поставленные вопрос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я устных и письменных круглых столо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я различных видов дискуссий, диалого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исание творческих работ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я по отдельным вопросам темы и т.д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</a:tr>
              <a:tr h="475200">
                <a:tc gridSpan="4"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стадии рефлексии осуществляется анализ, творческая переработка, интерпретация изученной информации.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ведется индивидуально, в парах или в группа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84200" y="1989000"/>
            <a:ext cx="8424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98520" indent="-398520">
              <a:tabLst>
                <a:tab algn="l" pos="0"/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tabLst>
                <a:tab algn="l" pos="0"/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 algn="ctr">
              <a:lnSpc>
                <a:spcPct val="100000"/>
              </a:lnSpc>
              <a:tabLst>
                <a:tab algn="l" pos="0"/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4360" y="333360"/>
            <a:ext cx="900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Конструктор урока по ТРК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404640" y="912960"/>
          <a:ext cx="8504280" cy="5159160"/>
        </p:xfrm>
        <a:graphic>
          <a:graphicData uri="http://schemas.openxmlformats.org/drawingml/2006/table">
            <a:tbl>
              <a:tblPr/>
              <a:tblGrid>
                <a:gridCol w="1089360"/>
                <a:gridCol w="873000"/>
                <a:gridCol w="934920"/>
                <a:gridCol w="777960"/>
                <a:gridCol w="860400"/>
                <a:gridCol w="1133640"/>
                <a:gridCol w="807840"/>
                <a:gridCol w="934920"/>
                <a:gridCol w="1092240"/>
              </a:tblGrid>
              <a:tr h="554040">
                <a:tc>
                  <a:txBody>
                    <a:bodyPr lIns="54000" rIns="54000" tIns="16776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6776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6776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6776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6776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6776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6776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6776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6776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6680"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о урока (вызов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ластер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гадка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зговая ата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ежающий результа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нтастическая добав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атрализация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рно – неверно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ус,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ссвор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74880"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яснение нового материал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нутая лекц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ер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 Блум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ман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о предсказан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и по вод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я со стоп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и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08120">
                <a:tc>
                  <a:txBody>
                    <a:bodyPr lIns="54000" rIns="54000" tIns="15912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л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912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д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912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о – мозговой штур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912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контрольных вопрос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912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и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912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люс – минус – интересно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912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ер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912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ви картин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912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ном фантаз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29920"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те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д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ном фантаз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ви картин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атрализац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евая иг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ман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и по вод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062360"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лекс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онец урока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те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гзаг - 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ллектуальная размин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квей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ти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евой прое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ельский прое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ном фантаз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33160"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ашнее зада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д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те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ви картин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ер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и по вод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ном фантаз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с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54000" rIns="5400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думай свой вариан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л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530280" y="849240"/>
            <a:ext cx="1873080" cy="5209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Инсерт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63720" y="961920"/>
            <a:ext cx="935280" cy="2113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43360" y="736560"/>
            <a:ext cx="4608360" cy="74448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Во время чтения текста необходимо попросить учащихся делать на полях пометки, а после прочтения текста заполнить таблицу, где значки станут заголовками граф  таблицы. В таблицу кратко  заносятся сведения из текст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7280" y="176040"/>
            <a:ext cx="83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инципы работы некоторых прием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0280" y="1539720"/>
            <a:ext cx="1944720" cy="6764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Выглядит, как... Звучит, как ...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763720" y="1776240"/>
            <a:ext cx="978120" cy="2556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40200" y="1652760"/>
            <a:ext cx="4511520" cy="76032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Этот прием направлен на «присвоение» понятий, терминов. На стадии вызова учащимся предлагается записать в соответствующие графы зрительные и слуховые ассоциации, которые у них возникают при данном слове, или в связи с данным понятием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0280" y="2355840"/>
            <a:ext cx="1944720" cy="8571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П» – «М» – «И»: таблица «Плюс – минус – интересно».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63720" y="2743200"/>
            <a:ext cx="978120" cy="18900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57480" y="2595600"/>
            <a:ext cx="4494240" cy="61740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овая информация заносится в таблицу, по ходу чтения параграфа или прослушивания лекции заполняются соответствующие граф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763720" y="3524400"/>
            <a:ext cx="978120" cy="2044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41440" y="3371760"/>
            <a:ext cx="1933560" cy="714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Бортовые журнал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57480" y="3371760"/>
            <a:ext cx="4494240" cy="71460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общающее название различных приемов обучающего письма, согласно которым учащиеся во время изучения темы записывают свои мысл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786040" y="4281480"/>
            <a:ext cx="979560" cy="216000"/>
          </a:xfrm>
          <a:prstGeom prst="rightArrow">
            <a:avLst>
              <a:gd name="adj1" fmla="val 50000"/>
              <a:gd name="adj2" fmla="val 50158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9360" y="4264200"/>
            <a:ext cx="1925640" cy="62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Верно – неверно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957480" y="4264200"/>
            <a:ext cx="4494240" cy="62676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общающее название различных приемов обучающего письма, согласно которым учащиеся во время изучения темы записывают свои мысл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20880" y="5276880"/>
            <a:ext cx="978120" cy="21600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49360" y="5043600"/>
            <a:ext cx="1925640" cy="6271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59280" y="5043600"/>
            <a:ext cx="4494240" cy="67788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тихотворение, состоящее из пяти строк. Данное стихотворение пишется по определённым правилам. Составление синквейна требует от ученика умения находить в учебном материале наиболее важные элементы, делать выводы и выражать всё это в кратких заключениях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22680" y="6086520"/>
            <a:ext cx="977760" cy="217440"/>
          </a:xfrm>
          <a:prstGeom prst="rightArrow">
            <a:avLst>
              <a:gd name="adj1" fmla="val 50000"/>
              <a:gd name="adj2" fmla="val 49734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0800" y="5853240"/>
            <a:ext cx="1925640" cy="626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омашка Блум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59280" y="5853240"/>
            <a:ext cx="4494240" cy="62676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шесть лепестков — шесть типов вопросов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219320" y="609480"/>
            <a:ext cx="7315200" cy="106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133720" y="38160"/>
            <a:ext cx="578628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latin typeface="Times New Roman"/>
              </a:rPr>
              <a:t>Применение технологии 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latin typeface="Times New Roman"/>
              </a:rPr>
              <a:t>РКМЧП на уроках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latin typeface="Times New Roman"/>
              <a:ea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4680" y="785880"/>
            <a:ext cx="85993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Вариант урока развития реч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о написанию  или устному написанию сочинения – описания по личным впечатления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703440" y="1405080"/>
          <a:ext cx="7929360" cy="5073480"/>
        </p:xfrm>
        <a:graphic>
          <a:graphicData uri="http://schemas.openxmlformats.org/drawingml/2006/table">
            <a:tbl>
              <a:tblPr/>
              <a:tblGrid>
                <a:gridCol w="1380960"/>
                <a:gridCol w="6548400"/>
              </a:tblGrid>
              <a:tr h="308880"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мет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тор УМ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адыженская  Т.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720"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а 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к развития речи. Подготовка к сочинению-описанию  по личным впечатления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к-моделировани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6520"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182880" bIns="0" anchor="t">
                      <a:noAutofit/>
                    </a:bodyPr>
                    <a:p>
                      <a:pPr marL="331920" indent="-331920">
                        <a:lnSpc>
                          <a:spcPct val="69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31920"/>
                          <a:tab algn="l" pos="779400"/>
                          <a:tab algn="l" pos="1228680"/>
                          <a:tab algn="l" pos="1677960"/>
                          <a:tab algn="l" pos="2127240"/>
                          <a:tab algn="l" pos="2576520"/>
                          <a:tab algn="l" pos="3025800"/>
                          <a:tab algn="l" pos="3475080"/>
                          <a:tab algn="l" pos="3924360"/>
                          <a:tab algn="l" pos="4373640"/>
                          <a:tab algn="l" pos="4822920"/>
                          <a:tab algn="l" pos="5272200"/>
                          <a:tab algn="l" pos="5721480"/>
                          <a:tab algn="l" pos="6170760"/>
                          <a:tab algn="l" pos="6620040"/>
                          <a:tab algn="l" pos="7068960"/>
                          <a:tab algn="l" pos="7518240"/>
                          <a:tab algn="l" pos="7967520"/>
                          <a:tab algn="l" pos="8416800"/>
                          <a:tab algn="l" pos="8866080"/>
                          <a:tab algn="l" pos="93153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ная – формирование у учащихся умений реализовывать новые способы действи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31920" indent="-331920">
                        <a:lnSpc>
                          <a:spcPct val="79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31920"/>
                          <a:tab algn="l" pos="779400"/>
                          <a:tab algn="l" pos="1228680"/>
                          <a:tab algn="l" pos="1677960"/>
                          <a:tab algn="l" pos="2127240"/>
                          <a:tab algn="l" pos="2576520"/>
                          <a:tab algn="l" pos="3025800"/>
                          <a:tab algn="l" pos="3475080"/>
                          <a:tab algn="l" pos="3924360"/>
                          <a:tab algn="l" pos="4373640"/>
                          <a:tab algn="l" pos="4822920"/>
                          <a:tab algn="l" pos="5272200"/>
                          <a:tab algn="l" pos="5721480"/>
                          <a:tab algn="l" pos="6170760"/>
                          <a:tab algn="l" pos="6620040"/>
                          <a:tab algn="l" pos="7068960"/>
                          <a:tab algn="l" pos="7518240"/>
                          <a:tab algn="l" pos="7967520"/>
                          <a:tab algn="l" pos="8416800"/>
                          <a:tab algn="l" pos="8866080"/>
                          <a:tab algn="l" pos="93153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держательная – расширение понятийной базы за счет включения в нее новых элемент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3640"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  урока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190440" bIns="0" anchor="t">
                      <a:noAutofit/>
                    </a:bodyPr>
                    <a:p>
                      <a:pPr algn="just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универсальных учебных действий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Личностные УУД – ценить, воспринимать образ Родины через произведения изобразительного искусства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егулятивные УУД – самостоятельно организовывать своё рабочее место в соответствии с целью выполнения заданий, планировать алгоритм его выполнения, самостоятельно оценивать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знавательные УУД – извлекать информацию, представленную в  иллюстрации; восприятия картину как произведения искусства; уметь передавать художественное, эстетическое и эмоциональное содержание картины; самостоятельно делать выво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оммуникативные УУД – участвовать в диалоге; слушать и понимать других, высказывать свою точку зрения; уметь строить текст в определённой композиционной форме, оформлять свои мысли в устной и письменной речи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43920" rIns="43920" tIns="1828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уемый результат: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182880" bIns="0" anchor="t">
                      <a:noAutofit/>
                    </a:bodyPr>
                    <a:p>
                      <a:pPr marL="331920" indent="-331920">
                        <a:lnSpc>
                          <a:spcPct val="69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31920"/>
                          <a:tab algn="l" pos="779400"/>
                          <a:tab algn="l" pos="1228680"/>
                          <a:tab algn="l" pos="1677960"/>
                          <a:tab algn="l" pos="2127240"/>
                          <a:tab algn="l" pos="2576520"/>
                          <a:tab algn="l" pos="3025800"/>
                          <a:tab algn="l" pos="3475080"/>
                          <a:tab algn="l" pos="3924360"/>
                          <a:tab algn="l" pos="4373640"/>
                          <a:tab algn="l" pos="4822920"/>
                          <a:tab algn="l" pos="5272200"/>
                          <a:tab algn="l" pos="5721480"/>
                          <a:tab algn="l" pos="6170760"/>
                          <a:tab algn="l" pos="6620040"/>
                          <a:tab algn="l" pos="7068960"/>
                          <a:tab algn="l" pos="7518240"/>
                          <a:tab algn="l" pos="7967520"/>
                          <a:tab algn="l" pos="8416800"/>
                          <a:tab algn="l" pos="8866080"/>
                          <a:tab algn="l" pos="93153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чинение-описание; любовь к родному кра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"/>
          <p:cNvGraphicFramePr/>
          <p:nvPr/>
        </p:nvGraphicFramePr>
        <p:xfrm>
          <a:off x="647640" y="1290600"/>
          <a:ext cx="7920000" cy="4662000"/>
        </p:xfrm>
        <a:graphic>
          <a:graphicData uri="http://schemas.openxmlformats.org/drawingml/2006/table">
            <a:tbl>
              <a:tblPr/>
              <a:tblGrid>
                <a:gridCol w="3098880"/>
                <a:gridCol w="2819520"/>
                <a:gridCol w="2001600"/>
              </a:tblGrid>
              <a:tr h="360720">
                <a:tc>
                  <a:txBody>
                    <a:bodyPr lIns="43560" rIns="43560" tIns="213480" bIns="0" anchor="t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3560" rIns="43560" tIns="213480" bIns="0" anchor="t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 обучаю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3560" rIns="43560" tIns="213480" bIns="0" anchor="t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</a:tr>
              <a:tr h="716400">
                <a:tc gridSpan="3">
                  <a:txBody>
                    <a:bodyPr lIns="43560" rIns="43560" tIns="2134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з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ь этапа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включение учащихся в деятельность, создание положительного эмоционального настроя, выделение содержательной област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4880">
                <a:tc>
                  <a:txBody>
                    <a:bodyPr lIns="43560" rIns="43560" tIns="213480" bIns="0" anchor="t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тает стихотворение И.З. Сурикова «Первый снег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ёт вопросы, направленные на определение темы урок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сказывает о системе оценки деятельности на урок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3480" bIns="0" anchor="t">
                      <a:noAutofit/>
                    </a:bodyPr>
                    <a:p>
                      <a:pPr algn="just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ушают стихотворение, определяют тему стихотворения, сопоставляют с реальной картиной за окном и с картинкой на слайде. Отвечают на вопросы учителя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С помощью чего поэт описал состояние природы в момент наступления зимы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Мы можем описать первый снег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Чем мы будем заниматься сегодня на уроке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Описывать первый сне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йд 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34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.Формируют умение  вычленять нужную информац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. Планируют учебное сотрудничество с учителем и сверстниками 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. Осознание собственной деятельности в рамках поставленной задач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. Формирование чувства прекрасного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"/>
          <p:cNvSpPr txBox="1"/>
          <p:nvPr/>
        </p:nvSpPr>
        <p:spPr>
          <a:xfrm>
            <a:off x="2552760" y="576360"/>
            <a:ext cx="4492440" cy="357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latin typeface="Times New Roman"/>
              </a:rPr>
              <a:t>Стадия вызова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latin typeface="Times New Roman"/>
              <a:ea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849240" y="3919680"/>
            <a:ext cx="2533680" cy="17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1219320" y="609480"/>
            <a:ext cx="7315200" cy="106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357720" y="214200"/>
            <a:ext cx="3429000" cy="21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latin typeface="Times New Roman"/>
              </a:rPr>
              <a:t>Стадия осмысления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857160" y="571680"/>
          <a:ext cx="7786800" cy="4836960"/>
        </p:xfrm>
        <a:graphic>
          <a:graphicData uri="http://schemas.openxmlformats.org/drawingml/2006/table">
            <a:tbl>
              <a:tblPr/>
              <a:tblGrid>
                <a:gridCol w="1643040"/>
                <a:gridCol w="3571920"/>
                <a:gridCol w="2571840"/>
              </a:tblGrid>
              <a:tr h="630000">
                <a:tc gridSpan="3">
                  <a:txBody>
                    <a:bodyPr lIns="16920" rIns="16920" tIns="182880" bIns="0" anchor="t">
                      <a:noAutofit/>
                    </a:bodyPr>
                    <a:p>
                      <a:pPr algn="just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Осмысление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ь этапа: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готовка мышления учащихся и организация осознания ими внутренней потребности к построению нового способа действи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3280"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ует работу по повторению теоретического материала необходимого для написания сочинения- описани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ем «тонкие и толстые вопросы»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чают на вопросы учителя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Какие типы речи вы знаете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Что такое описание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Чем оно отличается от других типов речи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Какой тип речи мы можем использовать при написании сочинения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Описание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.Осознанно и произвольно строят речевые высказывания в устной форме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. Умеют строить речевое высказывание, отстаивая свои аргумент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.Самооценка деятельност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. Формирование чувства прекрасного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6600">
                <a:tc>
                  <a:txBody>
                    <a:bodyPr lIns="16920" rIns="16920" tIns="152640" bIns="0" anchor="t">
                      <a:noAutofit/>
                    </a:bodyPr>
                    <a:p>
                      <a:pPr algn="just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являет уровень знаний, создает проблемную ситуацию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ановка проблемного вопрос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вят учебную задачу на основе вопроса учителя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Что необходимо для того, чтобы описывать природу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Наблюдать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.Самостоятельно выделяют познавательную цель, формулируют проблему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.Выстраивают  речевое высказывание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.Самооценка деятельност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. Формирование чувства прекрасного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6240">
                <a:tc>
                  <a:txBody>
                    <a:bodyPr lIns="16920" rIns="16920" tIns="152640" bIns="0" anchor="t">
                      <a:noAutofit/>
                    </a:bodyPr>
                    <a:p>
                      <a:pPr algn="just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ляет алгоритм реализации проекта с помощью фишбоун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ирают нужные термины, выстраивают и проговаривают алгоритм действий при написании сочинения.  (Составляем фишбоун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.Выбирают и формулируют познавательную цель, составляют алгоритм действий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. Комментируют действия по алгоритму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.Самооценка деятельност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. Формирование чувства прекрасного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0840">
                <a:tc>
                  <a:txBody>
                    <a:bodyPr lIns="16920" rIns="16920" tIns="152640" bIns="0" anchor="t">
                      <a:noAutofit/>
                    </a:bodyPr>
                    <a:p>
                      <a:pPr marL="88920">
                        <a:lnSpc>
                          <a:spcPct val="69000"/>
                        </a:lnSpc>
                        <a:tabLst>
                          <a:tab algn="l" pos="0"/>
                          <a:tab algn="l" pos="88920"/>
                          <a:tab algn="l" pos="536400"/>
                          <a:tab algn="l" pos="985680"/>
                          <a:tab algn="l" pos="1434960"/>
                          <a:tab algn="l" pos="1884240"/>
                          <a:tab algn="l" pos="2333520"/>
                          <a:tab algn="l" pos="2782800"/>
                          <a:tab algn="l" pos="3232080"/>
                          <a:tab algn="l" pos="3681360"/>
                          <a:tab algn="l" pos="4130640"/>
                          <a:tab algn="l" pos="4579920"/>
                          <a:tab algn="l" pos="5029200"/>
                          <a:tab algn="l" pos="5478480"/>
                          <a:tab algn="l" pos="5927760"/>
                          <a:tab algn="l" pos="6377040"/>
                          <a:tab algn="l" pos="6826320"/>
                          <a:tab algn="l" pos="7275600"/>
                          <a:tab algn="l" pos="7724880"/>
                          <a:tab algn="l" pos="8174160"/>
                          <a:tab algn="l" pos="8623440"/>
                          <a:tab algn="l" pos="90727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тает отрывок из рассказа Б.Петрова «Разговор о снеге»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ализируют рассказ, отвечая на вопросы учителя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Какие однокоренные слова к слову «снег» подбирает автор текста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Какие ощущения передаёт автор с помощью этих слов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.Формируют  навыки анализа художественного текст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. Проявляют готовность выслушивать все точки зрения и вырабатывать общую позицию. Р.Самооценка деятельност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. Формирование чувства прекрасного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"/>
          <p:cNvSpPr/>
          <p:nvPr/>
        </p:nvSpPr>
        <p:spPr>
          <a:xfrm>
            <a:off x="1152360" y="549756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Arial"/>
              </a:rPr>
              <a:t>Ф И З К У Л Ь Т М И Н У Т К 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2228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52360" y="6119640"/>
            <a:ext cx="61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youtube.com/watch?v=-6zfjESxM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6562800" y="5437080"/>
            <a:ext cx="15015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6742080" y="6107040"/>
            <a:ext cx="204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503280" y="857160"/>
          <a:ext cx="8052840" cy="4156200"/>
        </p:xfrm>
        <a:graphic>
          <a:graphicData uri="http://schemas.openxmlformats.org/drawingml/2006/table">
            <a:tbl>
              <a:tblPr/>
              <a:tblGrid>
                <a:gridCol w="1556640"/>
                <a:gridCol w="3871440"/>
                <a:gridCol w="2624760"/>
              </a:tblGrid>
              <a:tr h="1635120">
                <a:tc>
                  <a:txBody>
                    <a:bodyPr lIns="16920" rIns="16920" tIns="0" bIns="0" anchor="t">
                      <a:noAutofit/>
                    </a:bodyPr>
                    <a:p>
                      <a:pPr marL="88920">
                        <a:lnSpc>
                          <a:spcPct val="102000"/>
                        </a:lnSpc>
                        <a:tabLst>
                          <a:tab algn="l" pos="0"/>
                          <a:tab algn="l" pos="88920"/>
                          <a:tab algn="l" pos="536400"/>
                          <a:tab algn="l" pos="985680"/>
                          <a:tab algn="l" pos="1434960"/>
                          <a:tab algn="l" pos="1884240"/>
                          <a:tab algn="l" pos="2333520"/>
                          <a:tab algn="l" pos="2782800"/>
                          <a:tab algn="l" pos="3232080"/>
                          <a:tab algn="l" pos="3681360"/>
                          <a:tab algn="l" pos="4130640"/>
                          <a:tab algn="l" pos="4579920"/>
                          <a:tab algn="l" pos="5029200"/>
                          <a:tab algn="l" pos="5478480"/>
                          <a:tab algn="l" pos="5927760"/>
                          <a:tab algn="l" pos="6377040"/>
                          <a:tab algn="l" pos="6826320"/>
                          <a:tab algn="l" pos="7275600"/>
                          <a:tab algn="l" pos="7724880"/>
                          <a:tab algn="l" pos="8174160"/>
                          <a:tab algn="l" pos="8623440"/>
                          <a:tab algn="l" pos="90727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анизует работу класса по группам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29000"/>
                        </a:lnSpc>
                        <a:tabLst>
                          <a:tab algn="l" pos="0"/>
                          <a:tab algn="l" pos="88920"/>
                          <a:tab algn="l" pos="536400"/>
                          <a:tab algn="l" pos="985680"/>
                          <a:tab algn="l" pos="1434960"/>
                          <a:tab algn="l" pos="1884240"/>
                          <a:tab algn="l" pos="2333520"/>
                          <a:tab algn="l" pos="2782800"/>
                          <a:tab algn="l" pos="3232080"/>
                          <a:tab algn="l" pos="3681360"/>
                          <a:tab algn="l" pos="4130640"/>
                          <a:tab algn="l" pos="4579920"/>
                          <a:tab algn="l" pos="5029200"/>
                          <a:tab algn="l" pos="5478480"/>
                          <a:tab algn="l" pos="5927760"/>
                          <a:tab algn="l" pos="6377040"/>
                          <a:tab algn="l" pos="6826320"/>
                          <a:tab algn="l" pos="7275600"/>
                          <a:tab algn="l" pos="7724880"/>
                          <a:tab algn="l" pos="8174160"/>
                          <a:tab algn="l" pos="8623440"/>
                          <a:tab algn="l" pos="90727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Посмотрим на снег глазами художника, попытаемся пощупать его и почувствовать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вучит музыка П.И. Чайковского «Времена года», «Зима»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яют словарную работу, составляют таблицу «Снежные слова»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группа подбирает эпитеты для описания цвета и красок снежного покров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группа подбирает эпитеты для описания снега на ощупь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группа подбирает эпитеты для описания ощущений, связанных с восприятием первого снег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тают и анализируют полученный результат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. Проговаривают полученный результат, делают вывод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. Отражают мысль в слове. Р.Самооценка деятельност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. Формирование чувства прекрасного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>
                  <a:txBody>
                    <a:bodyPr lIns="16920" rIns="16920" tIns="0" bIns="0" anchor="t">
                      <a:noAutofit/>
                    </a:bodyPr>
                    <a:p>
                      <a:pPr marL="88920">
                        <a:lnSpc>
                          <a:spcPct val="102000"/>
                        </a:lnSpc>
                        <a:tabLst>
                          <a:tab algn="l" pos="0"/>
                          <a:tab algn="l" pos="88920"/>
                          <a:tab algn="l" pos="536400"/>
                          <a:tab algn="l" pos="985680"/>
                          <a:tab algn="l" pos="1434960"/>
                          <a:tab algn="l" pos="1884240"/>
                          <a:tab algn="l" pos="2333520"/>
                          <a:tab algn="l" pos="2782800"/>
                          <a:tab algn="l" pos="3232080"/>
                          <a:tab algn="l" pos="3681360"/>
                          <a:tab algn="l" pos="4130640"/>
                          <a:tab algn="l" pos="4579920"/>
                          <a:tab algn="l" pos="5029200"/>
                          <a:tab algn="l" pos="5478480"/>
                          <a:tab algn="l" pos="5927760"/>
                          <a:tab algn="l" pos="6377040"/>
                          <a:tab algn="l" pos="6826320"/>
                          <a:tab algn="l" pos="7275600"/>
                          <a:tab algn="l" pos="7724880"/>
                          <a:tab algn="l" pos="8174160"/>
                          <a:tab algn="l" pos="8623440"/>
                          <a:tab algn="l" pos="90727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анизует работу по составлению   плана сочинения по группа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ляют план написания сочинения (работа в группах), обсуждают, доказывают свою точку зрения, делают проверку по образцу, вносят поправки в свою работу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.Самостоятельно выполняют учебную  задачу, строят план, сравнивая его с эталоном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. Комментирование ответа. Р.Самооценка деятельност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. Формирование чувства прекрасного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000">
                <a:tc>
                  <a:txBody>
                    <a:bodyPr lIns="16920" rIns="16920" tIns="0" bIns="0" anchor="t">
                      <a:noAutofit/>
                    </a:bodyPr>
                    <a:p>
                      <a:pPr marL="88920">
                        <a:lnSpc>
                          <a:spcPct val="102000"/>
                        </a:lnSpc>
                        <a:tabLst>
                          <a:tab algn="l" pos="0"/>
                          <a:tab algn="l" pos="88920"/>
                          <a:tab algn="l" pos="536400"/>
                          <a:tab algn="l" pos="985680"/>
                          <a:tab algn="l" pos="1434960"/>
                          <a:tab algn="l" pos="1884240"/>
                          <a:tab algn="l" pos="2333520"/>
                          <a:tab algn="l" pos="2782800"/>
                          <a:tab algn="l" pos="3232080"/>
                          <a:tab algn="l" pos="3681360"/>
                          <a:tab algn="l" pos="4130640"/>
                          <a:tab algn="l" pos="4579920"/>
                          <a:tab algn="l" pos="5029200"/>
                          <a:tab algn="l" pos="5478480"/>
                          <a:tab algn="l" pos="5927760"/>
                          <a:tab algn="l" pos="6377040"/>
                          <a:tab algn="l" pos="6826320"/>
                          <a:tab algn="l" pos="7275600"/>
                          <a:tab algn="l" pos="7724880"/>
                          <a:tab algn="l" pos="8174160"/>
                          <a:tab algn="l" pos="8623440"/>
                          <a:tab algn="l" pos="90727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анизует деятельность по применению новых знаний – написание черновика  сочинения с применением подобранных эпит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гра «Закончи фразу» или  предложи свой вариант финал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ишут сочинение на черновик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920" rIns="16920" tIns="15264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.Осуществляют самопроверку, пошагово сравнивая с эталоном. Контроль, коррекция, выделение и осознание того, что уже усвоено и что еще подлежит усвоению, осознание качества и уровня усвоени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. Комментирование ответов по группам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.Самооценка деятельност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. Формирование чувства прекрасного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6" name=""/>
          <p:cNvSpPr txBox="1"/>
          <p:nvPr/>
        </p:nvSpPr>
        <p:spPr>
          <a:xfrm>
            <a:off x="2881440" y="357120"/>
            <a:ext cx="3681360" cy="21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latin typeface="Times New Roman"/>
              </a:rPr>
              <a:t>Стадия осмысления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latin typeface="Times New Roman"/>
              <a:ea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2638440" y="4365720"/>
            <a:ext cx="3103560" cy="20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"/>
          <p:cNvGraphicFramePr/>
          <p:nvPr/>
        </p:nvGraphicFramePr>
        <p:xfrm>
          <a:off x="1187280" y="2305080"/>
          <a:ext cx="7358400" cy="4046400"/>
        </p:xfrm>
        <a:graphic>
          <a:graphicData uri="http://schemas.openxmlformats.org/drawingml/2006/table">
            <a:tbl>
              <a:tblPr/>
              <a:tblGrid>
                <a:gridCol w="2878200"/>
                <a:gridCol w="2619360"/>
                <a:gridCol w="1860840"/>
              </a:tblGrid>
              <a:tr h="857160">
                <a:tc gridSpan="3">
                  <a:txBody>
                    <a:bodyPr lIns="43560" rIns="43560" tIns="2134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ап рефлексии учебной деятельности на урок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ь этапа: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оценка учащимися результатов своей учебной деятельности, осознание метода построения и границ применения нового способа действ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240">
                <a:tc>
                  <a:txBody>
                    <a:bodyPr lIns="43560" rIns="43560" tIns="213480" bIns="0" anchor="t">
                      <a:noAutofit/>
                    </a:bodyPr>
                    <a:p>
                      <a:pPr marL="457200">
                        <a:lnSpc>
                          <a:spcPct val="69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ует рефлексию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79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Чему вы научились на уроке?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Что на уроке вам понравилось?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Что не понравилось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79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можете ли вы теперь самостоятельно написать сочинение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79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Какую оценку вы заработали на уроке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79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Оцените работу групп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79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З. Написание сочине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34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чают на вопросы, осуществляют самооценку собственной учебной деятельности, оценивают работу групп, соотносят цель и результаты, степень их соответствия, записывают ДЗ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3480" bIns="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. Умение подвести итог своей деятельност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. Умение с достаточной полнотой и точностью выражать свои мыс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. Оценивание достигнутого результат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. Формирование чувства прекрасного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 txBox="1"/>
          <p:nvPr/>
        </p:nvSpPr>
        <p:spPr>
          <a:xfrm>
            <a:off x="1763640" y="757080"/>
            <a:ext cx="3429000" cy="357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latin typeface="Times New Roman"/>
              </a:rPr>
              <a:t>Рефлексия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latin typeface="Times New Roman"/>
              <a:ea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288144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1036800" y="214200"/>
            <a:ext cx="6838920" cy="71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latin typeface="Times New Roman"/>
              </a:rPr>
              <a:t>Достижения учащихся  - мои достижения!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latin typeface="Times New Roman"/>
              <a:ea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6360" y="928800"/>
            <a:ext cx="776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7a0000"/>
                </a:solidFill>
                <a:latin typeface="Arial Unicode MS"/>
                <a:ea typeface="Arial Unicode MS"/>
              </a:rPr>
              <a:t>           </a:t>
            </a:r>
            <a:r>
              <a:rPr b="1" lang="ru-RU" sz="1800" spc="-1" strike="noStrike">
                <a:solidFill>
                  <a:srgbClr val="7a0000"/>
                </a:solidFill>
                <a:latin typeface="Arial Unicode MS"/>
                <a:ea typeface="Arial Unicode MS"/>
              </a:rPr>
              <a:t>Результатом является высокий уровень развития самостоятельного мышления, ярко выраженная мотивация саморазвития, самосовершенствования, достижения на конференциях и олимпиадах, высокий показатель качества зн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811080" y="3662280"/>
          <a:ext cx="7829280" cy="2745000"/>
        </p:xfrm>
        <a:graphic>
          <a:graphicData uri="http://schemas.openxmlformats.org/drawingml/2006/table">
            <a:tbl>
              <a:tblPr/>
              <a:tblGrid>
                <a:gridCol w="1303920"/>
                <a:gridCol w="1303560"/>
                <a:gridCol w="1304280"/>
                <a:gridCol w="1303560"/>
                <a:gridCol w="1303920"/>
                <a:gridCol w="131004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ьны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ны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ной урове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российс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- 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 - 20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- 2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144360" y="2320920"/>
            <a:ext cx="913788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62699"/>
                </a:solidFill>
                <a:latin typeface="Arial"/>
                <a:ea typeface="Arial Unicode MS"/>
              </a:rPr>
              <a:t>Количество участников олимпиа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62699"/>
                </a:solidFill>
                <a:latin typeface="Arial"/>
                <a:ea typeface="Arial Unicode MS"/>
              </a:rPr>
              <a:t>конкурсов, конферен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262699"/>
                </a:solidFill>
                <a:latin typeface="Arial"/>
                <a:ea typeface="Arial Unicode MS"/>
              </a:rPr>
              <a:t>(Всероссийские олимпиады школьников по русскому языку и литературе, конкурсы чтец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262699"/>
                </a:solidFill>
                <a:latin typeface="Arial"/>
                <a:ea typeface="Arial Unicode MS"/>
              </a:rPr>
              <a:t>«Голос ребенка», «Живая классика», интернет – олимпиады,  «Семейная традиция», фестивали, смотры и т.п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52360" y="1700280"/>
            <a:ext cx="8785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4280"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4280"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763640" y="96840"/>
            <a:ext cx="6023160" cy="406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latin typeface="Times New Roman"/>
              </a:rPr>
              <a:t>Достижения учащихся  - мои достижения!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422280" y="534960"/>
          <a:ext cx="7596360" cy="1766520"/>
        </p:xfrm>
        <a:graphic>
          <a:graphicData uri="http://schemas.openxmlformats.org/drawingml/2006/table">
            <a:tbl>
              <a:tblPr/>
              <a:tblGrid>
                <a:gridCol w="2630520"/>
                <a:gridCol w="2482920"/>
                <a:gridCol w="2482920"/>
              </a:tblGrid>
              <a:tr h="644760"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ы ЕГЭ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5 человек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 чел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568800"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  <a:tr h="568800"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ше средне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f6ef"/>
                    </a:solidFill>
                  </a:tcPr>
                </a:tc>
              </a:tr>
              <a:tr h="540000"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ий ба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 (Новикова Кс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(Новикова Кс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822240" y="2776680"/>
          <a:ext cx="8126640" cy="1321920"/>
        </p:xfrm>
        <a:graphic>
          <a:graphicData uri="http://schemas.openxmlformats.org/drawingml/2006/table">
            <a:tbl>
              <a:tblPr/>
              <a:tblGrid>
                <a:gridCol w="2519280"/>
                <a:gridCol w="1401840"/>
                <a:gridCol w="1400400"/>
                <a:gridCol w="1400040"/>
                <a:gridCol w="1405080"/>
              </a:tblGrid>
              <a:tr h="463320">
                <a:tc gridSpan="5">
                  <a:txBody>
                    <a:bodyPr lIns="90000" rIns="90000" tIns="269280" bIns="46800" anchor="t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ваемость и качество обучения (2012 — 2013, 2013 – 2014, 2014 – 201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040">
                <a:tc rowSpan="2">
                  <a:txBody>
                    <a:bodyPr lIns="0" rIns="0" tIns="3996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 gridSpan="2">
                  <a:txBody>
                    <a:bodyPr lIns="0" rIns="0" tIns="2412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2412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Литера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28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Успеваем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28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ка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241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Успеваем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241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каче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</a:tr>
              <a:tr h="226800">
                <a:tc>
                  <a:txBody>
                    <a:bodyPr lIns="0" rIns="0" tIns="284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2012 - 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241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241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6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241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0" rIns="0" tIns="241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7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</a:tr>
              <a:tr h="497880"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-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241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7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2894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241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8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</a:tr>
              <a:tr h="540000"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– 2015 (3 четвер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241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7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30384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241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Segoe U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</a:tr>
            </a:tbl>
          </a:graphicData>
        </a:graphic>
      </p:graphicFrame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77080" y="3836880"/>
            <a:ext cx="1942920" cy="27576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216000" y="4751280"/>
            <a:ext cx="1487520" cy="20448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1969920" y="4329000"/>
            <a:ext cx="1773360" cy="24386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3630600" y="4422600"/>
            <a:ext cx="1770120" cy="24354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389560" y="4176720"/>
            <a:ext cx="1811520" cy="2490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929280" y="4727520"/>
            <a:ext cx="1830600" cy="18590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914400" y="4857840"/>
            <a:ext cx="1590840" cy="1623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143000" y="25002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a5612"/>
                </a:solidFill>
                <a:latin typeface="Calibri"/>
              </a:rPr>
              <a:t>Современное информационное общество требует от выпускника способности адаптироваться к изменяющимся условиям, свободно ориентироваться в информационном поле, строить систему в любой сфере знания, проектировать собственное развитие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28960" y="1785960"/>
            <a:ext cx="37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b4a5b"/>
                </a:solidFill>
                <a:latin typeface="Calibri"/>
              </a:rPr>
              <a:t>Актуаль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14680" y="357120"/>
            <a:ext cx="70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2228b"/>
                </a:solidFill>
                <a:latin typeface="Arial"/>
              </a:rPr>
              <a:t>Великие умы обсуждают идеи, средние - обсуждают поступки, а малые - людей. (индийская пословиц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77920" y="1557360"/>
            <a:ext cx="878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4280" algn="ctr"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6360" y="848880"/>
            <a:ext cx="8280360" cy="39344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  <a:ea typeface="Calibri"/>
              </a:rPr>
              <a:t>      </a:t>
            </a:r>
            <a:r>
              <a:rPr b="0" lang="ru-RU" sz="1800" spc="-1" strike="noStrike">
                <a:solidFill>
                  <a:srgbClr val="22228b"/>
                </a:solidFill>
                <a:latin typeface="Arial"/>
                <a:ea typeface="Calibri"/>
              </a:rPr>
              <a:t>Технология РКМЧП представляет собой целостную систему, формирующую навыки работы с информацией в процессе чтения и письма. Она направлена на освоение базовых навыков открытого информационного пространства, развитие качеств гражданина открытого общества, включенного в межкультурное взаимодействие. Технология открыта для решения большого спектра проблем в образовательной сфер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  <a:ea typeface="Calibri"/>
              </a:rPr>
              <a:t>   </a:t>
            </a:r>
            <a:r>
              <a:rPr b="0" lang="ru-RU" sz="1800" spc="-1" strike="noStrike">
                <a:solidFill>
                  <a:srgbClr val="22228b"/>
                </a:solidFill>
                <a:latin typeface="Arial"/>
                <a:ea typeface="Calibri"/>
              </a:rPr>
              <a:t>Использование технологии развития критического мышления на уроках русского языка и литературы помогает развить вдумчивое чтение, монологическую и диалогическую речь, умение работать со словарями и другой справочной литературой.   Самое же главное – на таких уроках дети учатся  самостоятельно добывать знания, самореализоваться и социализироваться в современном ми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376360" y="217440"/>
            <a:ext cx="4392720" cy="287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latin typeface="Times New Roman"/>
              </a:rPr>
              <a:t>Подводя итоги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latin typeface="Times New Roman"/>
              <a:ea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5435640" y="4346640"/>
            <a:ext cx="2521080" cy="2278080"/>
          </a:xfrm>
          <a:prstGeom prst="rect">
            <a:avLst/>
          </a:prstGeom>
          <a:ln w="9360">
            <a:solidFill>
              <a:srgbClr val="808080"/>
            </a:solidFill>
            <a:round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1073160" y="4719600"/>
            <a:ext cx="281448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971800" y="228600"/>
            <a:ext cx="37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b4a5b"/>
                </a:solidFill>
                <a:latin typeface="Calibri"/>
              </a:rPr>
              <a:t>Пробле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1143000"/>
            <a:ext cx="327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Образовательные стандарты второго поколения ориентированы на результаты образ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43000" y="1219320"/>
            <a:ext cx="26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Практ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1219320"/>
            <a:ext cx="292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Исследователь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88000" y="1512720"/>
            <a:ext cx="3668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Процесс же обучения понимается не только как усвоение системы знаний, умений и навыков, составляющих инструментальную основу компетенций учащихся, но и как процесс развития личности, обретения духовно-нравственного и социального опыта. Этой цели можно достичь благодаря формированию УУД. Качество усвоения знания зависит от их характера и многообразия видов: личностных, познавательных, коммуникативных и регулятивных [ФГОС 2010</a:t>
            </a:r>
            <a:r>
              <a:rPr b="0" lang="ru-RU" sz="1200" spc="-1" strike="noStrike" u="sng" baseline="30000">
                <a:solidFill>
                  <a:srgbClr val="ccccff"/>
                </a:solidFill>
                <a:uFillTx/>
                <a:latin typeface="Arial"/>
                <a:hlinkClick r:id="rId2"/>
              </a:rPr>
              <a:t>1</a:t>
            </a: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7162920" y="5410080"/>
            <a:ext cx="1731960" cy="13035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609480" y="4800600"/>
            <a:ext cx="1660680" cy="19144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52480" y="3825720"/>
            <a:ext cx="57279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В формировании познавательных УУД большую роль играет ТРКМЧ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c4e10"/>
                </a:solidFill>
                <a:latin typeface="Arial Narrow"/>
                <a:ea typeface="Arial Unicode MS"/>
              </a:rPr>
              <a:t>Поэтому представляется очевидной необходимость примен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Narrow"/>
                <a:ea typeface="Arial Unicode MS"/>
              </a:rPr>
              <a:t>технологии развития критического мышления через чтение и письмо (технология РКМЧП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c4e10"/>
                </a:solidFill>
                <a:latin typeface="Arial Narrow"/>
                <a:ea typeface="Arial Unicode MS"/>
              </a:rPr>
              <a:t>наряду с традиционными формами работы в шко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8c4e10"/>
                </a:solidFill>
                <a:latin typeface="Arial Narrow"/>
                <a:ea typeface="Arial Unicode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8" name=""/>
          <p:cNvCxnSpPr/>
          <p:nvPr/>
        </p:nvCxnSpPr>
        <p:spPr>
          <a:xfrm flipH="1">
            <a:off x="2207520" y="914400"/>
            <a:ext cx="1220040" cy="381600"/>
          </a:xfrm>
          <a:prstGeom prst="straightConnector1">
            <a:avLst/>
          </a:prstGeom>
          <a:ln w="25560">
            <a:solidFill>
              <a:srgbClr val="4c2b09"/>
            </a:solidFill>
            <a:miter/>
            <a:tailEnd len="med" type="triangle" w="med"/>
          </a:ln>
        </p:spPr>
      </p:cxnSp>
      <p:cxnSp>
        <p:nvCxnSpPr>
          <p:cNvPr id="369" name=""/>
          <p:cNvCxnSpPr/>
          <p:nvPr/>
        </p:nvCxnSpPr>
        <p:spPr>
          <a:xfrm>
            <a:off x="5486400" y="914400"/>
            <a:ext cx="1278720" cy="372240"/>
          </a:xfrm>
          <a:prstGeom prst="straightConnector1">
            <a:avLst/>
          </a:prstGeom>
          <a:ln w="25560">
            <a:solidFill>
              <a:srgbClr val="4c2b09"/>
            </a:solidFill>
            <a:miter/>
            <a:tailEnd len="med" type="triangle" w="med"/>
          </a:ln>
        </p:spPr>
      </p:cxn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5138640" y="3500280"/>
            <a:ext cx="350208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  <a:ea typeface="Verdan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науч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систем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эффектив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учет индивидуальных способност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и запросов учащих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перспектив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технологич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 algn="just">
              <a:lnSpc>
                <a:spcPct val="100000"/>
              </a:lnSpc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8960" indent="-3013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2000" y="1602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иемы ТРКМ как средство формирования познавательных УУ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1800" y="936720"/>
            <a:ext cx="82058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 познавательным УУД относятся следующие умен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- сознавать познавательную задачу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- читать и слушать, извлекая нужную информацию, а также самостоятельно находить её в материалах учебников, рабочих тетрадей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- понимать информацию, представленную в изобразительной, схематичной, модельной форме, использовать знаково-символичные средства для решения различных учебных задач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- осуществлять для решения учебных задач операции анализа, синтеза, сравнения, классификации, устанавливать причинно-следственные связи, делать обобщения, выво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96880" y="4062240"/>
            <a:ext cx="3527640" cy="23562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00b8ff">
              <a:alpha val="2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07960" y="4822920"/>
            <a:ext cx="33814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Verdana"/>
              </a:rPr>
              <a:t>Основополагающие принципы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Verdana"/>
              </a:rPr>
              <a:t> данного опыт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60360" y="1285920"/>
            <a:ext cx="8496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lnSpc>
                <a:spcPct val="100000"/>
              </a:lnSpc>
              <a:spcBef>
                <a:spcPts val="451"/>
              </a:spcBef>
              <a:buClr>
                <a:srgbClr val="4c2b09"/>
              </a:buClr>
              <a:buFont typeface="Arial Unicode M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c2b09"/>
                </a:solidFill>
                <a:latin typeface="Arial Unicode MS"/>
                <a:ea typeface="Arial Unicode MS"/>
              </a:rPr>
              <a:t>Авторы: американские ученые Ч.Темпл, К.Мередит, Дж.Стил, С.Уолт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51"/>
              </a:spcBef>
              <a:buClr>
                <a:srgbClr val="4c2b09"/>
              </a:buClr>
              <a:buFont typeface="Arial Unicode M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c2b09"/>
                </a:solidFill>
                <a:latin typeface="Arial Unicode MS"/>
                <a:ea typeface="Arial Unicode MS"/>
              </a:rPr>
              <a:t>Универсальная, надпредметная технология, открытая к диалогу с другими педагогическими подходами. Может использоваться в разных предметных област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51"/>
              </a:spcBef>
              <a:buClr>
                <a:srgbClr val="4c2b09"/>
              </a:buClr>
              <a:buFont typeface="Arial Unicode M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c2b09"/>
                </a:solidFill>
                <a:latin typeface="Arial Unicode MS"/>
                <a:ea typeface="Arial Unicode MS"/>
              </a:rPr>
              <a:t>В России технология появилась в 1997 году; свой вклад в развитие идеи внесли Загашеев И.О., Заир-Бек С.И., Муштавинская И.В., Галактионова Т.Г., Гершунский Б.С., Бутенко А.В.  друг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79600" y="4273560"/>
            <a:ext cx="77724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01320" algn="just">
              <a:lnSpc>
                <a:spcPct val="150000"/>
              </a:lnSpc>
              <a:tabLst>
                <a:tab algn="l" pos="0"/>
                <a:tab algn="l" pos="31896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9302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7a0000"/>
                </a:solidFill>
                <a:latin typeface="Arial Unicode MS"/>
                <a:ea typeface="Arial Unicode MS"/>
              </a:rPr>
              <a:t>     </a:t>
            </a:r>
            <a:r>
              <a:rPr b="1" lang="ru-RU" sz="1600" spc="-1" strike="noStrike">
                <a:solidFill>
                  <a:srgbClr val="7a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7a0000"/>
                </a:solidFill>
                <a:latin typeface="Arial Unicode MS"/>
                <a:ea typeface="Arial Unicode MS"/>
              </a:rPr>
              <a:t>Под критическим мышлением понимают совокупность качеств и умений, обусловливающих высокий уровень  исследовательской культуры ученика и преподавателя. Педагоги-практики особо выделяют ценность осмысленного обучения, о которой писал еще Л.С.Выготский в работе  </a:t>
            </a:r>
            <a:r>
              <a:rPr b="1" lang="en-US" sz="1600" spc="-1" strike="noStrike">
                <a:solidFill>
                  <a:srgbClr val="7a0000"/>
                </a:solidFill>
                <a:latin typeface="Arial Unicode MS"/>
                <a:ea typeface="Arial Unicode MS"/>
              </a:rPr>
              <a:t>«</a:t>
            </a:r>
            <a:r>
              <a:rPr b="1" lang="ru-RU" sz="1600" spc="-1" strike="noStrike">
                <a:solidFill>
                  <a:srgbClr val="7a0000"/>
                </a:solidFill>
                <a:latin typeface="Arial Unicode MS"/>
                <a:ea typeface="Arial Unicode MS"/>
              </a:rPr>
              <a:t>Педагогическая психология</a:t>
            </a:r>
            <a:r>
              <a:rPr b="1" lang="en-US" sz="1600" spc="-1" strike="noStrike">
                <a:solidFill>
                  <a:srgbClr val="7a0000"/>
                </a:solidFill>
                <a:latin typeface="Arial Unicode MS"/>
                <a:ea typeface="Arial Unicode MS"/>
              </a:rPr>
              <a:t>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73240" y="3657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b4a5b"/>
                </a:solidFill>
                <a:latin typeface="Calibri"/>
              </a:rPr>
              <a:t>Что такое критическое мышл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00200" y="1602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b4a5b"/>
                </a:solidFill>
                <a:latin typeface="Calibri"/>
              </a:rPr>
              <a:t>Теоретическая база опы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06600" y="8244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b4a5b"/>
                </a:solidFill>
                <a:latin typeface="Calibri"/>
              </a:rPr>
              <a:t>Сравнение признаков обыденного и критического мыш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547560" y="1771560"/>
          <a:ext cx="8423280" cy="3530160"/>
        </p:xfrm>
        <a:graphic>
          <a:graphicData uri="http://schemas.openxmlformats.org/drawingml/2006/table">
            <a:tbl>
              <a:tblPr/>
              <a:tblGrid>
                <a:gridCol w="4211640"/>
                <a:gridCol w="4211640"/>
              </a:tblGrid>
              <a:tr h="374400">
                <a:tc>
                  <a:txBody>
                    <a:bodyPr lIns="90000" rIns="90000" tIns="162720" bIns="4680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fefde3"/>
                          </a:solidFill>
                          <a:latin typeface="Arial"/>
                        </a:rPr>
                        <a:t>Умелое мыш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62720" bIns="46800" anchor="t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fefde3"/>
                          </a:solidFill>
                          <a:latin typeface="Arial"/>
                        </a:rPr>
                        <a:t>Обычное мыш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ющее суж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дательное предпо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вешенное суж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очт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ифик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ир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ое формулирование выв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рование выв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имание принцип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динение понятий по ассоци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ение гипотез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о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жение мнений с аргумент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396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ложение мнений без аргумен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рование суждений на основе критерие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3968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рование суждений без опоры на критер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08000" y="1484280"/>
            <a:ext cx="8928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1640" y="1655640"/>
            <a:ext cx="8352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c4e1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обеспечить развитие критического мышления посредством интерактивного включения учащихся в образовательный процесс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· развитие базовых качеств личности (критическое мышление, рефлексивность, коммуникативность, креативность, мобильность, самостоятельность, толерантность, ответственность за собственный выбор и результаты своей деятельности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· развитие аналитического, критического мышления (выделение причинно-следственных связей; рассматривание новых идей и знаний в контексте уже имеющихся; выделение ошибок в рассуждениях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· формирование культуры чтения, включающей в себя умение ориентироваться в источниках информации, пользоваться разными стратегиями чтения, адекватно понимать прочитанное, сортировать информацию с точки зрения ее важности, «отсеивать» второстепенную, критически оценивать новые знания, делать выводы и обобщ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· стимулирование самостоятельной поисковой творческой деятельности, запуск механизмов самообразования и самоорганиз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42840" y="144360"/>
            <a:ext cx="741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b4a5b"/>
                </a:solidFill>
                <a:latin typeface="Calibri"/>
              </a:rPr>
              <a:t>Цель технолог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433440" y="685800"/>
            <a:ext cx="8710560" cy="31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8c4e10"/>
                </a:solidFill>
                <a:latin typeface="Arial"/>
              </a:rPr>
              <a:t>школьники должны научитьс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ыделять причинно-следственные связи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ассматривать новые идеи и знания в контексте уже имеющихся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нимать, как различные части информации связаны между собой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ыделять ошибки, нелогичность в рассуждениях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делать вывод о том, чьи конкретно ценностные ориентации, интересы, идейные установки отражают текст или говорящий человек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збегать категоричности в утверждениях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ыть честным в своих рассуждениях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ыявлять предвзятое отношение, мнение и суждение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меть отличать факт, который всегда можно проверить, от предположения и личного мнения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тделять главное от несущественного в тексте или в речи и уметь акцентировать внимание на перво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4360" y="3635280"/>
            <a:ext cx="86472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b4a5b"/>
                </a:solidFill>
                <a:latin typeface="Arial"/>
                <a:ea typeface="Arial Unicode MS"/>
              </a:rPr>
              <a:t>Ожидаемые результ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7840" y="4465800"/>
            <a:ext cx="805464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нового стиля мышления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базовых качеств лич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культуры чтения и письм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умения задавать вопросы, формулировать гипотезу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имулирование самостоятельной поисковой творческой деятель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уск механизмов самообразования и самоорганизации.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60360" y="-216000"/>
            <a:ext cx="8555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1b4a5b"/>
                </a:solidFill>
                <a:latin typeface="Arial"/>
                <a:ea typeface="Arial Unicode MS"/>
              </a:rPr>
              <a:t>Задачи технологии  развития критического мыш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689040" y="836640"/>
          <a:ext cx="8041680" cy="3914640"/>
        </p:xfrm>
        <a:graphic>
          <a:graphicData uri="http://schemas.openxmlformats.org/drawingml/2006/table">
            <a:tbl>
              <a:tblPr/>
              <a:tblGrid>
                <a:gridCol w="2351880"/>
                <a:gridCol w="2653560"/>
                <a:gridCol w="3036240"/>
              </a:tblGrid>
              <a:tr h="3914640">
                <a:tc>
                  <a:txBody>
                    <a:bodyPr lIns="37080" rIns="37080" tIns="250560" bIns="37080" anchor="t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Выз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ационная      (побуждение к работе с новой информацией, пробуждение интереса к теме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ая (вызов «на поверхность» имеющихся знании по теме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ционная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есконфликтный обмен мнениями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7080" rIns="37080" tIns="250560" bIns="37080" anchor="t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Осмысление содержан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ая (получение новой информации по теме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тизационная  (классификация полученной информации по категориям знания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7080" rIns="37080" tIns="250560" bIns="37080" anchor="t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Рефлекс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ционная (обмен мнениями о новой информации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ая (приобретение нового знания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ационная (побуждение к дальнейшему расширению информационного поля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очная (соотнесение новой информации и имеющихся знаний, выработка собственной позиции,  оценка процесс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>
            <a:off x="431640" y="260280"/>
            <a:ext cx="871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Функции трех фаз технологии критического мышл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3844800" y="4745160"/>
            <a:ext cx="1316160" cy="16570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990720" y="4919760"/>
            <a:ext cx="1277640" cy="14475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6588000" y="5087880"/>
            <a:ext cx="1743120" cy="971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7:52:08Z</dcterms:created>
  <dc:creator>Admin</dc:creator>
  <dc:description/>
  <dc:language>en-US</dc:language>
  <cp:lastModifiedBy>123</cp:lastModifiedBy>
  <dcterms:modified xsi:type="dcterms:W3CDTF">2015-03-29T16:40:43Z</dcterms:modified>
  <cp:revision>40</cp:revision>
  <dc:subject/>
  <dc:title>Слайд 1</dc:title>
</cp:coreProperties>
</file>