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5.gif" ContentType="image/gif"/>
  <Override PartName="/ppt/media/image56.png" ContentType="image/png"/>
  <Override PartName="/ppt/media/image54.jpeg" ContentType="image/jpeg"/>
  <Override PartName="/ppt/media/image53.jpeg" ContentType="image/jpeg"/>
  <Override PartName="/ppt/media/image51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.jpeg" ContentType="image/jpeg"/>
  <Override PartName="/ppt/media/image57.png" ContentType="image/png"/>
  <Override PartName="/ppt/media/image35.jpeg" ContentType="image/jpeg"/>
  <Override PartName="/ppt/media/image1.jpeg" ContentType="image/jpeg"/>
  <Override PartName="/ppt/media/image46.gif" ContentType="image/gif"/>
  <Override PartName="/ppt/media/image22.jpeg" ContentType="image/jpeg"/>
  <Override PartName="/ppt/media/image14.jpeg" ContentType="image/jpeg"/>
  <Override PartName="/ppt/media/image28.gif" ContentType="image/gif"/>
  <Override PartName="/ppt/media/image59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39.gif" ContentType="image/gif"/>
  <Override PartName="/ppt/media/image16.jpeg" ContentType="image/jpeg"/>
  <Override PartName="/ppt/media/image65.wmf" ContentType="image/x-wmf"/>
  <Override PartName="/ppt/media/image19.jpeg" ContentType="image/jpeg"/>
  <Override PartName="/ppt/media/image32.gif" ContentType="image/gif"/>
  <Override PartName="/ppt/media/image62.jpeg" ContentType="image/jpeg"/>
  <Override PartName="/ppt/media/image5.jpeg" ContentType="image/jpeg"/>
  <Override PartName="/ppt/media/image17.png" ContentType="image/png"/>
  <Override PartName="/ppt/media/image24.gif" ContentType="image/gif"/>
  <Override PartName="/ppt/media/image21.jpeg" ContentType="image/jpeg"/>
  <Override PartName="/ppt/media/image36.gif" ContentType="image/gif"/>
  <Override PartName="/ppt/media/image26.gif" ContentType="image/gif"/>
  <Override PartName="/ppt/media/image63.jpeg" ContentType="image/jpeg"/>
  <Override PartName="/ppt/media/image6.jpeg" ContentType="image/jpeg"/>
  <Override PartName="/ppt/media/image7.jpeg" ContentType="image/jpeg"/>
  <Override PartName="/ppt/media/image38.jpeg" ContentType="image/jpeg"/>
  <Override PartName="/ppt/media/image41.gif" ContentType="image/gif"/>
  <Override PartName="/ppt/media/image12.jpeg" ContentType="image/jpeg"/>
  <Override PartName="/ppt/media/image29.jpeg" ContentType="image/jpeg"/>
  <Override PartName="/ppt/media/image10.jpeg" ContentType="image/jpeg"/>
  <Override PartName="/ppt/media/image23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27.wmf" ContentType="image/x-wmf"/>
  <Override PartName="/ppt/media/image11.jpeg" ContentType="image/jpeg"/>
  <Override PartName="/ppt/media/image30.jpeg" ContentType="image/jpeg"/>
  <Override PartName="/ppt/media/image31.jpeg" ContentType="image/jpeg"/>
  <Override PartName="/ppt/media/image9.jpeg" ContentType="image/jpeg"/>
  <Override PartName="/ppt/media/image33.gif" ContentType="image/gif"/>
  <Override PartName="/ppt/media/image34.jpeg" ContentType="image/jpeg"/>
  <Override PartName="/ppt/media/image40.gif" ContentType="image/gif"/>
  <Override PartName="/ppt/media/image42.png" ContentType="image/png"/>
  <Override PartName="/ppt/media/image43.gif" ContentType="image/gif"/>
  <Override PartName="/ppt/media/image44.jpeg" ContentType="image/jpeg"/>
  <Override PartName="/ppt/media/image20.jpeg" ContentType="image/jpeg"/>
  <Override PartName="/ppt/media/image52.gif" ContentType="image/gif"/>
  <Override PartName="/ppt/media/image45.jpeg" ContentType="image/jpeg"/>
  <Override PartName="/ppt/media/image47.jpeg" ContentType="image/jpeg"/>
  <Override PartName="/ppt/media/image48.gif" ContentType="image/gif"/>
  <Override PartName="/ppt/media/image49.gif" ContentType="image/gif"/>
  <Override PartName="/ppt/media/image5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FE1-2152-4BDB-BDD9-7D213BBD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259-DA86-463A-9530-BFBDBDC9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391-1982-49BA-A145-479DFFBF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800-8173-4DEF-8705-AE2D75FF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6B5A-B6A2-4CBF-991E-F1D1F4B6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9D24-C151-4DAF-A967-C044CB00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57E8-C1DE-41BA-8341-A4E4DFA9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3C3B-1BED-4478-A669-8FEE3D5D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D0B9-C96A-43C3-9A39-5188E762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736F-78B9-4D3C-906C-3D267870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79A2-F2B6-4ADF-8FC4-6CC5FD6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C49-9492-432F-89AD-2C69CE18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BF64-BA78-481A-8652-57E4792A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EFAA-B5EA-4AB4-8978-0D4AF2D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D56B-E5BA-420D-8D6C-B7B5733E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6F5D-076D-495D-995C-907BB760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8C7C-7662-450F-A060-2E8E537B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A2C-1154-44CE-8E3C-F1EB8BEB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B28-4F56-4D2D-8919-EEC5BA35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4FB-837B-4CF6-B836-57604D45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F4B-19BA-4314-B89A-2509E8AD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E8F-F0AA-49AB-B768-EEAE0F45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D03-0C36-4D81-B472-EB435F1F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E6A-CFE8-423F-9EAB-C2318694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5170-162A-4378-AC6A-91A0E184BB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F71-1E3E-49C2-99DC-57A65ABAAB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litemusic.info/res/43_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" Target="slide3.xml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jane.progressor.ru/grandma/story/arbuz.jpg&amp;imgrefurl=http://jane.progressor.ru/grandma/story/arbuz.htm&amp;h=200&amp;w=164&amp;sz=10&amp;tbnid=7Hpl1vnUHx0J:&amp;tbnh=98&amp;tbnw=81&amp;start=5&amp;prev=/images%3Fq%3D%25D0%25B0%25D1%2580%25D0%25B1%25D1%2583%25D0%25B7%26hl%3Dru%26lr%3D%26sa%3DG" TargetMode="External"/><Relationship Id="rId3" Type="http://schemas.openxmlformats.org/officeDocument/2006/relationships/image" Target="../media/image51.jpeg"/><Relationship Id="rId4" Type="http://schemas.openxmlformats.org/officeDocument/2006/relationships/image" Target="../media/image52.gif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Устн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Народн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Творч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Устное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от «уста – губы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рот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71680" cy="306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Картинка 20 из 639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0574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Детские песенные обращения к солнцу, радуге, дождю, птицам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56000" y="2708280"/>
            <a:ext cx="4788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олнышко, солнышко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ыгляни в окошечко –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ам тебе веретешечко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ождик, дождик, пуще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ай хлеба гуще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адуга – дуга, принеси нам дождя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атушка – репка, уродись крепка, капуста виласта, будь пудаста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565360"/>
            <a:ext cx="36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тер – ветерц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дуй мне в лиц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дуй мне в спин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идти было в си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ом гремуч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сни туч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й дожд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небесной кру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411280" y="620640"/>
            <a:ext cx="33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Заклич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До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б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т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ь</a:t>
            </a: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14800" y="3110040"/>
            <a:ext cx="3305160" cy="1855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ышка, мышка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 тебе молочный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ай мне костяной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ышка, мышка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озьми гнилой зуб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А дай мне хорош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89000"/>
            <a:ext cx="8964720" cy="91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ЗАКЛИЧКИ-приговорки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До</a:t>
            </a:r>
            <a:r>
              <a:rPr b="0" lang="en-US" sz="4400" spc="-1" strike="noStrike">
                <a:solidFill>
                  <a:srgbClr val="3333ff"/>
                </a:solidFill>
                <a:latin typeface="Tahoma"/>
              </a:rPr>
              <a:t>б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р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о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л</a:t>
            </a: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в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а</a:t>
            </a: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т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ь</a:t>
            </a: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41767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Божья коровка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Лети на небк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Там твои детк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Кушают конфетки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Всем по одно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А тебе ни одной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Дождик, дождик,            побыстрей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Разгони моих гусей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Мои гуси дома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Не боятся гро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989520" cy="1525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80000" y="4683240"/>
            <a:ext cx="2333520" cy="2174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76360" y="765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바탕"/>
              </a:rPr>
              <a:t>Заклич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ahoma"/>
              </a:rPr>
              <a:t>Считалки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Шла коза по мостику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И виляла хвостиком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Зацепилась за перила,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Прямо в речку угодила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Кто не верит, это он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Выходи из круга вон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42920" y="4292640"/>
            <a:ext cx="3168720" cy="2120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56080" y="1443240"/>
            <a:ext cx="378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바탕"/>
              </a:rPr>
              <a:t>Камень, ножницы, бумаг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바탕"/>
              </a:rPr>
              <a:t>Карандаш, огонь, вода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바탕"/>
              </a:rPr>
              <a:t>И бутылка лимонада-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바탕"/>
              </a:rPr>
              <a:t>Цу-е-фа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156360" y="3716280"/>
            <a:ext cx="2284200" cy="2808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0" y="5013360"/>
            <a:ext cx="1798560" cy="1225440"/>
          </a:xfrm>
          <a:prstGeom prst="irregularSeal2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С чего начинает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иг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0360" y="189000"/>
            <a:ext cx="1763640" cy="12952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Вспомните, какие звуки труднее всего выговаривают де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Какие скороговорки с такими звуками вы зн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2920" y="4197240"/>
            <a:ext cx="3421080" cy="2660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835280" y="206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03640" y="206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0" y="206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12000" y="206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29360"/>
            <a:ext cx="576108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Скороговорк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- народно-поэтическое произведение, построенное на сочетании звуков, затрудняющих быстрое и чёткое произнесение с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 шла полоть петруш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ять пять ребят нашли у пенька пять  опя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хочет косой косить кос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ворит: «Коса кос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24000" y="260280"/>
            <a:ext cx="62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короговор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093080" y="4365720"/>
            <a:ext cx="1581120" cy="1877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55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Tahoma"/>
              </a:rPr>
              <a:t>Загадки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50920" y="2299320"/>
            <a:ext cx="8619840" cy="1858680"/>
            <a:chOff x="250920" y="2299320"/>
            <a:chExt cx="8619840" cy="1858680"/>
          </a:xfrm>
        </p:grpSpPr>
        <p:cxnSp>
          <p:nvCxnSpPr>
            <p:cNvPr id="176" name="_s35845"/>
            <p:cNvCxnSpPr>
              <a:stCxn id="177" idx="0"/>
              <a:endCxn id="178" idx="2"/>
            </p:cNvCxnSpPr>
            <p:nvPr/>
          </p:nvCxnSpPr>
          <p:spPr>
            <a:xfrm flipV="1" rot="16200000">
              <a:off x="6074280" y="1579320"/>
              <a:ext cx="229320" cy="325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35846"/>
            <p:cNvCxnSpPr>
              <a:stCxn id="180" idx="0"/>
              <a:endCxn id="178" idx="2"/>
            </p:cNvCxnSpPr>
            <p:nvPr/>
          </p:nvCxnSpPr>
          <p:spPr>
            <a:xfrm flipV="1" rot="16200000">
              <a:off x="4989240" y="2664360"/>
              <a:ext cx="229320" cy="108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1" name="_s35847"/>
            <p:cNvCxnSpPr>
              <a:stCxn id="182" idx="0"/>
              <a:endCxn id="178" idx="2"/>
            </p:cNvCxnSpPr>
            <p:nvPr/>
          </p:nvCxnSpPr>
          <p:spPr>
            <a:xfrm flipH="1" flipV="1" rot="5400000">
              <a:off x="3903480" y="2664720"/>
              <a:ext cx="229320" cy="108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35848"/>
            <p:cNvCxnSpPr>
              <a:stCxn id="184" idx="0"/>
              <a:endCxn id="178" idx="2"/>
            </p:cNvCxnSpPr>
            <p:nvPr/>
          </p:nvCxnSpPr>
          <p:spPr>
            <a:xfrm flipH="1" flipV="1" rot="5400000">
              <a:off x="2818440" y="1579680"/>
              <a:ext cx="229320" cy="325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8" name="_s35849"/>
            <p:cNvSpPr/>
            <p:nvPr/>
          </p:nvSpPr>
          <p:spPr>
            <a:xfrm>
              <a:off x="3507480" y="2299320"/>
              <a:ext cx="2106720" cy="794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Загадк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35850"/>
            <p:cNvSpPr/>
            <p:nvPr/>
          </p:nvSpPr>
          <p:spPr>
            <a:xfrm>
              <a:off x="250920" y="3322440"/>
              <a:ext cx="2108520" cy="835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рирод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35851"/>
            <p:cNvSpPr/>
            <p:nvPr/>
          </p:nvSpPr>
          <p:spPr>
            <a:xfrm>
              <a:off x="2421360" y="3322440"/>
              <a:ext cx="2108160" cy="835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Verdana"/>
                </a:rPr>
                <a:t>Бытовые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35852"/>
            <p:cNvSpPr/>
            <p:nvPr/>
          </p:nvSpPr>
          <p:spPr>
            <a:xfrm>
              <a:off x="4592160" y="3322440"/>
              <a:ext cx="2108160" cy="835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О животны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35853"/>
            <p:cNvSpPr/>
            <p:nvPr/>
          </p:nvSpPr>
          <p:spPr>
            <a:xfrm>
              <a:off x="6762600" y="3322440"/>
              <a:ext cx="2108160" cy="835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Verdana"/>
                </a:rPr>
                <a:t>Шуточные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680160" y="4149720"/>
            <a:ext cx="2463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ahoma"/>
              </a:rPr>
              <a:t>О природе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76720" y="3071880"/>
            <a:ext cx="1285920" cy="9475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сивое коромысло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д лесом повисло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554840"/>
            <a:ext cx="309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лая звездоч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неба упал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на ладошку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егла и пропал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451640" y="3203640"/>
            <a:ext cx="1057320" cy="519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88440" y="4076640"/>
            <a:ext cx="385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етит орл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 синему неб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рылья распласта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лнышко застлал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411280" y="5905440"/>
            <a:ext cx="2857680" cy="952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234400" y="4003200"/>
            <a:ext cx="4008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стою на ножке толстой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стою на ножке гладкой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д коричневою шапко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бархатной подкладк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304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164360" y="5589720"/>
            <a:ext cx="16876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Tahoma"/>
              </a:rPr>
              <a:t>Бытовые 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Четыре брат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Под одной шляпой стоят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Одним кушаком обвяз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4631400" y="1629000"/>
            <a:ext cx="458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Зелененьки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Маленький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По полу елозит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Себя не занози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Обежал весь теремо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И опять встал в уголок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7008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2175120" cy="2232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292720" y="4300560"/>
            <a:ext cx="34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ahoma"/>
              </a:rPr>
              <a:t>О животных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колько важности в походк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 пустыне- сковородк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 колючкам бос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Кто идет с горбом- мешко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84360" y="4653000"/>
            <a:ext cx="3011400" cy="1938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148360" y="4185000"/>
            <a:ext cx="36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Словно царскую кор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Носит он свои р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Ест лишайник, мох зеле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Любит снежные л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3084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Times New Roman"/>
              </a:rPr>
              <a:t>Народное творче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132000" cy="2409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2266920" cy="1822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564000" y="1268280"/>
            <a:ext cx="2701800" cy="1756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851280" y="4437000"/>
            <a:ext cx="2664000" cy="180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912000" y="3716280"/>
            <a:ext cx="2232000" cy="1584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33577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ародные тан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30844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езьба по дере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4076640"/>
            <a:ext cx="3059280" cy="2160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32448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ародные пес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53881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Выши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6237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летение круж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ahoma"/>
              </a:rPr>
              <a:t>Шуточные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754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Загадка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ru-RU" sz="2000" spc="-1" strike="noStrike">
                <a:solidFill>
                  <a:srgbClr val="0099ff"/>
                </a:solidFill>
                <a:latin typeface="Tahoma"/>
              </a:rPr>
              <a:t>Маленькое, беленькое, ночью по комнате летает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Разгадка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i="1" lang="ru-RU" sz="2000" spc="-1" strike="noStrike">
                <a:solidFill>
                  <a:srgbClr val="0099ff"/>
                </a:solidFill>
                <a:latin typeface="Tahoma"/>
              </a:rPr>
              <a:t>муха в ночной рубашке</a:t>
            </a:r>
            <a:r>
              <a:rPr b="1" i="1" lang="ru-RU" sz="1600" spc="-1" strike="noStrike">
                <a:solidFill>
                  <a:srgbClr val="0099ff"/>
                </a:solidFill>
                <a:latin typeface="Tahoma"/>
              </a:rPr>
              <a:t>.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800" spc="-1" strike="noStrike">
                <a:solidFill>
                  <a:srgbClr val="00ff99"/>
                </a:solidFill>
                <a:latin typeface="Tahoma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Tahoma"/>
              </a:rPr>
              <a:t>       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2923560"/>
            <a:ext cx="68407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Загадка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-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3399ff"/>
                </a:solidFill>
                <a:latin typeface="Verdana"/>
              </a:rPr>
              <a:t>Чем лошадь отличается от иголки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Разгадка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3399ff"/>
                </a:solidFill>
                <a:latin typeface="Verdana"/>
              </a:rPr>
              <a:t>На иголку сначала сядешь, потом подпрыгнешь, а на лошадь сначала подпрыгнешь, потом сядешь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332000" y="4372920"/>
            <a:ext cx="95774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* * *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Verdana"/>
              </a:rPr>
              <a:t>Загадка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i="1" lang="ru-RU" sz="2000" spc="-1" strike="noStrike">
                <a:solidFill>
                  <a:srgbClr val="3399ff"/>
                </a:solidFill>
                <a:latin typeface="Verdana"/>
              </a:rPr>
              <a:t>Как убить синего слона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cc00cc"/>
                </a:solidFill>
                <a:latin typeface="Verdana"/>
              </a:rPr>
              <a:t>Разгадка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i="1" lang="ru-RU" sz="2000" spc="-1" strike="noStrike">
                <a:solidFill>
                  <a:srgbClr val="3399ff"/>
                </a:solidFill>
                <a:latin typeface="Verdana"/>
              </a:rPr>
              <a:t>ружьём для синего слон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740720" y="1844640"/>
            <a:ext cx="1403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Tahoma"/>
              </a:rPr>
              <a:t>Дразнилки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05520" y="4220640"/>
            <a:ext cx="40384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Тили-тили-тест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Жених и невеста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Вдруг невеста под кровать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А жених ее искать</a:t>
            </a:r>
            <a:r>
              <a:rPr b="1" lang="ru-RU" sz="2400" spc="-1" strike="noStrike">
                <a:solidFill>
                  <a:srgbClr val="ffffff"/>
                </a:solidFill>
                <a:latin typeface="바탕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26920" y="2008080"/>
            <a:ext cx="1656000" cy="2194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43280" y="148608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Коля, Коля, Никола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Сиди дома, не гуля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К тебе девочки прид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Поцелуют и уйд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9520" y="4154400"/>
            <a:ext cx="4629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Моряк, с печки бряк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Растянулся, как червяк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Руки-ноги - на пороге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Голова – на дороге!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04000" y="2073240"/>
            <a:ext cx="1725480" cy="1995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780000" y="5445000"/>
            <a:ext cx="1873080" cy="141300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 Unicode MS"/>
                <a:hlinkClick r:id="rId4" action="ppaction://hlinksldjump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Tahoma"/>
              </a:rPr>
              <a:t>Кричалки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82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вайте вместе с нам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йдем за чудес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да , где есть узор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реки и за гор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буе - буе - рак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где зимуют рак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дружно вау - ва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ет семейка Ба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103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9252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арашеньки, круторожень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 лесам ходи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 дворам броди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скрипочку игра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аню потеш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 совища из лесищ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лазищами хлоп-хлоп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 козлище из хлевищ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жищами топ-топ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71640" y="333360"/>
            <a:ext cx="65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траши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867280" y="2679840"/>
            <a:ext cx="2665440" cy="2549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197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маленькие рассказы- былички, которые дети рассказывают обычно поздно вечером.  Её сущность в совместном переживании страшного, в постижении вечных тем жизни и смерти, в стремлении сообща преодолеть ст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мотри не упади в реку!- крикнул ему вслед Илюш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- Отчего ему упасть?- сказал Федя,- он остережё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Да, остережётся. Всяко бывает: он вот нагнётся, станет черпать воду, а водяной его за руку схватит да потащит к себе. Станут потом говорить: упал, дескать, малый в воду…А какое упал?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о- вон, в камыши полез,- прибавил он, прислушивая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35080"/>
            <a:ext cx="97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имер таких страшилок мы можем встре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 произведении И.С.Тургенева «Бежин луг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236000" y="4437000"/>
            <a:ext cx="190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-31608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Страшилки - наоборот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075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Один раз мальчик остался дома. Он смотрел “ужасы” и ему показалось, что у него в доме мертвый. Он испугался, убегал, бросал в него всякие предметы. А это оказался его отец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92000" y="3647880"/>
            <a:ext cx="835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На черном- черном острове, на черной-черной траве стояла черная-черная пальма. У этой черной-черной пальмы сидели два черных-черных человека. А один черный-черный человек говорит другому: “Да, Петька, не надо было нам резину жечь”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448000" cy="1063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 "/>
          <p:cNvPicPr/>
          <p:nvPr/>
        </p:nvPicPr>
        <p:blipFill>
          <a:blip r:embed="rId3"/>
          <a:stretch/>
        </p:blipFill>
        <p:spPr>
          <a:xfrm>
            <a:off x="0" y="2708280"/>
            <a:ext cx="1101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ahoma"/>
              </a:rPr>
              <a:t>Небылиц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61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понедельник я влюбилас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А во вторник я страдал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среду я в любви призналас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А в четверг ответа ждал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пятницу я поженилас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А в субботу подрались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воскресенье в суд подал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понедельник развелись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020000" y="2060640"/>
            <a:ext cx="18828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Частушк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2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Две старушки без зубов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Толковали про любовь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“Мы с тобою влюблены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Ты в кисель, а я в блины”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 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바탕"/>
              </a:rPr>
              <a:t>*  *  *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 rot="20502600">
            <a:off x="539640" y="4467240"/>
            <a:ext cx="1843200" cy="1616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3120" y="4327920"/>
            <a:ext cx="661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Сказала я мальчишке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Показать мне грузовик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А мальчишка, как мартышка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Показал в ответ язы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803400">
            <a:off x="7197480" y="2080800"/>
            <a:ext cx="1422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Частушк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10920" y="2420640"/>
            <a:ext cx="6131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Таня мучила расческу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учила да мучила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 школе делала прическу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а получилось чучело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8280" y="5300640"/>
            <a:ext cx="1417320" cy="1557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4437360"/>
            <a:ext cx="64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На столе стоит арбуз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На арбузе муха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Муха злится на арбуз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Что не лезет в брюх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 rot="20265000">
            <a:off x="7497720" y="5405400"/>
            <a:ext cx="1481040" cy="1379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7164360" y="765000"/>
            <a:ext cx="1979640" cy="1727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Картинка 18 из 63951"/>
          <p:cNvPicPr/>
          <p:nvPr/>
        </p:nvPicPr>
        <p:blipFill>
          <a:blip r:embed="rId6"/>
          <a:stretch/>
        </p:blipFill>
        <p:spPr>
          <a:xfrm>
            <a:off x="0" y="0"/>
            <a:ext cx="2411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Новый современный жанр- садистские стиш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их осмеиваются все ценности человечества - семейные, дружественные и другие. Здесь плохой сме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Маленький мальчик нашёл пулемё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Больше в деревне никто не живёт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уже не коллективное переживание страха. Здесь разрушение существующих ценностей. Их отриц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Bookman Old Style"/>
              </a:rPr>
              <a:t>Фольклор – устное народное творче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541440" y="2285640"/>
            <a:ext cx="532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 Black"/>
              </a:rPr>
              <a:t>Фольклор</a:t>
            </a:r>
            <a:r>
              <a:rPr b="1" i="1" lang="en-US" sz="2400" spc="-1" strike="noStrike">
                <a:solidFill>
                  <a:srgbClr val="ff0066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(англ. «народная мудрость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1. Совокупность созданных в народной среде поэтических произведен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бытующих в устной фор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2. Устное народное поэтическое творч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76720" y="2882880"/>
            <a:ext cx="4067280" cy="3975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Садистские стишк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340000" y="4437000"/>
            <a:ext cx="680400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лачет зайка возле ел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 Ах, меня поймали вол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сть меня не ста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ньги отобрали»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651680"/>
            <a:ext cx="86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Маленький мальчик нашел кимоно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Десять приемов узнал из кино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Долго китайцы понять не могли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Что за щенок избивает Брюс Ли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1800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>
            <a:alphaModFix am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43280" y="1052280"/>
            <a:ext cx="33861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наете ли вы, что гадания и заговоры – неотъемлемая часть русского народного творчества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369120" y="0"/>
            <a:ext cx="2774880" cy="3716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0" y="2952720"/>
            <a:ext cx="2941560" cy="390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80000" y="4440240"/>
            <a:ext cx="3564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>
            <a:alphaModFix am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4067280" y="549360"/>
            <a:ext cx="46814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и русские праздники не мыслимы без народных песе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71800" cy="338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227560" y="2205000"/>
            <a:ext cx="3916440" cy="294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5"/>
          <a:srcRect l="2305" t="2212" r="14554" b="0"/>
          <a:stretch/>
        </p:blipFill>
        <p:spPr>
          <a:xfrm>
            <a:off x="1476360" y="3500280"/>
            <a:ext cx="3240000" cy="33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1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>
            <a:alphaModFix am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24000" y="692280"/>
            <a:ext cx="349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возможно ли счастливое детство без народных сказ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046400" y="0"/>
            <a:ext cx="50976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863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Восстановите верные сочетания частей пословиц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2322000"/>
            <a:ext cx="4037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 труда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рый друг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рой яму другому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люй в колодец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чешь много знать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одежке встречаю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тица красна перье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00360" y="2320560"/>
            <a:ext cx="40366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вытащишь и рыбку из п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о мало сп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 туда попадеш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человек учень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учше новых двух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диться воды напи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по уму провож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780000" y="0"/>
            <a:ext cx="5364000" cy="1191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ahoma"/>
              </a:rPr>
              <a:t>Что за золото пословицы русские!.. </a:t>
            </a:r>
            <a:br>
              <a:rPr sz="2400"/>
            </a:br>
            <a:r>
              <a:rPr b="0" i="1" lang="en-US" sz="2400" spc="-1" strike="noStrike">
                <a:solidFill>
                  <a:srgbClr val="ff0066"/>
                </a:solidFill>
                <a:latin typeface="Tahoma"/>
              </a:rPr>
              <a:t>А.С.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Что за роскошь, что за смысл, какой толк в каждой поговорке нашей!..                                                                     А.С.Пушкин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602136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Чужими руками жар загреба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602136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егко чужими руками </a:t>
            </a:r>
            <a:r>
              <a:rPr b="0" i="1" lang="en-US" sz="2200" spc="-1" strike="noStrike">
                <a:solidFill>
                  <a:srgbClr val="336600"/>
                </a:solidFill>
                <a:latin typeface="Times New Roman"/>
              </a:rPr>
              <a:t>жар загреба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5516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ть баклу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67280" y="5516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юбит </a:t>
            </a:r>
            <a:r>
              <a:rPr b="0" i="1" lang="en-US" sz="2400" spc="-1" strike="noStrike">
                <a:solidFill>
                  <a:srgbClr val="336600"/>
                </a:solidFill>
                <a:latin typeface="Times New Roman"/>
              </a:rPr>
              <a:t>бить баклу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4941720"/>
            <a:ext cx="24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Как снег на голов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4941720"/>
            <a:ext cx="37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ы явился </a:t>
            </a:r>
            <a:r>
              <a:rPr b="0" i="1" lang="ru-RU" sz="2200" spc="-1" strike="noStrike">
                <a:solidFill>
                  <a:srgbClr val="336600"/>
                </a:solidFill>
                <a:latin typeface="Times New Roman"/>
              </a:rPr>
              <a:t>как снег</a:t>
            </a:r>
            <a:r>
              <a:rPr b="0" i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336600"/>
                </a:solidFill>
                <a:latin typeface="Times New Roman"/>
              </a:rPr>
              <a:t>на голов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436572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егок на поми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40360" y="4365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н </a:t>
            </a:r>
            <a:r>
              <a:rPr b="0" i="1" lang="en-US" sz="2200" spc="-1" strike="noStrike">
                <a:solidFill>
                  <a:srgbClr val="336600"/>
                </a:solidFill>
                <a:latin typeface="Times New Roman"/>
              </a:rPr>
              <a:t>легок на поми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3429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Поговорки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7280" y="3645000"/>
            <a:ext cx="26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Пословиц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1700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Поговорка – меткое народное выраж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краткое по форме, острое по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Пословица – законченное суждение, а поговорка - только часть су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Итоги урока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ольклор – энциклопедия народной жизн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произведения устного народного творчества отразилась вера народа в лучшее, в силу добра и справедлив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инственным автором произведений фольклора является нар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устном народном творчестве – мудрость народ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чень многие сюжеты и мотивы фольклора легли в основу литературных сочинений известных русских писателей и поэ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r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7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1.Раз, два, три, четыр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   </a:t>
            </a: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Кошку грамоте учи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   </a:t>
            </a: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Не читать, не писат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   </a:t>
            </a: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Мышек по углам иск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2. Кукушка кукушон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Купила капюш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Как в капюшоне он смешон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3. Ленка- пен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Голая колен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Пошла через мости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Потеряла хвости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771640" y="620640"/>
            <a:ext cx="46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ите жан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148360" y="1989000"/>
            <a:ext cx="23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читал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03640" y="3573360"/>
            <a:ext cx="30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короговор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364000" y="5229360"/>
            <a:ext cx="2355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разнил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4. Во поле береза стоя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Во поле кудрявая стоя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Люли- люли, стоя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Люли- люли, стояла, и т. 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5.   Из-за леса. Из- за гор едет бабушка Ег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Скрюченные ножки, в поясе сапож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А на этих ножках скрюченная кошк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На бабкиных ручках тапочки и брюч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А на скрюченной лошадке две ободран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шап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11280" y="260280"/>
            <a:ext cx="46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ите жан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867280" y="1700280"/>
            <a:ext cx="27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ова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сн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16720" y="5877000"/>
            <a:ext cx="19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былиц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94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Какие художественные особенности являются общими для всех жанров детского фольклора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ткий рит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большой объ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ысл песенки- не главное, главное – звуч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ательный, поучительный смысл обязател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сенки смешные, комич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есенках заложено действие: покачивание, приплясывание, хоров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жанр имеет свои отлич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Особенности фолькл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Коллектив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нет конкретного автора, автор – весь наро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Устная форма бытова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незначительные изменения при пересказ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Традицио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льклорные произведения передаются из поколения в поколение, сохраняя традиции наро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Учебник стр. 7-8 читать и пересказывать, знать определение малых жанров фолькл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Стр. 8 вопросы 1-3 уст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Раздел обогащаем устную речь разобр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Подобрать различные пословицы и поговорки (3-5 штук) и определить их значение, загад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Исполнители фольклорных произведен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27716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05440" y="1413000"/>
            <a:ext cx="233856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419640" y="4292640"/>
            <a:ext cx="2592360" cy="211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419640" y="1341360"/>
            <a:ext cx="259524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2700360" cy="212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3357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гусля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337176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коморо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33717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обза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38172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ак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63961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коморо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5120" y="63295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рубод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6732720" y="4246560"/>
            <a:ext cx="24112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Жанры фолькл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2637000"/>
            <a:ext cx="273672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фолькл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724280"/>
            <a:ext cx="18000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лов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4797360"/>
            <a:ext cx="230328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гово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4724280"/>
            <a:ext cx="194472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с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781360"/>
            <a:ext cx="172728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ска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1197000"/>
            <a:ext cx="2305080" cy="841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ка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637000"/>
            <a:ext cx="187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ы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3573360"/>
            <a:ext cx="0" cy="1224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692360" y="3573360"/>
            <a:ext cx="3024000" cy="11509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643280" y="2060280"/>
            <a:ext cx="0" cy="576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716360" y="1916280"/>
            <a:ext cx="2232000" cy="7207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68000" y="1916280"/>
            <a:ext cx="2303640" cy="7207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3573360"/>
            <a:ext cx="3024360" cy="11509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052640"/>
            <a:ext cx="1655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чита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1125360"/>
            <a:ext cx="187308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те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3068640"/>
            <a:ext cx="86364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340000" y="3141720"/>
            <a:ext cx="10080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124000" y="-603360"/>
            <a:ext cx="496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ыбельны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068640"/>
            <a:ext cx="4427640" cy="3684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8000" y="2276640"/>
            <a:ext cx="4356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Спи, моя радость, ус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В доме погасли ог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Дверь уж давно не скрипит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Мышка за печкою спит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тичек не слышно в саду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Рыбки уснули в пруду.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Глазки скорее сомкн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Спи, моя радость, усни…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40360" y="2743200"/>
            <a:ext cx="320364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95280" y="26028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 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Пестушки, потешки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81000"/>
            <a:ext cx="5651640" cy="64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Пестушк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слов «нянчить», «холить», «пестовать», ходить за кем-нибудь») – стишки, сопровождающие действия родит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Топ-топ, наши но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Топ-топ по дорож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Потеш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жанр детского фольклора, шутливые   стишки,   которыми родители    сопровождают  первые  игры  с ребён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Поехали, поеха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В лес за орех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По кочкам, по кочк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В ямку бууу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960560"/>
            <a:ext cx="3745080" cy="489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386320" y="1989000"/>
            <a:ext cx="3757680" cy="48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484360" y="333360"/>
            <a:ext cx="417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знай потеш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12:29:05Z</dcterms:created>
  <dc:creator>Комп</dc:creator>
  <dc:description/>
  <dc:language>en-US</dc:language>
  <cp:lastModifiedBy>Комп</cp:lastModifiedBy>
  <dcterms:modified xsi:type="dcterms:W3CDTF">2010-09-12T19:39:02Z</dcterms:modified>
  <cp:revision>4</cp:revision>
  <dc:subject/>
  <dc:title>Знаете ли вы, что гадания и заговоры – неотъемлемая часть русского народного творчества?</dc:title>
</cp:coreProperties>
</file>