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B51-49D0-4EC0-B078-C542ABB8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907-72BF-4A59-9C72-C9A8372E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116-81DA-417B-BDEC-8CCB6B6C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805-D626-4B94-98C4-C7F92D7A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A97A-63DC-43DB-BFA2-BBC5CE15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2CA9-98D1-49DD-B0ED-FA2EBCFA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EEDB-E587-4DA9-99D3-8B31A009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E6FC-5EFF-44C8-8B2C-0990048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B8E8-ED2E-42B5-9132-72FA8EAD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4C32-02EC-4715-9BE2-55365BC1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D9B-3073-4FA7-A6D0-5948F20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7F9-D087-4309-831D-5798516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5DBF-A2A7-4E46-80A3-88F772E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4234-1A71-420A-9678-932EE9B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30D5-D187-43E9-94EB-AAC2D08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FB2A-4F0A-411F-91A1-EDDFE272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4DD9-FB13-4998-B3D6-6C691DCD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F47E-4096-44F6-98CF-1D91D810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731E-C097-42D9-8BED-5D20D33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9173-4892-460F-93B4-FCA7E936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BA89-B576-4786-B294-A2C5E54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B0DF-8372-4A6D-8763-C68C0797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8D7-9864-4148-B53F-7B196047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7003-8C34-400D-8561-5FD1367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B2B7-538E-4FAD-B1FC-8CEF12E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C515-C0C1-43CB-943F-A79E241D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DE2F-793E-459B-99CC-5C4A373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9A4E-91B2-4858-9DDD-2BD3205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F160-5C54-49C6-B794-13ECD254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23A6-F0DE-48DA-9E4D-6091CCDF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22C0-3130-4CD2-BF95-98496D19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47A3-241A-42F6-A7F7-FD9D9C1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3362-F2CD-4225-B572-9AE1670F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DB7-0291-4428-A722-B7B3E520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11958-0E9F-473A-840F-AED1D70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1364-7A40-427A-8F53-F41CB95B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92E31-FD75-4761-9891-9637CD8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79BC-C8D7-4BC7-B670-03A26CF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1476-4E49-49EA-9E8A-9270145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ECA5-3275-406D-8AD5-9C17EC3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C148-8A91-4F85-A979-FA0D749B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92E7-422F-4002-8363-D6E87C3A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95B3-14CF-4F08-A58E-6033555A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FAFE-8692-4D2D-82BE-8736EBB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5A6-6EFA-4CC9-83EC-7879B93E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5E33-5BA6-494A-AC52-50C4A9FB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08BA-E2F7-44F6-AC8F-75A94106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B5F05-F478-4916-ADD0-13295DA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6371-F685-4FF6-9574-6A95547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31CD1-87CF-4E3A-94F2-90C6CC0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1BDFD-CAFC-4AE2-B3AC-C6C60393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3BDB8-9063-4ACB-A252-939CAE0B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E8AF-737E-4C1C-BE9F-86CABDE1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A5FA-B3D7-4525-B207-764F0FCD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8BA4-C11D-4A5C-A581-5C94378A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344-2FD0-4416-80BF-0429D69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7E73-B561-48D9-A9F3-B7E38FA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AEE7-6633-44DA-A23F-12D4DE62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FCD2-DAE8-4430-A784-A617EB04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B5863-AACB-4093-8082-0B484261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3E2FA-8686-4F06-9997-ECFECE0A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523A-A0F0-4B12-A190-75C7E793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BF7D-1E4B-4962-8AB3-0F25D2A4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890E-8B0D-408F-9818-E82463D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4B8B-D5A9-4C86-8D2B-193BB56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1C35B-5B08-4E97-BB3E-CD93F6FB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122-8FF7-4C78-835D-72961F9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85EA9-88E1-4B1C-A060-C94D4A33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7155-8D4A-45E6-941C-197C7714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1650E-B8E4-4792-95E0-B750D5E2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7B94-B18F-4B6C-9389-C6B3DF15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5DA3E-F653-47BC-BEB4-6E032C10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4F617-7E73-4E0C-9F54-A64459D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A475-8E30-4743-A8A5-30AA6D5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A8A19-DC82-4044-BF4C-FDD186A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BF47-45CF-4EA0-8246-EACE05F1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B5AD0-3EB4-425C-841D-F4BD42D4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625-D86C-43FF-813A-D470F67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FA41-7D6C-46C0-B813-7D345CD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A06A-A883-47E6-9592-B006147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8064-C3CC-4702-8508-E1C1CEDD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B28C-AE2A-4F56-AAB4-67EEB6B3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EF91-E496-4D81-B07E-BFF366A9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B73-CF18-4EC9-8F5B-20025F3E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BA19-82A3-4C5B-A560-22E299B3A70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1A3-BAA1-4AE5-AF92-756E2033E44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F44-51ED-40E3-8266-19B49D6AC99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223C-CF8C-4823-ADD1-70A1949EA11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439F-769C-4AF5-AE3D-DE27AC13936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D91-1213-4E09-B459-BA9FFCC022F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2F46-022D-4419-83B1-77198DFC870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://www.gazeta.ru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428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рушевич А.Г.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нд. филол. наук, заведующий кафедрой  русского языка Таганрогского  педагогического института  имени А.П. Чехов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нравственные ценн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подлинных и мнимых ценностей. Какую роль в жизни человека играет доброта (милосердие, отзывчивость, сострадание)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благородство? Какие поступки можно назвать благородными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честь, совесть? Какова роль этих понятий в жизни современного человека? Как сохранить нравственное достоинство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 такое интеллигентность? Какого человека можно назвать интеллигентным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Способы формулирования проблемы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Содержимое 3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8217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«От позиции автора – к проблеме»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82425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Выявление проблематики</a:t>
            </a: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художественного текста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127160"/>
            <a:ext cx="82425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ипичные ошибк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615960" y="1017720"/>
            <a:ext cx="7746840" cy="2921040"/>
          </a:xfrm>
          <a:prstGeom prst="rect">
            <a:avLst/>
          </a:prstGeom>
          <a:ln w="0">
            <a:noFill/>
          </a:ln>
        </p:spPr>
      </p:pic>
      <p:pic>
        <p:nvPicPr>
          <p:cNvPr id="396" name="Содержимое 3" descr=""/>
          <p:cNvPicPr/>
          <p:nvPr/>
        </p:nvPicPr>
        <p:blipFill>
          <a:blip r:embed="rId2"/>
          <a:stretch/>
        </p:blipFill>
        <p:spPr>
          <a:xfrm>
            <a:off x="884160" y="1779480"/>
            <a:ext cx="78264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ипичные ошиб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Содержимое 3" descr=""/>
          <p:cNvPicPr/>
          <p:nvPr/>
        </p:nvPicPr>
        <p:blipFill>
          <a:blip r:embed="rId1"/>
          <a:stretch/>
        </p:blipFill>
        <p:spPr>
          <a:xfrm>
            <a:off x="755640" y="871560"/>
            <a:ext cx="7821720" cy="299880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"/>
          <p:cNvPicPr/>
          <p:nvPr/>
        </p:nvPicPr>
        <p:blipFill>
          <a:blip r:embed="rId2"/>
          <a:stretch/>
        </p:blipFill>
        <p:spPr>
          <a:xfrm>
            <a:off x="901800" y="3852720"/>
            <a:ext cx="7821360" cy="30117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6"/>
          <p:cNvSpPr/>
          <p:nvPr/>
        </p:nvSpPr>
        <p:spPr>
          <a:xfrm>
            <a:off x="1285920" y="5429160"/>
            <a:ext cx="6429240" cy="50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 flipV="1">
            <a:off x="1714680" y="5357880"/>
            <a:ext cx="6500520" cy="642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Что такое комментарий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мментарий –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ссуждения,   замечания по поводу того, как автор раскрывает пробл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Задачи комментари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зъяснить, охарактеризовать проблему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яснить интерес  автора к проблеме,                       ход его мыс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комментар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25480"/>
            <a:ext cx="78753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7" name="Содержимое 3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77835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9" name="Содержимое 3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85628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мпозиция сочин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Содержимое 3" descr=""/>
          <p:cNvPicPr/>
          <p:nvPr/>
        </p:nvPicPr>
        <p:blipFill>
          <a:blip r:embed="rId1"/>
          <a:stretch/>
        </p:blipFill>
        <p:spPr>
          <a:xfrm>
            <a:off x="719280" y="1133640"/>
            <a:ext cx="81565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екстовый комментарий</a:t>
            </a:r>
            <a:br>
              <a:rPr sz="40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(от текста к проблем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Юрий Лотман поднимает проблему межнациональных конфликтов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 по-настоящему встревожен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тем, что всё чаще и чаще вынужден наблюдать «клиническое безумие ненависти» -  проявления расовой вражды, разжигание национальной розни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Лотман убежден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 том, что общечеловеческие ценности превыше всего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Не случайно упоминание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о том, что среди его друзей были представители самых разных национальностей. Люди должны поступать в отношении друг друга в духе равенства и братства, и нет оправдания тем, кто «разжигает кровавый туман» национальной розни, наживаясь на страданиях невинных людей.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Стоит прислушаться к словам автора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о том, что эпоха мелких конфликтов кончилась: мы живем в таком хрупком мире, где любое частное столкновение на национальной или религиозной почве может обернуться глобальной катастрофой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3" name="Содержимое 3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85628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цепционный комментарий</a:t>
            </a:r>
            <a:br>
              <a:rPr sz="4000"/>
            </a:b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(от проблемы к тексту)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актически каждый день средства массовой информации сообщают нам о межнациональных конфликтах, вспыхивающих на нашей планете. Каждый день гибнут люди, калечатся человеческие судьбы из-за того, что  мы не можем найти общего языка в различных национальных или религиозных вопросах. Именно к проблеме   национальной вражды,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одной из актуальнейших проблем  современности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, привлекает наше внимание Ю. Лотман.  Вспоминая прошлое,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 подчёркивает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:  среди его друзей были люди самых разных национальностей.     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Поэтому   ему странно и больно  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идеть  мир, ослеплённый ненавистью.    Люди не замечают, что являются  марионетками в руках тех, кому  выгодно  разжигать национальную рознь.  </a:t>
            </a:r>
            <a:r>
              <a:rPr b="0" lang="ru-RU" sz="2100" spc="-1" strike="noStrike">
                <a:solidFill>
                  <a:srgbClr val="ffff00"/>
                </a:solidFill>
                <a:latin typeface="Corbel"/>
              </a:rPr>
              <a:t>Автор предупреждает читателей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о том, что  мир уже давно стоит на грани катастрофы: «Колокол звонит по каждому из нас».   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7" name="Содержимое 3" descr=""/>
          <p:cNvPicPr/>
          <p:nvPr/>
        </p:nvPicPr>
        <p:blipFill>
          <a:blip r:embed="rId1"/>
          <a:stretch/>
        </p:blipFill>
        <p:spPr>
          <a:xfrm>
            <a:off x="615960" y="798480"/>
            <a:ext cx="8332920" cy="335268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3" descr=""/>
          <p:cNvPicPr/>
          <p:nvPr/>
        </p:nvPicPr>
        <p:blipFill>
          <a:blip r:embed="rId2"/>
          <a:stretch/>
        </p:blipFill>
        <p:spPr>
          <a:xfrm>
            <a:off x="828720" y="4133880"/>
            <a:ext cx="81928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0" name="Содержимое 3" descr=""/>
          <p:cNvPicPr/>
          <p:nvPr/>
        </p:nvPicPr>
        <p:blipFill>
          <a:blip r:embed="rId1"/>
          <a:stretch/>
        </p:blipFill>
        <p:spPr>
          <a:xfrm>
            <a:off x="901800" y="1706400"/>
            <a:ext cx="7821360" cy="401796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"/>
          <p:cNvPicPr/>
          <p:nvPr/>
        </p:nvPicPr>
        <p:blipFill>
          <a:blip r:embed="rId2"/>
          <a:stretch/>
        </p:blipFill>
        <p:spPr>
          <a:xfrm>
            <a:off x="1054080" y="1859040"/>
            <a:ext cx="782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Типичные ошибки комментирова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3" name="Содержимое 3" descr=""/>
          <p:cNvPicPr/>
          <p:nvPr/>
        </p:nvPicPr>
        <p:blipFill>
          <a:blip r:embed="rId1"/>
          <a:stretch/>
        </p:blipFill>
        <p:spPr>
          <a:xfrm>
            <a:off x="689040" y="781200"/>
            <a:ext cx="7821720" cy="272412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3" descr=""/>
          <p:cNvPicPr/>
          <p:nvPr/>
        </p:nvPicPr>
        <p:blipFill>
          <a:blip r:embed="rId2"/>
          <a:stretch/>
        </p:blipFill>
        <p:spPr>
          <a:xfrm>
            <a:off x="755640" y="3670200"/>
            <a:ext cx="7821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Что такое позиция автора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зиция автор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                         это вывод, к которому приходит автор, рассуждая над проблемой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Как выявить позицию автора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хотел сказать своим читателям автор, создавая текст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автор оценивает описываемую конкретную ситуацию, поступки героев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ие слова, художественные приемы выражают авторское  отношение, дают отрицательную или положительную оценку описываемым фактам.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руктура аргументац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Содержимое 5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46580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ая соединительная линия 13"/>
          <p:cNvSpPr/>
          <p:nvPr/>
        </p:nvSpPr>
        <p:spPr>
          <a:xfrm>
            <a:off x="4643280" y="5000760"/>
            <a:ext cx="1214640" cy="0"/>
          </a:xfrm>
          <a:prstGeom prst="line">
            <a:avLst/>
          </a:prstGeom>
          <a:ln w="1188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Прямая соединительная линия 21"/>
          <p:cNvSpPr/>
          <p:nvPr/>
        </p:nvSpPr>
        <p:spPr>
          <a:xfrm flipV="1">
            <a:off x="5857920" y="4857480"/>
            <a:ext cx="0" cy="142920"/>
          </a:xfrm>
          <a:prstGeom prst="line">
            <a:avLst/>
          </a:prstGeom>
          <a:ln w="11880">
            <a:solidFill>
              <a:srgbClr val="43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" bIns="12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357120"/>
          <a:ext cx="7772400" cy="6018120"/>
        </p:xfrm>
        <a:graphic>
          <a:graphicData uri="http://schemas.openxmlformats.org/drawingml/2006/table">
            <a:tbl>
              <a:tblPr/>
              <a:tblGrid>
                <a:gridCol w="2144880"/>
                <a:gridCol w="5627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з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согласен с автором:  одна из важнейших задач искусства – будить в человеке чувство роди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огический пере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случайно русские писатели и поэты в своих произведениях многократно обращались к теме родины и создали удивительные образы нашей родины – Росс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ллюстративная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.С. Пушкин, М.Ю. Лермонтов, Н. А. Некрасов,                    С.А. Есенин, А.А. Блок – все эти поэты показывали читателям Россию с разным сторон, с её достоинствами и недостатками, но прежде всего - с большой любовью к своему Отечеству. Особенно мне запомнились строки  из стихотворения С.А. Есенина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ли крикнет рать святая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Кинь ты Русь, живи в раю!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скажу: «Не надо ра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йте родину мою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икровыв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верное, это одно из самых ярких признаний в любви своей родине, которое не должно оставить нас, граждан России, равнодушны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Содержимое 3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5708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Аргументы, оцениваемые  1 балло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личного опыт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общённые примеры из жизн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едположительные приме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а на обобщенное лиц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и на общезначимый опы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словицы, афоризмы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сылки на кинофильм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личного опы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зис: компьютер не заменит книг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не во всем согласен с автором. Так уж получилось, что в моей библиотеке не очень много книг, однако благодаря Интернету я собрал довольно большую коллекцию электронных изданий, которыми активно пользуюсь. Мне кажется, благодаря электронным носителям книга просто приобрела новый вид и даже стала доступнее  для читателя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Обобщенный пример из жизн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массовая литература отрицательно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казывается на развитии человек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реди моих сверстников я, к сожалению, часто встречаю людей, которые не читают ничего, кроме развлекательной литературы – детективных или приключенческих романов. Мне искренне жаль, что многие ограничивают свой кругозор примитивным «чтивом», не желая  узнать о мире и о себе больше, чем может дать массовая литература или развлекательные телепередачи.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едположительный пример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Тезис: умение сочувствовать  – важнейшее качество духовно развитого человек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300" spc="-1" strike="noStrike">
                <a:solidFill>
                  <a:srgbClr val="ffff00"/>
                </a:solidFill>
                <a:latin typeface="Times New Roman"/>
              </a:rPr>
              <a:t>Давайте на минуту представим себе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мир, в котором нет людей, способных к сочувствию. У вас трудности, вам нужна помощь, а  лучший друг (впрочем, возможны ли в таком мире друзья?) говорит: «Мне некогда! Разбирайся сам». Вы заболели, вам плохо, а родители равнодушно заявляют: «Сходи к врачу», – и как ни в чем не бывало  принимаются за домашние дела… Хотелось бы вам жить в таком равнодушном мире? Думаю, нет. От людей, которые нас окружают, мы ждем сочувствия, готовности разделить с нами горе и радость.  Именно внимание окружающих  помогает человеку понять, что он не одинок, что ему есть для чего жить в этом мир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обобщенное лиц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сихологи доказали: чтобы быть хорошим руководителем, мало одних профессиональных знаний и организаторских способностей. Нужно еще видеть в подчиненных не просто добросовестных исполнителей чужой воли, а коллектив сотрудников, нужно умение создать в нем благоприятный психологический клима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общезначимый опы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общение с книгой важно в детстве, в период формирования личност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детстве содержание книги воспринимается особенно ярко и часто вызывает сильные эмоции. Я думаю, это подтвердит каждый, кто путешествовал по стране чудес вместе с Алисой, или помогал Робинзону осваивать необитаемый остров, или боролся против темных сил вместе с героями народных сказок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Ссылка на кинофиль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зис: человек должен стремиться                               к осуществлению своей мечты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не кажется, прекрасным подтверждением мысли автора может служить судьба героини фильма В. Меньшова «Москва слезам не верит». Катерина работала на фабрике, сама воспитывала ребенка, заочно окончила институт и в результате добилась успеха – стала директором комбината.   Таким образом, каждый из нас  в силах  добиться осуществления своей мечты. Необходимо только каждым шагом, каждым своим поступком приближать ее осуществление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Пословицы, афоризмы </a:t>
            </a:r>
            <a:br>
              <a:rPr sz="3600"/>
            </a:b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(без объяснения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зис: дружба – одна из важнейших  человеческих ценност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абсолютно согласен с автором. Недаром о ценности дружбы существует так много пословиц: «Не имей сто рублей, а имей сто друзей», «Старый друг лучше новых двух» и множество других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Аргументы, оцениваемые</a:t>
            </a:r>
            <a:br>
              <a:rPr sz="3600"/>
            </a:br>
            <a:r>
              <a:rPr b="1" lang="ru-RU" sz="3600" spc="-1" strike="noStrike">
                <a:solidFill>
                  <a:srgbClr val="c1eeff"/>
                </a:solidFill>
                <a:latin typeface="Times New Roman"/>
              </a:rPr>
              <a:t> 2 баллам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художественной литерату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публицистической литератур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меры из научной (научно-популярной литературы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словицы, поговорки, афоризмы (с объяснение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Times New Roman"/>
              </a:rPr>
              <a:t>Пример из художественной литератур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214280"/>
            <a:ext cx="777240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4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39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ом, подтверждающим мою позицию, может послужить роман И.С. Тургенева «Отцы и дети». Базаров, главный герой произведения, стесняется отсталости своих родителей. Он высмеивает их привычки, обращается с ними холодно и даже пренебрежительно. Евгений признает, что искренне любит родителей, но любые проявления сыновней любви приравнивает                       к внутренней слабости. Только находясь на смертном одре, Базаров понимает,  как сильно он ошибался. Он осознает, что должен был ценить их такими, какие они есть. Поэтому, умирая, он уже  говорит с ними ласково, беспокоится об их будущем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Содержимое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публицист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 проблемой влияния телевидения на современное российское общество размышляет тележурналист Олег Пташкин в статье "Треш-ТВ", опубликованной на сайте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www.gazeta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о словам автора, современное телевидение в России переживает острейший кризис - кризис идей и смысла. Те, кто создает телепередачи, совершенно не думают об общественной пользе. Журналист озабочен тем, что современные СМИ пропагандируют бездуховность и аморальность, приучают к мысли, что нормальная жизнь ради семьи, детей, успехов в работе - удел неудачников. Автор убежден в том, что главная задача современного телевидения - просвещение: оно должно научить чтить семью, родителей, культурные традиции.  Только тогда  телевидение будет способствовать  возрождению духовности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</a:rPr>
              <a:t>Пример из научной литерату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езис: человек должен быть активной личностью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ди, не пасующие перед жизненными трудностями, смело смотрящие правде  в глаза, – это хозяева своей судьбы. Историк Лев Гумилев в своей работе «Этногенез и биосфера Земли» назвал таких людей пассионариями. Среди них много великих исторических деятелей, знаменитых полководцев, борцов за свободу и права человека, и каждый из них внес свой вклад в развитие обществ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413000"/>
            <a:ext cx="7772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rbel"/>
              </a:rPr>
              <a:t>Человек и общество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несправедливости социального устройства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 чем заключается смысл жизни человека?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воспитания. Что влияет на формирование личности?  Проблема формирования духовно развитой личности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обучения. Какова истинная цель обучения? Каким должен быть хороший учитель (ученик)? Значимость труда в жизни человека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Какое влияние оказывает личность на ход истории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свободы личности и ответственности человека перед обществом. Что такое свобода? Какого человека можно назвать свободным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патриотизма. Что такое подлинный и мнимый патриотизм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облема выбора профессии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природ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блема бездумного, жестокого отношения человека к миру природ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 уберечь мир от экологической катастрофы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блема жестокости и гуманизма по отношению к животны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лияние природы на человека. Проблема восприятия красоты природы челове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Человек и человек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сложности взаимоотношений людей (гуманное отношение к окружающим людям, равнодушие к судьбе другого человека, нравственная ответственность человека перед  другими людьми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взаимоотношения «отцов» и «детей». Можно ли избежать конфликта поколений? В чем проявляется подлинная любовь родителей к детям (детей к родителям)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любви/ревности, дружбы/предательств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блема взаимоотношения подростк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rbel"/>
              </a:rPr>
              <a:t>Человек и культур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облема восприятия искусства. Проблема восприятия красоты. Что такое истинная красота?  Что поможет воспитать эстетический вкус человека? Проблема духовности в искусстве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облема экологии культуры. Почему следует беречь памятники культуры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то такое массовая культура? Как массовая культура влияет на человека? Как влияет телевидение на человека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акова роль книги в жизни человека? Проблема выбора книг для чтения. Почему молодежь стала меньше читать? Может ли Интернет заменить книгу? Всегда ли полезно скорочтение?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тика текстов ЕГЭ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Человек и язык/реч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развития и сохранения русского язык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то такое хорошая речь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ак сохранить чистоту реч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засорения речи жаргонными, заимствованными словам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блема канцелярита.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чем опасность штампов  в нашей реч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2:19:44Z</dcterms:created>
  <dc:creator>Home</dc:creator>
  <dc:description/>
  <dc:language>en-US</dc:language>
  <cp:lastModifiedBy>Татьяна</cp:lastModifiedBy>
  <dcterms:modified xsi:type="dcterms:W3CDTF">2015-04-11T22:36:32Z</dcterms:modified>
  <cp:revision>182</cp:revision>
  <dc:subject/>
  <dc:title>Слайд 1</dc:title>
</cp:coreProperties>
</file>