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6BF-6D2F-4793-A986-BF4AED0B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522-9779-4C71-A33F-6372D24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A84-423D-4894-BB9E-5C86EC4E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BA0-34C8-4E4D-82EA-FB6CE458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CA84-F782-4651-BB5A-7F51270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5CC-64F4-4E1C-B71B-0F26EA5E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EEE9-141F-4977-9B87-E037EEA1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DCD6-4217-4E67-BEA6-2C7B124C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3620-C491-429D-85D8-959541DE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CC76-2333-46DD-97D9-504F614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8F7-923D-4AF1-BFCD-2544D64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357-C7CA-4628-ADC0-49CCF54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A9AD-6558-4274-8DA6-2164C54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3E3E-43D5-4512-A8D9-E419BB7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8A9A-2C1F-49A3-A9E0-BB8A135D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B9FB-8930-41C1-9F22-B617EF15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6B06-4242-4440-9E32-5242C1DF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1E92-3427-467D-94EE-E7D4FF94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4233-600B-46FF-9AD8-B452F9B0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81D9-A774-4072-8442-65D292B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E628-9393-49DF-9CD7-0675333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5CD2-4143-4169-871B-BCD09D4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244-7ADA-4F4F-A0A4-62E75F61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94E6-A6BD-445B-A3BA-D9624FE2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DD10-91F5-4F49-92A3-C12B9A8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8519-DD24-4670-878A-7B9BB46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7FC2-D6DF-499B-8F86-891802A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138A-F005-4B14-96D7-B303EE7E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BEA2-DCB6-4EAC-80BC-D5785D22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2BCB-EDDE-49F0-94F4-D18B01FA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32BD-92F4-41A5-B763-BC65D93A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674F-9D86-44A8-95CE-8030A5B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FBBB-9B02-4E57-902E-7AE58549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4A8-BD48-42C2-9856-AA396E5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1B14-17FD-4626-8EBD-042CEB4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F5C4-529C-47BE-B2AD-62151CC1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C44A-DB0D-47E0-BB51-62F9447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0414-5314-46FF-8B21-8FD52DF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7504-5A8B-4DC2-828D-3783ABA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9702-4C90-4387-8648-379C166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0461-F28C-473D-8FAF-79E79584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BFBF-C265-4ABD-ACF4-929E3B47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3B96-A22D-448D-97C7-77A153BD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CF6E-03B7-4906-80FD-36EE423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E96-97F1-4BD2-BE82-853C7113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F519-78F9-450D-AC2E-7E5F609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AD2B4-76DC-4270-B80F-97CD4FD3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8FA03-A922-4B92-9FD0-87AB7AF1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32AA-6D07-4BEC-9E8A-99EF4954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CE4B-AF0C-421D-94E7-5EA4AB1D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3B7E-B67E-40A8-83A3-403E63A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DCE25-320B-47F4-B44A-2AC1B8D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F233-10FF-4947-AC78-3DDD159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7660-23C0-4554-AE01-CBCC3A4A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DA78-E329-4EB0-9E30-E48D479D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CD1-BCB0-4BC1-8242-6A1F5B4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5FF34-70AF-4E7F-A25E-943F92A7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89D6-7D73-4EF3-859F-198BBBD5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40AD-AF14-4388-BC88-DD06747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1BBB-1BEC-4117-A28D-FC4161E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B584-4912-4F00-A110-8E09EA48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C0600-7F5D-426E-896A-3C29B5E6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D0E0-6649-4D78-A7B8-9D4506D9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90E4-21B4-40E8-952A-5CF281A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B6FE5-5EC5-46D5-9E06-7EF1415F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5256-CD28-493C-A049-D2DD5AF4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30E-A603-4A65-9777-35E5063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A051-CA44-4F21-AFE9-A15A6272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C3AC-5C1A-40E5-850C-60BA5626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AF93-C800-451E-833B-5CAA12EE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F780-DACC-4D06-A849-B8899546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ABB2-DEA6-4F5E-8249-6A91949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977E-FFDC-4FF3-BD24-27E3C447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0BDB-E932-4A34-9422-F0A0E480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2E3F4-0953-4390-8D87-8B2CE5FE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DAC9-56E0-4A74-9A75-D0A5D73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489F-8BCA-4E8B-8A3E-7E0100A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DFF-206B-450E-9B9A-781033D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F129-A471-453E-B821-7C1FB61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4A7B-BA3B-4D68-AA6B-5689042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EE35-ED3D-411A-84E6-0827A7E8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F8A0-0468-46D6-ABF8-EA657625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1E6D-00DC-4B2A-8391-31FD157B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974-5D81-47FE-B4A3-612C3DC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B0BB-D90D-40C4-97EC-E72C8CA62F7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A777-F120-4F4A-A60B-28784A40193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635A-4083-4214-A455-77297782FDE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85C-8210-4E38-9D79-D123E04C761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FEA-AFB2-4E4C-84CC-0CC3EFD1792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AC6-CADF-4538-9D88-2A7859150F8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E74B-4C25-417B-BE68-A8A7732CE31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://www.gazeta.ru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428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рушевич А.Г.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нд. филол. наук, заведующий кафедрой  русского языка Таганрогского  педагогического института  имени А.П. Чехов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нравственные ценн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подлинных и мнимых ценностей. Какую роль в жизни человека играет доброта (милосердие, отзывчивость, сострадание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благородство? Какие поступки можно назвать благородными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честь, совесть? Какова роль этих понятий в жизни современного человека? Как сохранить нравственное достоинство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интеллигентность? Какого человека можно назвать интеллигентным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Способы формулирования проблемы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Содержимое 3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8217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«От позиции автора – к проблеме»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2425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Выявление проблематики</a:t>
            </a: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художественного текста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27160"/>
            <a:ext cx="82425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ичные ошибк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615960" y="1017720"/>
            <a:ext cx="7746840" cy="2921040"/>
          </a:xfrm>
          <a:prstGeom prst="rect">
            <a:avLst/>
          </a:prstGeom>
          <a:ln w="0">
            <a:noFill/>
          </a:ln>
        </p:spPr>
      </p:pic>
      <p:pic>
        <p:nvPicPr>
          <p:cNvPr id="396" name="Содержимое 3" descr=""/>
          <p:cNvPicPr/>
          <p:nvPr/>
        </p:nvPicPr>
        <p:blipFill>
          <a:blip r:embed="rId2"/>
          <a:stretch/>
        </p:blipFill>
        <p:spPr>
          <a:xfrm>
            <a:off x="884160" y="1779480"/>
            <a:ext cx="78264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ичные ошиб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Содержимое 3" descr=""/>
          <p:cNvPicPr/>
          <p:nvPr/>
        </p:nvPicPr>
        <p:blipFill>
          <a:blip r:embed="rId1"/>
          <a:stretch/>
        </p:blipFill>
        <p:spPr>
          <a:xfrm>
            <a:off x="755640" y="871560"/>
            <a:ext cx="7821720" cy="29988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"/>
          <p:cNvPicPr/>
          <p:nvPr/>
        </p:nvPicPr>
        <p:blipFill>
          <a:blip r:embed="rId2"/>
          <a:stretch/>
        </p:blipFill>
        <p:spPr>
          <a:xfrm>
            <a:off x="901800" y="3852720"/>
            <a:ext cx="7821360" cy="30117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6"/>
          <p:cNvSpPr/>
          <p:nvPr/>
        </p:nvSpPr>
        <p:spPr>
          <a:xfrm>
            <a:off x="1285920" y="5429160"/>
            <a:ext cx="6429240" cy="50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 flipV="1">
            <a:off x="1714680" y="5357880"/>
            <a:ext cx="6500520" cy="642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Что такое комментарий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мментарий –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ссуждения,   замечания по поводу того, как автор раскрывает пробл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адачи комментари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зъяснить, охарактеризовать проблему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яснить интерес  автора к проблеме,                       ход его мыс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коммента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25480"/>
            <a:ext cx="78753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Содержимое 3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7835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9" name="Содержимое 3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85628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мпозиция сочин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Содержимое 3" descr=""/>
          <p:cNvPicPr/>
          <p:nvPr/>
        </p:nvPicPr>
        <p:blipFill>
          <a:blip r:embed="rId1"/>
          <a:stretch/>
        </p:blipFill>
        <p:spPr>
          <a:xfrm>
            <a:off x="719280" y="1133640"/>
            <a:ext cx="81565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екстовый комментарий</a:t>
            </a:r>
            <a:br>
              <a:rPr sz="40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(от текста к проблем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Юрий Лотман поднимает проблему межнациональных конфликтов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 по-настоящему встревожен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м, что всё чаще и чаще вынужден наблюдать «клиническое безумие ненависти» -  проявления расовой вражды, разжигание национальной розни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Лотман убежден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 том, что общечеловеческие ценности превыше всего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Не случайно упоминание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о том, что среди его друзей были представители самых разных национальностей. Люди должны поступать в отношении друг друга в духе равенства и братства, и нет оправдания тем, кто «разжигает кровавый туман» национальной розни, наживаясь на страданиях невинных людей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Стоит прислушаться к словам автора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 том, что эпоха мелких конфликтов кончилась: мы живем в таком хрупком мире, где любое частное столкновение на национальной или религиозной почве может обернуться глобальной катастрофой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3" name="Содержимое 3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85628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цепционный комментарий</a:t>
            </a:r>
            <a:br>
              <a:rPr sz="4000"/>
            </a:b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(от проблемы к тексту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актически каждый день средства массовой информации сообщают нам о межнациональных конфликтах, вспыхивающих на нашей планете. Каждый день гибнут люди, калечатся человеческие судьбы из-за того, что  мы не можем найти общего языка в различных национальных или религиозных вопросах. Именно к проблеме   национальной вражды,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одной из актуальнейших проблем  современности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, привлекает наше внимание Ю. Лотман.  Вспоминая прошлое,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 подчёркивает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:  среди его друзей были люди самых разных национальностей.     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Поэтому   ему странно и больно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идеть  мир, ослеплённый ненавистью.    Люди не замечают, что являются  марионетками в руках тех, кому  выгодно  разжигать национальную рознь. 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предупреждает читателей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о том, что  мир уже давно стоит на грани катастрофы: «Колокол звонит по каждому из нас».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Содержимое 3" descr=""/>
          <p:cNvPicPr/>
          <p:nvPr/>
        </p:nvPicPr>
        <p:blipFill>
          <a:blip r:embed="rId1"/>
          <a:stretch/>
        </p:blipFill>
        <p:spPr>
          <a:xfrm>
            <a:off x="615960" y="798480"/>
            <a:ext cx="8332920" cy="335268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3" descr=""/>
          <p:cNvPicPr/>
          <p:nvPr/>
        </p:nvPicPr>
        <p:blipFill>
          <a:blip r:embed="rId2"/>
          <a:stretch/>
        </p:blipFill>
        <p:spPr>
          <a:xfrm>
            <a:off x="828720" y="4133880"/>
            <a:ext cx="81928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901800" y="1706400"/>
            <a:ext cx="7821360" cy="401796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"/>
          <p:cNvPicPr/>
          <p:nvPr/>
        </p:nvPicPr>
        <p:blipFill>
          <a:blip r:embed="rId2"/>
          <a:stretch/>
        </p:blipFill>
        <p:spPr>
          <a:xfrm>
            <a:off x="1054080" y="1859040"/>
            <a:ext cx="782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3" name="Содержимое 3" descr=""/>
          <p:cNvPicPr/>
          <p:nvPr/>
        </p:nvPicPr>
        <p:blipFill>
          <a:blip r:embed="rId1"/>
          <a:stretch/>
        </p:blipFill>
        <p:spPr>
          <a:xfrm>
            <a:off x="689040" y="781200"/>
            <a:ext cx="7821720" cy="272412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3" descr=""/>
          <p:cNvPicPr/>
          <p:nvPr/>
        </p:nvPicPr>
        <p:blipFill>
          <a:blip r:embed="rId2"/>
          <a:stretch/>
        </p:blipFill>
        <p:spPr>
          <a:xfrm>
            <a:off x="755640" y="3670200"/>
            <a:ext cx="7821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Что такое позиция автор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зиция автор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                         это вывод, к которому приходит автор, рассуждая над проблемой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Как выявить позицию автор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хотел сказать своим читателям автор, создавая текст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автор оценивает описываемую конкретную ситуацию, поступки героев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ие слова, художественные приемы выражают авторское  отношение, дают отрицательную или положительную оценку описываемым фактам.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аргументац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Содержимое 5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46580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ая соединительная линия 13"/>
          <p:cNvSpPr/>
          <p:nvPr/>
        </p:nvSpPr>
        <p:spPr>
          <a:xfrm>
            <a:off x="4643280" y="5000760"/>
            <a:ext cx="1214640" cy="0"/>
          </a:xfrm>
          <a:prstGeom prst="line">
            <a:avLst/>
          </a:prstGeom>
          <a:ln w="1188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Прямая соединительная линия 21"/>
          <p:cNvSpPr/>
          <p:nvPr/>
        </p:nvSpPr>
        <p:spPr>
          <a:xfrm flipV="1">
            <a:off x="5857920" y="4857480"/>
            <a:ext cx="0" cy="142920"/>
          </a:xfrm>
          <a:prstGeom prst="line">
            <a:avLst/>
          </a:prstGeom>
          <a:ln w="1188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" bIns="12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357120"/>
          <a:ext cx="7772400" cy="6018120"/>
        </p:xfrm>
        <a:graphic>
          <a:graphicData uri="http://schemas.openxmlformats.org/drawingml/2006/table">
            <a:tbl>
              <a:tblPr/>
              <a:tblGrid>
                <a:gridCol w="2144880"/>
                <a:gridCol w="562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з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согласен с автором:  одна из важнейших задач искусства – будить в человеке чувство роди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огический пере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случайно русские писатели и поэты в своих произведениях многократно обращались к теме родины и создали удивительные образы нашей родины – Росс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ллюстративная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.С. Пушкин, М.Ю. Лермонтов, Н. А. Некрасов,                    С.А. Есенин, А.А. Блок – все эти поэты показывали читателям Россию с разным сторон, с её достоинствами и недостатками, но прежде всего - с большой любовью к своему Отечеству. Особенно мне запомнились строки  из стихотворения С.А. Есенина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ли крикнет рать святая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Кинь ты Русь, живи в раю!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скажу: «Не надо р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йте родину мою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икровыв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верное, это одно из самых ярких признаний в любви своей родине, которое не должно оставить нас, граждан России, равнодуш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5708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Аргументы, оцениваемые  1 балло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личного опыт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общённые примеры из жизн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едположительные приме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а на обобщенное лиц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и на общезначимый опы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словицы, афоризмы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и на кинофиль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личного опы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зис: компьютер не заменит книг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не во всем согласен с автором. Так уж получилось, что в моей библиотеке не очень много книг, однако благодаря Интернету я собрал довольно большую коллекцию электронных изданий, которыми активно пользуюсь. Мне кажется, благодаря электронным носителям книга просто приобрела новый вид и даже стала доступнее  для читателя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Обобщенный пример из жизн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массовая литература отрицательно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казывается на развитии человек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реди моих сверстников я, к сожалению, часто встречаю людей, которые не читают ничего, кроме развлекательной литературы – детективных или приключенческих романов. Мне искренне жаль, что многие ограничивают свой кругозор примитивным «чтивом», не желая  узнать о мире и о себе больше, чем может дать массовая литература или развлекательные телепередачи.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едположительный приме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Тезис: умение сочувствовать  – важнейшее качество духовно развитого человек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300" spc="-1" strike="noStrike">
                <a:solidFill>
                  <a:srgbClr val="ffff00"/>
                </a:solidFill>
                <a:latin typeface="Times New Roman"/>
              </a:rPr>
              <a:t>Давайте на минуту представим себе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мир, в котором нет людей, способных к сочувствию. У вас трудности, вам нужна помощь, а  лучший друг (впрочем, возможны ли в таком мире друзья?) говорит: «Мне некогда! Разбирайся сам». Вы заболели, вам плохо, а родители равнодушно заявляют: «Сходи к врачу», – и как ни в чем не бывало  принимаются за домашние дела… Хотелось бы вам жить в таком равнодушном мире? Думаю, нет. От людей, которые нас окружают, мы ждем сочувствия, готовности разделить с нами горе и радость.  Именно внимание окружающих  помогает человеку понять, что он не одинок, что ему есть для чего жить в этом мир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обобщенное лиц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сихологи доказали: чтобы быть хорошим руководителем, мало одних профессиональных знаний и организаторских способностей. Нужно еще видеть в подчиненных не просто добросовестных исполнителей чужой воли, а коллектив сотрудников, нужно умение создать в нем благоприятный психологический клима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общезначимый опы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общение с книгой важно в детстве, в период формирования лично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етстве содержание книги воспринимается особенно ярко и часто вызывает сильные эмоции. Я думаю, это подтвердит каждый, кто путешествовал по стране чудес вместе с Алисой, или помогал Робинзону осваивать необитаемый остров, или боролся против темных сил вместе с героями народных сказок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кинофиль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человек должен стремиться                               к осуществлению своей мечты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 кажется, прекрасным подтверждением мысли автора может служить судьба героини фильма В. Меньшова «Москва слезам не верит». Катерина работала на фабрике, сама воспитывала ребенка, заочно окончила институт и в результате добилась успеха – стала директором комбината.   Таким образом, каждый из нас  в силах  добиться осуществления своей мечты. Необходимо только каждым шагом, каждым своим поступком приближать ее осуществление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Пословицы, афоризмы 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(без объяснения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зис: дружба – одна из важнейших  человеческих ценност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абсолютно согласен с автором. Недаром о ценности дружбы существует так много пословиц: «Не имей сто рублей, а имей сто друзей», «Старый друг лучше новых двух» и множество других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Аргументы, оцениваемые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 2 баллам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художественной литерату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публицистической литерату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научной (научно-популярной литературы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словицы, поговорки, афоризмы (с объяснение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Times New Roman"/>
              </a:rPr>
              <a:t>Пример из художественной литератур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214280"/>
            <a:ext cx="77724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4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39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ом, подтверждающим мою позицию, может послужить роман И.С. Тургенева «Отцы и дети». Базаров, главный герой произведения, стесняется отсталости своих родителей. Он высмеивает их привычки, обращается с ними холодно и даже пренебрежительно. Евгений признает, что искренне любит родителей, но любые проявления сыновней любви приравнивает                       к внутренней слабости. Только находясь на смертном одре, Базаров понимает,  как сильно он ошибался. Он осознает, что должен был ценить их такими, какие они есть. Поэтому, умирая, он уже  говорит с ними ласково, беспокоится об их будущем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Содержимое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публицист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 проблемой влияния телевидения на современное российское общество размышляет тележурналист Олег Пташкин в статье "Треш-ТВ", опубликованной на сайте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www.gazeta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о словам автора, современное телевидение в России переживает острейший кризис - кризис идей и смысла. Те, кто создает телепередачи, совершенно не думают об общественной пользе. Журналист озабочен тем, что современные СМИ пропагандируют бездуховность и аморальность, приучают к мысли, что нормальная жизнь ради семьи, детей, успехов в работе - удел неудачников. Автор убежден в том, что главная задача современного телевидения - просвещение: оно должно научить чтить семью, родителей, культурные традиции.  Только тогда  телевидение будет способствовать  возрождению духовности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научной литерату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езис: человек должен быть активной личностью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ди, не пасующие перед жизненными трудностями, смело смотрящие правде  в глаза, – это хозяева своей судьбы. Историк Лев Гумилев в своей работе «Этногенез и биосфера Земли» назвал таких людей пассионариями. Среди них много великих исторических деятелей, знаменитых полководцев, борцов за свободу и права человека, и каждый из них внес свой вклад в развитие обществ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41300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rbel"/>
              </a:rPr>
              <a:t>Человек и обществ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несправедливости социального устройства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чем заключается смысл жизни человека?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воспитания. Что влияет на формирование личности?  Проблема формирования духовно развитой личности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обучения. Какова истинная цель обучения? Каким должен быть хороший учитель (ученик)? Значимость труда в жизни человека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Какое влияние оказывает личность на ход истории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свободы личности и ответственности человека перед обществом. Что такое свобода? Какого человека можно назвать свободным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патриотизма. Что такое подлинный и мнимый патриотизм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выбора профессии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природ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блема бездумного, жестокого отношения человека к миру природ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 уберечь мир от экологической катастрофы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блема жестокости и гуманизма по отношению к животны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лияние природы на человека. Проблема восприятия красоты природы челове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Человек и человек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сложности взаимоотношений людей (гуманное отношение к окружающим людям, равнодушие к судьбе другого человека, нравственная ответственность человека перед  другими людьми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взаимоотношения «отцов» и «детей». Можно ли избежать конфликта поколений? В чем проявляется подлинная любовь родителей к детям (детей к родителям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любви/ревности, дружбы/предательств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взаимоотношения подростк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rbel"/>
              </a:rPr>
              <a:t>Человек и культур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облема восприятия искусства. Проблема восприятия красоты. Что такое истинная красота?  Что поможет воспитать эстетический вкус человека? Проблема духовности в искусстве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облема экологии культуры. Почему следует беречь памятники культуры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то такое массовая культура? Как массовая культура влияет на человека? Как влияет телевидение на человека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акова роль книги в жизни человека? Проблема выбора книг для чтения. Почему молодежь стала меньше читать? Может ли Интернет заменить книгу? Всегда ли полезно скорочтение?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язык/реч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развития и сохранения русского язык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то такое хорошая речь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ак сохранить чистоту реч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засорения речи жаргонными, заимствованными словам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канцелярита.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чем опасность штампов  в нашей реч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2:19:44Z</dcterms:created>
  <dc:creator>Home</dc:creator>
  <dc:description/>
  <dc:language>en-US</dc:language>
  <cp:lastModifiedBy>Татьяна</cp:lastModifiedBy>
  <dcterms:modified xsi:type="dcterms:W3CDTF">2015-04-11T22:36:32Z</dcterms:modified>
  <cp:revision>182</cp:revision>
  <dc:subject/>
  <dc:title>Слайд 1</dc:title>
</cp:coreProperties>
</file>