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4D5-4451-4DD9-AB93-66D7B7AF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F2C-0E31-40F0-A0FD-59B5838D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C67-750B-4696-B80C-730A61A4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6B4-FC52-41E6-8DE5-73B9F1DC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D71-E71A-4A23-9644-8E4CAE4D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BB51-209D-4A7A-B0D5-C05A311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F4A-22E9-44C2-BA00-9D9DA81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EB91-DF4A-4FA8-9F8B-AE47CE01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E22D-A35F-4DC4-AB22-7A4D87F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1F93-3D1F-496B-ADB0-7464AE3C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B554-E9A9-4460-A9FB-69AFAA77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170-70AC-4F0A-8E4D-AAC50D64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159E-13A8-4815-BFBF-69F8B434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F486-301B-4B37-A963-3C8BABEE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6275-C0E2-48B3-B48C-6374272D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F142-9EBF-413A-9376-BB2F2EE0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E0D4-95A9-47EC-84CA-3ABB163F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48AE-EFEA-4313-8CDF-1DE27456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8EE9-D704-4606-AF80-22D3E0AC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33C5B-C107-467B-8A8A-F4FA0EE6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8C75-EC94-478D-BDE7-CADAD56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8647-BF75-40F2-B5D5-D5AD2464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851-23A8-44E6-A291-A0F24793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686E-3327-47E5-9E7D-98EBB96A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A516-F504-4F89-82D9-4B517F5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4DAF-B306-4AF4-9D79-74D8C262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372B-ADC1-4E83-97B4-8B948F1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6490-3425-41CC-8F40-1724C0B2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2433-962F-4FE9-B7A5-9D386D38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FA98-50EE-4469-B770-E61EDB1A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513A-1C05-4ABC-9505-D2397BFE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9D6E6-CAD3-4159-8C50-6867B985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0B23F-5216-4683-BA20-C60CBD24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3F5-6DEF-4A90-82ED-30A5F6E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B7EF-C372-49B4-B287-BADBD35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0200-88C3-4AC8-BC65-E3BB303D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2DD5-F29E-41F4-A463-92E21B12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A40F-732A-4F56-9689-3D9934D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C1B6F-1CB9-4ACC-ABB5-2484EB99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C055-6C2C-485A-8816-E7AE6D49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9123-1A40-49EE-863A-A5D35CFE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1D17-B99B-4D04-AE05-4099D914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B8D56-1337-4B09-A5BD-3BC593DA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FEF36-058F-45CE-AA8A-0FE3B82D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46E-124E-461C-A485-945FEFF8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A76B7-F78A-43A4-BC7D-36BBC7CA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CD8E-74B7-4C79-BE20-9C728E37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C8D41-0878-4166-A717-A33BC56B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F23A8-65C8-4BDB-A292-EE571F75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D15C6-F3F0-48CB-9D40-BAF1ADAF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95FEC-70D0-4D04-8CBB-62A2F873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EA414-818E-456D-AA1E-49D77EA1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3708-B51A-4624-AC47-B83FCD9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C4900-EB98-4E3C-91C6-1418976E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701C-0854-4F19-8D06-F2013081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603-8E72-4EB8-A2F7-F0D0A382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553A0-9073-48A5-8F98-E6CA7572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D25FE-2430-4B85-8235-7AF36D09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6C9E-7737-45EA-B208-B0B29EBB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A7B1E-E650-4508-AF4F-DEB67CC6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754C-4FE8-4B31-AAA0-35937450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571F-7F68-4B91-BEF0-28792E2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B73DE-CC8F-425C-9CD2-8ECBD3C8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EBB29-1247-4209-8B63-EA650257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1A12E-C156-44FF-880E-4BBE6BFF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D774-B33C-45DE-AC1D-24FF630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721-628D-4DEF-9251-E5A3CD9D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B4DA2-757F-4332-A3A6-CCB3C9A3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67A0-475F-4906-A30D-9E326497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2619-FCBC-44FA-9C41-C9A74E70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388A7-561A-46E2-86E3-79690B36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657F0-C9BC-44A7-A0FF-BEF8FC11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BADED-26AD-4DD4-8B8F-ADB959C7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26E9-455C-4C4D-8391-8EC6BA8F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C6A1D-072B-4E9C-AD3C-6A78E99E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35FFB-65E6-4103-AFEB-7D6FC8A7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FC43-5E33-479D-A311-533C645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7A3-BF72-4DD6-A868-035561E9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E890D-304E-41D5-A5DD-ADAB91F7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060CC-9FF2-4ACB-88AF-8A9D878C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8BF93-E652-4A96-8ADA-50547482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A36D5-26FA-4E1B-B7D2-1C330D4F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A564D-BA84-4948-87EE-DBDCFAA6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C53-20B1-418B-805A-1AF8BE5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871-E0E5-47CD-8CF6-5DC55088F80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B566-5A9C-4783-B49D-3A867490D05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E4A-2326-4A23-8D2C-514E3353A75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C6CD-B0B5-4FFA-B40C-492A7011267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653E-2368-4929-B1A8-6776A4E52E9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0E01-8A01-4A40-9CFC-EB8071A668C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F177-47D2-4CF8-90CC-BF50FAD9398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://www.gazeta.ru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4289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рушевич А.Г.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нд. филол. наук, заведующий кафедрой  русского языка Таганрогского  педагогического института  имени А.П. Чехов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нравственные ценнос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подлинных и мнимых ценностей. Какую роль в жизни человека играет доброта (милосердие, отзывчивость, сострадание)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благородство? Какие поступки можно назвать благородными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честь, совесть? Какова роль этих понятий в жизни современного человека? Как сохранить нравственное достоинство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интеллигентность? Какого человека можно назвать интеллигентным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Способы формулирования проблемы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Содержимое 3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8217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«От позиции автора – к проблеме»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82425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Выявление проблематики</a:t>
            </a: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художественного текста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127160"/>
            <a:ext cx="82425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ипичные ошибк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Содержимое 3" descr=""/>
          <p:cNvPicPr/>
          <p:nvPr/>
        </p:nvPicPr>
        <p:blipFill>
          <a:blip r:embed="rId1"/>
          <a:stretch/>
        </p:blipFill>
        <p:spPr>
          <a:xfrm>
            <a:off x="615960" y="1017720"/>
            <a:ext cx="7746840" cy="2921040"/>
          </a:xfrm>
          <a:prstGeom prst="rect">
            <a:avLst/>
          </a:prstGeom>
          <a:ln w="0">
            <a:noFill/>
          </a:ln>
        </p:spPr>
      </p:pic>
      <p:pic>
        <p:nvPicPr>
          <p:cNvPr id="396" name="Содержимое 3" descr=""/>
          <p:cNvPicPr/>
          <p:nvPr/>
        </p:nvPicPr>
        <p:blipFill>
          <a:blip r:embed="rId2"/>
          <a:stretch/>
        </p:blipFill>
        <p:spPr>
          <a:xfrm>
            <a:off x="884160" y="1779480"/>
            <a:ext cx="78264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ипичные ошиб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Содержимое 3" descr=""/>
          <p:cNvPicPr/>
          <p:nvPr/>
        </p:nvPicPr>
        <p:blipFill>
          <a:blip r:embed="rId1"/>
          <a:stretch/>
        </p:blipFill>
        <p:spPr>
          <a:xfrm>
            <a:off x="755640" y="871560"/>
            <a:ext cx="7821720" cy="299880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3" descr=""/>
          <p:cNvPicPr/>
          <p:nvPr/>
        </p:nvPicPr>
        <p:blipFill>
          <a:blip r:embed="rId2"/>
          <a:stretch/>
        </p:blipFill>
        <p:spPr>
          <a:xfrm>
            <a:off x="901800" y="3852720"/>
            <a:ext cx="7821360" cy="30117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6"/>
          <p:cNvSpPr/>
          <p:nvPr/>
        </p:nvSpPr>
        <p:spPr>
          <a:xfrm>
            <a:off x="1285920" y="5429160"/>
            <a:ext cx="6429240" cy="50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 flipV="1">
            <a:off x="1714680" y="5357880"/>
            <a:ext cx="6500520" cy="642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Что такое комментарий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Комментарий –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ассуждения,   замечания по поводу того, как автор раскрывает пробл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Задачи комментари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азъяснить, охарактеризовать проблему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яснить интерес  автора к проблеме,                       ход его мыс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комментар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25480"/>
            <a:ext cx="78753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7" name="Содержимое 3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77835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9" name="Содержимое 3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785628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мпозиция сочин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Содержимое 3" descr=""/>
          <p:cNvPicPr/>
          <p:nvPr/>
        </p:nvPicPr>
        <p:blipFill>
          <a:blip r:embed="rId1"/>
          <a:stretch/>
        </p:blipFill>
        <p:spPr>
          <a:xfrm>
            <a:off x="719280" y="1133640"/>
            <a:ext cx="81565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екстовый комментарий</a:t>
            </a:r>
            <a:br>
              <a:rPr sz="40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(от текста к проблем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Юрий Лотман поднимает проблему межнациональных конфликтов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 по-настоящему встревожен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тем, что всё чаще и чаще вынужден наблюдать «клиническое безумие ненависти» -  проявления расовой вражды, разжигание национальной розни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Лотман убежден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 том, что общечеловеческие ценности превыше всего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Не случайно упоминание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о том, что среди его друзей были представители самых разных национальностей. Люди должны поступать в отношении друг друга в духе равенства и братства, и нет оправдания тем, кто «разжигает кровавый туман» национальной розни, наживаясь на страданиях невинных людей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Стоит прислушаться к словам автора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о том, что эпоха мелких конфликтов кончилась: мы живем в таком хрупком мире, где любое частное столкновение на национальной или религиозной почве может обернуться глобальной катастрофой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3" name="Содержимое 3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785628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цепционный комментарий</a:t>
            </a:r>
            <a:br>
              <a:rPr sz="4000"/>
            </a:b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(от проблемы к тексту)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актически каждый день средства массовой информации сообщают нам о межнациональных конфликтах, вспыхивающих на нашей планете. Каждый день гибнут люди, калечатся человеческие судьбы из-за того, что  мы не можем найти общего языка в различных национальных или религиозных вопросах. Именно к проблеме   национальной вражды,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одной из актуальнейших проблем  современности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, привлекает наше внимание Ю. Лотман.  Вспоминая прошлое,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 подчёркивает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:  среди его друзей были люди самых разных национальностей.     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Поэтому   ему странно и больно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идеть  мир, ослеплённый ненавистью.    Люди не замечают, что являются  марионетками в руках тех, кому  выгодно  разжигать национальную рознь. 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предупреждает читателей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о том, что  мир уже давно стоит на грани катастрофы: «Колокол звонит по каждому из нас».    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7" name="Содержимое 3" descr=""/>
          <p:cNvPicPr/>
          <p:nvPr/>
        </p:nvPicPr>
        <p:blipFill>
          <a:blip r:embed="rId1"/>
          <a:stretch/>
        </p:blipFill>
        <p:spPr>
          <a:xfrm>
            <a:off x="615960" y="798480"/>
            <a:ext cx="8332920" cy="335268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3" descr=""/>
          <p:cNvPicPr/>
          <p:nvPr/>
        </p:nvPicPr>
        <p:blipFill>
          <a:blip r:embed="rId2"/>
          <a:stretch/>
        </p:blipFill>
        <p:spPr>
          <a:xfrm>
            <a:off x="828720" y="4133880"/>
            <a:ext cx="81928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0" name="Содержимое 3" descr=""/>
          <p:cNvPicPr/>
          <p:nvPr/>
        </p:nvPicPr>
        <p:blipFill>
          <a:blip r:embed="rId1"/>
          <a:stretch/>
        </p:blipFill>
        <p:spPr>
          <a:xfrm>
            <a:off x="901800" y="1706400"/>
            <a:ext cx="7821360" cy="401796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"/>
          <p:cNvPicPr/>
          <p:nvPr/>
        </p:nvPicPr>
        <p:blipFill>
          <a:blip r:embed="rId2"/>
          <a:stretch/>
        </p:blipFill>
        <p:spPr>
          <a:xfrm>
            <a:off x="1054080" y="1859040"/>
            <a:ext cx="7821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3" name="Содержимое 3" descr=""/>
          <p:cNvPicPr/>
          <p:nvPr/>
        </p:nvPicPr>
        <p:blipFill>
          <a:blip r:embed="rId1"/>
          <a:stretch/>
        </p:blipFill>
        <p:spPr>
          <a:xfrm>
            <a:off x="689040" y="781200"/>
            <a:ext cx="7821720" cy="272412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3" descr=""/>
          <p:cNvPicPr/>
          <p:nvPr/>
        </p:nvPicPr>
        <p:blipFill>
          <a:blip r:embed="rId2"/>
          <a:stretch/>
        </p:blipFill>
        <p:spPr>
          <a:xfrm>
            <a:off x="755640" y="3670200"/>
            <a:ext cx="7821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Что такое позиция автора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зиция автор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                         это вывод, к которому приходит автор, рассуждая над проблемой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Как выявить позицию автора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хотел сказать своим читателям автор, создавая текст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автор оценивает описываемую конкретную ситуацию, поступки героев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ие слова, художественные приемы выражают авторское  отношение, дают отрицательную или положительную оценку описываемым фактам.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руктура аргументац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Содержимое 5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46580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ая соединительная линия 13"/>
          <p:cNvSpPr/>
          <p:nvPr/>
        </p:nvSpPr>
        <p:spPr>
          <a:xfrm>
            <a:off x="4643280" y="5000760"/>
            <a:ext cx="1214640" cy="0"/>
          </a:xfrm>
          <a:prstGeom prst="line">
            <a:avLst/>
          </a:prstGeom>
          <a:ln w="1188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Прямая соединительная линия 21"/>
          <p:cNvSpPr/>
          <p:nvPr/>
        </p:nvSpPr>
        <p:spPr>
          <a:xfrm flipV="1">
            <a:off x="5857920" y="4857480"/>
            <a:ext cx="0" cy="142920"/>
          </a:xfrm>
          <a:prstGeom prst="line">
            <a:avLst/>
          </a:prstGeom>
          <a:ln w="1188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" bIns="12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357120"/>
          <a:ext cx="7772400" cy="6018120"/>
        </p:xfrm>
        <a:graphic>
          <a:graphicData uri="http://schemas.openxmlformats.org/drawingml/2006/table">
            <a:tbl>
              <a:tblPr/>
              <a:tblGrid>
                <a:gridCol w="2144880"/>
                <a:gridCol w="5627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з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согласен с автором:  одна из важнейших задач искусства – будить в человеке чувство роди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огический пере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случайно русские писатели и поэты в своих произведениях многократно обращались к теме родины и создали удивительные образы нашей родины – Росс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ллюстративная ч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.С. Пушкин, М.Ю. Лермонтов, Н. А. Некрасов,                    С.А. Есенин, А.А. Блок – все эти поэты показывали читателям Россию с разным сторон, с её достоинствами и недостатками, но прежде всего - с большой любовью к своему Отечеству. Особенно мне запомнились строки  из стихотворения С.А. Есенина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ли крикнет рать святая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Кинь ты Русь, живи в раю!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скажу: «Не надо ра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йте родину мою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икровыв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верное, это одно из самых ярких признаний в любви своей родине, которое не должно оставить нас, граждан России, равнодушны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Содержимое 3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5708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Аргументы, оцениваемые  1 балло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личного опыт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общённые примеры из жизн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едположительные приме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а на обобщенное лиц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и на общезначимый опы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словицы, афоризмы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и на кинофильм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личного опы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езис: компьютер не заменит книг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не во всем согласен с автором. Так уж получилось, что в моей библиотеке не очень много книг, однако благодаря Интернету я собрал довольно большую коллекцию электронных изданий, которыми активно пользуюсь. Мне кажется, благодаря электронным носителям книга просто приобрела новый вид и даже стала доступнее  для читателя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Обобщенный пример из жизн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массовая литература отрицательно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казывается на развитии человек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реди моих сверстников я, к сожалению, часто встречаю людей, которые не читают ничего, кроме развлекательной литературы – детективных или приключенческих романов. Мне искренне жаль, что многие ограничивают свой кругозор примитивным «чтивом», не желая  узнать о мире и о себе больше, чем может дать массовая литература или развлекательные телепередачи.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едположительный пример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Тезис: умение сочувствовать  – важнейшее качество духовно развитого человек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300" spc="-1" strike="noStrike">
                <a:solidFill>
                  <a:srgbClr val="ffff00"/>
                </a:solidFill>
                <a:latin typeface="Times New Roman"/>
              </a:rPr>
              <a:t>Давайте на минуту представим себе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мир, в котором нет людей, способных к сочувствию. У вас трудности, вам нужна помощь, а  лучший друг (впрочем, возможны ли в таком мире друзья?) говорит: «Мне некогда! Разбирайся сам». Вы заболели, вам плохо, а родители равнодушно заявляют: «Сходи к врачу», – и как ни в чем не бывало  принимаются за домашние дела… Хотелось бы вам жить в таком равнодушном мире? Думаю, нет. От людей, которые нас окружают, мы ждем сочувствия, готовности разделить с нами горе и радость.  Именно внимание окружающих  помогает человеку понять, что он не одинок, что ему есть для чего жить в этом мире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обобщенное лиц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сихологи доказали: чтобы быть хорошим руководителем, мало одних профессиональных знаний и организаторских способностей. Нужно еще видеть в подчиненных не просто добросовестных исполнителей чужой воли, а коллектив сотрудников, нужно умение создать в нем благоприятный психологический клима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общезначимый опы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общение с книгой важно в детстве, в период формирования личност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детстве содержание книги воспринимается особенно ярко и часто вызывает сильные эмоции. Я думаю, это подтвердит каждый, кто путешествовал по стране чудес вместе с Алисой, или помогал Робинзону осваивать необитаемый остров, или боролся против темных сил вместе с героями народных сказок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кинофиль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человек должен стремиться                               к осуществлению своей мечты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не кажется, прекрасным подтверждением мысли автора может служить судьба героини фильма В. Меньшова «Москва слезам не верит». Катерина работала на фабрике, сама воспитывала ребенка, заочно окончила институт и в результате добилась успеха – стала директором комбината.   Таким образом, каждый из нас  в силах  добиться осуществления своей мечты. Необходимо только каждым шагом, каждым своим поступком приближать ее осуществление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Пословицы, афоризмы </a:t>
            </a:r>
            <a:br>
              <a:rPr sz="3600"/>
            </a:b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(без объяснения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езис: дружба – одна из важнейших  человеческих ценност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абсолютно согласен с автором. Недаром о ценности дружбы существует так много пословиц: «Не имей сто рублей, а имей сто друзей», «Старый друг лучше новых двух» и множество других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Аргументы, оцениваемые</a:t>
            </a:r>
            <a:br>
              <a:rPr sz="3600"/>
            </a:b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 2 баллам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художественной литерату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публицистической литерату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научной (научно-популярной литературы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словицы, поговорки, афоризмы (с объяснение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Times New Roman"/>
              </a:rPr>
              <a:t>Пример из художественной литератур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214280"/>
            <a:ext cx="777240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4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39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ом, подтверждающим мою позицию, может послужить роман И.С. Тургенева «Отцы и дети». Базаров, главный герой произведения, стесняется отсталости своих родителей. Он высмеивает их привычки, обращается с ними холодно и даже пренебрежительно. Евгений признает, что искренне любит родителей, но любые проявления сыновней любви приравнивает                       к внутренней слабости. Только находясь на смертном одре, Базаров понимает,  как сильно он ошибался. Он осознает, что должен был ценить их такими, какие они есть. Поэтому, умирая, он уже  говорит с ними ласково, беспокоится об их будущем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Содержимое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публицисти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 проблемой влияния телевидения на современное российское общество размышляет тележурналист Олег Пташкин в статье "Треш-ТВ", опубликованной на сайте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www.gazeta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о словам автора, современное телевидение в России переживает острейший кризис - кризис идей и смысла. Те, кто создает телепередачи, совершенно не думают об общественной пользе. Журналист озабочен тем, что современные СМИ пропагандируют бездуховность и аморальность, приучают к мысли, что нормальная жизнь ради семьи, детей, успехов в работе - удел неудачников. Автор убежден в том, что главная задача современного телевидения - просвещение: оно должно научить чтить семью, родителей, культурные традиции.  Только тогда  телевидение будет способствовать  возрождению духовности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научной литерату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езис: человек должен быть активной личностью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ди, не пасующие перед жизненными трудностями, смело смотрящие правде  в глаза, – это хозяева своей судьбы. Историк Лев Гумилев в своей работе «Этногенез и биосфера Земли» назвал таких людей пассионариями. Среди них много великих исторических деятелей, знаменитых полководцев, борцов за свободу и права человека, и каждый из них внес свой вклад в развитие обществ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413000"/>
            <a:ext cx="77724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rbel"/>
              </a:rPr>
              <a:t>Человек и общество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несправедливости социального устройства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 чем заключается смысл жизни человека?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воспитания. Что влияет на формирование личности?  Проблема формирования духовно развитой личности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обучения. Какова истинная цель обучения? Каким должен быть хороший учитель (ученик)? Значимость труда в жизни человека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Какое влияние оказывает личность на ход истории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свободы личности и ответственности человека перед обществом. Что такое свобода? Какого человека можно назвать свободным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патриотизма. Что такое подлинный и мнимый патриотизм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выбора профессии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природ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блема бездумного, жестокого отношения человека к миру природ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 уберечь мир от экологической катастрофы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блема жестокости и гуманизма по отношению к животны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лияние природы на человека. Проблема восприятия красоты природы челове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Человек и человек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сложности взаимоотношений людей (гуманное отношение к окружающим людям, равнодушие к судьбе другого человека, нравственная ответственность человека перед  другими людьми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взаимоотношения «отцов» и «детей». Можно ли избежать конфликта поколений? В чем проявляется подлинная любовь родителей к детям (детей к родителям)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любви/ревности, дружбы/предательств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взаимоотношения подростк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rbel"/>
              </a:rPr>
              <a:t>Человек и культур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облема восприятия искусства. Проблема восприятия красоты. Что такое истинная красота?  Что поможет воспитать эстетический вкус человека? Проблема духовности в искусстве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облема экологии культуры. Почему следует беречь памятники культуры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то такое массовая культура? Как массовая культура влияет на человека? Как влияет телевидение на человека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Какова роль книги в жизни человека? Проблема выбора книг для чтения. Почему молодежь стала меньше читать? Может ли Интернет заменить книгу? Всегда ли полезно скорочтение?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язык/реч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развития и сохранения русского язык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то такое хорошая речь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ак сохранить чистоту реч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засорения речи жаргонными, заимствованными словам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канцелярита.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чем опасность штампов  в нашей реч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2:19:44Z</dcterms:created>
  <dc:creator>Home</dc:creator>
  <dc:description/>
  <dc:language>en-US</dc:language>
  <cp:lastModifiedBy>Татьяна</cp:lastModifiedBy>
  <dcterms:modified xsi:type="dcterms:W3CDTF">2015-04-11T22:36:32Z</dcterms:modified>
  <cp:revision>182</cp:revision>
  <dc:subject/>
  <dc:title>Слайд 1</dc:title>
</cp:coreProperties>
</file>