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423-3CE4-4EB7-9801-9C21CC01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8E9-3267-441C-8D74-A504B994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1E5-0086-40EC-8BED-BE1BFC08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A08-4685-45AB-BB06-F135E269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506D-AD47-41E8-9266-81FB4359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CEE0-F375-4329-BB19-E4899D35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771C-0678-457E-802B-FC818D3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C49B-0ED5-4A01-B6F0-FEAF598D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4329-7239-4102-89E1-62015D0C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92CA-FE31-4BE3-8688-536271F7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4747-C9FC-44F3-ADC9-E9166780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E2E-A7F3-460C-B178-78E7705D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706B-0A10-411C-A853-44B28696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FAE-6FAD-4402-A7CF-3A3DBF6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5E8D-F2B6-4238-B0BF-FAE4172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563F-F9FA-4C48-BCE0-EE960ACD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6ACB-113C-4724-B508-6916D57F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0E7-0697-4376-BBE2-DA89B427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96C-95AE-4BE9-98DF-1439563B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87C-7FF7-447A-8BFA-F85271FF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499-ADE0-48CE-82F7-46FFAA8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427-E969-4B74-9DE0-527AEC24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F1B-CF5E-4873-9B6C-C9DDF3AB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7CD-6043-423B-8A6A-3A9B7D2E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7140-9989-41C5-8B2B-AAD75523BB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6E1C-22BE-43A0-ACB3-8B9917F470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rot="15678000">
            <a:off x="346320" y="1821240"/>
            <a:ext cx="4608720" cy="3502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788000" y="404640"/>
            <a:ext cx="3673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ые ц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81560" y="1773360"/>
            <a:ext cx="2495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33425" t="0" r="30318" b="0"/>
          <a:stretch/>
        </p:blipFill>
        <p:spPr>
          <a:xfrm rot="604800">
            <a:off x="5867280" y="259920"/>
            <a:ext cx="2521080" cy="4676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37582" t="0" r="18928" b="0"/>
          <a:stretch/>
        </p:blipFill>
        <p:spPr>
          <a:xfrm rot="21015600">
            <a:off x="684000" y="404280"/>
            <a:ext cx="3024000" cy="4619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987640" y="3860640"/>
            <a:ext cx="36734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813200" cy="4992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2822400" cy="293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0"/>
            <a:ext cx="280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т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803920" y="549360"/>
            <a:ext cx="31352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065560" cy="525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84840" y="1052640"/>
            <a:ext cx="3129120" cy="408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33591" t="26293" r="42356" b="13350"/>
          <a:stretch/>
        </p:blipFill>
        <p:spPr>
          <a:xfrm>
            <a:off x="3995640" y="3500280"/>
            <a:ext cx="222732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260280"/>
            <a:ext cx="3562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мажные цве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4000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3816360" cy="267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466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830680" cy="2605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84720" y="1916280"/>
            <a:ext cx="2857680" cy="4324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4441680" cy="2960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564000" y="333360"/>
            <a:ext cx="25527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6028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80000" y="3645000"/>
            <a:ext cx="2597040" cy="2597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37479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608360" cy="1751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4000" y="2492280"/>
            <a:ext cx="3527280" cy="10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64000" y="476280"/>
            <a:ext cx="3191040" cy="480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55640" y="3789360"/>
            <a:ext cx="3417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99"/>
                </a:solidFill>
                <a:latin typeface="Century Gothic"/>
              </a:rPr>
              <a:t>Коллективн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ff9999"/>
                </a:solidFill>
                <a:latin typeface="Century Gothic"/>
              </a:rPr>
              <a:t>учеников 5 класс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820" t="0" r="10659" b="0"/>
          <a:stretch/>
        </p:blipFill>
        <p:spPr>
          <a:xfrm>
            <a:off x="1908000" y="1628640"/>
            <a:ext cx="5040360" cy="4875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11280" y="6110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ой получился у нас плат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10:56:52Z</dcterms:created>
  <dc:creator>User</dc:creator>
  <dc:description/>
  <dc:language>en-US</dc:language>
  <cp:lastModifiedBy>User</cp:lastModifiedBy>
  <dcterms:modified xsi:type="dcterms:W3CDTF">2015-04-13T11:47:25Z</dcterms:modified>
  <cp:revision>9</cp:revision>
  <dc:subject/>
  <dc:title>Урок ИЗО в 5 классе</dc:title>
</cp:coreProperties>
</file>