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D8D-15E6-438B-9DF9-7C9F54E6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C5FF-7E4C-40D4-B466-3C108AA3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0E05-0E06-490D-8E74-E2F7ADAC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9CE-8FF3-48F7-B38E-11FAC837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B69F-7D27-447D-A7E4-DBFA1317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7C6A-F7A2-4ED9-B375-C64D0F1F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1564-359A-41C9-8F2B-D6E9B5F8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39A8-62DF-46F0-BF3E-CBF226E8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28DD-54B2-450D-9FEA-FB29C140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6C66-7A23-4A71-AEEF-B059666C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8C00-96BA-4456-A848-85ACA266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47F7-4F0F-4501-A121-163EB884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9409-0036-4872-BCED-A865E221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D84B-B3F2-40AF-A8F6-E4D0725D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5710-00E6-42F2-8B87-F115D491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2F79-80AF-466C-86F4-D4B3AC0F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45A1-C0A3-455A-8353-B6E775E5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9EA-88C8-45FA-9FD3-D5232CDA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4BF5-D24E-4219-A5A0-17979C7A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C2D-B08B-4AD2-B0C6-124C95D7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B66-22B5-48FC-BF9D-280D102E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BF0-BB90-422F-94E6-06577FA6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A2EF-2EE0-49CD-90BD-E42A76E9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95D5-1829-4B22-986A-5BD7337D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28CB-86B1-4281-B13D-9FC1E9A5D0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C00C-AD72-430D-A758-BE5277EB6D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 rot="15678000">
            <a:off x="346320" y="1821240"/>
            <a:ext cx="4608720" cy="3502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788000" y="404640"/>
            <a:ext cx="3673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ые ц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281560" y="1773360"/>
            <a:ext cx="2495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33425" t="0" r="30318" b="0"/>
          <a:stretch/>
        </p:blipFill>
        <p:spPr>
          <a:xfrm rot="604800">
            <a:off x="5867280" y="259920"/>
            <a:ext cx="2521080" cy="4676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rcRect l="37582" t="0" r="18928" b="0"/>
          <a:stretch/>
        </p:blipFill>
        <p:spPr>
          <a:xfrm rot="21015600">
            <a:off x="684000" y="404280"/>
            <a:ext cx="3024000" cy="4619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987640" y="3860640"/>
            <a:ext cx="367344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4813200" cy="4992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843280" y="3789360"/>
            <a:ext cx="2822400" cy="2930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00000" y="0"/>
            <a:ext cx="2806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т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803920" y="549360"/>
            <a:ext cx="313524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5065560" cy="525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784840" y="1052640"/>
            <a:ext cx="3129120" cy="4081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rcRect l="33591" t="26293" r="42356" b="13350"/>
          <a:stretch/>
        </p:blipFill>
        <p:spPr>
          <a:xfrm>
            <a:off x="3995640" y="3500280"/>
            <a:ext cx="222732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5280" y="260280"/>
            <a:ext cx="35622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мажные цве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200400" cy="4000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859280" y="333360"/>
            <a:ext cx="3816360" cy="2679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500720" y="3284640"/>
            <a:ext cx="3466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830680" cy="2605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084720" y="1916280"/>
            <a:ext cx="2857680" cy="4324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84360" y="3357720"/>
            <a:ext cx="4441680" cy="2960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564000" y="333360"/>
            <a:ext cx="25527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95640" y="260280"/>
            <a:ext cx="3173400" cy="317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580000" y="3645000"/>
            <a:ext cx="2597040" cy="2597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116000" y="3789360"/>
            <a:ext cx="37479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4608360" cy="1751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24000" y="2492280"/>
            <a:ext cx="3527280" cy="108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364000" y="476280"/>
            <a:ext cx="3191040" cy="4809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755640" y="3789360"/>
            <a:ext cx="3417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99"/>
                </a:solidFill>
                <a:latin typeface="Century Gothic"/>
              </a:rPr>
              <a:t>Коллективная работа </a:t>
            </a:r>
            <a:br>
              <a:rPr sz="3200"/>
            </a:br>
            <a:r>
              <a:rPr b="0" i="1" lang="en-US" sz="3200" spc="-1" strike="noStrike">
                <a:solidFill>
                  <a:srgbClr val="ff9999"/>
                </a:solidFill>
                <a:latin typeface="Century Gothic"/>
              </a:rPr>
              <a:t>учеников 5 класс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11820" t="0" r="10659" b="0"/>
          <a:stretch/>
        </p:blipFill>
        <p:spPr>
          <a:xfrm>
            <a:off x="1908000" y="1628640"/>
            <a:ext cx="5040360" cy="4875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411280" y="611028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акой получился у нас платок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2T10:56:52Z</dcterms:created>
  <dc:creator>User</dc:creator>
  <dc:description/>
  <dc:language>en-US</dc:language>
  <cp:lastModifiedBy>User</cp:lastModifiedBy>
  <dcterms:modified xsi:type="dcterms:W3CDTF">2015-04-13T11:47:25Z</dcterms:modified>
  <cp:revision>9</cp:revision>
  <dc:subject/>
  <dc:title>Урок ИЗО в 5 классе</dc:title>
</cp:coreProperties>
</file>