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move the slide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0AEC-D3C1-4874-957A-EB0E52FD80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4E62-97D6-440A-A635-2168940D9D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74B-81CC-4379-9E0A-F3D0681E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E86-6086-461D-9ADA-22A15524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550F-B129-4804-9F42-929B52EC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7D3-8AB3-4AAF-B93F-B4DCF759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845-E8B3-4242-B822-E554CB2A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3E47-FD8B-4D0F-83EA-5C862962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1CA-B289-46E7-A4B7-DAB762E3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CB6-BBDE-41EA-AC4D-523F5CC7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5C4-C282-4B2A-8E72-9CE7F022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1B2-40F5-4EF8-8F46-AFB628CF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989-E80E-413A-93F0-2109BCE7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A6A-5F3D-4283-8EFD-B03DBFE9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45BD-0B3C-483C-B11C-5C1303F646B0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8250120" cy="30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Дружба – чудесное слово.</a:t>
            </a:r>
            <a:endParaRPr b="0" lang="en-US" sz="80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075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7d23"/>
                </a:solidFill>
                <a:latin typeface="Arial"/>
              </a:rPr>
              <a:t>Слова М.Пляцковский.</a:t>
            </a:r>
            <a:endParaRPr b="0" lang="en-US" sz="44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7d23"/>
                </a:solidFill>
                <a:latin typeface="Arial"/>
              </a:rPr>
              <a:t>Музыка В.Шаинский.</a:t>
            </a:r>
            <a:endParaRPr b="0" lang="en-US" sz="44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249228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енка «Улыбка».</a:t>
            </a:r>
            <a:endParaRPr b="0" lang="en-US" sz="4000" spc="-1" strike="noStrike">
              <a:solidFill>
                <a:srgbClr val="000000"/>
              </a:solidFill>
              <a:latin typeface="Segoe U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11280" y="4365720"/>
            <a:ext cx="5050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10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Arial"/>
              </a:rPr>
              <a:t>Пословицы о дружбе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 познается в беде.</a:t>
            </a: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т друга – ищи, а нашел – береги.</a:t>
            </a: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вых друзей наживай, а старых не теряй.</a:t>
            </a: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a290c"/>
                </a:solidFill>
                <a:latin typeface="Times New Roman"/>
              </a:rPr>
              <a:t>Качества дружбы</a:t>
            </a:r>
            <a:endParaRPr b="0" lang="en-US" sz="5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Скромность       доброжелательность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Настойчивость         общительность 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Отзывчивость        зависть            эгоизм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Равнодушие     хвастовство      злоба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Готовность прийти на помощь в любую минуту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a290c"/>
                </a:solidFill>
                <a:latin typeface="Times New Roman"/>
              </a:rPr>
              <a:t>Качества дружбы</a:t>
            </a:r>
            <a:endParaRPr b="0" lang="en-US" sz="5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Скромность       доброжелательность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общительность 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Отзывчивость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    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Готовность прийти на помощь в любую минуту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a290c"/>
                </a:solidFill>
                <a:latin typeface="Times New Roman"/>
              </a:rPr>
              <a:t>Правила дружбы</a:t>
            </a:r>
            <a:endParaRPr b="0" lang="en-US" sz="60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Уступать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Не бояться просить прощения, если обидел друга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Не грубить, не злиться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Не жадничать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Помогать друга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UI"/>
              </a:rPr>
              <a:t>Быть честным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8:45:40Z</dcterms:created>
  <dc:creator/>
  <dc:description>Шаблон оформления к 8 Марта</dc:description>
  <cp:keywords/>
  <dc:language>en-US</dc:language>
  <cp:lastModifiedBy/>
  <dcterms:modified xsi:type="dcterms:W3CDTF">2012-11-27T20:55:49Z</dcterms:modified>
  <cp:revision>2</cp:revision>
  <dc:subject/>
  <dc:title>Дружба – чудесное слово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16779990</vt:lpwstr>
  </property>
</Properties>
</file>