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547-36D1-41B2-A6BA-09296C00A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A4D-F1D6-452E-86A6-3BCDB7ED6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4B5-7B89-4237-894E-0513053D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D11-C98C-431C-A14E-0B7361E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7A2-61D9-4E9B-9F36-46FA3117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E56-038A-435F-89D0-6CAD97CE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047-6910-4AF1-8594-5E7E312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93D-8400-47D0-8BE0-E621D522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9AF-76ED-4896-B129-991DEDE9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DF0-0E90-4816-A810-E2946F9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0AE-B41D-40C5-AF88-E616C6A2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7A-6142-4B69-899D-5568382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162-F29F-4FDD-AC04-D0B1857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4E2-4CE5-4B69-92A9-1954A86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A0E-43B0-402C-8EC4-2A9FB9D6EAF2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8250120" cy="30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Дружба – чудесное слово.</a:t>
            </a:r>
            <a:endParaRPr b="0" lang="en-US" sz="80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7d23"/>
                </a:solidFill>
                <a:latin typeface="Arial"/>
              </a:rPr>
              <a:t>Слова М.Пляцковский.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7d23"/>
                </a:solidFill>
                <a:latin typeface="Arial"/>
              </a:rPr>
              <a:t>Музыка В.Шаинский.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492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нка «Улыбка».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11280" y="436572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0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Arial"/>
              </a:rPr>
              <a:t>Пословицы о дружб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 познается в беде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т друга – ищи, а нашел – береги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ых друзей наживай, а старых не теряй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a290c"/>
                </a:solidFill>
                <a:latin typeface="Times New Roman"/>
              </a:rPr>
              <a:t>Качества дружбы</a:t>
            </a:r>
            <a:endParaRPr b="0" lang="en-US" sz="5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Скромность       доброжелательн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астойчивость         общительность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тзывчивость        зависть            эгоизм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Равнодушие     хвастовство      злоб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Готовность прийти на помощь в любую минуту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a290c"/>
                </a:solidFill>
                <a:latin typeface="Times New Roman"/>
              </a:rPr>
              <a:t>Качества дружбы</a:t>
            </a:r>
            <a:endParaRPr b="0" lang="en-US" sz="5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Скромность       доброжелательн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бщительность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тзывчив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Готовность прийти на помощь в любую минуту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a290c"/>
                </a:solidFill>
                <a:latin typeface="Times New Roman"/>
              </a:rPr>
              <a:t>Правила дружбы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Уступа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бояться просить прощения, если обидел друг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грубить, не злиться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жаднича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Помогать друг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Быть честным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45:40Z</dcterms:created>
  <dc:creator/>
  <dc:description>Шаблон оформления к 8 Марта</dc:description>
  <cp:keywords/>
  <dc:language>en-US</dc:language>
  <cp:lastModifiedBy/>
  <dcterms:modified xsi:type="dcterms:W3CDTF">2012-11-27T20:55:49Z</dcterms:modified>
  <cp:revision>2</cp:revision>
  <dc:subject/>
  <dc:title>Дружба – чудесное слово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