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F12-5D8F-4511-B001-A29BD98D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816-16E1-4787-94DD-B97E5C16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BD1-1AA8-4A20-B1E2-73F760DF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F63-4E07-4119-AA54-7C567A4A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AEE-4E66-460E-9B2E-AF9F7B04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29B-853A-418D-8B83-4F512C62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773-5195-4071-8D49-00006E73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388-8676-4E94-A383-FE550257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06C-B5B2-4DCD-9BE3-2539935A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C5C-2508-4687-9EDC-FDC1D462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F07-C418-4A85-B328-AA709233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E54-CAE0-44AC-9E2A-E886405E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CC8A-10B0-4923-84BD-CADA87C42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Documents and Settings\Admin\Рабочий стол\slide-1-638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:\Documents and Settings\Admin\Рабочий стол\slide-10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Documents and Settings\Admin\Рабочий стол\0_146bf_dbf40a04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D:\Documents and Settings\Admin\Рабочий стол\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786040" y="4429080"/>
            <a:ext cx="614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лужск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области «Калужский колледж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онных технолог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и управления» ..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луг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л. С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едри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6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(4842) 57-58-83. kitk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kalug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@ mail.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ректор колледж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Щёголев Владимир Анатолье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:\Documents and Settings\Admin\Рабочий стол\SHCHegolev.jpg"/>
          <p:cNvPicPr/>
          <p:nvPr/>
        </p:nvPicPr>
        <p:blipFill>
          <a:blip r:embed="rId1"/>
          <a:stretch/>
        </p:blipFill>
        <p:spPr>
          <a:xfrm>
            <a:off x="5000760" y="785880"/>
            <a:ext cx="39290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ащиеся колледжа обеспечиваются стипенди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Documents and Settings\Admin\Рабочий стол\1_661.jpg"/>
          <p:cNvPicPr/>
          <p:nvPr/>
        </p:nvPicPr>
        <p:blipFill>
          <a:blip r:embed="rId1"/>
          <a:stretch/>
        </p:blipFill>
        <p:spPr>
          <a:xfrm>
            <a:off x="4643280" y="1643040"/>
            <a:ext cx="4343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 электротех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Documents and Settings\Admin\Рабочий стол\267899-134010588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олова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Documents and Settings\Admin\Рабочий стол\529100-1340106181.jpg"/>
          <p:cNvPicPr/>
          <p:nvPr/>
        </p:nvPicPr>
        <p:blipFill>
          <a:blip r:embed="rId1"/>
          <a:stretch/>
        </p:blipFill>
        <p:spPr>
          <a:xfrm>
            <a:off x="1635120" y="1600200"/>
            <a:ext cx="587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с профессионального мастер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D:\Documents and Settings\Admin\Рабочий стол\konkurs_professionalnogo_masterstva-13128.jpg"/>
          <p:cNvPicPr/>
          <p:nvPr/>
        </p:nvPicPr>
        <p:blipFill>
          <a:blip r:embed="rId1"/>
          <a:stretch/>
        </p:blipFill>
        <p:spPr>
          <a:xfrm>
            <a:off x="0" y="3000240"/>
            <a:ext cx="4168800" cy="385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Documents and Settings\Admin\Рабочий стол\konkurs_professionalnogo_masterstva-66c8.jpg"/>
          <p:cNvPicPr/>
          <p:nvPr/>
        </p:nvPicPr>
        <p:blipFill>
          <a:blip r:embed="rId2"/>
          <a:stretch/>
        </p:blipFill>
        <p:spPr>
          <a:xfrm>
            <a:off x="4071960" y="1785960"/>
            <a:ext cx="5072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D:\Documents and Settings\Admin\Рабочий стол\slide-12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D:\Documents and Settings\Admin\Рабочий стол\slide-13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Documents and Settings\Admin\Рабочий стол\slide-2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Documents and Settings\Admin\Рабочий стол\slide-14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Documents and Settings\Admin\Рабочий стол\slide-15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Documents and Settings\Admin\Рабочий стол\slide-18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D:\Documents and Settings\Admin\Рабочий стол\slide-19-638.jpg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D:\Documents and Settings\Admin\Рабочий стол\slide-20-638.jpg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Documents and Settings\Admin\Рабочий стол\slide-21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:\Documents and Settings\Admin\Рабочий стол\slide-22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Documents and Settings\Admin\Рабочий стол\slide-24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Documents and Settings\Admin\Рабочий стол\slide-25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D:\Documents and Settings\Admin\Рабочий стол\slide-26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714240" y="435780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езентацию разрабо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четный работник Н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ссийской Федерации, учитель ГБОУ «СОШ № 7» г. Ка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ерасимов В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0" y="21420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ские права защищены законом РФ "Об авторских правах и о смежных правах"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Перепечатка и переиздание в любом виде разрешены только с согласия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D:\Documents and Settings\Admin\Рабочий стол\slide-3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Documents and Settings\Admin\Рабочий стол\slide-4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Documents and Settings\Admin\Рабочий стол\slide-5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Documents and Settings\Admin\Рабочий стол\slide-6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Documents and Settings\Admin\Рабочий стол\slide-7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Documents and Settings\Admin\Рабочий стол\slide-8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Documents and Settings\Admin\Рабочий стол\slide-9-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14:06:03Z</dcterms:created>
  <dc:creator>Admin</dc:creator>
  <dc:description/>
  <dc:language>en-US</dc:language>
  <cp:lastModifiedBy>Admin</cp:lastModifiedBy>
  <dcterms:modified xsi:type="dcterms:W3CDTF">2014-05-12T18:08:55Z</dcterms:modified>
  <cp:revision>13</cp:revision>
  <dc:subject/>
  <dc:title>Слайд 1</dc:title>
</cp:coreProperties>
</file>