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F53F-CBD2-4804-95E6-074F142A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F18B-5B3E-4C09-8D92-A1471CE9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18E-7C1B-416D-BE6C-EE5CFEED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5814-53BA-410B-AEFB-FE6C8C89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0E7-7A66-448A-BEFF-D9F50022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974E-F2A9-4E97-B7D0-2D274CB8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8B0-AEE0-4AD3-A8F5-1C584A85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D21-34EE-4077-B475-84129F02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9B0-808F-44D7-B292-711550E8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3615-CD89-4405-A111-376C4060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932-44A2-4EDB-A065-3C51D324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B6C5-8A37-4C89-87CB-D26FB0BA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3022-8CAC-4CBE-9F13-730ECD1B8F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Documents and Settings\Admin\Рабочий стол\slide-1-638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D:\Documents and Settings\Admin\Рабочий стол\slide-10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D:\Documents and Settings\Admin\Рабочий стол\0_146bf_dbf40a04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D:\Documents and Settings\Admin\Рабочий стол\imag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2786040" y="4429080"/>
            <a:ext cx="614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лужск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области «Калужский колледж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формационных технолог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и управления» ...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луг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ул. С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Щедрин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д.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6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(4842) 57-58-83. kitk-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kalug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@ mail.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иректор колледж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Щёголев Владимир Анатольеви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D:\Documents and Settings\Admin\Рабочий стол\SHCHegolev.jpg"/>
          <p:cNvPicPr/>
          <p:nvPr/>
        </p:nvPicPr>
        <p:blipFill>
          <a:blip r:embed="rId1"/>
          <a:stretch/>
        </p:blipFill>
        <p:spPr>
          <a:xfrm>
            <a:off x="5000760" y="785880"/>
            <a:ext cx="392904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чащиеся колледжа обеспечиваются стипенди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D:\Documents and Settings\Admin\Рабочий стол\1_661.jpg"/>
          <p:cNvPicPr/>
          <p:nvPr/>
        </p:nvPicPr>
        <p:blipFill>
          <a:blip r:embed="rId1"/>
          <a:stretch/>
        </p:blipFill>
        <p:spPr>
          <a:xfrm>
            <a:off x="4643280" y="1643040"/>
            <a:ext cx="4343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сс электротехни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D:\Documents and Settings\Admin\Рабочий стол\267899-134010588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олова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D:\Documents and Settings\Admin\Рабочий стол\529100-1340106181.jpg"/>
          <p:cNvPicPr/>
          <p:nvPr/>
        </p:nvPicPr>
        <p:blipFill>
          <a:blip r:embed="rId1"/>
          <a:stretch/>
        </p:blipFill>
        <p:spPr>
          <a:xfrm>
            <a:off x="1635120" y="1600200"/>
            <a:ext cx="5873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с профессионального мастерст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D:\Documents and Settings\Admin\Рабочий стол\konkurs_professionalnogo_masterstva-13128.jpg"/>
          <p:cNvPicPr/>
          <p:nvPr/>
        </p:nvPicPr>
        <p:blipFill>
          <a:blip r:embed="rId1"/>
          <a:stretch/>
        </p:blipFill>
        <p:spPr>
          <a:xfrm>
            <a:off x="0" y="3000240"/>
            <a:ext cx="4168800" cy="3857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D:\Documents and Settings\Admin\Рабочий стол\konkurs_professionalnogo_masterstva-66c8.jpg"/>
          <p:cNvPicPr/>
          <p:nvPr/>
        </p:nvPicPr>
        <p:blipFill>
          <a:blip r:embed="rId2"/>
          <a:stretch/>
        </p:blipFill>
        <p:spPr>
          <a:xfrm>
            <a:off x="4071960" y="1785960"/>
            <a:ext cx="50720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D:\Documents and Settings\Admin\Рабочий стол\slide-12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D:\Documents and Settings\Admin\Рабочий стол\slide-13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D:\Documents and Settings\Admin\Рабочий стол\slide-2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D:\Documents and Settings\Admin\Рабочий стол\slide-14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D:\Documents and Settings\Admin\Рабочий стол\slide-15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D:\Documents and Settings\Admin\Рабочий стол\slide-18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D:\Documents and Settings\Admin\Рабочий стол\slide-19-638.jpg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D:\Documents and Settings\Admin\Рабочий стол\slide-20-638.jpg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D:\Documents and Settings\Admin\Рабочий стол\slide-21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D:\Documents and Settings\Admin\Рабочий стол\slide-22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D:\Documents and Settings\Admin\Рабочий стол\slide-24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D:\Documents and Settings\Admin\Рабочий стол\slide-25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D:\Documents and Settings\Admin\Рабочий стол\slide-26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714240" y="4357800"/>
            <a:ext cx="750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езентацию разрабо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четный работник Н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оссийской Федерации, учитель ГБОУ «СОШ № 7» г. Кал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ерасимов В.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0" y="214200"/>
            <a:ext cx="55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ские права защищены законом РФ "Об авторских правах и о смежных правах"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Перепечатка и переиздание в любом виде разрешены только с согласия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D:\Documents and Settings\Admin\Рабочий стол\slide-3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D:\Documents and Settings\Admin\Рабочий стол\slide-4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:\Documents and Settings\Admin\Рабочий стол\slide-5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Documents and Settings\Admin\Рабочий стол\slide-6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Documents and Settings\Admin\Рабочий стол\slide-7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D:\Documents and Settings\Admin\Рабочий стол\slide-8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Documents and Settings\Admin\Рабочий стол\slide-9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2T14:06:03Z</dcterms:created>
  <dc:creator>Admin</dc:creator>
  <dc:description/>
  <dc:language>en-US</dc:language>
  <cp:lastModifiedBy>Admin</cp:lastModifiedBy>
  <dcterms:modified xsi:type="dcterms:W3CDTF">2014-05-12T18:08:55Z</dcterms:modified>
  <cp:revision>13</cp:revision>
  <dc:subject/>
  <dc:title>Слайд 1</dc:title>
</cp:coreProperties>
</file>