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C0E-F3BA-4C27-A09E-36FF4CB3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21A-D434-4087-AD09-311BA27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BFEA4-B1FD-4F44-ACCF-F71E328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E5B8-24D6-4594-928F-B418E8A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0A801-422C-4C82-B86E-CFD81DA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4FBA0-6F54-4D29-B911-F06DCB6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8A8E4-1DD1-4928-8A8C-056A293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F2D1D-1021-44DB-8457-98DCF10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F5F54-7C34-4670-8644-750ABC7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93B5B-304A-4417-8208-8DDA0F4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5AC14-EF0B-4FCC-A92A-7542E951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A22-4D2B-4A84-871E-6DE0CF41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46B-F0D5-4966-B619-926EC4E7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E88B-02FC-4060-A391-60816F08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D82-4581-4459-AF06-B074FB8C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84A6-E27D-4300-A75F-68980C52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451A-0975-4DE6-B14B-472C24D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46F4-11DC-48D2-AE5B-90F90922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3F47-BFCA-405C-86CA-7E1F6B15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D744-5447-4AAA-99E8-B8AEA6B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59D-DFAE-47DC-BAF6-897DBDC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3663-16EB-40E3-AB75-52795BC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AC09-2FEC-459E-A72B-1E984F7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1838-95C2-4DA7-90D1-391EA7F9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8261-0628-4B7B-9A4B-C8B0E547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BA40-06E9-4CCC-86B3-D7BEFCE4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D8A0-328E-4D7B-94AA-56398B2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BB3C-7E02-4001-A5D7-6AC6967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BA37-B199-4804-AA8E-9C8FAC7D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89AE-1AC9-460D-AACE-2389066E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7CB7-321B-4212-988F-EADE14F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A91-EFD1-4307-BF60-0AEE7693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2FAA-91B1-4E0C-8944-8FDD9C5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FC03-60B6-4B30-A152-8F01750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B77A-BC2F-4435-A98A-4646901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52DE-760B-4053-9969-002989E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E9C2-83DE-4BAE-96A0-5B14556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6B2D-627D-4645-AD51-E9C6AE74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E3AA-09D1-4E1C-81AC-4A65ECE2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CD88-C1A1-4119-9990-FADF9CA3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9E6B-AB70-4E90-BB09-0E889153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C179-436B-4AD9-B3CA-D2591BFB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FD2-39AA-42FD-813D-63DCFD81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CE5E-D0E0-4C50-B04C-F902B4C0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9BF5-B3E4-459F-A26A-7A3D670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37A1-C501-48FE-BA52-843BFBA8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CAB5-A64A-4028-84AB-FBA1696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DEB2-6AF8-47F0-B0AA-27BADF5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E98B-D01C-4207-A003-5F3979C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EEA6-9264-4433-A2C0-5724F839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384E7-2127-4553-B885-938F3436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7319-4482-46AB-B340-19543ED8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9166-C040-4706-B63F-F8927B9B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CF5-2632-4E51-A902-C714C50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324F-4B71-4CCF-AB4D-27BA0531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6424-0D4F-4D47-96B6-7E1F18A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7DB5-E366-4A92-9AE4-BC37B888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B026-28FA-4568-9644-6A473299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88815-2F3C-425D-9992-D1B33E4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2B6C-702C-40AA-BD7C-15E1DC7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B990-387D-491A-BC36-2EC2D9D5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7034-9E54-4114-875C-102717F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9FE0F-26BD-414A-993D-8416A276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E38BE-6F8E-43D6-83EE-321D7C6E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479-F110-407A-95EF-31401BF2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BC2D9-4F68-4E78-8C00-C0855FB3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C772-8D75-4EA7-B419-8E691A29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2D28-EF24-4C67-9384-17EAA0EE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8BCA-C0DB-44AB-8DA5-EB06B671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87BA-9490-4AAF-93C5-E0D95B5B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58AB6-3F55-4C15-A097-534D3D9B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EA6F-0EEF-4DCB-B054-18FF6A6D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4BD88-8375-436D-BF2F-BC2566B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2768-087B-42E8-BBBF-9042A19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3C6A5-68A3-49AC-AE5F-802DDDD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36F-CEF9-45FE-BD6E-E7A495A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6426-B633-438E-AC21-7852962E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D59D7-CEF3-4B48-8A44-91A933A9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4AFE-E896-46CA-B5FF-197D1DF9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9AD2-4352-47E2-B53B-04556B57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F14A3-2AFD-49C3-AC43-C3F734A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591F-BA30-477B-BA06-B7AC908A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A149-D9EC-4BD3-B392-29381DD1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5324-AF66-4541-A7E3-03A40173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1B7A3-EA27-4C6D-9059-05D6CA62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B565A-1BCF-4B84-A381-6C0F316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36E-A7C9-42B7-BD11-65E9953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9476-1162-48C8-B5AA-66DA0823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D2E5-3E63-4441-A94E-3F63710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351B-1112-4590-848E-7DC43B5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6E98-A43C-413A-A5BC-5564323A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D42F8-0D89-406F-BBEF-43D22703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DB3E4-DA68-41AD-BDC6-A6F28DB6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32261-5E44-4F3F-8BBF-5E10ABE7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BD7C-7090-4C7B-AAAE-75C6EB42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F180-BEBB-41E6-B2A9-E174EB85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1895-67EC-4931-85DC-583A853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631-31FB-42C1-B767-7CE514D4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75ECD-861C-40F5-BF4A-DFFAFDDE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A57C2-6CF7-4C33-89BF-168D412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AA9D5-A0B8-4BBA-8B9C-C736561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40016-DEE7-449A-BC86-0FF34D7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8645A-F6A4-4B2D-9A53-924A1DD2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0A6EB-856A-4DC5-9CDA-48C80EFB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61131-049E-4C5F-B91B-384E7ECB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672B8-07EA-4119-8480-F1555A95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B1E7-34FE-4471-90A5-1AE4CDBE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8C8B0-F6FA-414A-9133-F271D38A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B3EA-6386-40E6-A5D7-BC9B5D942C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E2FF-F3B7-4411-A21D-80D56AB73C0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0E01-B715-46EE-8CDD-C72382AEBB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906-E4E6-4031-9827-995892C15B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1541-D09C-4C77-B00D-588288F5FF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4086-9065-4EF7-90C2-0DB373360A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3C45-D0DC-409C-916F-2953EE884C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292E-D66A-4548-A5FE-6AC75087B7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276E-574B-4804-B349-53223DD47D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psiholog-onlajn.ru/stati-psixologa/funkcii-semi-i-ix-voploshhenie-v-realnoj-zhizni-chem-semya-xorosha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20840" y="2846520"/>
            <a:ext cx="8474040" cy="18716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56760" y="285840"/>
            <a:ext cx="8458200" cy="22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Разработал учитель технологии высшей категории,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Почетный работник Начального Профессионального Образования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Российской Федерации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МБОУ «СОШ № 7» г. Калуги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Monotype Corsiva"/>
              </a:rPr>
              <a:t>Герасимов Владислав  Александрович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519588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Урок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Я и наша семья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0" y="155412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на обусловлена тем, что семья является первой и главной социальной группой, которая активно влияет на формирование личности ребен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4" descr="D:\Documents and Settings\Admin\Рабочий стол\poslushnyj-rebenok-mechta-roditelya.jpg"/>
          <p:cNvPicPr/>
          <p:nvPr/>
        </p:nvPicPr>
        <p:blipFill>
          <a:blip r:embed="rId2"/>
          <a:stretch/>
        </p:blipFill>
        <p:spPr>
          <a:xfrm>
            <a:off x="4357800" y="1428840"/>
            <a:ext cx="45720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143000"/>
            <a:ext cx="4500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мья выполняет функцию духовного общения, направляя личностное развитие ее членов, их духовное взаимообогащение, а также функцию эмоциональную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Picture 4" descr="D:\Documents and Settings\Admin\Рабочий стол\th.jpg"/>
          <p:cNvPicPr/>
          <p:nvPr/>
        </p:nvPicPr>
        <p:blipFill>
          <a:blip r:embed="rId2"/>
          <a:stretch/>
        </p:blipFill>
        <p:spPr>
          <a:xfrm>
            <a:off x="4572000" y="2000160"/>
            <a:ext cx="4286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-360" y="157176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ожно назвать следующие компоненты этой функции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язи своих членов с окружающей природной средой и на характер ее восприятия; организация внутрисемейного общ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Picture 4" descr="D:\Documents and Settings\Admin\Рабочий стол\82232530_3571750_familyreading_ok.jpg"/>
          <p:cNvPicPr/>
          <p:nvPr/>
        </p:nvPicPr>
        <p:blipFill>
          <a:blip r:embed="rId2"/>
          <a:stretch/>
        </p:blipFill>
        <p:spPr>
          <a:xfrm>
            <a:off x="4754520" y="1857240"/>
            <a:ext cx="438948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0" y="1213920"/>
            <a:ext cx="428616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а функция удовлетворяет потребности каждого элемента семьи в организации свободного времени.  В качестве примеров из жизни можно привести чтение, посещение театра, кино, библиотеки, просмотр телепередач, спорт, туризм, семейные праздни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4" descr="D:\Documents and Settings\Admin\Рабочий стол\lager.jpg"/>
          <p:cNvPicPr/>
          <p:nvPr/>
        </p:nvPicPr>
        <p:blipFill>
          <a:blip r:embed="rId2"/>
          <a:stretch/>
        </p:blipFill>
        <p:spPr>
          <a:xfrm>
            <a:off x="4357800" y="1928880"/>
            <a:ext cx="457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-360" y="164304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циально-статусная (наследование принадлежности индивида к тому же классу, роду, этносу, религиозной группе к которым принадлежит семья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4" descr="D:\Documents and Settings\Admin\Рабочий стол\ZUK497d16_penze.jpg"/>
          <p:cNvPicPr/>
          <p:nvPr/>
        </p:nvPicPr>
        <p:blipFill>
          <a:blip r:embed="rId2"/>
          <a:stretch/>
        </p:blipFill>
        <p:spPr>
          <a:xfrm>
            <a:off x="4610160" y="1857240"/>
            <a:ext cx="453384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0" y="155412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моциональная (обеспечение взаимной психологической поддержки и защищенности каждого члена семьи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4" descr="D:\Documents and Settings\Admin\Рабочий стол\196874.jpg"/>
          <p:cNvPicPr/>
          <p:nvPr/>
        </p:nvPicPr>
        <p:blipFill>
          <a:blip r:embed="rId2"/>
          <a:stretch/>
        </p:blipFill>
        <p:spPr>
          <a:xfrm>
            <a:off x="4286160" y="1714680"/>
            <a:ext cx="434808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создать максимальные условия для роста и развития ребенка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стать социально-экономической и психологической защитой ребенка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передать опыт создания и сохранения семьи, воспитания в ней детей и отношения к старшим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научить детей полезным прикладным навыкам и умениям, направленным на самообслуживание и помощь близким; 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воспитать чувство собственного достоинства, ценности собственного я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142560" y="0"/>
            <a:ext cx="8715600" cy="1952640"/>
          </a:xfrm>
          <a:prstGeom prst="rect">
            <a:avLst/>
          </a:prstGeom>
          <a:solidFill>
            <a:srgbClr val="ffffcc"/>
          </a:solidFill>
          <a:ln w="76320">
            <a:solidFill>
              <a:srgbClr val="ad1f1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Franklin Gothic Book"/>
              </a:rPr>
              <a:t>Домашнее задание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Содержимое 3" descr=""/>
          <p:cNvPicPr/>
          <p:nvPr/>
        </p:nvPicPr>
        <p:blipFill>
          <a:blip r:embed="rId1"/>
          <a:stretch/>
        </p:blipFill>
        <p:spPr>
          <a:xfrm>
            <a:off x="1127160" y="2176560"/>
            <a:ext cx="72738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" descr="mainp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2380680" y="4786200"/>
            <a:ext cx="491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 Е М Ь Я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579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Семья это социально-педагогическая группа людей, предназначенная для оптимального удовлетворения потребностей в самосохранении (продолжении рода) и самоутверждении (самоуважении) каждого ее член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--------------------------------------------------------------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Опишем на данном уроке основные </a:t>
            </a: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функции семьи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.Репродуктив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2.Воспитатель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3.Хозяйственно-экономическ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4.Восстановитель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5.Регулятив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6.Функция социализация личност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7.Коммуникатив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8.Досугов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9.Социально-статус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0.Эмоциональна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11.Функция духовного общения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-360" y="155412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епродуктивная функция(необходимость продолжения человеческого рода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5" descr="D:\Documents and Settings\Admin\Рабочий стол\1fee4b8c12dd5ed708b710b5f865b02a.jpg"/>
          <p:cNvPicPr/>
          <p:nvPr/>
        </p:nvPicPr>
        <p:blipFill>
          <a:blip r:embed="rId2"/>
          <a:stretch/>
        </p:blipFill>
        <p:spPr>
          <a:xfrm>
            <a:off x="4143240" y="18572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-360" y="1554120"/>
            <a:ext cx="414324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ная функция-формирование личности ребен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4" descr="D:\Documents and Settings\Admin\Рабочий стол\88181685_deti.jpg"/>
          <p:cNvPicPr/>
          <p:nvPr/>
        </p:nvPicPr>
        <p:blipFill>
          <a:blip r:embed="rId2"/>
          <a:stretch/>
        </p:blipFill>
        <p:spPr>
          <a:xfrm>
            <a:off x="4071960" y="1857240"/>
            <a:ext cx="5072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-360" y="157176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озяйственно – экономическая функция  - (ведение домашнего хозяйства, материальное обеспечение семьи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4" descr="D:\Documents and Settings\Admin\Рабочий стол\1266578400_12624596.jpg"/>
          <p:cNvPicPr/>
          <p:nvPr/>
        </p:nvPicPr>
        <p:blipFill>
          <a:blip r:embed="rId2"/>
          <a:stretch/>
        </p:blipFill>
        <p:spPr>
          <a:xfrm>
            <a:off x="5289480" y="1428840"/>
            <a:ext cx="3854520" cy="2571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D:\Documents and Settings\Admin\Рабочий стол\1363830983_minfin-rossii.jpg"/>
          <p:cNvPicPr/>
          <p:nvPr/>
        </p:nvPicPr>
        <p:blipFill>
          <a:blip r:embed="rId3"/>
          <a:stretch/>
        </p:blipFill>
        <p:spPr>
          <a:xfrm>
            <a:off x="5357880" y="4000680"/>
            <a:ext cx="378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-360" y="1554120"/>
            <a:ext cx="43578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язана с отдыхом, организацией досуга, заботой о здоровье и благополучии членов семь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4" descr="D:\Documents and Settings\Admin\Рабочий стол\102766394_large_4085248_127199.jpg"/>
          <p:cNvPicPr/>
          <p:nvPr/>
        </p:nvPicPr>
        <p:blipFill>
          <a:blip r:embed="rId2"/>
          <a:stretch/>
        </p:blipFill>
        <p:spPr>
          <a:xfrm>
            <a:off x="4429080" y="1785960"/>
            <a:ext cx="4714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-360" y="155412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гулятивная - заключается в регулировании отношений между членами семьи на основании моральных норм путем первичного социального контроля, реализации личного авторитета и власти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4" descr="D:\Documents and Settings\Admin\Рабочий стол\97805.jpg"/>
          <p:cNvPicPr/>
          <p:nvPr/>
        </p:nvPicPr>
        <p:blipFill>
          <a:blip r:embed="rId2"/>
          <a:stretch/>
        </p:blipFill>
        <p:spPr>
          <a:xfrm>
            <a:off x="5143680" y="1928880"/>
            <a:ext cx="37861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9T03:56:58Z</dcterms:created>
  <dc:creator>Admin</dc:creator>
  <dc:description/>
  <dc:language>en-US</dc:language>
  <cp:lastModifiedBy>Admin</cp:lastModifiedBy>
  <dcterms:modified xsi:type="dcterms:W3CDTF">2014-08-14T11:42:17Z</dcterms:modified>
  <cp:revision>22</cp:revision>
  <dc:subject/>
  <dc:title>Слайд 1</dc:title>
</cp:coreProperties>
</file>