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4.jpeg" ContentType="image/jpeg"/>
  <Override PartName="/ppt/media/image21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8.jpeg" ContentType="image/jpeg"/>
  <Override PartName="/ppt/media/image7.jpeg" ContentType="image/jpeg"/>
  <Override PartName="/ppt/media/image8.png" ContentType="image/png"/>
  <Override PartName="/ppt/media/image11.jpeg" ContentType="image/jpeg"/>
  <Override PartName="/ppt/media/image12.png" ContentType="image/png"/>
  <Override PartName="/ppt/media/image19.png" ContentType="image/png"/>
  <Override PartName="/ppt/media/image20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4.png" ContentType="image/png"/>
  <Override PartName="/ppt/media/image33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077-EEC8-44F5-8FE5-91DAB6DD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237A-9B55-45B1-8D91-52A6CF5F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E8BC2-55D5-48CB-8314-C989B1EB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5986A-0E2E-48E7-A6D3-D7E0DC6C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FDA6A-859F-4DB8-98AA-621FF05D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5257B-5D34-42F0-8087-B4CC994E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EAA71-98D3-4335-8529-FBDDB7CB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A44BD-EBD1-4DE6-A945-F17DDED8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5F3F9-5EBB-41B8-AF78-654FF56A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ABA15-B013-4DF7-AF33-0C7D0353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5C584-9530-4703-BA82-E8F42425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F990-E61B-4FF0-A53E-9655576F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3CFB-0908-4B7C-867F-CD3DDCC4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C7B5-BB3D-40E9-B8FA-C790C4FF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9C9E-4FAC-4C26-B7EA-4D3D9485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A3F7-60BA-49A8-A9DC-6DC804F1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7404-DAAF-49B1-8623-446E3114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60BB-E9D4-43E2-9F07-653162B0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5D71-7B52-49C0-BB3F-7F7AD31F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E451-9A18-4135-B6EB-D14BADE7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D9BE-0DB8-4930-834B-2B392938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3556-4223-489E-BEC7-814F446A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AA90-4BAC-4D40-ADC1-AA98A065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8D40-069D-4B14-9EB7-0ACEA599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6E44-427D-4F4C-9A67-74740DE5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C07C-7504-49E0-9089-C160D5D9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B1D3C-AB78-496F-AE12-34CF1755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3E82F-4056-48BA-9F24-BFB72E9F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74D40-6E42-4C6D-8720-57C07642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E4975-DD78-43AE-AAF5-B16C13F3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28698-097B-4063-98A1-B884C04E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3F6-4603-4F83-958E-537FE7DB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8DD6E-B775-4A3E-901E-16C3E46B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4831E-CE3B-4B3A-8CF8-B508E116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639D7-33CB-4014-B8F1-E99FF147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E460B-441F-4DA2-BEA7-81934CBB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92ED0-79AE-4E18-9366-479DC60C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B40EF-62DF-4063-9EDD-BA577792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3BCDA-1C34-48EB-916C-AFF1A2EA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4F2DF-C571-4C25-AE4B-E3BD7C3E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66735-CBC0-40F6-B641-0145F5AE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BDFAB-B6AD-460B-85E4-FF5CB7FD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A14A-12EC-4AB9-8560-56A9433D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4A958-AE42-497F-A611-3F86EFDE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1C05A-631D-4CBC-9645-ACD47904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BC5C5-C0F9-4E46-8EEF-2C7C7A00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2E87D-C791-46B6-9362-31754CE3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95A63-FD01-4BD8-B7BE-3FFF6EBA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C4B4A-E9EB-4990-AD0F-233EDDC7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89DFA-4E09-4062-A935-0A281694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34B3D-59FE-4366-B165-C054F6DF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C0197-E6CA-4C3D-B2D2-69C15EAD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D475C-A330-4ECF-BF0C-AA2C6677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147-7D6D-4961-B3F6-CB75C802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C47D9-0650-4DF1-B505-CE41382A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2807D-1B12-48B3-A77B-57E80FD0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D50F1-AE61-4630-A74F-8A1D8891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A1F97-0804-47C1-A936-5044646A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97DB3-DBBD-44E2-BB1F-5D56A2CC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5DDB9-4DA2-4BA9-89C5-340EB8C5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8392F-0F3D-4DF3-A05C-CF40E9AA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A9051-3DB8-4E38-A4EA-7D700816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93690-FCC9-4107-9DAD-FB6E37E7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536FA-E0D1-49E7-A97E-823C85C4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FBD2-AA21-48BE-B0CD-18C28B81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5BF2D-5D9A-4BF9-8054-4E5D1FF9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49C83-66E6-4B0D-AA68-E9CDBC63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4707B-FDCD-4787-82D9-281AB6BB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38307-34D0-4EE6-96E7-70D6D6F0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6B24F-DDBC-4673-BB34-3EC890BE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D11DA-04CE-4FDA-84B4-A84384EA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22F50-2DEA-4B10-92C1-C6FCA390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0EBE7-6BEF-4DEC-89BB-A8FAC3B0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E01F5-FB52-4134-8AED-B8238FE7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60F95-16C6-45B4-AF7E-8DE24406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ACE6-B543-4B1C-BEEA-781E5E60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ADD2A-32D6-44DF-94AC-C782612D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35FA2-1D4A-4153-AE60-04666B13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560C6-85AD-41F4-8B66-F7C32122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4EC1A-E5F6-4AF8-87FE-DC268DB4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CD8AD-55F0-4920-9AE0-C463D2C9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B9C40-915E-43C0-95FA-C4D964BA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23FA1-1179-40C7-A96B-70E7969C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5023B-912F-41F9-AB07-9CAD2A22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5C636-92E4-4C0B-8593-7CC4FBF9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ABB3B-1D9D-433C-86A8-0A3055AA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E50-A3E1-4B18-AF13-5CC35CDA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F4B24-58DA-4B78-94CC-ADEA7313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63CFC-C4F1-4A3F-B52F-95729AEC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82272-9E7D-4540-B535-F28E7913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A1C23-20D2-47C9-87A8-6667DF90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1E7E9-0A85-4C78-9E70-6CA6B5107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81DD6-AA4A-44C2-8D28-F451B09E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97BFA-2BFB-493E-93FA-CD08DA7F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8F5DC-A877-4689-A1A0-E9E21802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1B80B-6426-4652-9864-403BF279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632EF-1E6B-4E97-B930-7B6A791F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C2A1-08B2-41F6-9B12-317D6AFF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3C9BB-BDAB-4569-8268-E1269A00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0698E-3C9F-4998-9C66-2E2B9609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42CBF-9F83-4BB8-883B-84E2FB65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B7402-6566-43B4-80BC-F5BEE5F1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A12E3-E2AD-42CA-B2F3-1EBC4433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161C3-CA2D-4EB2-A223-B4958609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ECCBE-8C68-405E-8E6C-B50B7063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92904-4A44-4DFF-B289-B6628E20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5AE80-CC18-454C-9241-23FD813B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87A8E-83CA-473F-83D9-343E0F0C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0051-F6D5-4091-AD6E-9DA5E87E08A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D672-7C1D-4577-8D0B-FA2B295DB9D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AED4-3A7D-4A97-94C4-287DAC3F359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D75D-09E0-42E1-A166-69DF7B029A7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7840-9565-4773-8BA3-D813FB9C450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9CC4-97D3-494C-92CA-299B3999E8F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268E-1707-413B-8A04-1835DBFC3F9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F709-5E58-4BAD-BF82-2CD368299FC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3491-50E3-430E-9B47-B8B1757A83E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psiholog-onlajn.ru/stati-psixologa/funkcii-semi-i-ix-voploshhenie-v-realnoj-zhizni-chem-semya-xorosha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420840" y="2846520"/>
            <a:ext cx="8474040" cy="18716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56760" y="285840"/>
            <a:ext cx="8458200" cy="22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Monotype Corsiva"/>
              </a:rPr>
              <a:t>Разработал учитель технологии высшей категории,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Monotype Corsiva"/>
              </a:rPr>
              <a:t>Почетный работник Начального Профессионального Образования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Monotype Corsiva"/>
              </a:rPr>
              <a:t>Российской Федерации</a:t>
            </a:r>
            <a:br>
              <a:rPr sz="2500"/>
            </a:br>
            <a:r>
              <a:rPr b="1" lang="ru-RU" sz="2500" spc="-1" strike="noStrike">
                <a:solidFill>
                  <a:srgbClr val="0000ff"/>
                </a:solidFill>
                <a:latin typeface="Monotype Corsiva"/>
              </a:rPr>
              <a:t>МБОУ «СОШ № 7» г. Калуги</a:t>
            </a:r>
            <a:br>
              <a:rPr sz="2500"/>
            </a:br>
            <a:r>
              <a:rPr b="1" lang="ru-RU" sz="2500" spc="-1" strike="noStrike">
                <a:solidFill>
                  <a:srgbClr val="0000ff"/>
                </a:solidFill>
                <a:latin typeface="Monotype Corsiva"/>
              </a:rPr>
              <a:t>Герасимов Владислав  Александрович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0" y="519588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Урок №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Я и наша семья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0" y="1554120"/>
            <a:ext cx="428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на обусловлена тем, что семья является первой и главной социальной группой, которая активно влияет на формирование личности ребенк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8" name="Picture 4" descr="D:\Documents and Settings\Admin\Рабочий стол\poslushnyj-rebenok-mechta-roditelya.jpg"/>
          <p:cNvPicPr/>
          <p:nvPr/>
        </p:nvPicPr>
        <p:blipFill>
          <a:blip r:embed="rId2"/>
          <a:stretch/>
        </p:blipFill>
        <p:spPr>
          <a:xfrm>
            <a:off x="4357800" y="1428840"/>
            <a:ext cx="45720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0" y="1143000"/>
            <a:ext cx="4500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емья выполняет функцию духовного общения, направляя личностное развитие ее членов, их духовное взаимообогащение, а также функцию эмоциональную. 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1" name="Picture 4" descr="D:\Documents and Settings\Admin\Рабочий стол\th.jpg"/>
          <p:cNvPicPr/>
          <p:nvPr/>
        </p:nvPicPr>
        <p:blipFill>
          <a:blip r:embed="rId2"/>
          <a:stretch/>
        </p:blipFill>
        <p:spPr>
          <a:xfrm>
            <a:off x="4572000" y="2000160"/>
            <a:ext cx="42861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-360" y="1571760"/>
            <a:ext cx="47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Можно назвать следующие компоненты этой функции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вязи своих членов с окружающей природной средой и на характер ее восприятия; организация внутрисемейного общ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4" name="Picture 4" descr="D:\Documents and Settings\Admin\Рабочий стол\82232530_3571750_familyreading_ok.jpg"/>
          <p:cNvPicPr/>
          <p:nvPr/>
        </p:nvPicPr>
        <p:blipFill>
          <a:blip r:embed="rId2"/>
          <a:stretch/>
        </p:blipFill>
        <p:spPr>
          <a:xfrm>
            <a:off x="4754520" y="1857240"/>
            <a:ext cx="438948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0" y="1213920"/>
            <a:ext cx="428616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та функция удовлетворяет потребности каждого элемента семьи в организации свободного времени.  В качестве примеров из жизни можно привести чтение, посещение театра, кино, библиотеки, просмотр телепередач, спорт, туризм, семейные праздник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7" name="Picture 4" descr="D:\Documents and Settings\Admin\Рабочий стол\lager.jpg"/>
          <p:cNvPicPr/>
          <p:nvPr/>
        </p:nvPicPr>
        <p:blipFill>
          <a:blip r:embed="rId2"/>
          <a:stretch/>
        </p:blipFill>
        <p:spPr>
          <a:xfrm>
            <a:off x="4357800" y="1928880"/>
            <a:ext cx="4572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-360" y="1643040"/>
            <a:ext cx="43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оциально-статусная (наследование принадлежности индивида к тому же классу, роду, этносу, религиозной группе к которым принадлежит семья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0" name="Picture 4" descr="D:\Documents and Settings\Admin\Рабочий стол\ZUK497d16_penze.jpg"/>
          <p:cNvPicPr/>
          <p:nvPr/>
        </p:nvPicPr>
        <p:blipFill>
          <a:blip r:embed="rId2"/>
          <a:stretch/>
        </p:blipFill>
        <p:spPr>
          <a:xfrm>
            <a:off x="4610160" y="1857240"/>
            <a:ext cx="453384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0" y="1554120"/>
            <a:ext cx="421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Эмоциональная (обеспечение взаимной психологической поддержки и защищенности каждого члена семьи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3" name="Picture 4" descr="D:\Documents and Settings\Admin\Рабочий стол\196874.jpg"/>
          <p:cNvPicPr/>
          <p:nvPr/>
        </p:nvPicPr>
        <p:blipFill>
          <a:blip r:embed="rId2"/>
          <a:stretch/>
        </p:blipFill>
        <p:spPr>
          <a:xfrm>
            <a:off x="4286160" y="1714680"/>
            <a:ext cx="434808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133200" y="262080"/>
            <a:ext cx="8864640" cy="10429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* создать максимальные условия для роста и развития ребенка; </a:t>
            </a:r>
            <a:br>
              <a:rPr sz="2800"/>
            </a:b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* стать социально-экономической и психологической защитой ребенка; </a:t>
            </a:r>
            <a:br>
              <a:rPr sz="2800"/>
            </a:b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* передать опыт создания и сохранения семьи, воспитания в ней детей и отношения к старшим; </a:t>
            </a:r>
            <a:br>
              <a:rPr sz="2800"/>
            </a:b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* научить детей полезным прикладным навыкам и умениям, направленным на самообслуживание и помощь близким; </a:t>
            </a:r>
            <a:br>
              <a:rPr sz="2800"/>
            </a:b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* воспитать чувство собственного достоинства, ценности собственного я.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142560" y="0"/>
            <a:ext cx="8715600" cy="1952640"/>
          </a:xfrm>
          <a:prstGeom prst="rect">
            <a:avLst/>
          </a:prstGeom>
          <a:solidFill>
            <a:srgbClr val="ffffcc"/>
          </a:solidFill>
          <a:ln w="76320">
            <a:solidFill>
              <a:srgbClr val="ad1f1f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Franklin Gothic Book"/>
              </a:rPr>
              <a:t>Домашнее задание.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7" name="Содержимое 3" descr=""/>
          <p:cNvPicPr/>
          <p:nvPr/>
        </p:nvPicPr>
        <p:blipFill>
          <a:blip r:embed="rId1"/>
          <a:stretch/>
        </p:blipFill>
        <p:spPr>
          <a:xfrm>
            <a:off x="1127160" y="2176560"/>
            <a:ext cx="727380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1" descr="mainpic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05" name="TextBox 4"/>
          <p:cNvSpPr/>
          <p:nvPr/>
        </p:nvSpPr>
        <p:spPr>
          <a:xfrm>
            <a:off x="2380680" y="4786200"/>
            <a:ext cx="491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С Е М Ь Я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298440" y="249120"/>
            <a:ext cx="8699400" cy="15796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-360" y="15541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Семья это социально-педагогическая группа людей, предназначенная для оптимального удовлетворения потребностей в самосохранении (продолжении рода) и самоутверждении (самоуважении) каждого ее члена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---------------------------------------------------------------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Опишем на данном уроке основные </a:t>
            </a:r>
            <a:r>
              <a:rPr b="0" lang="ru-RU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функции семьи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298440" y="255600"/>
            <a:ext cx="8699400" cy="10494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1.Репродуктивная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2.Воспитательная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3.Хозяйственно-экономическая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4.Восстановительная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5.Регулятивная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6.Функция социализация личности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7.Коммуникативная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8.Досуговая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9.Социально-статусная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10.Эмоциональная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11.Функция духовного общения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-360" y="1554120"/>
            <a:ext cx="40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епродуктивная функция(необходимость продолжения человеческого рода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Picture 5" descr="D:\Documents and Settings\Admin\Рабочий стол\1fee4b8c12dd5ed708b710b5f865b02a.jpg"/>
          <p:cNvPicPr/>
          <p:nvPr/>
        </p:nvPicPr>
        <p:blipFill>
          <a:blip r:embed="rId2"/>
          <a:stretch/>
        </p:blipFill>
        <p:spPr>
          <a:xfrm>
            <a:off x="4143240" y="185724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-360" y="1554120"/>
            <a:ext cx="4143240" cy="28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спитательная функция-формирование личности ребенк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Picture 4" descr="D:\Documents and Settings\Admin\Рабочий стол\88181685_deti.jpg"/>
          <p:cNvPicPr/>
          <p:nvPr/>
        </p:nvPicPr>
        <p:blipFill>
          <a:blip r:embed="rId2"/>
          <a:stretch/>
        </p:blipFill>
        <p:spPr>
          <a:xfrm>
            <a:off x="4071960" y="1857240"/>
            <a:ext cx="50720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-360" y="1571760"/>
            <a:ext cx="47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Хозяйственно – экономическая функция  - (ведение домашнего хозяйства, материальное обеспечение семьи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8" name="Picture 4" descr="D:\Documents and Settings\Admin\Рабочий стол\1266578400_12624596.jpg"/>
          <p:cNvPicPr/>
          <p:nvPr/>
        </p:nvPicPr>
        <p:blipFill>
          <a:blip r:embed="rId2"/>
          <a:stretch/>
        </p:blipFill>
        <p:spPr>
          <a:xfrm>
            <a:off x="5289480" y="1428840"/>
            <a:ext cx="3854520" cy="2571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D:\Documents and Settings\Admin\Рабочий стол\1363830983_minfin-rossii.jpg"/>
          <p:cNvPicPr/>
          <p:nvPr/>
        </p:nvPicPr>
        <p:blipFill>
          <a:blip r:embed="rId3"/>
          <a:stretch/>
        </p:blipFill>
        <p:spPr>
          <a:xfrm>
            <a:off x="5357880" y="4000680"/>
            <a:ext cx="37861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-360" y="1554120"/>
            <a:ext cx="435780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вязана с отдыхом, организацией досуга, заботой о здоровье и благополучии членов семь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icture 4" descr="D:\Documents and Settings\Admin\Рабочий стол\102766394_large_4085248_127199.jpg"/>
          <p:cNvPicPr/>
          <p:nvPr/>
        </p:nvPicPr>
        <p:blipFill>
          <a:blip r:embed="rId2"/>
          <a:stretch/>
        </p:blipFill>
        <p:spPr>
          <a:xfrm>
            <a:off x="4429080" y="1785960"/>
            <a:ext cx="4714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-360" y="1554120"/>
            <a:ext cx="507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егулятивная - заключается в регулировании отношений между членами семьи на основании моральных норм путем первичного социального контроля, реализации личного авторитета и власти. 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5" name="Picture 4" descr="D:\Documents and Settings\Admin\Рабочий стол\97805.jpg"/>
          <p:cNvPicPr/>
          <p:nvPr/>
        </p:nvPicPr>
        <p:blipFill>
          <a:blip r:embed="rId2"/>
          <a:stretch/>
        </p:blipFill>
        <p:spPr>
          <a:xfrm>
            <a:off x="5143680" y="1928880"/>
            <a:ext cx="37861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9T03:56:58Z</dcterms:created>
  <dc:creator>Admin</dc:creator>
  <dc:description/>
  <dc:language>en-US</dc:language>
  <cp:lastModifiedBy>Admin</cp:lastModifiedBy>
  <dcterms:modified xsi:type="dcterms:W3CDTF">2014-08-14T11:42:17Z</dcterms:modified>
  <cp:revision>22</cp:revision>
  <dc:subject/>
  <dc:title>Слайд 1</dc:title>
</cp:coreProperties>
</file>