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691FD-640E-4CD3-96B7-45582A1A5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6328C-6511-4E2A-9044-818B77A87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598C-0FB5-4F50-B51E-2556534356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D6DBF-0830-46D7-A8AE-DE143CB99D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0F22E-E865-44BB-B781-ADB5CFD13F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B38E0-20CD-402C-ADE6-4563A5A79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C2B97-5BC5-46DF-B612-8D9126E5F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0B162-FBAE-40D0-87B4-9EB51029A0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E473B-A377-4368-B8A3-BFB4AB20D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30F9-6966-43E9-ACC9-8F39EAF9B1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5DD-22F3-432B-8B98-8EB75F72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473-B05A-4770-BCBD-EFF3CE86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596-7065-4E59-BF70-4A70C160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0A5-FE40-4590-802E-98F92590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AE4-D3BB-497E-84C6-0E6802FC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AE92-3022-4A71-A835-7676531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278-6C0F-404A-BA04-E8EC1D9F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0F95-A649-40D8-A115-D73688B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9A9-820C-4EFB-A37C-7C55C89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1D31-F774-4344-9153-751DBD25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9F89-BC3B-4472-9576-925F8CF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9D6-CB55-4FFF-91C0-5AAE52F1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864D-1A01-43D8-9209-3682C54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A55E-029D-4784-B845-815BC06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927-FF93-42DC-B423-5A7C541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ACA-9E70-437E-81CF-001B39BB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6671-7BCC-4599-B1B0-E36EE41B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FF7-6D60-40F6-8593-1E695DF1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108-AFEB-453D-B98B-BD2A9CE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6DE-CB6F-4B18-8D0D-C990BC9E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74B-6C48-422B-93FB-B9084F4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BB5-5F1B-4378-818B-EEA6994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126-A9A6-453E-9C38-9524E6D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42E-16C3-4F22-A679-52EBA828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EDCBA-7CCD-46D8-9D3C-BDC06105E0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9B44C-41C7-4FC0-B9CA-B89D15FE6B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58840"/>
            <a:ext cx="90709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ихвостка — птица России 2015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44520" y="1824120"/>
            <a:ext cx="2946600" cy="4384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53080" y="1823760"/>
            <a:ext cx="4827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ученица 2 А класс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колы № 17 г. 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апина Ан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реподаватель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улагина Ирин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еонидов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57280" y="6489720"/>
            <a:ext cx="201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63640" y="2195640"/>
            <a:ext cx="864072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горихвосток насчитывается 13 ви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из них гнездятся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чень красивые и полезные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хвостки занесены в Красные кни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х регионо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регите и охраняйте этих прекрасных птиц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5960" y="1116000"/>
            <a:ext cx="3059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496360" y="1258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363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бышев И.Н. Из жизни леса. – Л.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в Ю.Д. Соседи по планете. Птицы. – М.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кинский Ю.Б. Птицы. – Л. 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кин Г.Н. Певчие птицы. – М.: Лесная промышленность. 199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3132000"/>
            <a:ext cx="99187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008000" y="4284720"/>
            <a:ext cx="828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 охраны птиц России в девятнадцат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л птицу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5 году ею стала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горихвос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 имя птица получила за похожий на язычок пламени, постоянно подрагивающий яркий рыжи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3095640" y="147636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84720" y="395280"/>
            <a:ext cx="36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тиц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03280" y="1916280"/>
            <a:ext cx="4427640" cy="4198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152680" y="1823760"/>
            <a:ext cx="442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ам старых дачных участков хорошо знакомы садовые горихвостки, регулярно гнездящиеся в искусственных птичьих домиках. В лесах эти птицы также не представляют редкости. Часто они ловят насекомых  в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1960" y="538200"/>
            <a:ext cx="529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адовые горихвос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782640" y="1824120"/>
            <a:ext cx="3870360" cy="4384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040000" y="1547640"/>
            <a:ext cx="4427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бирская горихвостка похожа на садовую буквально во всех отношениях, включая ярко выраженную склонность к гнездованию в небольших посе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времени, когда в тайге поспевают ягоды, сибирские горихвостки почти полностью переключаются на этот корм и становятся особенно многочисленными в местах с густыми зарослями бузины, жимолости, малины и ар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960" y="611280"/>
            <a:ext cx="569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ибирск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03280" y="2119320"/>
            <a:ext cx="4427640" cy="3794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111280" y="1979640"/>
            <a:ext cx="4427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яные горихвостки живут в узких ущельях Памиро-Алтая. Гнезда они также прячут поблизости от воды - в расселинах скал и под кам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крайне необщительны и агрессивны, часто преследуют других мелких птиц, живут отдельными парами. На зиму водяные горихвостки родных гор не покид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6880" y="682560"/>
            <a:ext cx="4996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Водные горихвос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966960" y="1824120"/>
            <a:ext cx="3500280" cy="438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111280" y="176364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зая,  или сизая ручьевая горихвостка распространена в Афганистане, Китае, Индии, Непале, Пакистане, Таиланде и Вьетна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а обитания — быстрые горные потоки воды, водопады и подножия гор, где много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8160" y="538200"/>
            <a:ext cx="4591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из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503280" y="2390760"/>
            <a:ext cx="4427640" cy="3251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184720" y="2050560"/>
            <a:ext cx="46087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доголовая горихвостка предпочитает еловые леса. Эта птица насекомоядная. Осенью не отказывается и от ягод жимолости. Песенка негромкая и своеобразная. Отличие от других - нет характерного подрагивания хвостиком по любому по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4680" y="898560"/>
            <a:ext cx="62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едоголов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7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52680" y="2124000"/>
            <a:ext cx="442764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хвостка-чернушка у нас заселяет Кавказ и горы Южной Сибири. Эти птицы часто выбирают себе для гнездования каменные многоэтажки. Также селятся в садах и парках. Песня чернушки простенькая, напоминающая верещ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08320" y="755640"/>
            <a:ext cx="5827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Горихвостка - чер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152360" y="1908000"/>
            <a:ext cx="2787840" cy="2163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rcRect l="0" t="0" r="0" b="7060"/>
          <a:stretch/>
        </p:blipFill>
        <p:spPr>
          <a:xfrm>
            <a:off x="5688000" y="1908000"/>
            <a:ext cx="2759040" cy="210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2920" y="4643280"/>
            <a:ext cx="907236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оспинная горихвостка - обитатель гор Средней Аз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ой Сибири. Краснобрюхая горихвостка распростра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ах Кавказа и Средней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640" y="539640"/>
            <a:ext cx="900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Красноспинные и краснобрюхие горихво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9:22:10Z</dcterms:created>
  <dc:creator/>
  <dc:description/>
  <cp:keywords/>
  <dc:language>en-US</dc:language>
  <cp:lastModifiedBy>Пользователь</cp:lastModifiedBy>
  <dcterms:modified xsi:type="dcterms:W3CDTF">2015-01-26T19:51:21Z</dcterms:modified>
  <cp:revision>9</cp:revision>
  <dc:subject/>
  <dc:title>Горихвостка — птица России 2015 года</dc:title>
</cp:coreProperties>
</file>