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82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E2E0-6CE9-4116-8DB8-B269C5811F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B52A-4788-456B-8C22-9491FA18A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0D0DD-6642-48D6-82EB-3C47FB8CF2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69298-05F7-4465-82A8-B23F9AF45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2F2B0-855F-446D-996D-6D40A975D1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3D99D-4EB2-40F8-9ABD-E5A933A84F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308FC-340A-4F1C-834E-39809CE079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5350F-7A2A-4F9F-ABAC-57684FEBA6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811D9-9AFA-494B-BC4E-C96D3CE2FF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E0757-ED6D-4EC9-AB17-E058FDC50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486080" y="90000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959-93AE-4728-97E5-F3273A1C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D89-5456-48FF-A3C9-0C8FACA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558-0228-45CE-890E-C2D4BB95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1DD-2428-4DD1-9850-E8CA7DEC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213F-264F-495B-BE58-AFFD3DF5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7CFF-B711-44F3-BC5B-ED6754D0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36C-FC9B-4185-8C30-282CA70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27E-F309-4BFC-A502-DBBEBB2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B08A-090A-4B15-B156-5BF9AA34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062-A042-428F-85CB-A1DA4DA1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20B8-F0A9-4110-82F4-F03DC53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FAB-24B6-4F36-BE58-F24B4EC3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2CC-2BE7-4187-A01C-D279753B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BE62-95C8-4F4A-B339-6829D25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760-F913-4119-8E5D-DAA4DDB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3D41-7804-4892-A8B6-0A046E07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6A92-AC9D-4C0D-A8AA-C870F622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4B4-ED07-4745-9C2A-A6DD30FA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909-10B0-4805-810E-F9465471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61E-7917-4BB0-92FB-C55FE58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F77-8A8A-4C4D-8C57-8622BAF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D0F-A32F-4326-B5EA-6F37EC8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1C7-318F-4785-9D96-B91F35D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3B9-CE69-4863-BD92-8883948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40A8-2233-48B9-AEB9-160CA0117F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85F5D-25F2-468E-874A-C8DA37F1B8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58840"/>
            <a:ext cx="90709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ихвостка — птица России 2015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44520" y="1824120"/>
            <a:ext cx="2946600" cy="4384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53080" y="1823760"/>
            <a:ext cx="482760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ученица 2 А класс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колы № 17 г. 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апина Ан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реподаватель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улагина Ирин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еонидов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57280" y="6489720"/>
            <a:ext cx="2012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63640" y="2195640"/>
            <a:ext cx="864072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горихвосток насчитывается 13 ви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из них гнездятся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чень красивые и полезные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хвостки занесены в Красные кни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х регионо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регите и охраняйте этих прекрасных птиц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5960" y="1116000"/>
            <a:ext cx="3059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496360" y="1258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5363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бышев И.Н. Из жизни леса. – Л. 198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в Ю.Д. Соседи по планете. Птицы. – М. 199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кинский Ю.Б. Птицы. – Л. 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кин Г.Н. Певчие птицы. – М.: Лесная промышленность. 199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3132000"/>
            <a:ext cx="9918720" cy="1536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008000" y="4284720"/>
            <a:ext cx="828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 охраны птиц России в девятнадцат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л птицу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5 году ею стала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горихвос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 имя птица получила за похожий на язычок пламени, постоянно подрагивающий яркий рыжи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3095640" y="1476360"/>
            <a:ext cx="360036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384720" y="395280"/>
            <a:ext cx="367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тиц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03280" y="1916280"/>
            <a:ext cx="4427640" cy="4198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152680" y="1823760"/>
            <a:ext cx="4427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8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ам старых дачных участков хорошо знакомы садовые горихвостки, регулярно гнездящиеся в искусственных птичьих домиках. В лесах эти птицы также не представляют редкости. Часто они ловят насекомых  в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1960" y="538200"/>
            <a:ext cx="529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адовые горихвос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782640" y="1824120"/>
            <a:ext cx="3870360" cy="4384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040000" y="1547640"/>
            <a:ext cx="4427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бирская горихвостка похожа на садовую буквально во всех отношениях, включая ярко выраженную склонность к гнездованию в небольших посел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времени, когда в тайге поспевают ягоды, сибирские горихвостки почти полностью переключаются на этот корм и становятся особенно многочисленными в местах с густыми зарослями бузины, жимолости, малины и ар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960" y="611280"/>
            <a:ext cx="569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ибирск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03280" y="2119320"/>
            <a:ext cx="4427640" cy="3794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111280" y="1979640"/>
            <a:ext cx="4427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яные горихвостки живут в узких ущельях Памиро-Алтая. Гнезда они также прячут поблизости от воды - в расселинах скал и под кам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крайне необщительны и агрессивны, часто преследуют других мелких птиц, живут отдельными парами. На зиму водяные горихвостки родных гор не покид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6880" y="682560"/>
            <a:ext cx="4996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Водные горихвос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966960" y="1824120"/>
            <a:ext cx="3500280" cy="438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111280" y="1763640"/>
            <a:ext cx="4427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зая,  или сизая ручьевая горихвостка распространена в Афганистане, Китае, Индии, Непале, Пакистане, Таиланде и Вьетна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а обитания — быстрые горные потоки воды, водопады и подножия гор, где много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8160" y="538200"/>
            <a:ext cx="4591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из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503280" y="2390760"/>
            <a:ext cx="4427640" cy="3251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184720" y="2050560"/>
            <a:ext cx="46087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доголовая горихвостка предпочитает еловые леса. Эта птица насекомоядная. Осенью не отказывается и от ягод жимолости. Песенка негромкая и своеобразная. Отличие от других - нет характерного подрагивания хвостиком по любому по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4680" y="898560"/>
            <a:ext cx="62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едоголовая горихвос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503280" y="2355840"/>
            <a:ext cx="4427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52680" y="2124000"/>
            <a:ext cx="442764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хвостка-чернушка у нас заселяет Кавказ и горы Южной Сибири. Эти птицы часто выбирают себе для гнездования каменные многоэтажки. Также селятся в садах и парках. Песня чернушки простенькая, напоминающая верещ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08320" y="755640"/>
            <a:ext cx="5827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Горихвостка - чер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152360" y="1908000"/>
            <a:ext cx="2787840" cy="2163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rcRect l="0" t="0" r="0" b="7060"/>
          <a:stretch/>
        </p:blipFill>
        <p:spPr>
          <a:xfrm>
            <a:off x="5688000" y="1908000"/>
            <a:ext cx="2759040" cy="210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2920" y="4643280"/>
            <a:ext cx="907236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оспинная горихвостка - обитатель гор Средней Аз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ой Сибири. Краснобрюхая горихвостка распростра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рах Кавказа и Средней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640" y="539640"/>
            <a:ext cx="900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Красноспинные и краснобрюхие горихво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9:22:10Z</dcterms:created>
  <dc:creator/>
  <dc:description/>
  <cp:keywords/>
  <dc:language>en-US</dc:language>
  <cp:lastModifiedBy>Пользователь</cp:lastModifiedBy>
  <dcterms:modified xsi:type="dcterms:W3CDTF">2015-01-26T19:51:21Z</dcterms:modified>
  <cp:revision>9</cp:revision>
  <dc:subject/>
  <dc:title>Горихвостка — птица России 2015 года</dc:title>
</cp:coreProperties>
</file>