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2EE8-F6E0-4D23-A07D-BF26A7F937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7;&#1083;&#1100;&#1089;&#1082;&#1086;&#1077;_&#1093;&#1086;&#1079;&#1103;&#1081;&#1089;&#1090;&#1074;&#1086;" TargetMode="External"/><Relationship Id="rId2" Type="http://schemas.openxmlformats.org/officeDocument/2006/relationships/hyperlink" Target="http://ru.wikipedia.org/wiki/&#1040;&#1075;&#1088;&#1086;&#1085;&#1086;&#1084;&#1080;&#1103;" TargetMode="External"/><Relationship Id="rId3" Type="http://schemas.openxmlformats.org/officeDocument/2006/relationships/hyperlink" Target="http://ru.wikipedia.org/wiki/&#1040;&#1075;&#1088;&#1086;&#1085;&#1086;&#1084;&#1080;&#1103;" TargetMode="External"/><Relationship Id="rId4" Type="http://schemas.openxmlformats.org/officeDocument/2006/relationships/hyperlink" Target="http://ru.wikipedia.org/w/index.php?title=&#1055;&#1086;&#1083;&#1077;&#1074;&#1099;&#1077;_&#1088;&#1072;&#1089;&#1090;&#1077;&#1085;&#1080;&#1103;&amp;action=edit&amp;redlink=1" TargetMode="External"/><Relationship Id="rId5" Type="http://schemas.openxmlformats.org/officeDocument/2006/relationships/hyperlink" Target="http://ru.wikipedia.org/wiki/&#1057;&#1072;&#1076;&#1086;&#1074;&#1099;&#1077;_&#1088;&#1072;&#1089;&#1090;&#1077;&#1085;&#1080;&#1103;" TargetMode="External"/><Relationship Id="rId6" Type="http://schemas.openxmlformats.org/officeDocument/2006/relationships/hyperlink" Target="http://ru.wikipedia.org/wiki/&#1054;&#1075;&#1086;&#1088;&#1086;&#1076;&#1085;&#1099;&#1077;_&#1088;&#1072;&#1089;&#1090;&#1077;&#1085;&#1080;&#1103;" TargetMode="External"/><Relationship Id="rId7" Type="http://schemas.openxmlformats.org/officeDocument/2006/relationships/slide" Target="../slides/slide1.xml"/><Relationship Id="rId8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7;&#1077;&#1094;&#1080;&#1072;&#1083;&#1080;&#1089;&#1090;" TargetMode="External"/><Relationship Id="rId2" Type="http://schemas.openxmlformats.org/officeDocument/2006/relationships/hyperlink" Target="http://ru.wikipedia.org/wiki/&#1042;&#1099;&#1089;&#1096;&#1077;&#1077;_&#1086;&#1073;&#1088;&#1072;&#1079;&#1086;&#1074;&#1072;&#1085;&#1080;&#1077;" TargetMode="External"/><Relationship Id="rId3" Type="http://schemas.openxmlformats.org/officeDocument/2006/relationships/hyperlink" Target="http://ru.wikipedia.org/wiki/&#1052;&#1077;&#1076;&#1080;&#1094;&#1080;&#1085;&#1072;" TargetMode="External"/><Relationship Id="rId4" Type="http://schemas.openxmlformats.org/officeDocument/2006/relationships/hyperlink" Target="http://ru.wikipedia.org/wiki/&#1051;&#1077;&#1095;&#1077;&#1085;&#1080;&#1077;" TargetMode="External"/><Relationship Id="rId5" Type="http://schemas.openxmlformats.org/officeDocument/2006/relationships/hyperlink" Target="http://ru.wikipedia.org/wiki/&#1041;&#1086;&#1083;&#1100;&#1085;&#1086;&#1081;" TargetMode="External"/><Relationship Id="rId6" Type="http://schemas.openxmlformats.org/officeDocument/2006/relationships/hyperlink" Target="http://ru.wikipedia.org/wiki/&#1055;&#1088;&#1086;&#1092;&#1080;&#1083;&#1072;&#1082;&#1090;&#1080;&#1082;&#1072;_(&#1084;&#1077;&#1076;&#1080;&#1094;&#1080;&#1085;&#1072;)" TargetMode="External"/><Relationship Id="rId7" Type="http://schemas.openxmlformats.org/officeDocument/2006/relationships/hyperlink" Target="http://ru.wikipedia.org/wiki/&#1044;&#1080;&#1072;&#1075;&#1085;&#1086;&#1089;&#1090;&#1080;&#1082;&#1072;" TargetMode="External"/><Relationship Id="rId8" Type="http://schemas.openxmlformats.org/officeDocument/2006/relationships/hyperlink" Target="http://ru.wikipedia.org/wiki/&#1051;&#1077;&#1095;&#1077;&#1085;&#1080;&#1077;" TargetMode="External"/><Relationship Id="rId9" Type="http://schemas.openxmlformats.org/officeDocument/2006/relationships/hyperlink" Target="http://ru.wikipedia.org/wiki/&#1047;&#1072;&#1073;&#1086;&#1083;&#1077;&#1074;&#1072;&#1085;&#1080;&#1077;" TargetMode="External"/><Relationship Id="rId10" Type="http://schemas.openxmlformats.org/officeDocument/2006/relationships/hyperlink" Target="http://ru.wikipedia.org/wiki/&#1058;&#1088;&#1072;&#1074;&#1084;&#1072;" TargetMode="External"/><Relationship Id="rId11" Type="http://schemas.openxmlformats.org/officeDocument/2006/relationships/slide" Target="../slides/slide10.xml"/><Relationship Id="rId1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71;&#1075;&#1086;&#1076;&#1085;&#1099;&#1077;_&#1082;&#1091;&#1083;&#1100;&#1090;&#1091;&#1088;&#1099;&amp;action=edit&amp;redlink=1" TargetMode="External"/><Relationship Id="rId2" Type="http://schemas.openxmlformats.org/officeDocument/2006/relationships/hyperlink" Target="http://ru.wikipedia.org/wiki/&#1044;&#1077;&#1082;&#1086;&#1088;&#1072;&#1090;&#1080;&#1074;&#1085;&#1099;&#1077;_&#1088;&#1072;&#1089;&#1090;&#1077;&#1085;&#1080;&#1103;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76;" TargetMode="External"/><Relationship Id="rId2" Type="http://schemas.openxmlformats.org/officeDocument/2006/relationships/hyperlink" Target="http://ru.wikipedia.org/wiki/&#1054;&#1075;&#1086;&#1088;&#1086;&#1076;" TargetMode="External"/><Relationship Id="rId3" Type="http://schemas.openxmlformats.org/officeDocument/2006/relationships/hyperlink" Target="http://ru.wikipedia.org/wiki/&#1057;&#1077;&#1083;&#1100;&#1089;&#1082;&#1086;&#1077;_&#1093;&#1086;&#1079;&#1103;&#1081;&#1089;&#1090;&#1074;&#1086;" TargetMode="External"/><Relationship Id="rId4" Type="http://schemas.openxmlformats.org/officeDocument/2006/relationships/hyperlink" Target="http://ru.wikipedia.org/wiki/&#1051;&#1072;&#1085;&#1076;&#1096;&#1072;&#1092;&#1090;" TargetMode="External"/><Relationship Id="rId5" Type="http://schemas.openxmlformats.org/officeDocument/2006/relationships/hyperlink" Target="http://ru.wikipedia.org/wiki/&#1044;&#1080;&#1079;&#1072;&#1081;&#1085;" TargetMode="External"/><Relationship Id="rId6" Type="http://schemas.openxmlformats.org/officeDocument/2006/relationships/hyperlink" Target="http://ru.wikipedia.org/wiki/&#1044;&#1080;&#1089;&#1094;&#1080;&#1087;&#1083;&#1080;&#1085;&#1072;" TargetMode="External"/><Relationship Id="rId7" Type="http://schemas.openxmlformats.org/officeDocument/2006/relationships/hyperlink" Target="http://ru.wikipedia.org/wiki/&#1043;&#1072;&#1088;&#1084;&#1086;&#1085;&#1080;&#1103;" TargetMode="External"/><Relationship Id="rId8" Type="http://schemas.openxmlformats.org/officeDocument/2006/relationships/hyperlink" Target="http://ru.wikipedia.org/wiki/&#1050;&#1088;&#1072;&#1089;&#1086;&#1090;&#1072;" TargetMode="External"/><Relationship Id="rId9" Type="http://schemas.openxmlformats.org/officeDocument/2006/relationships/hyperlink" Target="http://ru.wikipedia.org/wiki/&#1048;&#1085;&#1092;&#1088;&#1072;&#1089;&#1090;&#1088;&#1091;&#1082;&#1090;&#1091;&#1088;&#1072;" TargetMode="External"/><Relationship Id="rId10" Type="http://schemas.openxmlformats.org/officeDocument/2006/relationships/hyperlink" Target="http://ru.wikipedia.org/wiki/&#1050;&#1086;&#1085;&#1092;&#1083;&#1080;&#1082;&#1090;" TargetMode="External"/><Relationship Id="rId11" Type="http://schemas.openxmlformats.org/officeDocument/2006/relationships/hyperlink" Target="http://ru.wikipedia.org/wiki/&#1059;&#1088;&#1073;&#1072;&#1085;&#1080;&#1079;&#1072;&#1094;&#1080;&#1103;" TargetMode="External"/><Relationship Id="rId12" Type="http://schemas.openxmlformats.org/officeDocument/2006/relationships/hyperlink" Target="http://ru.wikipedia.org/wiki/&#1055;&#1088;&#1080;&#1088;&#1086;&#1076;&#1072;" TargetMode="External"/><Relationship Id="rId13" Type="http://schemas.openxmlformats.org/officeDocument/2006/relationships/slide" Target="../slides/slide3.xml"/><Relationship Id="rId1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4;&#1086;&#1090;&#1085;&#1099;&#1077;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грон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пециалис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ельско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высшим образованием, обладающий всесторонними знаниями в област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гроном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Его задачи – это Проведение научных исследований в област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гроном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Изучение и внедрение передовых методов возделывани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олев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садов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огород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11F6-D085-49E7-AECB-5D1A36B7E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ач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пециали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законченны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высшим образова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бласт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едиц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нимающийс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еч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бо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обязанности врача также входит — предотвращение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рофилак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распознание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диагнос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а такж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ле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заболе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трав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рач, занимаясь медицинской деятельностью — руководствуется врачебной этикой, которая включает и понятие о врачебном долге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онт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Работая, врач обязан сохраня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рачебную тай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й профессиональной клятвой врача стал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ятва Гиппокра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016A-D333-440B-8DF7-0F6C51DA6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рмацевт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т  проблемы создания, безопасности, исследования, хранения, изготовления, отпус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екарственных средст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ищут природные источники лекарственных субста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18AD-3A5B-44D9-8853-9E3B44A62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дов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возделывает многолетние плодовые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ягодные культу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ы (плодоводство); выращивае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декоративные раст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екоративное садоводство). Садовник занимается почти тем же, чем и цветовод, однако его подопечные — не только цветы, но и деревья с кустарниками. С весны по осень работы у садовника хоть отбавляй. Опыление и опрыскивание, подкормка и полив, утепление на зиму и обычная стрижка газона — все это его обяза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8315-FB92-4CF9-BAD4-65A2F9A3B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ндшафтный дизайн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это человек, который озеленяет, благоустраивает, организует садово-парковые насаждения, газоны, . В отличие 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адо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огороднич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сновная задача ландшафтных дизайнеров имее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ельскохозяйствен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правленность 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андшафт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дизай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— более общая и универсальна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дисципл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Главная задача ландшафтного дизайна — созда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гармо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рас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четании с удобствами использовани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инфраструк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даний, сглажива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конфлик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урбанизационы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формами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природ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частую от них страд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D316-A0CC-444A-AC93-9E0B99088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Зо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человек , который изучает  представителей царства Animalia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иво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видности зоолог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хтиолог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т и описывает строение, эволюционное развитие, формы жизнедеятельности и особенности размножения рыб. Работа ихтиолога имеет не только научное, но и практическое значение. На основе проводимых исследований разрабатываются методы рационального рыболовства, рыбоводства и рыбоохра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нитолог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биолог, изучающий птиц. Он наблюдает за их поведением в условиях живой природы, мегаполиса и в неволе. Отслеживает сезонные миграции. Занимается научно-исследовательской рабо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еано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ют воды океанов и морей. Они исследуют их состав, свойства и строение. Отслеживают физические, химические и биологические процессы, происходящие в морях и оке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F2B5-F8A9-416E-B4E8-0A0C11810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136B-9F9B-4908-B714-D67F71DE8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8815-49D4-4884-B6DD-E1C70E0BF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ет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человек, изучающий наследственность и изменчивость — свойства, присущие всем живым организмам. Бесконечное разнообразие видов растений, животных и микроорганизмов поддерживается тем, что каждый вид сохраняет в ряду поколений характерные для него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43DA-5DF7-4B97-8EFD-E690691F3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6BF3-48FC-4D64-A1AA-3983A9D3E3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9ADF-C734-4363-8CA6-816B6124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81C-2C55-47C2-89FA-1321F110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B8D-5E24-4CA3-AFB6-5B809CC3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D6F-B1F5-4BC7-B767-19F03C9D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691-C97A-4E0F-9399-04A01A15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CAE-2EE0-4667-AF93-0D1B8719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7D6-2BF2-4436-812C-527DD509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382-8C7F-4BA3-83E1-06A2165A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303-B431-4B2B-A6F9-CAB52F73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E09-C4D0-43EE-8761-84A3BCC5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61E-251F-4471-A75F-EE89830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D91-F0F7-413F-A4DA-9E493215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8448-E15B-42DD-854C-227FB74D550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http://album.foto.ru:8080/photos/pr0/129873/5557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hyperlink" Target="http://ashavan.narod.ru/rariteti/skelet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plenia.ru/images/Image/doctor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hyperlink" Target="http://img-2006-02.photosight.ru/02/1255887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http://www.gardener.ru/gallery/2005/vls/16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log.weddingidea.ru/Vorontcovsky%20Park/IMG_417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i036.radikal.ru/0805/9c/90cc3ed3d6a7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hyperlink" Target="http://oxotastryj.webpromote.ru/foto/oxotastryj/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hyperlink" Target="http://www.aversvet.ru/images/therapy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ethics.narod.ru/images/3617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sj.ru/img_out/image/hsj_31/CAT/C0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hyperlink" Target="http://www.kid2.info/wp-content/uploads/povar.jpg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www.europakx.ru/products_pictures/_katMasLG_.jpg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929628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грон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882800"/>
            <a:ext cx="43290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Группа 9"/>
          <p:cNvGrpSpPr/>
          <p:nvPr/>
        </p:nvGrpSpPr>
        <p:grpSpPr>
          <a:xfrm>
            <a:off x="4714920" y="1643040"/>
            <a:ext cx="4214880" cy="3873600"/>
            <a:chOff x="4714920" y="1643040"/>
            <a:chExt cx="4214880" cy="3873600"/>
          </a:xfrm>
        </p:grpSpPr>
        <p:pic>
          <p:nvPicPr>
            <p:cNvPr id="51" name="Picture 10" descr="Картинка 79 из 2815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714920" y="1643040"/>
              <a:ext cx="4214880" cy="3353400"/>
            </a:xfrm>
            <a:prstGeom prst="rect">
              <a:avLst/>
            </a:prstGeom>
            <a:ln w="31680">
              <a:solidFill>
                <a:srgbClr val="4f81bd"/>
              </a:solidFill>
              <a:miter/>
            </a:ln>
          </p:spPr>
        </p:pic>
        <p:sp>
          <p:nvSpPr>
            <p:cNvPr id="52" name="TextBox 6"/>
            <p:cNvSpPr/>
            <p:nvPr/>
          </p:nvSpPr>
          <p:spPr>
            <a:xfrm>
              <a:off x="5695200" y="5147640"/>
              <a:ext cx="23526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2"/>
          <p:cNvSpPr/>
          <p:nvPr/>
        </p:nvSpPr>
        <p:spPr>
          <a:xfrm>
            <a:off x="357120" y="1714680"/>
            <a:ext cx="4214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он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пециалист сельского  хозяйства с высшим образованием, обладающий всесторонними знаниями в области агроно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рач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3840" y="1882800"/>
            <a:ext cx="428652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пециалист с законченным высшим образованием в области медицины, занимающийся лечением больны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Группа 16"/>
          <p:cNvGrpSpPr/>
          <p:nvPr/>
        </p:nvGrpSpPr>
        <p:grpSpPr>
          <a:xfrm>
            <a:off x="4643280" y="1857240"/>
            <a:ext cx="4357800" cy="4681800"/>
            <a:chOff x="4643280" y="1857240"/>
            <a:chExt cx="4357800" cy="4681800"/>
          </a:xfrm>
        </p:grpSpPr>
        <p:grpSp>
          <p:nvGrpSpPr>
            <p:cNvPr id="92" name="Группа 7"/>
            <p:cNvGrpSpPr/>
            <p:nvPr/>
          </p:nvGrpSpPr>
          <p:grpSpPr>
            <a:xfrm>
              <a:off x="4643280" y="1857240"/>
              <a:ext cx="4357800" cy="4312440"/>
              <a:chOff x="4643280" y="1857240"/>
              <a:chExt cx="4357800" cy="4312440"/>
            </a:xfrm>
          </p:grpSpPr>
          <p:pic>
            <p:nvPicPr>
              <p:cNvPr id="93" name="Picture 16" descr="&amp;Kcy;&amp;acy;&amp;rcy;&amp;tcy;&amp;icy;&amp;ncy;&amp;kcy;&amp;acy; 20 &amp;icy;&amp;zcy; 905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6886440" y="1857240"/>
                <a:ext cx="2114640" cy="4312440"/>
              </a:xfrm>
              <a:prstGeom prst="rect">
                <a:avLst/>
              </a:prstGeom>
              <a:ln w="31680">
                <a:solidFill>
                  <a:srgbClr val="4f81bd"/>
                </a:solidFill>
                <a:miter/>
              </a:ln>
            </p:spPr>
          </p:pic>
          <p:pic>
            <p:nvPicPr>
              <p:cNvPr id="94" name="Picture 8" descr="Картинка 71 из 116732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643280" y="1857240"/>
                <a:ext cx="2233080" cy="4271040"/>
              </a:xfrm>
              <a:prstGeom prst="rect">
                <a:avLst/>
              </a:prstGeom>
              <a:ln w="31680">
                <a:solidFill>
                  <a:srgbClr val="4f81bd"/>
                </a:solidFill>
                <a:miter/>
              </a:ln>
            </p:spPr>
          </p:pic>
        </p:grpSp>
        <p:sp>
          <p:nvSpPr>
            <p:cNvPr id="95" name="TextBox 10"/>
            <p:cNvSpPr/>
            <p:nvPr/>
          </p:nvSpPr>
          <p:spPr>
            <a:xfrm>
              <a:off x="5355000" y="6169680"/>
              <a:ext cx="2967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Фармацев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882800"/>
            <a:ext cx="454356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ют  проблемы создания, безопасности, исследования, хранения, изготовления, отпуска лекарственных средст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Картинка 1 из 146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22920" y="1714680"/>
            <a:ext cx="410688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5520" y="213840"/>
            <a:ext cx="47149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49cdc"/>
                </a:solidFill>
                <a:latin typeface="Arial"/>
                <a:ea typeface="Arial"/>
              </a:rPr>
              <a:t>ХИМИК-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2300" spc="-1" strike="noStrike">
                <a:solidFill>
                  <a:srgbClr val="1e1c11"/>
                </a:solidFill>
                <a:latin typeface="Arial"/>
                <a:ea typeface="Arial"/>
              </a:rPr>
              <a:t> СПЕЦИАЛИСТ, ПОЛУЧИВШИЙ ОБРАЗОВАНИЕ И СПЕЦИАЛИЗИРУЮЩИЙСЯ НА ИЗУЧЕНИИ ХИМИИ КАК НАУКИ, А ТАКЖЕ ОБЛАДАЮЩИЙ НАВЫКАМИ РАБОТЫ С ХИМИКАТАМИ. ХИМИКИ ИЗУЧАЮТ СОСТАВ МАТЕРИИ И ЕЁ СВОЙСТВА. ХИМИКИ ТЩАТЕЛЬНО ОПРЕДЕЛЯЮТ ПРОПОРЦИИ ВЕЩЕСТВА, РЕАКЦИЮ СРЕДЫ И ДРУГИЕ ХИМИЧЕСКИЕ СВОЙСТВ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Администратор\Desktop\scientist.jpg"/>
          <p:cNvPicPr/>
          <p:nvPr/>
        </p:nvPicPr>
        <p:blipFill>
          <a:blip r:embed="rId1"/>
          <a:stretch/>
        </p:blipFill>
        <p:spPr>
          <a:xfrm>
            <a:off x="5986440" y="444600"/>
            <a:ext cx="2992320" cy="367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Администратор\Desktop\c0214e8aa387e47ae3d5c7a1f05dcfc6_600.jpg"/>
          <p:cNvPicPr/>
          <p:nvPr/>
        </p:nvPicPr>
        <p:blipFill>
          <a:blip r:embed="rId2"/>
          <a:stretch/>
        </p:blipFill>
        <p:spPr>
          <a:xfrm>
            <a:off x="6156360" y="3797280"/>
            <a:ext cx="2682720" cy="2779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4" descr="Different_minerals.jpg"/>
          <p:cNvPicPr/>
          <p:nvPr/>
        </p:nvPicPr>
        <p:blipFill>
          <a:blip r:embed="rId1"/>
          <a:stretch/>
        </p:blipFill>
        <p:spPr>
          <a:xfrm>
            <a:off x="3621240" y="1176480"/>
            <a:ext cx="5019480" cy="40478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5480" y="428760"/>
            <a:ext cx="324468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1c11"/>
                </a:solidFill>
                <a:latin typeface="Arial Narrow"/>
              </a:rPr>
              <a:t>Геоло́г - изучает состав, строение и закономерности развития Земли, других планет Солнечной системы и их естественных спут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1c11"/>
                </a:solidFill>
                <a:latin typeface="Arial Narrow"/>
              </a:rPr>
              <a:t>Геохимик — изучает химический состав Земли и планет,  распределения и движения элементов и изотопов в различных геологических сред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4" descr="7780-42-22290666.jpg"/>
          <p:cNvPicPr/>
          <p:nvPr/>
        </p:nvPicPr>
        <p:blipFill>
          <a:blip r:embed="rId1"/>
          <a:stretch/>
        </p:blipFill>
        <p:spPr>
          <a:xfrm>
            <a:off x="744480" y="1268280"/>
            <a:ext cx="4762440" cy="3633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867280" y="1125000"/>
            <a:ext cx="289872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1c11"/>
                </a:solidFill>
                <a:latin typeface="Calibri"/>
              </a:rPr>
              <a:t>Эколог- занимается исследованием допустимости и критичности ситуаций, связанных с нерациональными и опасными способами вмешательства в естественную природную сред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1c11"/>
                </a:solidFill>
                <a:latin typeface="Calibri"/>
              </a:rPr>
              <a:t>Профессиональные навыки: -умение ориентироваться в воспросах физики, химии, биологии и смежных с ними наук</a:t>
            </a:r>
            <a:r>
              <a:rPr b="0" lang="ru-RU" sz="1400" spc="-1" strike="noStrike">
                <a:solidFill>
                  <a:srgbClr val="1e1c11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49cdc"/>
                </a:solidFill>
                <a:latin typeface="Calibri"/>
              </a:rPr>
              <a:t>ИНЖЕНЕР ХИМИЧЕСКОГО ПРОИЗВОД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9250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женер-химик-техноло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Администратор\Desktop\1316265803_200111898-001.jpg"/>
          <p:cNvPicPr/>
          <p:nvPr/>
        </p:nvPicPr>
        <p:blipFill>
          <a:blip r:embed="rId1"/>
          <a:stretch/>
        </p:blipFill>
        <p:spPr>
          <a:xfrm>
            <a:off x="396720" y="2657520"/>
            <a:ext cx="3065760" cy="40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Администратор\Desktop\b-506050.jpg"/>
          <p:cNvPicPr/>
          <p:nvPr/>
        </p:nvPicPr>
        <p:blipFill>
          <a:blip r:embed="rId2"/>
          <a:stretch/>
        </p:blipFill>
        <p:spPr>
          <a:xfrm>
            <a:off x="5003640" y="2708280"/>
            <a:ext cx="324036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4" descr="1298882876_samsonyuk-mixail-apparatchik-1.jpg"/>
          <p:cNvPicPr/>
          <p:nvPr/>
        </p:nvPicPr>
        <p:blipFill>
          <a:blip r:embed="rId1"/>
          <a:stretch/>
        </p:blipFill>
        <p:spPr>
          <a:xfrm>
            <a:off x="457200" y="1041480"/>
            <a:ext cx="5410080" cy="45464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84720" y="1052280"/>
            <a:ext cx="268128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Аппаратчик  химическ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Профессия аппаратчика - одна из самых распространенных на химическом производстве. Аппаратчик осуществляет управление химическим процессом, происходящим в технологической установке. Он анализирует показания дистанционных контрольно-измерительных приборов и результаты проб продукта, проводимых химической лаборатор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8" descr="869925dd7ced3a61b4026f62c9c06683.jpg"/>
          <p:cNvPicPr/>
          <p:nvPr/>
        </p:nvPicPr>
        <p:blipFill>
          <a:blip r:embed="rId1"/>
          <a:stretch/>
        </p:blipFill>
        <p:spPr>
          <a:xfrm>
            <a:off x="428760" y="571680"/>
            <a:ext cx="4572000" cy="3821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292720" y="980640"/>
            <a:ext cx="3402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c11"/>
                </a:solidFill>
                <a:latin typeface="Calibri"/>
              </a:rPr>
              <a:t>Лаборант  химического анали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Цель лаборанта химического анализа – получение информации о химическом составе или химических свойствах тех или иных образцов жидкостей, газов, паров и твердых веществ. Информация такого вида чрезвычайно ценна. Благодаря этим данным осуществляют контроль качества сырья и готовой продукции в разных отраслях промышленности, проводят всевозможные научные эксперименты, выясняют степень загрязнения окружающей среды, определяют объем и состав удобрений, необходимых для подкормки почвы и т.д. Любое изделие и продукт в процессе производства в той или иной степени сталкивается с процедурой хи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MPj04067560000[1]"/>
          <p:cNvPicPr/>
          <p:nvPr/>
        </p:nvPicPr>
        <p:blipFill>
          <a:blip r:embed="rId1"/>
          <a:stretch/>
        </p:blipFill>
        <p:spPr>
          <a:xfrm>
            <a:off x="539640" y="476280"/>
            <a:ext cx="5040360" cy="5562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03516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c11"/>
                </a:solidFill>
                <a:latin typeface="Calibri"/>
              </a:rPr>
              <a:t>Провиз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c11"/>
                </a:solidFill>
                <a:latin typeface="Calibri"/>
              </a:rPr>
              <a:t>Специалист с высшим фармацевтическим образованием, работающий в сфере производства, хранения, продажи лекарственных препар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4" descr=""/>
          <p:cNvPicPr/>
          <p:nvPr/>
        </p:nvPicPr>
        <p:blipFill>
          <a:blip r:embed="rId1"/>
          <a:stretch/>
        </p:blipFill>
        <p:spPr>
          <a:xfrm>
            <a:off x="0" y="357120"/>
            <a:ext cx="6245280" cy="5713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00480" y="285840"/>
            <a:ext cx="2786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e1c11"/>
                </a:solidFill>
                <a:uFillTx/>
                <a:latin typeface="Calibri"/>
              </a:rPr>
              <a:t>Социологический опро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1c11"/>
                </a:solidFill>
                <a:latin typeface="Calibri"/>
              </a:rPr>
              <a:t>Назови самые престижные специальности среди перечисленных: химик, геолог, эколог , инженер химик-технолог, аппаратчик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1c11"/>
                </a:solidFill>
                <a:latin typeface="Calibri"/>
              </a:rPr>
              <a:t>лаборант, провизо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адов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920" y="1571400"/>
            <a:ext cx="48578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ов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человек, который возделывает многолетние плодовые или ягодные культуры, выращивает декоративные растения (декоративное садоводство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Группа 10"/>
          <p:cNvGrpSpPr/>
          <p:nvPr/>
        </p:nvGrpSpPr>
        <p:grpSpPr>
          <a:xfrm>
            <a:off x="4929120" y="1571760"/>
            <a:ext cx="4071960" cy="4468680"/>
            <a:chOff x="4929120" y="1571760"/>
            <a:chExt cx="4071960" cy="4468680"/>
          </a:xfrm>
        </p:grpSpPr>
        <p:pic>
          <p:nvPicPr>
            <p:cNvPr id="57" name="Picture 2" descr="Картинка 17 из 942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929120" y="1571760"/>
              <a:ext cx="4071960" cy="4031640"/>
            </a:xfrm>
            <a:prstGeom prst="rect">
              <a:avLst/>
            </a:prstGeom>
            <a:ln w="31680">
              <a:solidFill>
                <a:srgbClr val="4f81bd"/>
              </a:solidFill>
              <a:miter/>
            </a:ln>
          </p:spPr>
        </p:pic>
        <p:sp>
          <p:nvSpPr>
            <p:cNvPr id="58" name="TextBox 7"/>
            <p:cNvSpPr/>
            <p:nvPr/>
          </p:nvSpPr>
          <p:spPr>
            <a:xfrm>
              <a:off x="5893560" y="5671440"/>
              <a:ext cx="26791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971532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49cdc"/>
                </a:solidFill>
                <a:uFillTx/>
                <a:latin typeface="Calibri"/>
              </a:rPr>
              <a:t>Ландшафтный дизайне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6760" y="1643040"/>
            <a:ext cx="4357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дшафтный дизайн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это человек, который озеленяет, благоустраивает, организует садово-парковые насаждения, газ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Группа 11"/>
          <p:cNvGrpSpPr/>
          <p:nvPr/>
        </p:nvGrpSpPr>
        <p:grpSpPr>
          <a:xfrm>
            <a:off x="4929120" y="1500120"/>
            <a:ext cx="3819600" cy="4730760"/>
            <a:chOff x="4929120" y="1500120"/>
            <a:chExt cx="3819600" cy="4730760"/>
          </a:xfrm>
        </p:grpSpPr>
        <p:pic>
          <p:nvPicPr>
            <p:cNvPr id="62" name="Picture 8" descr="Картинка 3 из 1493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929120" y="1500120"/>
              <a:ext cx="3406680" cy="4235400"/>
            </a:xfrm>
            <a:prstGeom prst="rect">
              <a:avLst/>
            </a:prstGeom>
            <a:ln w="31680">
              <a:solidFill>
                <a:srgbClr val="4f81bd"/>
              </a:solidFill>
              <a:miter/>
            </a:ln>
          </p:spPr>
        </p:pic>
        <p:sp>
          <p:nvSpPr>
            <p:cNvPr id="63" name="TextBox 8"/>
            <p:cNvSpPr/>
            <p:nvPr/>
          </p:nvSpPr>
          <p:spPr>
            <a:xfrm>
              <a:off x="5135400" y="5861880"/>
              <a:ext cx="36133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ооло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1428480"/>
            <a:ext cx="564372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оло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человек , который изучает  представителей царства Animalia (животны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Картинка 108 из 22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2643120"/>
            <a:ext cx="4071960" cy="3789360"/>
          </a:xfrm>
          <a:prstGeom prst="rect">
            <a:avLst/>
          </a:prstGeom>
          <a:ln w="31680">
            <a:solidFill>
              <a:srgbClr val="4f81bd"/>
            </a:solidFill>
            <a:miter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Егер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4200" y="1882440"/>
            <a:ext cx="450072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едставитель лёгкой пехоты или работник лесного хозяй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Картинка 5 из 34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857240"/>
            <a:ext cx="4243320" cy="329256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етерина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882800"/>
            <a:ext cx="3900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ина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я медицинская специальность, подразумевающая медицину не человека, а живот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Группа 11"/>
          <p:cNvGrpSpPr/>
          <p:nvPr/>
        </p:nvGrpSpPr>
        <p:grpSpPr>
          <a:xfrm>
            <a:off x="4286160" y="1643040"/>
            <a:ext cx="4643640" cy="4119480"/>
            <a:chOff x="4286160" y="1643040"/>
            <a:chExt cx="4643640" cy="4119480"/>
          </a:xfrm>
        </p:grpSpPr>
        <p:pic>
          <p:nvPicPr>
            <p:cNvPr id="73" name="Picture 4" descr="Картинка 1 из 14444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286160" y="1643040"/>
              <a:ext cx="4643640" cy="3643200"/>
            </a:xfrm>
            <a:prstGeom prst="rect">
              <a:avLst/>
            </a:prstGeom>
            <a:ln w="31680">
              <a:solidFill>
                <a:srgbClr val="4f81bd"/>
              </a:solidFill>
              <a:miter/>
            </a:ln>
          </p:spPr>
        </p:pic>
        <p:sp>
          <p:nvSpPr>
            <p:cNvPr id="74" name="TextBox 8"/>
            <p:cNvSpPr/>
            <p:nvPr/>
          </p:nvSpPr>
          <p:spPr>
            <a:xfrm>
              <a:off x="5350320" y="5393520"/>
              <a:ext cx="319248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Генет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28480" y="1882800"/>
            <a:ext cx="4615200" cy="32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нети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это человек, изучающий наследственность и изменчивость — свойства, присущие всем живым организма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Картинка 2 из 56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29160" y="1500120"/>
            <a:ext cx="3100320" cy="4807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6143760" y="6286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.И. Вав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713880"/>
            <a:ext cx="96012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749cdc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6760" y="1643040"/>
            <a:ext cx="3900600" cy="26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d99694"/>
                </a:solidFill>
                <a:uFillTx/>
                <a:latin typeface="Times New Roman"/>
                <a:ea typeface="Times New Roman"/>
              </a:rPr>
              <a:t>Селекционер </a:t>
            </a:r>
            <a:r>
              <a:rPr b="1" lang="ru-RU" sz="30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-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 в области селекции, создает новые  породы животных, сорта  растен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Картинка 492 из 20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2428920"/>
            <a:ext cx="4992480" cy="4000320"/>
          </a:xfrm>
          <a:prstGeom prst="rect">
            <a:avLst/>
          </a:prstGeom>
          <a:ln w="31680">
            <a:solidFill>
              <a:srgbClr val="4f81bd"/>
            </a:solidFill>
            <a:miter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ова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6760" y="1882440"/>
            <a:ext cx="400068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человек, профессией которого является приготовление пищи на предприятиях общественного пи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Группа 13"/>
          <p:cNvGrpSpPr/>
          <p:nvPr/>
        </p:nvGrpSpPr>
        <p:grpSpPr>
          <a:xfrm>
            <a:off x="4500720" y="2000160"/>
            <a:ext cx="4349520" cy="3780000"/>
            <a:chOff x="4500720" y="2000160"/>
            <a:chExt cx="4349520" cy="3780000"/>
          </a:xfrm>
        </p:grpSpPr>
        <p:grpSp>
          <p:nvGrpSpPr>
            <p:cNvPr id="85" name="Группа 12"/>
            <p:cNvGrpSpPr/>
            <p:nvPr/>
          </p:nvGrpSpPr>
          <p:grpSpPr>
            <a:xfrm>
              <a:off x="4500720" y="2000160"/>
              <a:ext cx="4349520" cy="3508560"/>
              <a:chOff x="4500720" y="2000160"/>
              <a:chExt cx="4349520" cy="3508560"/>
            </a:xfrm>
          </p:grpSpPr>
          <p:pic>
            <p:nvPicPr>
              <p:cNvPr id="86" name="Picture 10" descr="Картинка 22 из 270688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4500720" y="2000160"/>
                <a:ext cx="2294640" cy="350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10" descr="http://www.europakx.ru/products_pictures/_katMasLG_.jpg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6625800" y="2000160"/>
                <a:ext cx="2224440" cy="350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TextBox 12"/>
            <p:cNvSpPr/>
            <p:nvPr/>
          </p:nvSpPr>
          <p:spPr>
            <a:xfrm>
              <a:off x="5415120" y="5410800"/>
              <a:ext cx="18288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5:32:22Z</dcterms:created>
  <dc:creator>GYPNORION</dc:creator>
  <dc:description/>
  <dc:language>en-US</dc:language>
  <cp:lastModifiedBy>School</cp:lastModifiedBy>
  <dcterms:modified xsi:type="dcterms:W3CDTF">2015-04-13T15:50:27Z</dcterms:modified>
  <cp:revision>31</cp:revision>
  <dc:subject/>
  <dc:title>Химия в профессиях</dc:title>
</cp:coreProperties>
</file>