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BC58-39F1-448F-94B1-FB7961E9B7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797B-51DE-402A-9C2A-2AB9541880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8CBC-2A27-45DA-A035-8094482CAF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916F-0994-4A26-A45B-7CADB521FE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E4FE-CC13-439A-A4CC-0C32D37B48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9646-B172-4530-91E6-6D7BD2003C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DFBC-6A96-4E6C-896F-223FCB27B7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62BC-D81F-40F2-82AF-B4CC9B9077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FA8-B0DC-4D09-A837-6EB48234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1FD-AC4A-4344-A197-3F890C7A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69F-74C6-4219-A42C-F2045AD4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F64-0292-4374-A517-51A4802F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40F5-E9CE-4C36-A890-F672D0FC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E3A-33F5-467E-A411-21E441A8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18A-8F3A-4EC9-A19C-59D2DC15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C1C8-F703-4E6B-8D0A-3501ACBD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70E-D5F7-408F-88CE-6AFAC725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AE1-953E-4BCE-8EB1-C5721EDE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D7C-85DA-4AD0-AE5D-0CE00EAE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F4B-59E3-4129-B044-DD078F8C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2237-3F4D-4A04-8CA3-09693830F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920" y="249228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Tahoma"/>
                <a:ea typeface="Tahoma"/>
              </a:rPr>
              <a:t> </a:t>
            </a:r>
            <a:r>
              <a:rPr b="1" lang="ru-RU" sz="4400" spc="-1" strike="noStrike">
                <a:solidFill>
                  <a:srgbClr val="92d050"/>
                </a:solidFill>
                <a:latin typeface="Tahoma"/>
                <a:ea typeface="Tahoma"/>
              </a:rPr>
              <a:t>мастер-клас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48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РИМЕНЕНИЕ КЕЙС-ТЕХНОЛОГИЙ НА УРОКАХ ОБЩЕСТВОЗНАНИЯ КАК СРЕДСТВО РЕАЛИЗАЦИИ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1951200" y="5373720"/>
            <a:ext cx="578952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Бабошин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Учитель обществ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МКОУ «Кизлярская гимназия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Республики Дагест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Tahoma"/>
                <a:ea typeface="Tahoma"/>
              </a:rPr>
              <a:t>Хотите, чтобы ваши де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557000"/>
            <a:ext cx="856944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- не ожидали готовых знаний, а сами их вырабатыв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- чтобы ученики не просто слушали, а слышали друг друга и учител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- чтобы соотносили теорию с реальной жизнь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- могли формулировать вопрос и аргументировать от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- делать собственные выводы и отстаивать своё мн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ahoma"/>
                <a:ea typeface="Tahoma"/>
              </a:rPr>
              <a:t>Значит, этот метод для в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0" y="2133360"/>
            <a:ext cx="89647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3348000" y="3371760"/>
            <a:ext cx="2952720" cy="27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903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  <a:ea typeface="Tahoma"/>
              </a:rPr>
              <a:t>ВОПРОСЫ МАСТЕР-КЛА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1. Что представляет собой  кейс-технолог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2.Разновидности кейс-технологий, соответствующие разным целям 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3. В чем специфика   разработки кейсов для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4. Каковы особенности применения данного метода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5. Какие учебные задачи решаются при использовании кейс-технологий в учебном процесс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5148360" y="4960800"/>
            <a:ext cx="22320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35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Tahoma"/>
              </a:rPr>
              <a:t>1.Сущность кейс-технолог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1867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ahoma"/>
                <a:ea typeface="Tahoma"/>
              </a:rPr>
              <a:t>Кейс-технология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– это интерактивная технология для краткосрочного обучения , на основе реальных или вымышленных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Главное её предназначение – развивать способность разрабатывать проблемы и находить их решение, учиться работать с информ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  <a:ea typeface="Tahoma"/>
              </a:rPr>
              <a:t>При  этом акцент делается не на получение готовых знаний, а на их выработку, на сотворчество учителя и учени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92d050"/>
                </a:solidFill>
                <a:latin typeface="Tahoma"/>
                <a:ea typeface="Tahoma"/>
              </a:rPr>
              <a:t>ОБУЧЕНИЕ ДЕЙСТВ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Прямоугольник 2"/>
          <p:cNvGrpSpPr/>
          <p:nvPr/>
        </p:nvGrpSpPr>
        <p:grpSpPr>
          <a:xfrm>
            <a:off x="755640" y="-60480"/>
            <a:ext cx="7918560" cy="1864080"/>
            <a:chOff x="755640" y="-60480"/>
            <a:chExt cx="7918560" cy="1864080"/>
          </a:xfrm>
        </p:grpSpPr>
        <p:pic>
          <p:nvPicPr>
            <p:cNvPr id="5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755640" y="-60480"/>
              <a:ext cx="791856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820800" y="3240"/>
              <a:ext cx="7788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2.Разновидности кейс-технологий, соответствующие разным целям  обучения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Овал 4" descr=""/>
          <p:cNvPicPr/>
          <p:nvPr/>
        </p:nvPicPr>
        <p:blipFill>
          <a:blip r:embed="rId2"/>
          <a:stretch/>
        </p:blipFill>
        <p:spPr>
          <a:xfrm>
            <a:off x="274680" y="1560600"/>
            <a:ext cx="2809800" cy="2023920"/>
          </a:xfrm>
          <a:prstGeom prst="rect">
            <a:avLst/>
          </a:prstGeom>
          <a:ln w="0">
            <a:noFill/>
          </a:ln>
        </p:spPr>
      </p:pic>
      <p:pic>
        <p:nvPicPr>
          <p:cNvPr id="60" name="Овал 5" descr=""/>
          <p:cNvPicPr/>
          <p:nvPr/>
        </p:nvPicPr>
        <p:blipFill>
          <a:blip r:embed="rId3"/>
          <a:stretch/>
        </p:blipFill>
        <p:spPr>
          <a:xfrm>
            <a:off x="201600" y="4133880"/>
            <a:ext cx="2955960" cy="2022480"/>
          </a:xfrm>
          <a:prstGeom prst="rect">
            <a:avLst/>
          </a:prstGeom>
          <a:ln w="0">
            <a:noFill/>
          </a:ln>
        </p:spPr>
      </p:pic>
      <p:pic>
        <p:nvPicPr>
          <p:cNvPr id="61" name="Овал 6" descr=""/>
          <p:cNvPicPr/>
          <p:nvPr/>
        </p:nvPicPr>
        <p:blipFill>
          <a:blip r:embed="rId4"/>
          <a:stretch/>
        </p:blipFill>
        <p:spPr>
          <a:xfrm>
            <a:off x="3346560" y="4133880"/>
            <a:ext cx="2736720" cy="1949400"/>
          </a:xfrm>
          <a:prstGeom prst="rect">
            <a:avLst/>
          </a:prstGeom>
          <a:ln w="0">
            <a:noFill/>
          </a:ln>
        </p:spPr>
      </p:pic>
      <p:pic>
        <p:nvPicPr>
          <p:cNvPr id="62" name="Овал 7" descr=""/>
          <p:cNvPicPr/>
          <p:nvPr/>
        </p:nvPicPr>
        <p:blipFill>
          <a:blip r:embed="rId5"/>
          <a:stretch/>
        </p:blipFill>
        <p:spPr>
          <a:xfrm>
            <a:off x="3273480" y="1560600"/>
            <a:ext cx="2736720" cy="1950840"/>
          </a:xfrm>
          <a:prstGeom prst="rect">
            <a:avLst/>
          </a:prstGeom>
          <a:ln w="0">
            <a:noFill/>
          </a:ln>
        </p:spPr>
      </p:pic>
      <p:pic>
        <p:nvPicPr>
          <p:cNvPr id="63" name="Овал 8" descr=""/>
          <p:cNvPicPr/>
          <p:nvPr/>
        </p:nvPicPr>
        <p:blipFill>
          <a:blip r:embed="rId6"/>
          <a:stretch/>
        </p:blipFill>
        <p:spPr>
          <a:xfrm>
            <a:off x="6205680" y="1633680"/>
            <a:ext cx="2736720" cy="1950840"/>
          </a:xfrm>
          <a:prstGeom prst="rect">
            <a:avLst/>
          </a:prstGeom>
          <a:ln w="0">
            <a:noFill/>
          </a:ln>
        </p:spPr>
      </p:pic>
      <p:pic>
        <p:nvPicPr>
          <p:cNvPr id="64" name="Овал 9" descr=""/>
          <p:cNvPicPr/>
          <p:nvPr/>
        </p:nvPicPr>
        <p:blipFill>
          <a:blip r:embed="rId7"/>
          <a:stretch/>
        </p:blipFill>
        <p:spPr>
          <a:xfrm>
            <a:off x="6132600" y="4133880"/>
            <a:ext cx="2663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92d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соответствовать четко поставленной цели созд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иметь соответствующий категории слушателей уровень труд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-иллюстрировать несколько аспектов предмета или практики в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-  не устаревать слишком быстр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1640" y="1499760"/>
            <a:ext cx="4389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иметь национальную окрас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быть актуальным на сегодняшний д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иллюстрировать типичные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-развивать аналитическое мыш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-провоцировать дискусс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- иметь несколько ре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3. CASE должен удовлетворять следующим требованиям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1476360" y="1916280"/>
            <a:ext cx="7358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                                       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1116000"/>
          <a:ext cx="8964720" cy="5754600"/>
        </p:xfrm>
        <a:graphic>
          <a:graphicData uri="http://schemas.openxmlformats.org/drawingml/2006/table">
            <a:tbl>
              <a:tblPr/>
              <a:tblGrid>
                <a:gridCol w="1547640"/>
                <a:gridCol w="3888000"/>
                <a:gridCol w="35290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Фаза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Действия преподав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Действия школь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До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Подбирает кей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Определяет основные и вспомогательные материа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3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Разрабатывает сценарий занят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6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Получает кейс и список рекомендуемой литерату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6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Самостоятельно готовится к занят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5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Во время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36600">
                        <a:lnSpc>
                          <a:spcPct val="100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36600">
                        <a:lnSpc>
                          <a:spcPct val="100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Организует предварительное обсуждение кейс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36600">
                        <a:lnSpc>
                          <a:spcPct val="100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Делит класс на подгрупп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36600">
                        <a:lnSpc>
                          <a:spcPct val="100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3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Руководит обсуждением кейса в подгруппах, обеспечивая их дополнительными сведени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6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Задаёт вопросы, углубляющие понимание кейса и пробле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6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Разрабатывает варианты реш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6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3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Принимает или участвует в принятии реш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После зан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Оценивает работу школь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Оценивает принятые решения и поставленные вопрос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337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337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2d050"/>
                          </a:solidFill>
                          <a:latin typeface="Tahoma"/>
                          <a:ea typeface="Tahoma"/>
                        </a:rPr>
                        <a:t>1. Составляет письменный отчёт (проект) по данной тем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  <a:ea typeface="Tahoma"/>
              </a:rPr>
              <a:t>4.Особенности применения кейс-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  <a:ea typeface="Tahoma"/>
              </a:rPr>
              <a:t>Стратегии поведения  учителя в ходе работы с кейсом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68000" y="1341000"/>
            <a:ext cx="8621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  <a:ea typeface="Tahoma"/>
              </a:rPr>
              <a:t>1.Учитель будет давать ключи к разгадке в форме дополнительных вопросов или 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  <a:ea typeface="Tahoma"/>
              </a:rPr>
              <a:t>2.В определенных условиях учитель будет сам давать отв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ahoma"/>
                <a:ea typeface="Tahoma"/>
              </a:rPr>
              <a:t>3.Учитель может ничего не делать, (оставаться молчаливым) пока кто-то работает над проблемо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6877080" y="5373720"/>
            <a:ext cx="20509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8" descr=""/>
          <p:cNvPicPr/>
          <p:nvPr/>
        </p:nvPicPr>
        <p:blipFill>
          <a:blip r:embed="rId1"/>
          <a:stretch/>
        </p:blipFill>
        <p:spPr>
          <a:xfrm>
            <a:off x="109440" y="1773360"/>
            <a:ext cx="2657520" cy="4219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  <a:ea typeface="Tahoma"/>
              </a:rPr>
              <a:t>Алгоритм работы с кейс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130320" y="5956200"/>
            <a:ext cx="8856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ahoma"/>
                <a:ea typeface="Tahoma"/>
              </a:rPr>
              <a:t>I ступень</a:t>
            </a:r>
            <a:r>
              <a:rPr b="1" lang="ru-RU" sz="2000" spc="-1" strike="noStrike">
                <a:solidFill>
                  <a:srgbClr val="92d05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- знакомство с содержанием кейса: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сопоставление важных аспектов проблемы,  поиск и оценивание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561960" y="4930920"/>
            <a:ext cx="8424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ahoma"/>
                <a:ea typeface="Tahoma"/>
              </a:rPr>
              <a:t>II ступень</a:t>
            </a:r>
            <a:r>
              <a:rPr b="1" lang="ru-RU" sz="2000" spc="-1" strike="noStrike">
                <a:solidFill>
                  <a:srgbClr val="92d05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– рассмотрение альтернатив: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разработка различных решений, изучение альтернативных вариа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846440" y="4052880"/>
            <a:ext cx="72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ahoma"/>
                <a:ea typeface="Tahoma"/>
              </a:rPr>
              <a:t>III ступень</a:t>
            </a:r>
            <a:r>
              <a:rPr b="1" lang="ru-RU" sz="2000" spc="-1" strike="noStrike">
                <a:solidFill>
                  <a:srgbClr val="92d05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– принятие решения: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оценка вариантов решения проблемы, выбор оптимального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438280" y="2868480"/>
            <a:ext cx="669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ahoma"/>
                <a:ea typeface="Tahoma"/>
              </a:rPr>
              <a:t>IY ступень</a:t>
            </a:r>
            <a:r>
              <a:rPr b="1" lang="ru-RU" sz="2000" spc="-1" strike="noStrike">
                <a:solidFill>
                  <a:srgbClr val="92d05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- презентация решения: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оглашение сути проблемы, представление решения, аргументация вы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3048120" y="1560600"/>
            <a:ext cx="6070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ahoma"/>
                <a:ea typeface="Tahoma"/>
              </a:rPr>
              <a:t>Y ступень</a:t>
            </a:r>
            <a:r>
              <a:rPr b="1" lang="ru-RU" sz="2000" spc="-1" strike="noStrike">
                <a:solidFill>
                  <a:srgbClr val="92d05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– сравнительный анализ: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  <a:ea typeface="Tahoma"/>
              </a:rPr>
              <a:t>анализ стратегий поиска решений,  разработка плана мероприятий по реализации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3280" y="43920"/>
            <a:ext cx="8802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ahoma"/>
              </a:rPr>
              <a:t>5. Какие учебные задачи решаются при использовании кейс-технологий в учебном процесс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1484280"/>
            <a:ext cx="9036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ahoma"/>
                <a:ea typeface="Tahoma"/>
              </a:rPr>
              <a:t>1.Приобретение  новых знаний и навыков практическ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ahoma"/>
                <a:ea typeface="Tahoma"/>
              </a:rPr>
              <a:t>2. Получение  знаний по тем дисциплинам, где нет однозначного ответа на поставленный вопрос, а есть несколько ответов, которые могут соперничать по степени исти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ahoma"/>
                <a:ea typeface="Tahoma"/>
              </a:rPr>
              <a:t>3. Школьник равноправен с другими учениками и преподавателем в процессе обсуждения проблемы и поиска истин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ahoma"/>
                <a:ea typeface="Tahoma"/>
              </a:rPr>
              <a:t>4. Преодоление классического дефекта обучения, связанного с «сухостью», не эмоциональностью изложения материал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ahoma"/>
                <a:ea typeface="Tahoma"/>
              </a:rPr>
              <a:t>эмоций, творческой конкуренции и даже борьбы в этом методе так много, что хорошо организованное обсуждение кейса может напоминать театральный спектак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7:52:31Z</dcterms:created>
  <dc:creator>Пользователь</dc:creator>
  <dc:description/>
  <dc:language>en-US</dc:language>
  <cp:lastModifiedBy>Елена</cp:lastModifiedBy>
  <dcterms:modified xsi:type="dcterms:W3CDTF">2015-04-13T19:47:22Z</dcterms:modified>
  <cp:revision>147</cp:revision>
  <dc:subject/>
  <dc:title>Развитие познавательных компетенций у обучаемых на уроках обществознания</dc:title>
</cp:coreProperties>
</file>