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31F1F-5EE5-49FD-AE58-9C2C9D7CD0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FF027-2080-4F21-9EC0-54754D6B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10EDE-523B-4A7F-9C85-D59B0B3C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F94E2-49B2-46ED-AA0D-1FDE3A022D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52EE5-8A3A-44A8-99AA-25978E11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6874A-D07F-45A6-B00D-C93B13EB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BDF65-D551-484A-AB51-9B497094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EF317-2F0C-4052-BE28-22ED8488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E4224-604E-4DB7-9624-347BF330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7E777-F693-4356-AAFE-B8942AA5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0145C-B35D-4DB6-A867-BBB16E99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08E69-0202-40CB-9D96-DEF61D32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9A7F8D-17ED-456F-AAF9-B18417FD38A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450720" y="122400"/>
            <a:ext cx="8236080" cy="1444320"/>
            <a:chOff x="450720" y="122400"/>
            <a:chExt cx="8236080" cy="1444320"/>
          </a:xfrm>
        </p:grpSpPr>
        <p:pic>
          <p:nvPicPr>
            <p:cNvPr id="4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122400"/>
              <a:ext cx="823608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128520"/>
              <a:ext cx="8224920" cy="14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Calibri"/>
                </a:rPr>
                <a:t>Наша жизнь в детском доме.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" name="Содержимое 4" descr="20140423_185949.jpg"/>
          <p:cNvPicPr/>
          <p:nvPr/>
        </p:nvPicPr>
        <p:blipFill>
          <a:blip r:embed="rId2"/>
          <a:stretch/>
        </p:blipFill>
        <p:spPr>
          <a:xfrm>
            <a:off x="457200" y="2347920"/>
            <a:ext cx="4035600" cy="302580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5" descr="20140418_112659.jpg"/>
          <p:cNvPicPr/>
          <p:nvPr/>
        </p:nvPicPr>
        <p:blipFill>
          <a:blip r:embed="rId3"/>
          <a:stretch/>
        </p:blipFill>
        <p:spPr>
          <a:xfrm>
            <a:off x="4967280" y="1600200"/>
            <a:ext cx="33908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Заголовок 1"/>
          <p:cNvGrpSpPr/>
          <p:nvPr/>
        </p:nvGrpSpPr>
        <p:grpSpPr>
          <a:xfrm>
            <a:off x="450720" y="122400"/>
            <a:ext cx="8236080" cy="1444320"/>
            <a:chOff x="450720" y="122400"/>
            <a:chExt cx="8236080" cy="1444320"/>
          </a:xfrm>
        </p:grpSpPr>
        <p:pic>
          <p:nvPicPr>
            <p:cNvPr id="4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122400"/>
              <a:ext cx="823608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7200" y="128520"/>
              <a:ext cx="8224920" cy="14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Calibri"/>
                </a:rPr>
                <a:t>Спасительные субботники на Чудо - озере Лотосов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9" name="Содержимое 3" descr="20140426_113238.jpg"/>
          <p:cNvPicPr/>
          <p:nvPr/>
        </p:nvPicPr>
        <p:blipFill>
          <a:blip r:embed="rId2"/>
          <a:stretch/>
        </p:blipFill>
        <p:spPr>
          <a:xfrm>
            <a:off x="1908000" y="1916280"/>
            <a:ext cx="5185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Заголовок 1"/>
          <p:cNvGrpSpPr/>
          <p:nvPr/>
        </p:nvGrpSpPr>
        <p:grpSpPr>
          <a:xfrm>
            <a:off x="450720" y="268200"/>
            <a:ext cx="3017880" cy="1170000"/>
            <a:chOff x="450720" y="268200"/>
            <a:chExt cx="3017880" cy="1170000"/>
          </a:xfrm>
        </p:grpSpPr>
        <p:pic>
          <p:nvPicPr>
            <p:cNvPr id="5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30178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57200" y="272880"/>
              <a:ext cx="300816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Озеро лотосов – это счастье!!!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1780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В нашем селе, недалеко от  детского дома есть небольшое озер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огда – то оно было чистейшим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В нём летом купались дети и взрослые. Зимой катались на коньках. А лёд был прозрачным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рошло немного времени. Люди стали сбрасывать мусор рядом с озером и даже в озеро. Озеро стало грязным. И уже никто не купался в нё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 вот озеро решило обратить внимание людей на себя. В нём появились самые прекрасные цветы-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лотосы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. С каждым годом их становится всё больш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Мы будем организовывать субботни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Мы будем «ухаживать» за озером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Мы не дадим озеру погибнуть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6" descr="20140426_113215.jpg"/>
          <p:cNvPicPr/>
          <p:nvPr/>
        </p:nvPicPr>
        <p:blipFill>
          <a:blip r:embed="rId2"/>
          <a:stretch/>
        </p:blipFill>
        <p:spPr>
          <a:xfrm>
            <a:off x="4213080" y="644400"/>
            <a:ext cx="468000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Заголовок 1"/>
          <p:cNvGrpSpPr/>
          <p:nvPr/>
        </p:nvGrpSpPr>
        <p:grpSpPr>
          <a:xfrm>
            <a:off x="450720" y="122400"/>
            <a:ext cx="8236080" cy="1444320"/>
            <a:chOff x="450720" y="122400"/>
            <a:chExt cx="8236080" cy="1444320"/>
          </a:xfrm>
        </p:grpSpPr>
        <p:pic>
          <p:nvPicPr>
            <p:cNvPr id="5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122400"/>
              <a:ext cx="823608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128520"/>
              <a:ext cx="8224920" cy="14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11 мая 2014 года  мы чествовали весенних именинников.  Однако  без участия Владмамы мы уже не представляем себе этот праздник. Спасибо Вам огромное!  Вы делаете нашу жизнь более красивой, светлой, радостной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Содержимое 4" descr="20140511_113250.jpg"/>
          <p:cNvPicPr/>
          <p:nvPr/>
        </p:nvPicPr>
        <p:blipFill>
          <a:blip r:embed="rId2"/>
          <a:stretch/>
        </p:blipFill>
        <p:spPr>
          <a:xfrm>
            <a:off x="581040" y="1843200"/>
            <a:ext cx="3630600" cy="432252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4" descr="20140511_121621.jpg"/>
          <p:cNvPicPr/>
          <p:nvPr/>
        </p:nvPicPr>
        <p:blipFill>
          <a:blip r:embed="rId3"/>
          <a:stretch/>
        </p:blipFill>
        <p:spPr>
          <a:xfrm>
            <a:off x="5148360" y="1844640"/>
            <a:ext cx="36003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честь именинников прошли спортивные соревнования! Наша команда «Ветерок»  заняла первое место. Кубок у нас !!! Молодцы 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4" descr="20140511_120624.jpg"/>
          <p:cNvPicPr/>
          <p:nvPr/>
        </p:nvPicPr>
        <p:blipFill>
          <a:blip r:embed="rId1"/>
          <a:stretch/>
        </p:blipFill>
        <p:spPr>
          <a:xfrm>
            <a:off x="208080" y="2060640"/>
            <a:ext cx="3606840" cy="453708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5" descr="20140511_120516.jpg"/>
          <p:cNvPicPr/>
          <p:nvPr/>
        </p:nvPicPr>
        <p:blipFill>
          <a:blip r:embed="rId2"/>
          <a:stretch/>
        </p:blipFill>
        <p:spPr>
          <a:xfrm>
            <a:off x="4897440" y="2060640"/>
            <a:ext cx="3778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Заголовок 1"/>
          <p:cNvGrpSpPr/>
          <p:nvPr/>
        </p:nvGrpSpPr>
        <p:grpSpPr>
          <a:xfrm>
            <a:off x="450720" y="122400"/>
            <a:ext cx="8236080" cy="1444320"/>
            <a:chOff x="450720" y="122400"/>
            <a:chExt cx="8236080" cy="1444320"/>
          </a:xfrm>
        </p:grpSpPr>
        <p:pic>
          <p:nvPicPr>
            <p:cNvPr id="6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122400"/>
              <a:ext cx="823608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57200" y="128520"/>
              <a:ext cx="8224920" cy="14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9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ru-RU" sz="2900" spc="-1" strike="noStrike">
                  <a:solidFill>
                    <a:srgbClr val="000000"/>
                  </a:solidFill>
                  <a:latin typeface="Calibri"/>
                </a:rPr>
                <a:t>В детском доме надо всем дружить, тогда</a:t>
              </a:r>
              <a:br>
                <a:rPr sz="2900"/>
              </a:br>
              <a:r>
                <a:rPr b="1" i="1" lang="ru-RU" sz="2900" spc="-1" strike="noStrike">
                  <a:solidFill>
                    <a:srgbClr val="000000"/>
                  </a:solidFill>
                  <a:latin typeface="Calibri"/>
                </a:rPr>
                <a:t>Удача будет вечно с нами жить!!!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" name="Содержимое 3" descr="20140223_170009.jpg"/>
          <p:cNvPicPr/>
          <p:nvPr/>
        </p:nvPicPr>
        <p:blipFill>
          <a:blip r:embed="rId2"/>
          <a:stretch/>
        </p:blipFill>
        <p:spPr>
          <a:xfrm>
            <a:off x="826920" y="1935000"/>
            <a:ext cx="72741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С</cp:lastModifiedBy>
  <dcterms:modified xsi:type="dcterms:W3CDTF">2015-04-13T09:24:29Z</dcterms:modified>
  <cp:revision>87</cp:revision>
  <dc:subject/>
  <dc:title>Слайд 1</dc:title>
</cp:coreProperties>
</file>