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903A-A845-4B7C-BEC2-1EC58B736C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A9ED-771B-4B18-9AFE-9CE3B241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DF24-3F05-4868-A924-1E897146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8E72-A794-4AC5-AD05-594198BB9B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0A36-32AB-4632-9F1B-8EF83893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1910-862A-48AB-B562-17454400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8158-73CF-4079-911C-AB6BF378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0D92-7099-421C-803A-A86FFF4B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A9E9-B5D4-43FB-86B5-763AF70E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3CD8-1D05-494D-979A-292F147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5085-8F64-419C-A47B-3FFC062E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6BFB-6D38-4D2A-8D25-A722194F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676F81-1DDA-4409-BA51-21824E0476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450720" y="122400"/>
            <a:ext cx="8236080" cy="1444320"/>
            <a:chOff x="450720" y="122400"/>
            <a:chExt cx="8236080" cy="144432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608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128520"/>
              <a:ext cx="822492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Calibri"/>
                </a:rPr>
                <a:t>Наша жизнь в детском доме.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" name="Содержимое 4" descr="20140423_185949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5600" cy="30258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20140418_112659.jpg"/>
          <p:cNvPicPr/>
          <p:nvPr/>
        </p:nvPicPr>
        <p:blipFill>
          <a:blip r:embed="rId3"/>
          <a:stretch/>
        </p:blipFill>
        <p:spPr>
          <a:xfrm>
            <a:off x="4967280" y="1600200"/>
            <a:ext cx="33908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Заголовок 1"/>
          <p:cNvGrpSpPr/>
          <p:nvPr/>
        </p:nvGrpSpPr>
        <p:grpSpPr>
          <a:xfrm>
            <a:off x="450720" y="122400"/>
            <a:ext cx="8236080" cy="1444320"/>
            <a:chOff x="450720" y="122400"/>
            <a:chExt cx="8236080" cy="1444320"/>
          </a:xfrm>
        </p:grpSpPr>
        <p:pic>
          <p:nvPicPr>
            <p:cNvPr id="4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608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7200" y="128520"/>
              <a:ext cx="822492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Calibri"/>
                </a:rPr>
                <a:t>Спасительные субботники на Чудо - озере Лотосов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9" name="Содержимое 3" descr="20140426_113238.jpg"/>
          <p:cNvPicPr/>
          <p:nvPr/>
        </p:nvPicPr>
        <p:blipFill>
          <a:blip r:embed="rId2"/>
          <a:stretch/>
        </p:blipFill>
        <p:spPr>
          <a:xfrm>
            <a:off x="1908000" y="1916280"/>
            <a:ext cx="518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Заголовок 1"/>
          <p:cNvGrpSpPr/>
          <p:nvPr/>
        </p:nvGrpSpPr>
        <p:grpSpPr>
          <a:xfrm>
            <a:off x="450720" y="268200"/>
            <a:ext cx="3017880" cy="1170000"/>
            <a:chOff x="450720" y="268200"/>
            <a:chExt cx="3017880" cy="1170000"/>
          </a:xfrm>
        </p:grpSpPr>
        <p:pic>
          <p:nvPicPr>
            <p:cNvPr id="5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30178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57200" y="272880"/>
              <a:ext cx="300816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Озеро лотосов – это счастье!!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1780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 нашем селе, недалеко от  детского дома есть небольшое озер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гда – то оно было чистейшим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 нём летом купались дети и взрослые. Зимой катались на коньках. А лёд был прозрачны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ошло немного времени. Люди стали сбрасывать мусор рядом с озером и даже в озеро. Озеро стало грязным. И уже никто не купался в нё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 вот озеро решило обратить внимание людей на себя. В нём появились самые прекрасные цветы-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отос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. С каждым годом их становится всё больш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ы будем организовывать субботн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ы будем «ухаживать» за озеро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ы не дадим озеру погибнуть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20140426_113215.jpg"/>
          <p:cNvPicPr/>
          <p:nvPr/>
        </p:nvPicPr>
        <p:blipFill>
          <a:blip r:embed="rId2"/>
          <a:stretch/>
        </p:blipFill>
        <p:spPr>
          <a:xfrm>
            <a:off x="4213080" y="644400"/>
            <a:ext cx="4680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Заголовок 1"/>
          <p:cNvGrpSpPr/>
          <p:nvPr/>
        </p:nvGrpSpPr>
        <p:grpSpPr>
          <a:xfrm>
            <a:off x="450720" y="122400"/>
            <a:ext cx="8236080" cy="1444320"/>
            <a:chOff x="450720" y="122400"/>
            <a:chExt cx="8236080" cy="1444320"/>
          </a:xfrm>
        </p:grpSpPr>
        <p:pic>
          <p:nvPicPr>
            <p:cNvPr id="5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608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128520"/>
              <a:ext cx="822492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11 мая 2014 года  мы чествовали весенних именинников.  Однако  без участия Владмамы мы уже не представляем себе этот праздник. Спасибо Вам огромное!  Вы делаете нашу жизнь более красивой, светлой, радостной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Содержимое 4" descr="20140511_113250.jpg"/>
          <p:cNvPicPr/>
          <p:nvPr/>
        </p:nvPicPr>
        <p:blipFill>
          <a:blip r:embed="rId2"/>
          <a:stretch/>
        </p:blipFill>
        <p:spPr>
          <a:xfrm>
            <a:off x="581040" y="1843200"/>
            <a:ext cx="3630600" cy="432252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4" descr="20140511_121621.jpg"/>
          <p:cNvPicPr/>
          <p:nvPr/>
        </p:nvPicPr>
        <p:blipFill>
          <a:blip r:embed="rId3"/>
          <a:stretch/>
        </p:blipFill>
        <p:spPr>
          <a:xfrm>
            <a:off x="5148360" y="1844640"/>
            <a:ext cx="360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честь именинников прошли спортивные соревнования! Наша команда «Ветерок»  заняла первое место. Кубок у нас !!! Молодцы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20140511_120624.jpg"/>
          <p:cNvPicPr/>
          <p:nvPr/>
        </p:nvPicPr>
        <p:blipFill>
          <a:blip r:embed="rId1"/>
          <a:stretch/>
        </p:blipFill>
        <p:spPr>
          <a:xfrm>
            <a:off x="208080" y="2060640"/>
            <a:ext cx="3606840" cy="453708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20140511_120516.jpg"/>
          <p:cNvPicPr/>
          <p:nvPr/>
        </p:nvPicPr>
        <p:blipFill>
          <a:blip r:embed="rId2"/>
          <a:stretch/>
        </p:blipFill>
        <p:spPr>
          <a:xfrm>
            <a:off x="4897440" y="2060640"/>
            <a:ext cx="377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Заголовок 1"/>
          <p:cNvGrpSpPr/>
          <p:nvPr/>
        </p:nvGrpSpPr>
        <p:grpSpPr>
          <a:xfrm>
            <a:off x="450720" y="122400"/>
            <a:ext cx="8236080" cy="1444320"/>
            <a:chOff x="450720" y="122400"/>
            <a:chExt cx="8236080" cy="1444320"/>
          </a:xfrm>
        </p:grpSpPr>
        <p:pic>
          <p:nvPicPr>
            <p:cNvPr id="6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608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7200" y="128520"/>
              <a:ext cx="822492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2900" spc="-1" strike="noStrike">
                  <a:solidFill>
                    <a:srgbClr val="000000"/>
                  </a:solidFill>
                  <a:latin typeface="Calibri"/>
                </a:rPr>
                <a:t>В детском доме надо всем дружить, тогда</a:t>
              </a:r>
              <a:br>
                <a:rPr sz="2900"/>
              </a:br>
              <a:r>
                <a:rPr b="1" i="1" lang="ru-RU" sz="2900" spc="-1" strike="noStrike">
                  <a:solidFill>
                    <a:srgbClr val="000000"/>
                  </a:solidFill>
                  <a:latin typeface="Calibri"/>
                </a:rPr>
                <a:t>Удача будет вечно с нами жить!!!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Содержимое 3" descr="20140223_170009.jpg"/>
          <p:cNvPicPr/>
          <p:nvPr/>
        </p:nvPicPr>
        <p:blipFill>
          <a:blip r:embed="rId2"/>
          <a:stretch/>
        </p:blipFill>
        <p:spPr>
          <a:xfrm>
            <a:off x="826920" y="1935000"/>
            <a:ext cx="72741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</cp:lastModifiedBy>
  <dcterms:modified xsi:type="dcterms:W3CDTF">2015-04-13T09:24:29Z</dcterms:modified>
  <cp:revision>87</cp:revision>
  <dc:subject/>
  <dc:title>Слайд 1</dc:title>
</cp:coreProperties>
</file>