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BC5A-40E4-42D4-87C3-3E42B09A8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3EE-BF02-47DE-93FE-F84CBA78F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C1B-71F5-4967-A721-A95CB726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A4D-B2E2-46A3-A406-AA7B1F9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6BC-72F5-4E22-BD71-26137516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9DF-38C5-4FE3-A8E8-CC2A5CA0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137-338B-4E3D-BBAC-0AC3412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60B-ADD8-42BC-9657-9D9B6E2F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CF0-9311-4811-B809-4175B12B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DF1-3A59-4617-9C64-20FEB43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3BA-B35B-4075-886E-7026A954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F69-7424-46EA-87D2-C21EA25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75F-6B4A-42C5-B73F-B1BD643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4BE-076E-4D23-8AB7-B4CAD86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4A5-9458-4D3E-B951-933D3926B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ru.wikipedia.org/wiki/&#1048;&#1079;&#1086;&#1073;&#1088;&#1072;&#1078;&#1077;&#1085;&#1080;&#1077;:Troms&#248;_library_-_2005-09-13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ОГИБАЮЩ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2637000"/>
            <a:ext cx="9144000" cy="4221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flipH="1" flipV="1">
            <a:off x="3276000" y="2275920"/>
            <a:ext cx="6048360" cy="5128920"/>
          </a:xfrm>
          <a:custGeom>
            <a:avLst/>
            <a:gdLst>
              <a:gd name="textAreaLeft" fmla="*/ 1084680 w 6048360"/>
              <a:gd name="textAreaRight" fmla="*/ 4963680 w 6048360"/>
              <a:gd name="textAreaTop" fmla="*/ -1968120 h 5128920"/>
              <a:gd name="textAreaBottom" fmla="*/ 312840 h 5128920"/>
            </a:gdLst>
            <a:ahLst/>
            <a:rect l="textAreaLeft" t="textAreaTop" r="textAreaRight" b="textAreaBottom"/>
            <a:pathLst>
              <a:path w="64000" h="64000">
                <a:moveTo>
                  <a:pt x="-13015" y="7446"/>
                </a:moveTo>
                <a:cubicBezTo>
                  <a:pt x="-5741" y="13526"/>
                  <a:pt x="-1536" y="22519"/>
                  <a:pt x="-1536" y="32000"/>
                </a:cubicBezTo>
                <a:cubicBezTo>
                  <a:pt x="-1536" y="-32229"/>
                  <a:pt x="-1617" y="-30922"/>
                  <a:pt x="-1777" y="-29624"/>
                </a:cubicBezTo>
                <a:cubicBezTo>
                  <a:pt x="-1777" y="-29624"/>
                  <a:pt x="-1777" y="-29624"/>
                  <a:pt x="-1777" y="-29623"/>
                </a:cubicBezTo>
                <a:lnTo>
                  <a:pt x="2889" y="-29623"/>
                </a:lnTo>
                <a:lnTo>
                  <a:pt x="2889" y="18713"/>
                </a:lnTo>
                <a:lnTo>
                  <a:pt x="2888" y="18712"/>
                </a:lnTo>
                <a:cubicBezTo>
                  <a:pt x="4874" y="14362"/>
                  <a:pt x="7809" y="10513"/>
                  <a:pt x="11478" y="7446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324000" y="1557360"/>
            <a:ext cx="755640" cy="836640"/>
            <a:chOff x="324000" y="1557360"/>
            <a:chExt cx="755640" cy="836640"/>
          </a:xfrm>
        </p:grpSpPr>
        <p:sp>
          <p:nvSpPr>
            <p:cNvPr id="54" name="Oval 8"/>
            <p:cNvSpPr/>
            <p:nvPr/>
          </p:nvSpPr>
          <p:spPr>
            <a:xfrm>
              <a:off x="919080" y="18889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722880" y="17787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722880" y="199800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526680" y="166644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520200" y="21081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330480" y="15573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324000" y="22273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1042920" y="1557360"/>
            <a:ext cx="755640" cy="836640"/>
            <a:chOff x="1042920" y="1557360"/>
            <a:chExt cx="755640" cy="836640"/>
          </a:xfrm>
        </p:grpSpPr>
        <p:sp>
          <p:nvSpPr>
            <p:cNvPr id="62" name="Oval 16"/>
            <p:cNvSpPr/>
            <p:nvPr/>
          </p:nvSpPr>
          <p:spPr>
            <a:xfrm>
              <a:off x="1638000" y="18889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1441800" y="17787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1441800" y="199800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1245600" y="166644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1239120" y="21081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1049400" y="155736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1042920" y="2227320"/>
              <a:ext cx="160560" cy="1666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4" descr="m_072i"/>
          <p:cNvPicPr/>
          <p:nvPr/>
        </p:nvPicPr>
        <p:blipFill>
          <a:blip r:embed="rId1"/>
          <a:srcRect l="0" t="18276" r="0" b="26894"/>
          <a:stretch/>
        </p:blipFill>
        <p:spPr>
          <a:xfrm>
            <a:off x="6877080" y="189000"/>
            <a:ext cx="198756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1"/>
          <p:cNvSpPr/>
          <p:nvPr/>
        </p:nvSpPr>
        <p:spPr>
          <a:xfrm>
            <a:off x="3851280" y="5300640"/>
            <a:ext cx="4968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42"/>
                </a:solidFill>
                <a:latin typeface="Times New Roman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942"/>
                </a:solidFill>
                <a:latin typeface="Times New Roman"/>
              </a:rPr>
              <a:t>Афанасьева Анастасия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2" descr="t_049i"/>
          <p:cNvPicPr/>
          <p:nvPr/>
        </p:nvPicPr>
        <p:blipFill>
          <a:blip r:embed="rId2"/>
          <a:srcRect l="0" t="46485" r="0" b="16944"/>
          <a:stretch/>
        </p:blipFill>
        <p:spPr>
          <a:xfrm>
            <a:off x="5651640" y="2852640"/>
            <a:ext cx="2881080" cy="12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main"/>
          <p:cNvPicPr/>
          <p:nvPr/>
        </p:nvPicPr>
        <p:blipFill>
          <a:blip r:embed="rId3"/>
          <a:srcRect l="4021" t="0" r="4021" b="0"/>
          <a:stretch/>
        </p:blipFill>
        <p:spPr>
          <a:xfrm>
            <a:off x="468360" y="4869000"/>
            <a:ext cx="2647800" cy="15318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://media2.picsearch.com/is?AuEYjWDUEVoM6dE1HiHNZHYXkVI-78_mLXhwzZ1AkDg"/>
          <p:cNvPicPr/>
          <p:nvPr/>
        </p:nvPicPr>
        <p:blipFill>
          <a:blip r:embed="rId4"/>
          <a:stretch/>
        </p:blipFill>
        <p:spPr>
          <a:xfrm>
            <a:off x="971640" y="2781360"/>
            <a:ext cx="2413080" cy="161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 flipH="1" flipV="1" rot="10800000">
            <a:off x="5939280" y="630756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0973" y="8224"/>
                </a:lnTo>
                <a:lnTo>
                  <a:pt x="10973" y="7879"/>
                </a:lnTo>
                <a:lnTo>
                  <a:pt x="10972" y="7878"/>
                </a:lnTo>
                <a:cubicBezTo>
                  <a:pt x="16799" y="2798"/>
                  <a:pt x="2426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250920" y="692280"/>
            <a:ext cx="360360" cy="433080"/>
            <a:chOff x="250920" y="692280"/>
            <a:chExt cx="360360" cy="433080"/>
          </a:xfrm>
        </p:grpSpPr>
        <p:sp>
          <p:nvSpPr>
            <p:cNvPr id="274" name="Oval 6"/>
            <p:cNvSpPr/>
            <p:nvPr/>
          </p:nvSpPr>
          <p:spPr>
            <a:xfrm>
              <a:off x="534960" y="864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441360" y="80676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8"/>
            <p:cNvSpPr/>
            <p:nvPr/>
          </p:nvSpPr>
          <p:spPr>
            <a:xfrm>
              <a:off x="441360" y="920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347400" y="7484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344520" y="977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"/>
            <p:cNvSpPr/>
            <p:nvPr/>
          </p:nvSpPr>
          <p:spPr>
            <a:xfrm>
              <a:off x="253800" y="6922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"/>
            <p:cNvSpPr/>
            <p:nvPr/>
          </p:nvSpPr>
          <p:spPr>
            <a:xfrm>
              <a:off x="250920" y="10393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611280" y="692280"/>
            <a:ext cx="360360" cy="433080"/>
            <a:chOff x="611280" y="692280"/>
            <a:chExt cx="360360" cy="433080"/>
          </a:xfrm>
        </p:grpSpPr>
        <p:sp>
          <p:nvSpPr>
            <p:cNvPr id="282" name="Oval 14"/>
            <p:cNvSpPr/>
            <p:nvPr/>
          </p:nvSpPr>
          <p:spPr>
            <a:xfrm>
              <a:off x="895320" y="864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801720" y="80676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6"/>
            <p:cNvSpPr/>
            <p:nvPr/>
          </p:nvSpPr>
          <p:spPr>
            <a:xfrm>
              <a:off x="801720" y="920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7"/>
            <p:cNvSpPr/>
            <p:nvPr/>
          </p:nvSpPr>
          <p:spPr>
            <a:xfrm>
              <a:off x="707760" y="7484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8"/>
            <p:cNvSpPr/>
            <p:nvPr/>
          </p:nvSpPr>
          <p:spPr>
            <a:xfrm>
              <a:off x="704880" y="977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9"/>
            <p:cNvSpPr/>
            <p:nvPr/>
          </p:nvSpPr>
          <p:spPr>
            <a:xfrm>
              <a:off x="614160" y="6922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0"/>
            <p:cNvSpPr/>
            <p:nvPr/>
          </p:nvSpPr>
          <p:spPr>
            <a:xfrm>
              <a:off x="611280" y="10393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гибающая поверхность семейства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5905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равнение 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4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px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2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х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r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=0 и ласточкин х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7" descr=""/>
          <p:cNvPicPr/>
          <p:nvPr/>
        </p:nvPicPr>
        <p:blipFill>
          <a:blip r:embed="rId1"/>
          <a:srcRect l="0" t="0" r="0" b="9370"/>
          <a:stretch/>
        </p:blipFill>
        <p:spPr>
          <a:xfrm>
            <a:off x="5148360" y="4437000"/>
            <a:ext cx="1517400" cy="180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9" descr=""/>
          <p:cNvPicPr/>
          <p:nvPr/>
        </p:nvPicPr>
        <p:blipFill>
          <a:blip r:embed="rId2"/>
          <a:stretch/>
        </p:blipFill>
        <p:spPr>
          <a:xfrm>
            <a:off x="7236000" y="4437000"/>
            <a:ext cx="1296720" cy="17906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0"/>
          <p:cNvSpPr/>
          <p:nvPr/>
        </p:nvSpPr>
        <p:spPr>
          <a:xfrm>
            <a:off x="684360" y="4724280"/>
            <a:ext cx="396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Эта поверхность возникает в трехмерной геометрии очень часто, к ней приводят многие естественные задачи анализа и меха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5" name="Picture 32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854360" cy="2592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3"/>
          <p:cNvSpPr/>
          <p:nvPr/>
        </p:nvSpPr>
        <p:spPr>
          <a:xfrm rot="16200000">
            <a:off x="-197280" y="1754640"/>
            <a:ext cx="3095640" cy="27003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00000" y="1988640"/>
            <a:ext cx="3816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гибающая семейства плоскостей — линейчатая поверхность. Более того, все построенные прямые касаются некоторой пространственной к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5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188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 rot="16200000">
            <a:off x="4143240" y="1856880"/>
            <a:ext cx="5072040" cy="49291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0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1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</a:rPr>
              <a:t>ПРАКТИЧЕСКАЯ 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68911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огибающую семейства пря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39"/>
              <p:cNvSpPr txBox="1"/>
              <p:nvPr/>
            </p:nvSpPr>
            <p:spPr>
              <a:xfrm>
                <a:off x="1835280" y="177336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8"/>
              <p:cNvSpPr txBox="1"/>
              <p:nvPr/>
            </p:nvSpPr>
            <p:spPr>
              <a:xfrm>
                <a:off x="1763640" y="2133720"/>
                <a:ext cx="1584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Rectangle 41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2"/>
              <p:cNvSpPr txBox="1"/>
              <p:nvPr/>
            </p:nvSpPr>
            <p:spPr>
              <a:xfrm>
                <a:off x="5796000" y="1341360"/>
                <a:ext cx="1224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24" name="Picture 46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3916440" cy="43578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3929040"/>
            <a:ext cx="4357800" cy="29289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уравнение параболы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021200" y="2143080"/>
            <a:ext cx="5122800" cy="28576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29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37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ХОЖДЕНИЕ ОГИБА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(алгебраически) огибающую семейства линий  и дайте геометрически пояснение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8"/>
              <p:cNvSpPr txBox="1"/>
              <p:nvPr/>
            </p:nvSpPr>
            <p:spPr>
              <a:xfrm>
                <a:off x="1000080" y="2500200"/>
                <a:ext cx="226368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Rectangle 30"/>
          <p:cNvSpPr/>
          <p:nvPr/>
        </p:nvSpPr>
        <p:spPr>
          <a:xfrm>
            <a:off x="927000" y="41425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 или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4" descr=""/>
          <p:cNvPicPr/>
          <p:nvPr/>
        </p:nvPicPr>
        <p:blipFill>
          <a:blip r:embed="rId1"/>
          <a:stretch/>
        </p:blipFill>
        <p:spPr>
          <a:xfrm>
            <a:off x="4357800" y="2428920"/>
            <a:ext cx="4035240" cy="22971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- две линии, параллельные оси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 flipH="1" flipV="1" rot="5400000">
            <a:off x="8416800" y="3655080"/>
            <a:ext cx="4003560" cy="41212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643280" y="2357280"/>
            <a:ext cx="4500720" cy="45007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5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6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ШЕНИЕ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 прямой угол; рассматриваются всевозможные прямые, отсекающие от этого угла треугольники, у которых сумма длин катетов равна а. Докажите, что огибающая этого семейства прямых представляет собой дугу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8"/>
              <p:cNvSpPr txBox="1"/>
              <p:nvPr/>
            </p:nvSpPr>
            <p:spPr>
              <a:xfrm>
                <a:off x="2124000" y="2708280"/>
                <a:ext cx="244800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Rectangle 3"/>
          <p:cNvSpPr/>
          <p:nvPr/>
        </p:nvSpPr>
        <p:spPr>
          <a:xfrm>
            <a:off x="0" y="5000760"/>
            <a:ext cx="4857840" cy="18572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дуга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9" descr=""/>
          <p:cNvPicPr/>
          <p:nvPr/>
        </p:nvPicPr>
        <p:blipFill>
          <a:blip r:embed="rId1"/>
          <a:stretch/>
        </p:blipFill>
        <p:spPr>
          <a:xfrm>
            <a:off x="4857840" y="2714760"/>
            <a:ext cx="3635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Полученное уравнение  является уравнением огиба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Это – окружность радиуса 1, с центром в т. (0,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38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39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РЕШЕНИЕ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атриваются всевозможные пря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, где коэффициент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влетворяют условию . Найдите огибающую этого семейства пря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77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7"/>
              <p:cNvSpPr txBox="1"/>
              <p:nvPr/>
            </p:nvSpPr>
            <p:spPr>
              <a:xfrm>
                <a:off x="900000" y="2708280"/>
                <a:ext cx="303876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Rectangle 3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9"/>
              <p:cNvSpPr txBox="1"/>
              <p:nvPr/>
            </p:nvSpPr>
            <p:spPr>
              <a:xfrm>
                <a:off x="900000" y="4724280"/>
                <a:ext cx="33591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6" name="Rectangle 3"/>
          <p:cNvSpPr/>
          <p:nvPr/>
        </p:nvSpPr>
        <p:spPr>
          <a:xfrm>
            <a:off x="4429080" y="2214720"/>
            <a:ext cx="4714920" cy="3500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0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289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413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421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6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00"/>
                </a:solidFill>
                <a:latin typeface="Arial"/>
              </a:rPr>
              <a:t>Огибающие часто встречаются в окружающ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нание методов нахождения огибающей может пригодиться в дальнейшем при изучении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аботу над проектом можно продолжать, так как  при нахождении огибающей часто используется понятие произв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250920" y="260280"/>
            <a:ext cx="288720" cy="360360"/>
            <a:chOff x="250920" y="260280"/>
            <a:chExt cx="288720" cy="360360"/>
          </a:xfrm>
        </p:grpSpPr>
        <p:sp>
          <p:nvSpPr>
            <p:cNvPr id="78" name="Oval 7"/>
            <p:cNvSpPr/>
            <p:nvPr/>
          </p:nvSpPr>
          <p:spPr>
            <a:xfrm>
              <a:off x="478440" y="4032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403200" y="3556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9"/>
            <p:cNvSpPr/>
            <p:nvPr/>
          </p:nvSpPr>
          <p:spPr>
            <a:xfrm>
              <a:off x="403200" y="450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>
              <a:off x="328320" y="3070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325800" y="4975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2"/>
            <p:cNvSpPr/>
            <p:nvPr/>
          </p:nvSpPr>
          <p:spPr>
            <a:xfrm>
              <a:off x="253440" y="26028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3"/>
            <p:cNvSpPr/>
            <p:nvPr/>
          </p:nvSpPr>
          <p:spPr>
            <a:xfrm>
              <a:off x="250920" y="549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4"/>
          <p:cNvGrpSpPr/>
          <p:nvPr/>
        </p:nvGrpSpPr>
        <p:grpSpPr>
          <a:xfrm>
            <a:off x="8604360" y="189000"/>
            <a:ext cx="288720" cy="360360"/>
            <a:chOff x="8604360" y="189000"/>
            <a:chExt cx="288720" cy="360360"/>
          </a:xfrm>
        </p:grpSpPr>
        <p:sp>
          <p:nvSpPr>
            <p:cNvPr id="86" name="Oval 15"/>
            <p:cNvSpPr/>
            <p:nvPr/>
          </p:nvSpPr>
          <p:spPr>
            <a:xfrm>
              <a:off x="8831880" y="3319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6"/>
            <p:cNvSpPr/>
            <p:nvPr/>
          </p:nvSpPr>
          <p:spPr>
            <a:xfrm>
              <a:off x="8756640" y="2844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7"/>
            <p:cNvSpPr/>
            <p:nvPr/>
          </p:nvSpPr>
          <p:spPr>
            <a:xfrm>
              <a:off x="8756640" y="3787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8681760" y="2358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8679240" y="42624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0"/>
            <p:cNvSpPr/>
            <p:nvPr/>
          </p:nvSpPr>
          <p:spPr>
            <a:xfrm>
              <a:off x="8606880" y="18900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1"/>
            <p:cNvSpPr/>
            <p:nvPr/>
          </p:nvSpPr>
          <p:spPr>
            <a:xfrm>
              <a:off x="8604360" y="477720"/>
              <a:ext cx="61200" cy="716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4360" y="83664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Цель работы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сследование закономерностей проявления огибающ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Объект исследования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огибающ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Предмет исследования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использование навыка нахождения огибающей при решении практических зад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Гипотеза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c0000"/>
                </a:solidFill>
                <a:latin typeface="Times New Roman"/>
              </a:rPr>
              <a:t>человек в своей деятельности постоянно сталкивается с предметами и явлениями,  в  основе которых лежит огибающа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200" spc="-1" strike="noStrike">
                <a:solidFill>
                  <a:srgbClr val="0033cc"/>
                </a:solidFill>
                <a:latin typeface="Times New Roman"/>
              </a:rPr>
              <a:t>Основны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изучить научную литературу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собрать недостающую информацию в Интерне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одобрать рисунки по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ровести сбор и анализ практических материа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94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942"/>
                </a:solidFill>
                <a:latin typeface="Times New Roman"/>
              </a:rPr>
              <a:t>подготовить презента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41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ОБОСНОВАНИЕ  ВЫБОРА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324000" y="765000"/>
            <a:ext cx="360360" cy="433440"/>
            <a:chOff x="324000" y="765000"/>
            <a:chExt cx="360360" cy="433440"/>
          </a:xfrm>
        </p:grpSpPr>
        <p:sp>
          <p:nvSpPr>
            <p:cNvPr id="99" name="Oval 7"/>
            <p:cNvSpPr/>
            <p:nvPr/>
          </p:nvSpPr>
          <p:spPr>
            <a:xfrm>
              <a:off x="608040" y="9367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514440" y="8794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514440" y="99324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480" y="82152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17600" y="105048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26880" y="7650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324000" y="1112400"/>
              <a:ext cx="7632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755640" y="765000"/>
            <a:ext cx="431640" cy="433440"/>
            <a:chOff x="755640" y="765000"/>
            <a:chExt cx="431640" cy="433440"/>
          </a:xfrm>
        </p:grpSpPr>
        <p:sp>
          <p:nvSpPr>
            <p:cNvPr id="107" name="Oval 15"/>
            <p:cNvSpPr/>
            <p:nvPr/>
          </p:nvSpPr>
          <p:spPr>
            <a:xfrm>
              <a:off x="1095840" y="93672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6"/>
            <p:cNvSpPr/>
            <p:nvPr/>
          </p:nvSpPr>
          <p:spPr>
            <a:xfrm>
              <a:off x="983520" y="87948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7"/>
            <p:cNvSpPr/>
            <p:nvPr/>
          </p:nvSpPr>
          <p:spPr>
            <a:xfrm>
              <a:off x="983520" y="99324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871560" y="82152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9"/>
            <p:cNvSpPr/>
            <p:nvPr/>
          </p:nvSpPr>
          <p:spPr>
            <a:xfrm>
              <a:off x="867600" y="105048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0"/>
            <p:cNvSpPr/>
            <p:nvPr/>
          </p:nvSpPr>
          <p:spPr>
            <a:xfrm>
              <a:off x="759240" y="76500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"/>
            <p:cNvSpPr/>
            <p:nvPr/>
          </p:nvSpPr>
          <p:spPr>
            <a:xfrm>
              <a:off x="755640" y="1112400"/>
              <a:ext cx="91440" cy="860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578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Исследование закономерностей проявления огибающей, на наш взгляд, является актуальным по той причине, что понятие огибающей играет важнейшую роль в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 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онятие огибающая имеет значение не только в геометрии, но и в некоторых вопросах математического анализа (особые решения в теории дифференциальных уравнений), теоретической физики (в оптике — каустика, фронт волн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4581360"/>
            <a:ext cx="316836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8" descr=""/>
          <p:cNvPicPr/>
          <p:nvPr/>
        </p:nvPicPr>
        <p:blipFill>
          <a:blip r:embed="rId2">
            <a:lum contrast="18000"/>
          </a:blip>
          <a:srcRect l="49647" t="0" r="0" b="0"/>
          <a:stretch/>
        </p:blipFill>
        <p:spPr>
          <a:xfrm>
            <a:off x="684360" y="4581360"/>
            <a:ext cx="2808000" cy="163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ОНЯТИЕ  ОГИБ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гибающая семейства линий на плоскости - линия, которая в каждой своей точке касается одной линии семейства, геометрически отличной от огибающей в сколь угодно малой окрестности точки 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324000" y="836640"/>
            <a:ext cx="502920" cy="504720"/>
            <a:chOff x="324000" y="836640"/>
            <a:chExt cx="502920" cy="504720"/>
          </a:xfrm>
        </p:grpSpPr>
        <p:sp>
          <p:nvSpPr>
            <p:cNvPr id="123" name="Oval 8"/>
            <p:cNvSpPr/>
            <p:nvPr/>
          </p:nvSpPr>
          <p:spPr>
            <a:xfrm>
              <a:off x="720360" y="103644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589680" y="97020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589680" y="11023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459000" y="90216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454320" y="11689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328320" y="83664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324000" y="1240920"/>
              <a:ext cx="10656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826920" y="836640"/>
            <a:ext cx="505080" cy="504720"/>
            <a:chOff x="826920" y="836640"/>
            <a:chExt cx="505080" cy="504720"/>
          </a:xfrm>
        </p:grpSpPr>
        <p:sp>
          <p:nvSpPr>
            <p:cNvPr id="131" name="Oval 16"/>
            <p:cNvSpPr/>
            <p:nvPr/>
          </p:nvSpPr>
          <p:spPr>
            <a:xfrm>
              <a:off x="1224720" y="10364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1093680" y="9702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1093680" y="11023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962280" y="9021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957960" y="11689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831240" y="8366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826920" y="124092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2" descr=""/>
          <p:cNvPicPr/>
          <p:nvPr/>
        </p:nvPicPr>
        <p:blipFill>
          <a:blip r:embed="rId1">
            <a:lum contrast="12000"/>
          </a:blip>
          <a:srcRect l="0" t="0" r="47885" b="0"/>
          <a:stretch/>
        </p:blipFill>
        <p:spPr>
          <a:xfrm>
            <a:off x="900000" y="3645000"/>
            <a:ext cx="3157560" cy="2520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2" descr=""/>
          <p:cNvPicPr/>
          <p:nvPr/>
        </p:nvPicPr>
        <p:blipFill>
          <a:blip r:embed="rId2">
            <a:lum contrast="30000"/>
          </a:blip>
          <a:srcRect l="0" t="0" r="0" b="17540"/>
          <a:stretch/>
        </p:blipFill>
        <p:spPr>
          <a:xfrm>
            <a:off x="5148360" y="3716280"/>
            <a:ext cx="25207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1916280"/>
            <a:ext cx="9144000" cy="494172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44" name="Oval 7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152" name="Oval 15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9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ГИБАЮЩИЕ  СЕМЕЙСТВА  ПРЯ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413000"/>
          <a:ext cx="8229600" cy="51116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араб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астр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цикл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а с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шей в форм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болы в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жском городк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клоид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ковая архитектур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62" descr="http://tmn.fio.ru/works/12x/304/images/par10-200.gif"/>
          <p:cNvPicPr/>
          <p:nvPr/>
        </p:nvPicPr>
        <p:blipFill>
          <a:blip r:embed="rId1"/>
          <a:srcRect l="20597" t="28535" r="-548" b="58520"/>
          <a:stretch/>
        </p:blipFill>
        <p:spPr>
          <a:xfrm>
            <a:off x="755640" y="1989000"/>
            <a:ext cx="2519280" cy="1270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3" descr=""/>
          <p:cNvPicPr/>
          <p:nvPr/>
        </p:nvPicPr>
        <p:blipFill>
          <a:blip r:embed="rId2"/>
          <a:stretch/>
        </p:blipFill>
        <p:spPr>
          <a:xfrm>
            <a:off x="2124000" y="33577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4" descr=""/>
          <p:cNvPicPr/>
          <p:nvPr/>
        </p:nvPicPr>
        <p:blipFill>
          <a:blip r:embed="rId3"/>
          <a:srcRect l="3221" t="0" r="13959" b="0"/>
          <a:stretch/>
        </p:blipFill>
        <p:spPr>
          <a:xfrm>
            <a:off x="971640" y="4941720"/>
            <a:ext cx="2952720" cy="1144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2" descr="http://upload.wikimedia.org/wikipedia/commons/thumb/5/5a/Troms%C3%B8_library_-_2005-09-13.jpg/120px-Troms%C3%B8_library_-_2005-09-1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989000"/>
            <a:ext cx="1943280" cy="146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1" descr=""/>
          <p:cNvPicPr/>
          <p:nvPr/>
        </p:nvPicPr>
        <p:blipFill>
          <a:blip r:embed="rId6">
            <a:alphaModFix amt="70000"/>
          </a:blip>
          <a:srcRect l="0" t="0" r="0" b="8202"/>
          <a:stretch/>
        </p:blipFill>
        <p:spPr>
          <a:xfrm>
            <a:off x="6516720" y="3573360"/>
            <a:ext cx="1800360" cy="124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2" descr=""/>
          <p:cNvPicPr/>
          <p:nvPr/>
        </p:nvPicPr>
        <p:blipFill>
          <a:blip r:embed="rId7"/>
          <a:stretch/>
        </p:blipFill>
        <p:spPr>
          <a:xfrm>
            <a:off x="4859280" y="5013360"/>
            <a:ext cx="345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844640"/>
            <a:ext cx="9144000" cy="446400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71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179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ГИБАЮЩИЕ  СЕМЕЙСТВА  КРИ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413000"/>
          <a:ext cx="8229600" cy="492588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эллип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аралл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ря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1c74"/>
                          </a:solidFill>
                          <a:latin typeface="Times New Roman"/>
                        </a:rPr>
                        <a:t>параб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ибающая семейства окруж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а обстр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8" name="Picture 39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2376360" cy="146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0" descr="t_049i"/>
          <p:cNvPicPr/>
          <p:nvPr/>
        </p:nvPicPr>
        <p:blipFill>
          <a:blip r:embed="rId2"/>
          <a:srcRect l="0" t="46485" r="0" b="16944"/>
          <a:stretch/>
        </p:blipFill>
        <p:spPr>
          <a:xfrm>
            <a:off x="5148360" y="2349360"/>
            <a:ext cx="2879640" cy="1252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6" descr="Рисунок1"/>
          <p:cNvPicPr/>
          <p:nvPr/>
        </p:nvPicPr>
        <p:blipFill>
          <a:blip r:embed="rId3"/>
          <a:srcRect l="6244" t="0" r="2070" b="4466"/>
          <a:stretch/>
        </p:blipFill>
        <p:spPr>
          <a:xfrm>
            <a:off x="539640" y="1916280"/>
            <a:ext cx="2448000" cy="1390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8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2509560" cy="118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9" descr="m00041i"/>
          <p:cNvPicPr/>
          <p:nvPr/>
        </p:nvPicPr>
        <p:blipFill>
          <a:blip r:embed="rId5"/>
          <a:stretch/>
        </p:blipFill>
        <p:spPr>
          <a:xfrm>
            <a:off x="5364000" y="4149720"/>
            <a:ext cx="1811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 rot="16200000">
            <a:off x="3883680" y="1597680"/>
            <a:ext cx="5516640" cy="50036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19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0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УРАВНЕНИЯ,  ЗАДАЮЩИЕ  ОГИБАЮЩУ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824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Огибающая нашего семейства прямых — это множество таких точек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(р,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, при которых уравнение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O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имеет кратный кор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У уравнения 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O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кратный корень бывает в случае, когда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2 = 4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Это уравнение квадратичной параболы и задает огибающ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Поэтому кривая на рисунке— парабо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8920" y="4581360"/>
            <a:ext cx="396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На рисунке на каждой прямой написан ее «номер», т.е. то значение 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х,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при котором уравнение 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2+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1c74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001c74"/>
                </a:solidFill>
                <a:latin typeface="Times New Roman"/>
              </a:rPr>
              <a:t>=0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задает именно эту прям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7" descr=""/>
          <p:cNvPicPr/>
          <p:nvPr/>
        </p:nvPicPr>
        <p:blipFill>
          <a:blip r:embed="rId1">
            <a:grayscl/>
          </a:blip>
          <a:srcRect l="0" t="0" r="0" b="71803"/>
          <a:stretch/>
        </p:blipFill>
        <p:spPr>
          <a:xfrm>
            <a:off x="324000" y="1557360"/>
            <a:ext cx="3671640" cy="2901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7" descr=""/>
          <p:cNvPicPr/>
          <p:nvPr/>
        </p:nvPicPr>
        <p:blipFill>
          <a:blip r:embed="rId2">
            <a:grayscl/>
          </a:blip>
          <a:srcRect l="21872" t="59495" r="0" b="27309"/>
          <a:stretch/>
        </p:blipFill>
        <p:spPr>
          <a:xfrm>
            <a:off x="5435640" y="4724280"/>
            <a:ext cx="3529080" cy="182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29"/>
              <p:cNvSpPr txBox="1"/>
              <p:nvPr/>
            </p:nvSpPr>
            <p:spPr>
              <a:xfrm>
                <a:off x="4643280" y="3500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 rot="16200000">
            <a:off x="-256320" y="1597680"/>
            <a:ext cx="5516640" cy="50036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221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29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00"/>
                </a:solidFill>
                <a:latin typeface="Times New Roman"/>
              </a:rPr>
              <a:t>УРАВНЕНИЯ,  ЗАДАЮЩИЕ  ОГИБАЮЩУ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888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1c74"/>
                </a:solidFill>
                <a:latin typeface="Times New Roman"/>
              </a:rPr>
              <a:t>Для кубического уравнения огибающая получается не гладкой кривой, а кривой с острием, или «клюв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79280" y="4581000"/>
            <a:ext cx="468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Рассмотрим уравнение 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3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px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=0.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Оно задает на 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(р,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c0000"/>
                </a:solidFill>
                <a:latin typeface="Times New Roman"/>
              </a:rPr>
              <a:t>q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)-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плоскости некоторое семейство прямы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На рисунке эти прямые построены</a:t>
            </a:r>
            <a:r>
              <a:rPr b="1" i="1" lang="ru-RU" sz="2000" spc="-1" strike="noStrike">
                <a:solidFill>
                  <a:srgbClr val="4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0000"/>
                </a:solidFill>
                <a:latin typeface="Times New Roman"/>
              </a:rPr>
              <a:t>для  х=0, ±1/3, ±1/2, ±1, ±3/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6"/>
              <p:cNvSpPr txBox="1"/>
              <p:nvPr/>
            </p:nvSpPr>
            <p:spPr>
              <a:xfrm>
                <a:off x="4643280" y="3500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40" name="Рисунок 17" descr=""/>
          <p:cNvPicPr/>
          <p:nvPr/>
        </p:nvPicPr>
        <p:blipFill>
          <a:blip r:embed="rId1">
            <a:grayscl/>
          </a:blip>
          <a:srcRect l="0" t="73642" r="0" b="0"/>
          <a:stretch/>
        </p:blipFill>
        <p:spPr>
          <a:xfrm>
            <a:off x="250920" y="1616040"/>
            <a:ext cx="3744720" cy="2784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0" descr=""/>
          <p:cNvPicPr/>
          <p:nvPr/>
        </p:nvPicPr>
        <p:blipFill>
          <a:blip r:embed="rId2"/>
          <a:srcRect l="0" t="79729" r="0" b="0"/>
          <a:stretch/>
        </p:blipFill>
        <p:spPr>
          <a:xfrm>
            <a:off x="5003640" y="3068640"/>
            <a:ext cx="3924360" cy="25351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29"/>
          <p:cNvSpPr/>
          <p:nvPr/>
        </p:nvSpPr>
        <p:spPr>
          <a:xfrm flipH="1" flipV="1" rot="5400000">
            <a:off x="8662680" y="3874320"/>
            <a:ext cx="3861000" cy="39780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70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1916280"/>
            <a:ext cx="9144000" cy="4681440"/>
          </a:xfrm>
          <a:prstGeom prst="rect">
            <a:avLst/>
          </a:prstGeom>
          <a:solidFill>
            <a:srgbClr val="ffd8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 flipH="1" flipV="1" rot="5400000">
            <a:off x="8590320" y="3656880"/>
            <a:ext cx="3861000" cy="397836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31999" y="0"/>
                </a:moveTo>
                <a:cubicBezTo>
                  <a:pt x="-25627" y="0"/>
                  <a:pt x="-17998" y="2929"/>
                  <a:pt x="-12120" y="8222"/>
                </a:cubicBezTo>
                <a:cubicBezTo>
                  <a:pt x="-12120" y="8223"/>
                  <a:pt x="-12120" y="8223"/>
                  <a:pt x="-12120" y="8223"/>
                </a:cubicBezTo>
                <a:lnTo>
                  <a:pt x="15789" y="8224"/>
                </a:lnTo>
                <a:lnTo>
                  <a:pt x="15789" y="4411"/>
                </a:lnTo>
                <a:lnTo>
                  <a:pt x="15788" y="4410"/>
                </a:lnTo>
                <a:cubicBezTo>
                  <a:pt x="20703" y="1522"/>
                  <a:pt x="26299" y="0"/>
                  <a:pt x="31999" y="0"/>
                </a:cubicBezTo>
                <a:close/>
              </a:path>
            </a:pathLst>
          </a:custGeom>
          <a:solidFill>
            <a:srgbClr val="fea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324000" y="692280"/>
            <a:ext cx="502920" cy="576000"/>
            <a:chOff x="324000" y="692280"/>
            <a:chExt cx="502920" cy="576000"/>
          </a:xfrm>
        </p:grpSpPr>
        <p:sp>
          <p:nvSpPr>
            <p:cNvPr id="247" name="Oval 6"/>
            <p:cNvSpPr/>
            <p:nvPr/>
          </p:nvSpPr>
          <p:spPr>
            <a:xfrm>
              <a:off x="720360" y="9205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589680" y="8445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589680" y="9957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459000" y="76716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454320" y="107172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328320" y="69228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324000" y="1153800"/>
              <a:ext cx="106560" cy="11448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3"/>
          <p:cNvGrpSpPr/>
          <p:nvPr/>
        </p:nvGrpSpPr>
        <p:grpSpPr>
          <a:xfrm>
            <a:off x="900000" y="692280"/>
            <a:ext cx="505080" cy="504720"/>
            <a:chOff x="900000" y="692280"/>
            <a:chExt cx="505080" cy="504720"/>
          </a:xfrm>
        </p:grpSpPr>
        <p:sp>
          <p:nvSpPr>
            <p:cNvPr id="255" name="Oval 14"/>
            <p:cNvSpPr/>
            <p:nvPr/>
          </p:nvSpPr>
          <p:spPr>
            <a:xfrm>
              <a:off x="1297800" y="8920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1166760" y="82584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6"/>
            <p:cNvSpPr/>
            <p:nvPr/>
          </p:nvSpPr>
          <p:spPr>
            <a:xfrm>
              <a:off x="1166760" y="9579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5360" y="75780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31040" y="1024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904320" y="69228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0"/>
            <p:cNvSpPr/>
            <p:nvPr/>
          </p:nvSpPr>
          <p:spPr>
            <a:xfrm>
              <a:off x="900000" y="1096560"/>
              <a:ext cx="107280" cy="100440"/>
            </a:xfrm>
            <a:prstGeom prst="ellipse">
              <a:avLst/>
            </a:pr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ГИБАЮЩИЕ  СЕМЕЙСТВА  ОКРУ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413000"/>
          <a:ext cx="8507520" cy="5111640"/>
        </p:xfrm>
        <a:graphic>
          <a:graphicData uri="http://schemas.openxmlformats.org/drawingml/2006/table">
            <a:tbl>
              <a:tblPr/>
              <a:tblGrid>
                <a:gridCol w="4475160"/>
                <a:gridCol w="40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а ветвь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бо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чески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ружность радиуса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центрами на                     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ной окруж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на слышимости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лета,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ной лод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волн на поверхности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шипник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39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303640" cy="12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2" descr=""/>
          <p:cNvPicPr/>
          <p:nvPr/>
        </p:nvPicPr>
        <p:blipFill>
          <a:blip r:embed="rId2"/>
          <a:stretch/>
        </p:blipFill>
        <p:spPr>
          <a:xfrm>
            <a:off x="2700360" y="3357720"/>
            <a:ext cx="2160720" cy="172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"/>
          <p:cNvPicPr/>
          <p:nvPr/>
        </p:nvPicPr>
        <p:blipFill>
          <a:blip r:embed="rId3"/>
          <a:stretch/>
        </p:blipFill>
        <p:spPr>
          <a:xfrm>
            <a:off x="539640" y="4440240"/>
            <a:ext cx="2087640" cy="2014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4" descr=""/>
          <p:cNvPicPr/>
          <p:nvPr/>
        </p:nvPicPr>
        <p:blipFill>
          <a:blip r:embed="rId4"/>
          <a:srcRect l="2938" t="0" r="7345" b="0"/>
          <a:stretch/>
        </p:blipFill>
        <p:spPr>
          <a:xfrm>
            <a:off x="5435640" y="3213000"/>
            <a:ext cx="2735280" cy="1295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5" descr="m_072i"/>
          <p:cNvPicPr/>
          <p:nvPr/>
        </p:nvPicPr>
        <p:blipFill>
          <a:blip r:embed="rId5"/>
          <a:srcRect l="0" t="18276" r="0" b="26894"/>
          <a:stretch/>
        </p:blipFill>
        <p:spPr>
          <a:xfrm>
            <a:off x="5076720" y="2060640"/>
            <a:ext cx="1987560" cy="1081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http://media1.picsearch.com/is?2qDG4UmqebXniWg2-PDQW-eMgWnOi_H9wRiGjbPWxbk"/>
          <p:cNvPicPr/>
          <p:nvPr/>
        </p:nvPicPr>
        <p:blipFill>
          <a:blip r:embed="rId6"/>
          <a:stretch/>
        </p:blipFill>
        <p:spPr>
          <a:xfrm>
            <a:off x="5219640" y="49417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59:23Z</dcterms:created>
  <dc:creator>name</dc:creator>
  <dc:description/>
  <dc:language>en-US</dc:language>
  <cp:lastModifiedBy>User</cp:lastModifiedBy>
  <dcterms:modified xsi:type="dcterms:W3CDTF">2015-04-13T15:03:25Z</dcterms:modified>
  <cp:revision>35</cp:revision>
  <dc:subject/>
  <dc:title>ОГИБАЮЩАЯ</dc:title>
</cp:coreProperties>
</file>