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560-8E3E-40C0-BF54-1E3135DA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17A1-7CCA-425F-96F3-69954054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B7DC-6CA7-4CE4-9708-B8A073D8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9E0-1EFF-4993-9454-6A5F3518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8A2A5-58A6-4C3F-9B2C-6A81F710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44AF6-8515-46A7-8797-E4B06DC4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AEE82-0961-4E24-9079-B5916C59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487D8-37B1-4FA2-BCC7-6BCF63E9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BD2D3-8A37-4DCE-AD85-3E0CC2D9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057B0-9379-4FDD-B3EA-F6189704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3EDFF-7DEF-4A06-8D7D-6EE554D3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5BE-2166-4063-A972-D8F79218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AF3D0-FAEE-48D4-94F0-A38E9AC3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87EE0-948D-452F-B026-2014CF0A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6848F-4338-4555-9BF7-DC1EC48B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4E34E-8F00-4314-9A62-7E363745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ADD19-25D3-43AE-97DB-F434D4C6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82B1-B31C-4852-80A1-B6318E45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CB7-8029-4A15-825D-399D6DF6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E52F-3AF6-4661-9257-01787179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1E0-87A0-47E2-BC0A-C20EDFD4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380-3617-4514-BF25-1C08DC95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FBB-A658-4528-9DEB-051E9E81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58D-6CCE-4927-88AA-92D369A8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671D-E1EA-40D6-BDB8-41B423A79F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10"/>
          <p:cNvSpPr/>
          <p:nvPr/>
        </p:nvSpPr>
        <p:spPr>
          <a:xfrm>
            <a:off x="0" y="5715000"/>
            <a:ext cx="9169560" cy="97776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6ac6efb25e0a35d160b484086b39328b"/>
          <p:cNvPicPr/>
          <p:nvPr/>
        </p:nvPicPr>
        <p:blipFill>
          <a:blip r:embed="rId2"/>
          <a:stretch/>
        </p:blipFill>
        <p:spPr>
          <a:xfrm>
            <a:off x="304920" y="304920"/>
            <a:ext cx="39996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9" descr="EqWorld logo"/>
          <p:cNvPicPr/>
          <p:nvPr/>
        </p:nvPicPr>
        <p:blipFill>
          <a:blip r:embed="rId2"/>
          <a:stretch/>
        </p:blipFill>
        <p:spPr>
          <a:xfrm>
            <a:off x="380880" y="304920"/>
            <a:ext cx="2052720" cy="107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0" descr="6ac6efb25e0a35d160b484086b39328b"/>
          <p:cNvPicPr/>
          <p:nvPr/>
        </p:nvPicPr>
        <p:blipFill>
          <a:blip r:embed="rId3"/>
          <a:stretch/>
        </p:blipFill>
        <p:spPr>
          <a:xfrm>
            <a:off x="1143000" y="45720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Freeform 31"/>
          <p:cNvSpPr/>
          <p:nvPr/>
        </p:nvSpPr>
        <p:spPr>
          <a:xfrm>
            <a:off x="0" y="5181480"/>
            <a:ext cx="9169560" cy="97812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2" descr="6ac6efb25e0a35d160b484086b39328b"/>
          <p:cNvPicPr/>
          <p:nvPr/>
        </p:nvPicPr>
        <p:blipFill>
          <a:blip r:embed="rId4"/>
          <a:stretch/>
        </p:blipFill>
        <p:spPr>
          <a:xfrm>
            <a:off x="1295280" y="609480"/>
            <a:ext cx="400320" cy="400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BBBB-7288-4EE8-AB39-F7863BA53B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Опиливани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Разработал учитель технологии высшей категории, Почетный работник Начального Профессионального Образования Российской Федераци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МБОУ «СОШ № 7» г. Калуг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Герасимов Владислав  Александр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Прямоугольник 6" descr=""/>
          <p:cNvPicPr/>
          <p:nvPr/>
        </p:nvPicPr>
        <p:blipFill>
          <a:blip r:embed="rId1"/>
          <a:stretch/>
        </p:blipFill>
        <p:spPr>
          <a:xfrm>
            <a:off x="1504800" y="487440"/>
            <a:ext cx="4621320" cy="396864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7" descr=""/>
          <p:cNvPicPr/>
          <p:nvPr/>
        </p:nvPicPr>
        <p:blipFill>
          <a:blip r:embed="rId2"/>
          <a:stretch/>
        </p:blipFill>
        <p:spPr>
          <a:xfrm>
            <a:off x="4200480" y="2639880"/>
            <a:ext cx="268776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еличине зубьев насечки и их числу на 10 мм длины рабочей части различа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80880" y="1066680"/>
          <a:ext cx="8534520" cy="493416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1218960"/>
                <a:gridCol w="3048120"/>
              </a:tblGrid>
              <a:tr h="135324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Число основных насечек на 10 мм длины напиль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Номер насе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Приме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903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аче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.. 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вое опиливание заготовок для снятия большого припуска металла (до 0,5 м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4264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.. 2012..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овое опиливание для снятия малого припуска металла (до 0,15 м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483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ха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…4028... 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ная отделка, шлифование и доводка дета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15" name="Прямоугольник 4"/>
          <p:cNvSpPr/>
          <p:nvPr/>
        </p:nvSpPr>
        <p:spPr>
          <a:xfrm>
            <a:off x="3597840" y="609588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записать в тетрад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Получение зубьев у напильника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канием – на пилонасекательных станках с помощью специального зуб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езерованием или шлифов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ягив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записать в тетрад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Виды насечек.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инарная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для мягких материалов (латунь, медь, алюминий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войная (перекрестная)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для твердых материалов (чугун, ста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шпильная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для обработки неметаллов (дерево, оргстекло, кожа. к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уговая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для мягких материал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Уход за напильниками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хранять от ударов (хранить на деревянных подставка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ть попадания влаги (корроз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ется попадания масла (напильник будет скользить, теряется острота зуб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 напильники только по назнач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напильники лучше обрабатывать сначала мягкие материалы или натирать м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льники очищают кордовой щет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Тестовая контрольная работа по теме “Опиливание”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57200" y="228600"/>
          <a:ext cx="8229600" cy="6324480"/>
        </p:xfrm>
        <a:graphic>
          <a:graphicData uri="http://schemas.openxmlformats.org/drawingml/2006/table">
            <a:tbl>
              <a:tblPr/>
              <a:tblGrid>
                <a:gridCol w="914400"/>
                <a:gridCol w="3200400"/>
                <a:gridCol w="762120"/>
                <a:gridCol w="3352680"/>
              </a:tblGrid>
              <a:tr h="60804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40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Опиливание – это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Одинарная, двойная (перекрестная), рашпильная, дугова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9856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Напильники выполняются из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мелкие напильники для ювелирных, граверных работ и зачистки в трудно доступных мест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8444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Напильники с одинарной насечкой применяются для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Насеканием, фрезерованием или шлифованием, протягивани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840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Виды насеч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Обработки неметаллов (дерево, оргстекло, кожа. кость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8264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Надфили– это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Углеродистой инструментальной сталиУ10А, У13, У13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840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Напильники с рашпильной насечкой применяются для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Обработки мягких материалов (латунь, медь, алюминий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9856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Получение зубьев у напильника выполняется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Операция по снятию лишнего слоя металла режущим инструментом напильник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Задание на дом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61645"/>
                </a:solidFill>
                <a:latin typeface="Monotype Corsiva"/>
              </a:rPr>
              <a:t>Выучить записи в тетради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7631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знакомить учащихся с операцией опиливание, основным инструментом, правилами и приёмами опиливания заготовок из сортового прок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проведения занят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еседа; проблемная ситуация; демонстрация; работа с пособием; инструктаж; практическ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работы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готовка для изделия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,eht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ащение занят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омпьютер, проектор, плакаты “Опиливание”, карточки для рабочей тетради, карточки с кроссвордом, технологическая карта на изготовление изделия, тиски, инструменты, образец изготовляемой де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28600" y="228600"/>
            <a:ext cx="87631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Актуализация и проверка знания учащимися ранее изученного учебного материа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Опиливание металла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пилив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–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перация по снятию лишнего слоя металла режущим инструментом напильн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(записать в тетрад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8800" spc="-1" strike="noStrike">
                <a:solidFill>
                  <a:srgbClr val="ff0000"/>
                </a:solidFill>
                <a:latin typeface="Monotype Corsiva"/>
              </a:rPr>
              <a:t>Напильник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пильни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стальной стержень определенного сечения, на гранях которого выполнена насе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(записать в тетрад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0" y="435024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пильники выполняются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углеродистой инструментальной 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У10А, У13, У13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Monotype Corsiva"/>
              </a:rPr>
              <a:t>Напильник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" descr="D:\Documents and Settings\Admin\Рабочий стол\img1.GIF"/>
          <p:cNvPicPr/>
          <p:nvPr/>
        </p:nvPicPr>
        <p:blipFill>
          <a:blip r:embed="rId1"/>
          <a:stretch/>
        </p:blipFill>
        <p:spPr>
          <a:xfrm>
            <a:off x="152280" y="1600200"/>
            <a:ext cx="4711680" cy="195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2438280" y="3581280"/>
          <a:ext cx="6096240" cy="20844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84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учка.2. Хвостовик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Кольцо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ятка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ебро.6. Рабочая часть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Грань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Нос (носок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По профилю рабочей части напильники разделяются н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D:\Documents and Settings\Admin\Рабочий стол\img2.GIF"/>
          <p:cNvPicPr/>
          <p:nvPr/>
        </p:nvPicPr>
        <p:blipFill>
          <a:blip r:embed="rId1"/>
          <a:stretch/>
        </p:blipFill>
        <p:spPr>
          <a:xfrm>
            <a:off x="380880" y="1523880"/>
            <a:ext cx="556272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5867280" y="1447920"/>
          <a:ext cx="2667240" cy="5211720"/>
        </p:xfrm>
        <a:graphic>
          <a:graphicData uri="http://schemas.openxmlformats.org/drawingml/2006/table">
            <a:tbl>
              <a:tblPr/>
              <a:tblGrid>
                <a:gridCol w="2667240"/>
              </a:tblGrid>
              <a:tr h="52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пло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квадрат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трёхгра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полукругл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кругл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) ромб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Классификация напильников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38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льники общего на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" y="1397160"/>
          <a:ext cx="8458200" cy="1806480"/>
        </p:xfrm>
        <a:graphic>
          <a:graphicData uri="http://schemas.openxmlformats.org/drawingml/2006/table">
            <a:tbl>
              <a:tblPr/>
              <a:tblGrid>
                <a:gridCol w="1692360"/>
                <a:gridCol w="1690560"/>
                <a:gridCol w="1692360"/>
                <a:gridCol w="1690560"/>
                <a:gridCol w="1692360"/>
              </a:tblGrid>
              <a:tr h="6879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№ № </a:t>
                      </a: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насеч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Припуск,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Точность обработки,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Кол-во насечек на 1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аче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-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 – 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 -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29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;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 – 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 – 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 -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хат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 – 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 – 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8" name="Rectangle 1"/>
          <p:cNvSpPr/>
          <p:nvPr/>
        </p:nvSpPr>
        <p:spPr>
          <a:xfrm>
            <a:off x="0" y="32040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пециальные напильники – для обработки специальных спла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) 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арированные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– для обработки изделий из легких спла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 ) 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лмазные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– для обработки и доводки твердосплавных материал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304920" y="39625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шпили –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для обработки неметаллов (дерево и т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49273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дфили – 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это мелкие напильники для ювелирных, гравер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 зачистки в трудно доступных местах. По форме они такие же,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 напильники общего назначения – плоские, трехгранные, круглые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Monotype Corsiva"/>
              </a:rPr>
              <a:t>Насечки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" descr="D:\Documents and Settings\Admin\Рабочий стол\img3.GIF"/>
          <p:cNvPicPr/>
          <p:nvPr/>
        </p:nvPicPr>
        <p:blipFill>
          <a:blip r:embed="rId1"/>
          <a:stretch/>
        </p:blipFill>
        <p:spPr>
          <a:xfrm>
            <a:off x="914400" y="1500120"/>
            <a:ext cx="73152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8-20T16:41:3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