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BC71-5C9A-4268-B7B3-8AC24D923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998D-8EFE-4799-AFE7-55F9EE21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6607-0035-4DE6-85FB-CBCBD2771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E8C5-1EC0-4A76-85A0-3A387AADA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CCAD7-7F88-4FDE-9BDD-F4EE146CC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3DECF-DC38-4645-88E2-D1F40B3A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C5DAA-0B01-481C-BEAD-FDB3A1FD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265DE2-CB80-4E59-BD14-C31D7AA1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A5ED6-1484-4A47-A89D-955DBEC8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B9BBC-7586-47F9-AC22-9FDBE30F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3B928-699C-4DA8-8B5A-41D76D59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C651-3809-423F-B670-F6F25986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832B40-5F8F-49E2-A80E-8E1ECBC6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AAD22-1E8D-4F80-A0BC-8C6A9D52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5A386-A1B9-4649-94BA-14C4D403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4BED3-0825-4425-99B5-ACD6EBD90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A0541-0F24-479E-B907-545D5542B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6734-0182-4367-AB00-FFCA3EA7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C6C7-449A-4C71-BCC2-8BCE6E4C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7E23-995D-4C27-A4CA-810B3E0D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F3AE-1C64-4BE0-85B2-0AE54968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AD4C-3582-4BCC-B1A6-A5E09CB4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2A74-F200-439E-90D3-A8E23D59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1D9A-765D-4C7A-88BA-3207F9E1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95dc"/>
            </a:gs>
            <a:gs pos="100000">
              <a:srgbClr val="ff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42A3-AE94-4D21-9971-20B348C337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10"/>
          <p:cNvSpPr/>
          <p:nvPr/>
        </p:nvSpPr>
        <p:spPr>
          <a:xfrm>
            <a:off x="0" y="5715000"/>
            <a:ext cx="9169560" cy="97776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1" descr="6ac6efb25e0a35d160b484086b39328b"/>
          <p:cNvPicPr/>
          <p:nvPr/>
        </p:nvPicPr>
        <p:blipFill>
          <a:blip r:embed="rId2"/>
          <a:stretch/>
        </p:blipFill>
        <p:spPr>
          <a:xfrm>
            <a:off x="304920" y="304920"/>
            <a:ext cx="399960" cy="39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95dc"/>
            </a:gs>
            <a:gs pos="100000">
              <a:srgbClr val="ff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9" descr="EqWorld logo"/>
          <p:cNvPicPr/>
          <p:nvPr/>
        </p:nvPicPr>
        <p:blipFill>
          <a:blip r:embed="rId2"/>
          <a:stretch/>
        </p:blipFill>
        <p:spPr>
          <a:xfrm>
            <a:off x="380880" y="304920"/>
            <a:ext cx="2052720" cy="1073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0" descr="6ac6efb25e0a35d160b484086b39328b"/>
          <p:cNvPicPr/>
          <p:nvPr/>
        </p:nvPicPr>
        <p:blipFill>
          <a:blip r:embed="rId3"/>
          <a:stretch/>
        </p:blipFill>
        <p:spPr>
          <a:xfrm>
            <a:off x="1143000" y="457200"/>
            <a:ext cx="399960" cy="399960"/>
          </a:xfrm>
          <a:prstGeom prst="rect">
            <a:avLst/>
          </a:prstGeom>
          <a:ln w="0">
            <a:noFill/>
          </a:ln>
        </p:spPr>
      </p:pic>
      <p:sp>
        <p:nvSpPr>
          <p:cNvPr id="45" name="Freeform 31"/>
          <p:cNvSpPr/>
          <p:nvPr/>
        </p:nvSpPr>
        <p:spPr>
          <a:xfrm>
            <a:off x="0" y="5181480"/>
            <a:ext cx="9169560" cy="97812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2" descr="6ac6efb25e0a35d160b484086b39328b"/>
          <p:cNvPicPr/>
          <p:nvPr/>
        </p:nvPicPr>
        <p:blipFill>
          <a:blip r:embed="rId4"/>
          <a:stretch/>
        </p:blipFill>
        <p:spPr>
          <a:xfrm>
            <a:off x="1295280" y="609480"/>
            <a:ext cx="400320" cy="400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A658-D795-4CDA-A54D-EBD222FFF3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Monotype Corsiva"/>
              </a:rPr>
              <a:t>Опиливание.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48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Разработал учитель технологии высшей категории, Почетный работник Начального Профессионального Образования Российской Федерации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МБОУ «СОШ № 7» г. Калуги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Герасимов Владислав  Александров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Прямоугольник 6" descr=""/>
          <p:cNvPicPr/>
          <p:nvPr/>
        </p:nvPicPr>
        <p:blipFill>
          <a:blip r:embed="rId1"/>
          <a:stretch/>
        </p:blipFill>
        <p:spPr>
          <a:xfrm>
            <a:off x="1504800" y="487440"/>
            <a:ext cx="4621320" cy="396864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7" descr=""/>
          <p:cNvPicPr/>
          <p:nvPr/>
        </p:nvPicPr>
        <p:blipFill>
          <a:blip r:embed="rId2"/>
          <a:stretch/>
        </p:blipFill>
        <p:spPr>
          <a:xfrm>
            <a:off x="4200480" y="2639880"/>
            <a:ext cx="268776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еличине зубьев насечки и их числу на 10 мм длины рабочей части различаю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80880" y="1066680"/>
          <a:ext cx="8534520" cy="4934160"/>
        </p:xfrm>
        <a:graphic>
          <a:graphicData uri="http://schemas.openxmlformats.org/drawingml/2006/table">
            <a:tbl>
              <a:tblPr/>
              <a:tblGrid>
                <a:gridCol w="2133720"/>
                <a:gridCol w="2133720"/>
                <a:gridCol w="1218960"/>
                <a:gridCol w="3048120"/>
              </a:tblGrid>
              <a:tr h="135324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Число основных насечек на 10 мм длины напильн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Номер насеч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Приме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39032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ачев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... 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новое опиливание заготовок для снятия большого припуска металла (до 0,5 м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14264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.. 2012...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товое опиливание для снятия малого припуска металла (до 0,15 м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4832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хат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…4028... 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чная отделка, шлифование и доводка дета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15" name="Прямоугольник 4"/>
          <p:cNvSpPr/>
          <p:nvPr/>
        </p:nvSpPr>
        <p:spPr>
          <a:xfrm>
            <a:off x="3597840" y="6095880"/>
            <a:ext cx="252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записать в тетрад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Получение зубьев у напильника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еканием – на пилонасекательных станках с помощью специального зуби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езерованием или шлифова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ягива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(записать в тетрад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Monotype Corsiva"/>
              </a:rPr>
              <a:t>Виды насечек.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инарная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для мягких материалов (латунь, медь, алюминий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войная (перекрестная)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для твердых материалов (чугун, стал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шпильная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для обработки неметаллов (дерево, оргстекло, кожа. к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уговая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для мягких материал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Уход за напильниками.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хранять от ударов (хранить на деревянных подставках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пускать попадания влаги (корроз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пускается попадания масла (напильник будет скользить, теряется острота зуб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ть напильники только по назнач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напильники лучше обрабатывать сначала мягкие материалы или натирать ме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льники очищают кордовой щет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Monotype Corsiva"/>
              </a:rPr>
              <a:t>Тестовая контрольная работа по теме “Опиливание”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c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457200" y="228600"/>
          <a:ext cx="8229600" cy="6324480"/>
        </p:xfrm>
        <a:graphic>
          <a:graphicData uri="http://schemas.openxmlformats.org/drawingml/2006/table">
            <a:tbl>
              <a:tblPr/>
              <a:tblGrid>
                <a:gridCol w="914400"/>
                <a:gridCol w="3200400"/>
                <a:gridCol w="762120"/>
                <a:gridCol w="3352680"/>
              </a:tblGrid>
              <a:tr h="60804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Отв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8408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Опиливание – это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Одинарная, двойная (перекрестная), рашпильная, дугова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9856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Напильники выполняются из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мелкие напильники для ювелирных, граверных работ и зачистки в трудно доступных места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8444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Напильники с одинарной насечкой применяются для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Насеканием, фрезерованием или шлифованием, протягивание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8408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Виды насеч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Обработки неметаллов (дерево, оргстекло, кожа. кость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8264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Надфили– это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Углеродистой инструментальной сталиУ10А, У13, У13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8408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Напильники с рашпильной насечкой применяются для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Обработки мягких материалов (латунь, медь, алюминий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9856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Получение зубьев у напильника выполняется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Операция по снятию лишнего слоя металла режущим инструментом напильнико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Monotype Corsiva"/>
              </a:rPr>
              <a:t>Задание на дом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161645"/>
                </a:solidFill>
                <a:latin typeface="Monotype Corsiva"/>
              </a:rPr>
              <a:t>Выучить записи в тетради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52280" y="-360"/>
            <a:ext cx="876312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ознакомить учащихся с операцией опиливание, основным инструментом, правилами и приёмами опиливания заготовок из сортового прока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проведения занятия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беседа; проблемная ситуация; демонстрация; работа с пособием; инструктаж; практическая раб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работы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заготовка для изделия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f,eht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ащение занятия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компьютер, проектор, плакаты “Опиливание”, карточки для рабочей тетради, карточки с кроссвордом, технологическая карта на изготовление изделия, тиски, инструменты, образец изготовляемой дет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228600" y="228600"/>
            <a:ext cx="876312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Актуализация и проверка знания учащимися ранее изученного учебного материа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Опиливание металла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пиливан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–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операция по снятию лишнего слоя металла режущим инструментом напильни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(записать в тетрад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8800" spc="-1" strike="noStrike">
                <a:solidFill>
                  <a:srgbClr val="ff0000"/>
                </a:solidFill>
                <a:latin typeface="Monotype Corsiva"/>
              </a:rPr>
              <a:t>Напильник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пильник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это стальной стержень определенного сечения, на гранях которого выполнена насе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(записать в тетрад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"/>
          <p:cNvSpPr/>
          <p:nvPr/>
        </p:nvSpPr>
        <p:spPr>
          <a:xfrm>
            <a:off x="0" y="4350240"/>
            <a:ext cx="891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апильники выполняются 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углеродистой инструментальной ст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У10А, У13, У13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0000"/>
                </a:solidFill>
                <a:latin typeface="Monotype Corsiva"/>
              </a:rPr>
              <a:t>Напильник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" descr="D:\Documents and Settings\Admin\Рабочий стол\img1.GIF"/>
          <p:cNvPicPr/>
          <p:nvPr/>
        </p:nvPicPr>
        <p:blipFill>
          <a:blip r:embed="rId1"/>
          <a:stretch/>
        </p:blipFill>
        <p:spPr>
          <a:xfrm>
            <a:off x="152280" y="1600200"/>
            <a:ext cx="4711680" cy="1957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2438280" y="3581280"/>
          <a:ext cx="6096240" cy="20844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20844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Ручка.2. Хвостовик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Кольцо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Пятка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Ребро.6. Рабочая часть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Грань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Нос (носок)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По профилю рабочей части напильники разделяются н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D:\Documents and Settings\Admin\Рабочий стол\img2.GIF"/>
          <p:cNvPicPr/>
          <p:nvPr/>
        </p:nvPicPr>
        <p:blipFill>
          <a:blip r:embed="rId1"/>
          <a:stretch/>
        </p:blipFill>
        <p:spPr>
          <a:xfrm>
            <a:off x="380880" y="1523880"/>
            <a:ext cx="5562720" cy="533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5867280" y="1447920"/>
          <a:ext cx="2667240" cy="5211720"/>
        </p:xfrm>
        <a:graphic>
          <a:graphicData uri="http://schemas.openxmlformats.org/drawingml/2006/table">
            <a:tbl>
              <a:tblPr/>
              <a:tblGrid>
                <a:gridCol w="2667240"/>
              </a:tblGrid>
              <a:tr h="521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плоск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квадрат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трёхгран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полукругл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) кругл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) ромбическ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Классификация напильников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8380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льники общего назна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28600" y="1397160"/>
          <a:ext cx="8458200" cy="1806480"/>
        </p:xfrm>
        <a:graphic>
          <a:graphicData uri="http://schemas.openxmlformats.org/drawingml/2006/table">
            <a:tbl>
              <a:tblPr/>
              <a:tblGrid>
                <a:gridCol w="1692360"/>
                <a:gridCol w="1690560"/>
                <a:gridCol w="1692360"/>
                <a:gridCol w="1690560"/>
                <a:gridCol w="1692360"/>
              </a:tblGrid>
              <a:tr h="68796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№ № </a:t>
                      </a: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насеч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Припуск,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Точность обработки,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Кол-во насечек на 10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260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ачев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;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 -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 – 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 - 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296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;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 – 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 – 0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5 - 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260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хат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;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 – 0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 – 0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08" name="Rectangle 1"/>
          <p:cNvSpPr/>
          <p:nvPr/>
        </p:nvSpPr>
        <p:spPr>
          <a:xfrm>
            <a:off x="0" y="32040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пециальные напильники – для обработки специальных сплав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а) 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Тарированные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– для обработки изделий из легких сплав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б ) 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Алмазные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– для обработки и доводки твердосплавных материал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304920" y="396252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шпили –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для обработки неметаллов (дерево и т.п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0" y="49273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адфили – 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это мелкие напильники для ювелирных, граверных ра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и зачистки в трудно доступных местах. По форме они такие же,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и напильники общего назначения – плоские, трехгранные, круглые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Monotype Corsiva"/>
              </a:rPr>
              <a:t>Насечки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" descr="D:\Documents and Settings\Admin\Рабочий стол\img3.GIF"/>
          <p:cNvPicPr/>
          <p:nvPr/>
        </p:nvPicPr>
        <p:blipFill>
          <a:blip r:embed="rId1"/>
          <a:stretch/>
        </p:blipFill>
        <p:spPr>
          <a:xfrm>
            <a:off x="914400" y="1500120"/>
            <a:ext cx="731520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8-20T16:41:35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