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B7F-8E98-4D2C-ADA9-7E93E1A9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733-8D53-43DA-A50F-E9C6B239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1DF-BCF3-40DF-AA4B-415A0D53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99B-642A-48D8-A0F3-0B0F9971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BBF4-EBB8-47F3-B76D-2C16202D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757A-87EF-4B56-8ACC-C914FF2A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A4A7-A233-4B38-9560-0E3C53B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FE77-4D4E-4D61-AA17-9B708F37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09A8-A26A-4F77-B490-427D0F46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9002-382F-47ED-AAF2-ADA6B5B0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6099-D52D-437C-A473-C3A312E3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46C-12A5-4FC5-9A33-40A97106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46D7-248C-4C22-BA17-AEC219C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042F-6FBA-42BF-A900-C0023039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A34B-6D9D-41E7-A470-76983E4A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64AA-1BFE-40C5-9BC6-30F9F69B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DAA5-1EFF-468F-98B9-2A029A53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C5E-7BC5-4757-B430-28F6EA77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8B3-54A4-4E5E-AAA0-3DD9B5D7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D46-50F0-4404-BB33-3A6C18D8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51A-3706-4CB8-9D3B-6C5ACBBE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E3F-50C4-4373-BCD1-14D02EB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BB0-91C8-44C0-8088-801FE84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CD3-2801-4ADE-B627-3E489A14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DC36-8E72-4069-BA94-4D734FA349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08A1-468A-4475-8438-DDE5168A08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6;&#1077;&#1089;&#1091;&#1088;&#1089;&#1085;&#1086;&#1077;%20&#1086;&#1073;&#1077;&#1089;&#1087;&#1077;&#1095;&#1077;&#1085;&#1080;&#1077;" TargetMode="External"/><Relationship Id="rId2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0;&#1086;&#1086;&#1088;&#1076;&#1080;&#1085;&#1072;&#1094;&#1080;&#1103;%20&#1076;&#1077;&#1103;&#1090;&#1077;&#1083;&#1100;&#1085;&#1086;&#1089;&#1090;&#1080;%20&#1089;&#1087;&#1077;&#1094;&#1080;&#1072;&#1083;&#1080;&#1089;&#1090;&#1086;&#1074;%20&#1080;%20&#1074;&#1086;&#1089;&#1087;&#1080;&#1090;&#1072;&#1090;&#1077;&#1083;&#1077;&#1081;.doc" TargetMode="External"/><Relationship Id="rId3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5;&#1091;&#1090;&#1080;%20&#1074;&#1079;&#1072;&#1080;&#1084;&#1086;&#1076;&#1077;&#1081;&#1089;&#1090;&#1074;&#1080;&#1071;.doc" TargetMode="External"/><Relationship Id="rId4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2;&#1086;&#1076;&#1077;&#1083;&#1100;%20&#1074;&#1079;&#1072;&#1080;&#1084;&#1086;&#1076;&#1077;&#1081;&#1089;&#1090;&#1074;&#1080;&#1103;.doc" TargetMode="External"/><Relationship Id="rId5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7;&#1080;&#1089;&#1090;&#1077;&#1084;&#1072;%20&#1084;&#1077;&#1090;&#1086;&#1076;&#1080;&#1095;&#1077;&#1089;&#1082;&#1086;&#1081;%20&#1088;&#1072;&#1073;&#1086;&#1090;&#1099;.doc" TargetMode="External"/><Relationship Id="rId6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5;&#1083;&#1072;&#1085;%20&#1088;&#1072;&#1073;&#1086;&#1090;&#1099;%20&#1090;&#1074;&#1086;&#1088;&#1095;&#1077;&#1089;&#1082;&#1086;&#1081;%20&#1075;&#1088;&#1091;&#1087;&#1087;&#1099;.doc" TargetMode="External"/><Relationship Id="rId7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7;&#1045;&#1052;&#1048;&#1053;&#1040;&#1056;-&#1055;&#1056;&#1040;&#1050;&#1058;&#1048;&#1050;&#1059;&#1052;%20&#1082;&#1086;&#1088;&#1088;&#1077;&#1082;&#1094;&#1080;&#1080;%20&#1088;&#1077;&#1095;&#1077;&#1074;&#1086;&#1075;&#1086;.doc" TargetMode="External"/><Relationship Id="rId8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8;&#1088;&#1077;&#1085;&#1080;&#1085;&#1075;%20&#1087;&#1077;&#1076;&#1072;&#1075;&#1086;&#1075;&#1080;&#1095;&#1077;&#1089;&#1082;&#1086;&#1081;%20&#1086;&#1089;&#1086;&#1079;&#1085;&#1072;&#1085;&#1085;&#1086;&#1089;&#1090;&#1080;.doc" TargetMode="External"/><Relationship Id="rId9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60;&#1056;&#1040;&#1043;&#1052;&#1045;&#1053;&#1058;%20&#1055;&#1045;&#1044;&#1040;&#1043;&#1054;&#1043;&#1048;&#1063;&#1045;&#1057;&#1050;&#1054;&#1043;&#1054;%20&#1057;&#1054;&#1042;&#1045;&#1058;&#1040;.doc" TargetMode="External"/><Relationship Id="rId10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8;&#1086;&#1082;-&#1089;&#1086;&#1074;&#1077;&#1090;%20&#1087;&#1086;%20&#1086;&#1088;&#1075;&#1072;&#1085;&#1080;&#1079;&#1072;&#1094;&#1080;&#1080;%20&#1088;&#1072;&#1079;&#1074;&#1080;&#1074;&#1072;&#1102;&#1097;&#1077;&#1081;%20&#1089;&#1088;&#1077;&#1076;&#1099;.doc" TargetMode="Externa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8;&#1045;&#1052;&#1040;&#1058;&#1048;&#1063;&#1045;&#1057;&#1050;&#1054;&#1045;%20&#1055;&#1051;&#1040;&#1053;&#1048;&#1056;&#1054;&#1042;&#1040;&#1053;&#1048;&#1045;%20&#1079;&#1072;&#1085;&#1103;&#1090;&#1080;&#1081;%20&#1087;&#1089;&#1080;&#1093;&#1086;&#1083;&#1086;&#1075;&#1072;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280" y="1844280"/>
            <a:ext cx="6985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ическое сопровождение построения развивающей предметно - пространственной среды для дошкольников с ограниченными 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332000" y="3789360"/>
            <a:ext cx="6985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обейникова Елена Васильевн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ший воспита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КДОУ  № 1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332000" y="6021360"/>
            <a:ext cx="6629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Киров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Ресурсное обеспечение построения коррекционной сред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419640" y="2205000"/>
            <a:ext cx="2663640" cy="338472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384720"/>
              <a:gd name="textAreaBottom" fmla="*/ 3254760 h 3384720"/>
            </a:gdLst>
            <a:ahLst/>
            <a:rect l="textAreaLeft" t="textAreaTop" r="textAreaRight" b="textAreaBottom"/>
            <a:pathLst>
              <a:path w="21600" h="27447">
                <a:moveTo>
                  <a:pt x="3600" y="0"/>
                </a:moveTo>
                <a:arcTo wR="3600" hR="3600" stAng="16200000" swAng="-5400000"/>
                <a:lnTo>
                  <a:pt x="0" y="23847"/>
                </a:lnTo>
                <a:arcTo wR="3600" hR="3600" stAng="10800000" swAng="-5400000"/>
                <a:lnTo>
                  <a:pt x="18000" y="274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й ср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о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ЗПР в усло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ения ФГОС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755640" y="184464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ав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6804000" y="191628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84360" y="4797360"/>
            <a:ext cx="180000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етод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877080" y="479736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ех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84360" y="3357720"/>
            <a:ext cx="180000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804000" y="335772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 flipV="1">
            <a:off x="2555640" y="2637000"/>
            <a:ext cx="863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 flipV="1">
            <a:off x="6084720" y="2565000"/>
            <a:ext cx="719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H="1">
            <a:off x="2484360" y="3716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608472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 flipH="1">
            <a:off x="2484360" y="3716280"/>
            <a:ext cx="935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6084720" y="3716280"/>
            <a:ext cx="792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Этапы работы по реализации методической цели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этап: информационно – мотивацио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 научно-методической литературы по проблеме и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мотивации на успех педагогов и специалистов, работающих с детьми с З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сихологических и личностных особенностей детей с З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становок к взаимодействию педагогов, специалистов,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этап:проблемно – практический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08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а психоречевого развития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ение корректив в реализуемые в ДОУ образовательные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взаимодействия педагогов, специалистов, родителей в условиях введения ФГОС Д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и реализация комплексно-тематических планов по развитию психических проце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системы методической работы, направленной на повышение профессионализма воспитателей и специалис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и внедрение системы физкультурно-оздоровите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и реализация комплексно-тематических планов по коррекции и развитию речи, навыков изодеятельности детей с З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у педагогов и родителей навыков построения личностно – ориентированных взаимоотношений с детьми с ограниченными возможностями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ение педагогам, специалистам, родителям специальных знаний по коррекции психоречевого развития детей с З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этап: аналитико -результативны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зультатов комплексной  итоговой диагностики психического и речевого развития детей с участием всех специалистов: старшего воспитателя, педагога-психолога, учителя-дефектолога, старшей медсестры, врача – психиатра, музыкального руководителя, воспит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эффективности коррекционной среды для детей с ЗПР в условиях введения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личного вклада каждого педагога и специалиста в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критериев построения программы развития МК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Критерии эффективност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развития детей в соответствии с адаптированной программой С.Г.Шевченк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модели взаимодействия педагогов и специалистов в педагогическом процессе в условиях введения ФГОС Д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ность обучения выпускников МКДОУ в массов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Результа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адаптированной программы С.Г.Шевченко «Подготовка к школе детей с задержкой психического развити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направленность педагогов и специалистов на специфику работы с детьми с ЗПР в условиях введения ФГОС Д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модели взаимодействия педагогов и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остановка новой пробле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056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авторской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коррекции псих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ей с  З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Photo018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55640" y="3357720"/>
            <a:ext cx="2968560" cy="2189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Photo018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348000" y="3860640"/>
            <a:ext cx="295740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Photo018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940360" y="4437000"/>
            <a:ext cx="2922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Наши координа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63640" y="2060640"/>
            <a:ext cx="56484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.Ки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л.Кутшо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л.: 23-96-58;23-70-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Наши дети 08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35640" y="4508640"/>
            <a:ext cx="2952720" cy="20952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"/>
          <p:cNvSpPr/>
          <p:nvPr/>
        </p:nvSpPr>
        <p:spPr>
          <a:xfrm>
            <a:off x="4932360" y="3429000"/>
            <a:ext cx="39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Старший воспитатель Коробейникова Еле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ложения и методические разработ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Ресурсное обеспечение построения коррекционно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Координация деятельности педаго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Пути взаимо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Модель взаимо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Система методическ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План работы творческой группы по коррекции З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Семинар – практикум по коррекции психоречевого развит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Тренинг педагогической осозн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Педсовет в форме деловой игры (фрагмент в видеоприложен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План проведения педсовета «Ток-совет: как организовать развивающую среду МКДОУ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ложения и методические разработ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Тематическое планирование и программа тренинговых занятий психолога с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физкультурно-оздоровитель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коррекции психо-физического здоровь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оздоровления часто-болеющи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онные направлени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но-тематический план по развитию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работы по развитию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униципальное казенное дошкольное образовательное  учреждение «Детский сад        № 107» города Киров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4869000"/>
            <a:ext cx="77724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ий сад функционирует как коррекционное учреждение с 198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2003 года впервые скомплектованы группы детей с диагнозом З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107-1"/>
          <p:cNvPicPr/>
          <p:nvPr/>
        </p:nvPicPr>
        <p:blipFill>
          <a:blip r:embed="rId1"/>
          <a:stretch/>
        </p:blipFill>
        <p:spPr>
          <a:xfrm>
            <a:off x="1835280" y="1628640"/>
            <a:ext cx="5062320" cy="3254400"/>
          </a:xfrm>
          <a:prstGeom prst="rect">
            <a:avLst/>
          </a:prstGeom>
          <a:ln w="9360">
            <a:solidFill>
              <a:srgbClr val="33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 ДОУ работает 6 групп, из них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9" descr="Наши дети 033"/>
          <p:cNvPicPr/>
          <p:nvPr/>
        </p:nvPicPr>
        <p:blipFill>
          <a:blip r:embed="rId1"/>
          <a:stretch/>
        </p:blipFill>
        <p:spPr>
          <a:xfrm>
            <a:off x="755640" y="4508640"/>
            <a:ext cx="2916360" cy="218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6899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ностическая разновозрас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от 2 до 4 л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шая с диагнозом ОН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шая с диагнозом ЗП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ельные с диагнозом ОН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ельная с диагнозом ЗП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У посещает 94 ребенк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кий сад работает 5 дней в неделю с 12-ти часовым пребыванием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Наши дети 00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56360" y="162864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Дети 201"/>
          <p:cNvPicPr/>
          <p:nvPr/>
        </p:nvPicPr>
        <p:blipFill>
          <a:blip r:embed="rId3"/>
          <a:stretch/>
        </p:blipFill>
        <p:spPr>
          <a:xfrm>
            <a:off x="5364000" y="4508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Актуальность проблемы построения развивающей предметно-пространственной среды для дошкольников с ЗПР обусловлена противоречиями: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необходимостью использования системного подхода к построению коррекционной обучающей среды для детей с ЗПР в условиях введения ФГОС ДО и недостаточностью теоретического материала по содержанию коррекционно – педагогического процесса в условиях дошкольного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необходимостью внедрения эффективных педагогических технологий, обеспечивающих широкий выбор оптимальных методов и условий коррекции и реабилитации детей с ограниченными возможностями здоровья и недостаточным владением педагогами и специалистами данными технолог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Цели проек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ая: создание системной обеспеченности средствами коррекционного процесса в группах с задержкой психического развития в условиях введения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: создание единой комплексной системы взаимодействия педагогов и специалистов по коррекции психического и речевого развития воспит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63640" y="3429000"/>
            <a:ext cx="71391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63640" y="3429000"/>
            <a:ext cx="71391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00000" y="1413000"/>
            <a:ext cx="77724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условия для эффективного функционирования групп с диагнозом ЗПР в условиях введения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систему методической работы с воспитателями и специалистами по адаптации и внедрению программы С.Г.Шевченко «Подготовка к школе детей с задержкой психического развит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формированию готовности педагогов и специалистов к работе с детьми с ЗПР в условиях введения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место каждого педагога и специалиста в коррекционном педагогическ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Теоретической основой проекта явились исслед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.В.Ульенковой, касающиеся вопросов организации развивающей среды для дошкольников с З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.Ю.Боряковой по развитию речи детей шестилетнего возраста с ЗПР и ОН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.В. Лебедевой по оказанию психологической помощи детям с З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.А.Екжановой по обучению детей с проблемами в развитии изобрази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Е. Шевченко по организации  коррекционной работы с дошкольниками с ЗПР средствами физическог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00000" y="2923920"/>
            <a:ext cx="77724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исследования доказывают, что изучение специфики развития той или иной деятельности детей с ЗПР позволяют </a:t>
            </a:r>
            <a:r>
              <a:rPr b="0" i="1" lang="ru-RU" sz="2800" spc="-1" strike="noStrike">
                <a:solidFill>
                  <a:srgbClr val="336699"/>
                </a:solidFill>
                <a:latin typeface="Arial"/>
              </a:rPr>
              <a:t>преодолеть их отставание в развитии через организацию коррекционной деятельности в условиях специфически организованной коррекционно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 rot="5400000">
            <a:off x="3816000" y="1376280"/>
            <a:ext cx="1511640" cy="1009440"/>
          </a:xfrm>
          <a:custGeom>
            <a:avLst/>
            <a:gdLst>
              <a:gd name="textAreaLeft" fmla="*/ 236160 w 1511640"/>
              <a:gd name="textAreaRight" fmla="*/ 1323000 w 1511640"/>
              <a:gd name="textAreaTop" fmla="*/ 252360 h 1009440"/>
              <a:gd name="textAreaBottom" fmla="*/ 757080 h 1009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ринципы рабо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ный подход к построению коррекционно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ость как правильное отражение действи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ность как соотношение содержания, характера, объема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знанность как необходимость развития у педагога рефлексирующей поз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ость решения любой педагогической, развивающей и коррекционной задачи с учетом взаимодействия всех факторов: состояния здоровья, диагноза, доступности материала, формы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как взаимодействие администрации ДОУ, педагогов, специалистов, родителей по коррекции психоречевого развития до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ровьесбережение как повышение уровня здоровья и физического развития детей с диагнозами ОНР и З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ширение зон актуального и ближайшего развития как необходимость сделать образовательную среду оптимальной для благоприятного развития воспит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9:28Z</dcterms:created>
  <dc:creator>OEM</dc:creator>
  <dc:description/>
  <dc:language>en-US</dc:language>
  <cp:lastModifiedBy>Наташа</cp:lastModifiedBy>
  <dcterms:modified xsi:type="dcterms:W3CDTF">2015-04-13T13:18:53Z</dcterms:modified>
  <cp:revision>39</cp:revision>
  <dc:subject/>
  <dc:title>Тема проекта</dc:title>
</cp:coreProperties>
</file>