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FAE-45CC-4099-9119-3AE3A8EB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2D5-F15E-4841-8DD8-56C58718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9D8-E9C0-4AB3-9C94-EE4E221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A8D-1C20-494F-9431-E322DCA1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A97-7F05-4ACA-9498-8034A9C4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5648-B0BE-4547-8DFA-51F054E7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6248-FD5E-4C7B-99AF-6DF88FC4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1A3-79D4-4D72-8137-1849EDB3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3E10-2648-4D38-AC95-AEDBF3C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66FF-A21E-4367-BD61-CD9E660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949B-6093-4C40-9093-D1BE07B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1E8-F0A6-4624-B43B-C12B493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794-F33A-4BF9-837D-4C9C831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061-8701-46D9-976E-35F893A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83D-B4C4-40EC-BC02-146245E6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6427-2499-426F-9397-95FD904A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B2E9-51B4-4AD5-B129-1F594141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494-E190-47F4-92C2-0753FE3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9FB-45A4-45C5-BCC8-D02B54E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FD8-F47D-4C9C-A84D-68EBABB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37D-3D9D-4958-B123-B7B172F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0D4-03B7-419F-BC3A-B3C8EAF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7F5-D788-4A2D-BD65-F3E5406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F0B-0DFD-4642-904A-659CABA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E2BF-F36C-4F70-9390-BC7B7D9A23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1AA-976C-4182-8A0A-0AC0980298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6;&#1077;&#1089;&#1091;&#1088;&#1089;&#1085;&#1086;&#1077;%20&#1086;&#1073;&#1077;&#1089;&#1087;&#1077;&#1095;&#1077;&#1085;&#1080;&#1077;" TargetMode="External"/><Relationship Id="rId2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0;&#1086;&#1086;&#1088;&#1076;&#1080;&#1085;&#1072;&#1094;&#1080;&#1103;%20&#1076;&#1077;&#1103;&#1090;&#1077;&#1083;&#1100;&#1085;&#1086;&#1089;&#1090;&#1080;%20&#1089;&#1087;&#1077;&#1094;&#1080;&#1072;&#1083;&#1080;&#1089;&#1090;&#1086;&#1074;%20&#1080;%20&#1074;&#1086;&#1089;&#1087;&#1080;&#1090;&#1072;&#1090;&#1077;&#1083;&#1077;&#1081;.doc" TargetMode="External"/><Relationship Id="rId3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5;&#1091;&#1090;&#1080;%20&#1074;&#1079;&#1072;&#1080;&#1084;&#1086;&#1076;&#1077;&#1081;&#1089;&#1090;&#1074;&#1080;&#1071;.doc" TargetMode="External"/><Relationship Id="rId4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2;&#1086;&#1076;&#1077;&#1083;&#1100;%20&#1074;&#1079;&#1072;&#1080;&#1084;&#1086;&#1076;&#1077;&#1081;&#1089;&#1090;&#1074;&#1080;&#1103;.doc" TargetMode="External"/><Relationship Id="rId5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7;&#1080;&#1089;&#1090;&#1077;&#1084;&#1072;%20&#1084;&#1077;&#1090;&#1086;&#1076;&#1080;&#1095;&#1077;&#1089;&#1082;&#1086;&#1081;%20&#1088;&#1072;&#1073;&#1086;&#1090;&#1099;.doc" TargetMode="External"/><Relationship Id="rId6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5;&#1083;&#1072;&#1085;%20&#1088;&#1072;&#1073;&#1086;&#1090;&#1099;%20&#1090;&#1074;&#1086;&#1088;&#1095;&#1077;&#1089;&#1082;&#1086;&#1081;%20&#1075;&#1088;&#1091;&#1087;&#1087;&#1099;.doc" TargetMode="External"/><Relationship Id="rId7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7;&#1045;&#1052;&#1048;&#1053;&#1040;&#1056;-&#1055;&#1056;&#1040;&#1050;&#1058;&#1048;&#1050;&#1059;&#1052;%20&#1082;&#1086;&#1088;&#1088;&#1077;&#1082;&#1094;&#1080;&#1080;%20&#1088;&#1077;&#1095;&#1077;&#1074;&#1086;&#1075;&#1086;.doc" TargetMode="External"/><Relationship Id="rId8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88;&#1077;&#1085;&#1080;&#1085;&#1075;%20&#1087;&#1077;&#1076;&#1072;&#1075;&#1086;&#1075;&#1080;&#1095;&#1077;&#1089;&#1082;&#1086;&#1081;%20&#1086;&#1089;&#1086;&#1079;&#1085;&#1072;&#1085;&#1085;&#1086;&#1089;&#1090;&#1080;.doc" TargetMode="External"/><Relationship Id="rId9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60;&#1056;&#1040;&#1043;&#1052;&#1045;&#1053;&#1058;%20&#1055;&#1045;&#1044;&#1040;&#1043;&#1054;&#1043;&#1048;&#1063;&#1045;&#1057;&#1050;&#1054;&#1043;&#1054;%20&#1057;&#1054;&#1042;&#1045;&#1058;&#1040;.doc" TargetMode="External"/><Relationship Id="rId10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86;&#1082;-&#1089;&#1086;&#1074;&#1077;&#1090;%20&#1087;&#1086;%20&#1086;&#1088;&#1075;&#1072;&#1085;&#1080;&#1079;&#1072;&#1094;&#1080;&#1080;%20&#1088;&#1072;&#1079;&#1074;&#1080;&#1074;&#1072;&#1102;&#1097;&#1077;&#1081;%20&#1089;&#1088;&#1077;&#1076;&#1099;.doc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%20&#1080;%20&#1084;&#1077;&#1090;&#1086;&#1076;&#1084;&#1072;&#1090;&#1077;&#1088;&#1080;&#1072;&#1083;&#1099;/&#1058;&#1045;&#1052;&#1040;&#1058;&#1048;&#1063;&#1045;&#1057;&#1050;&#1054;&#1045;%20&#1055;&#1051;&#1040;&#1053;&#1048;&#1056;&#1054;&#1042;&#1040;&#1053;&#1048;&#1045;%20&#1079;&#1072;&#1085;&#1103;&#1090;&#1080;&#1081;%20&#1087;&#1089;&#1080;&#1093;&#1086;&#1083;&#1086;&#1075;&#1072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184428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ическое сопровождение построения развивающей предметно - пространственной среды для дошкольников с 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332000" y="3789360"/>
            <a:ext cx="698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обейникова Елена Василье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ший воспита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КДОУ  № 1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32000" y="6021360"/>
            <a:ext cx="6629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Киров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есурсное обеспечение построения коррекционной сред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419640" y="2205000"/>
            <a:ext cx="2663640" cy="338472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4720"/>
              <a:gd name="textAreaBottom" fmla="*/ 3254760 h 3384720"/>
            </a:gdLst>
            <a:ahLst/>
            <a:rect l="textAreaLeft" t="textAreaTop" r="textAreaRight" b="textAreaBottom"/>
            <a:pathLst>
              <a:path w="21600" h="27447">
                <a:moveTo>
                  <a:pt x="3600" y="0"/>
                </a:moveTo>
                <a:arcTo wR="3600" hR="3600" stAng="16200000" swAng="-5400000"/>
                <a:lnTo>
                  <a:pt x="0" y="23847"/>
                </a:lnTo>
                <a:arcTo wR="3600" hR="3600" stAng="10800000" swAng="-5400000"/>
                <a:lnTo>
                  <a:pt x="18000" y="27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й 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о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ПР в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ения ФГОС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55640" y="184464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ав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6804000" y="191628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84360" y="479736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ет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877080" y="479736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х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84360" y="335772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804000" y="335772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cc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2555640" y="2637000"/>
            <a:ext cx="8636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V="1">
            <a:off x="6084720" y="2565000"/>
            <a:ext cx="719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2484360" y="3716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608472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 flipH="1">
            <a:off x="2484360" y="3716280"/>
            <a:ext cx="935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6084720" y="371628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Этапы работы по реализации методической цели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этап: информационно – мотивацио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 научно-методической литературы по проблеме и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мотивации на успех педагогов и специалистов, работающих с детьми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сихологических и личностных особенностей детей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становок к взаимодействию педагогов, специалистов,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этап:проблемно – практический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а психоречевого развития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ение корректив в реализуемые в ДОУ образовательные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взаимодействия педагогов, специалистов, родителей в условиях введения ФГОС Д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реализация комплексно-тематических планов по развитию психических проце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системы методической работы, направленной на повышение профессионализма воспитателей и специал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внедрение системы физкультурно-оздорови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и реализация комплексно-тематических планов по коррекции и развитию речи, навыков изодеятельности детей с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у педагогов и родителей навыков построения личностно – ориентированных взаимоотношений с детьми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бщение педагогам, специалистам, родителям специальных знаний по коррекции психоречевого развития детей с З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этап: аналитико -результативны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результатов комплексной  итоговой диагностики психического и речевого развития детей с участием всех специалистов: старшего воспитателя, педагога-психолога, учителя-дефектолога, старшей медсестры, врача – психиатра, музыкального руководителя, воспит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эффективности коррекционной среды для детей с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личного вклада каждого педагога и специалиста в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критериев построения программы развития МК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Критерии эффективност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развития детей в соответствии с адаптированной программой С.Г.Шевченк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модели взаимодействия педагогов и специалистов в педагогическом процессе в условиях введения ФГОС Д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обучения выпускников МКДОУ в массов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Результа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адаптированной программы С.Г.Шевченко «Подготовка к школе детей с задержкой психического развити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направленность педагогов и специалистов на специфику работы с детьми с ЗПР в условиях введения ФГОС Д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модели взаимодействия педагогов и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становка новой пробле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056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авторской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коррекции псих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с  З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Photo018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55640" y="3357720"/>
            <a:ext cx="2968560" cy="2189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hoto018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348000" y="3860640"/>
            <a:ext cx="2957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hoto018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940360" y="4437000"/>
            <a:ext cx="2922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Наши координа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63640" y="2060640"/>
            <a:ext cx="56484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.Ки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л.Кутшо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.: 23-96-58;23-70-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Наши дети 08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35640" y="4508640"/>
            <a:ext cx="2952720" cy="2095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8"/>
          <p:cNvSpPr/>
          <p:nvPr/>
        </p:nvSpPr>
        <p:spPr>
          <a:xfrm>
            <a:off x="4932360" y="3429000"/>
            <a:ext cx="39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Старший воспитатель Коробейникова Еле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ложения и методические разработ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Ресурсное обеспечение построения коррекцион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Координация деятельности педаг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ути взаимо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Модель взаимо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Система методическ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План работы творческой группы по коррекции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Семинар – практикум по коррекции психоречевого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Тренинг педагогической осозн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Педсовет в форме деловой игры (фрагмент в видеоприложе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План проведения педсовета «Ток-совет: как организовать развивающую среду МКДО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ложения и методические разработ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Тематическое планирование и программа тренинговых занятий психолога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физкультурно-оздоровитель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коррекции психо-физического здоровья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здоровления часто-болеющи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онные направле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о-тематический план по развитию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работы по развитию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униципальное казенное дошкольное образовательное  учреждение «Детский сад        № 107» города Киров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4869000"/>
            <a:ext cx="77724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сад функционирует как коррекционное учреждение с 198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2003 года впервые скомплектованы группы детей с диагнозом З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107-1"/>
          <p:cNvPicPr/>
          <p:nvPr/>
        </p:nvPicPr>
        <p:blipFill>
          <a:blip r:embed="rId1"/>
          <a:stretch/>
        </p:blipFill>
        <p:spPr>
          <a:xfrm>
            <a:off x="1835280" y="1628640"/>
            <a:ext cx="5062320" cy="3254400"/>
          </a:xfrm>
          <a:prstGeom prst="rect">
            <a:avLst/>
          </a:prstGeom>
          <a:ln w="936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 ДОУ работает 6 групп, из ни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9" descr="Наши дети 033"/>
          <p:cNvPicPr/>
          <p:nvPr/>
        </p:nvPicPr>
        <p:blipFill>
          <a:blip r:embed="rId1"/>
          <a:stretch/>
        </p:blipFill>
        <p:spPr>
          <a:xfrm>
            <a:off x="755640" y="4508640"/>
            <a:ext cx="2916360" cy="218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689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ностическая разновозрас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т 2 до 4 л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ая с диагнозом ОН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ая с диагнозом З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ые с диагнозом ОН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ая с диагнозом З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У посещает 94 ребенк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ий сад работает 5 дней в неделю с 12-ти часовым пребыванием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Наши дети 00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56360" y="162864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Дети 201"/>
          <p:cNvPicPr/>
          <p:nvPr/>
        </p:nvPicPr>
        <p:blipFill>
          <a:blip r:embed="rId3"/>
          <a:stretch/>
        </p:blipFill>
        <p:spPr>
          <a:xfrm>
            <a:off x="5364000" y="4508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Актуальность проблемы построения развивающей предметно-пространственной среды для дошкольников с ЗПР обусловлена противоречиями: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обходимостью использования системного подхода к построению коррекционной обучающей среды для детей с ЗПР в условиях введения ФГОС ДО и недостаточностью теоретического материала по содержанию коррекционно – педагогического процесса в условиях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обходимостью внедрения эффективных педагогических технологий, обеспечивающих широкий выбор оптимальных методов и условий коррекции и реабилитации детей с ограниченными возможностями здоровья и недостаточным владением педагогами и специалистами данными технолог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Цели прое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ая: создание системной обеспеченности средствами коррекционного процесса в группах с задержкой психического развития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: создание единой комплексной системы взаимодействия педагогов и специалистов по коррекции психического и речевого развития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63640" y="3429000"/>
            <a:ext cx="713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63640" y="3429000"/>
            <a:ext cx="71391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00000" y="1413000"/>
            <a:ext cx="77724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эффективного функционирования групп с диагнозом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систему методической работы с воспитателями и специалистами по адаптации и внедрению программы С.Г.Шевченко «Подготовка к школе детей с задержкой психического развит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формированию готовности педагогов и специалистов к работе с детьми с ЗПР в условиях введения ФГОС Д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место каждого педагога и специалиста в коррекционном педагогиче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Теоретической основой проекта явились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.В.Ульенковой, касающиеся вопросов организации развивающей среды для дошкольников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Ю.Боряковой по развитию речи детей шестилетнего возраста с ЗПР и ОН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В. Лебедевой по оказанию психологической помощи детям с З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.А.Екжановой по обучению детей с проблемами в развитии изобраз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.Е. Шевченко по организации  коррекционной работы с дошкольниками с ЗПР средствами физическ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2923920"/>
            <a:ext cx="77724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исследования доказывают, что изучение специфики развития той или иной деятельности детей с ЗПР позволяют </a:t>
            </a:r>
            <a:r>
              <a:rPr b="0" i="1" lang="ru-RU" sz="2800" spc="-1" strike="noStrike">
                <a:solidFill>
                  <a:srgbClr val="336699"/>
                </a:solidFill>
                <a:latin typeface="Arial"/>
              </a:rPr>
              <a:t>преодолеть их отставание в развитии через организацию коррекционной деятельности в условиях специфически организованной коррекцион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 rot="5400000">
            <a:off x="3816000" y="1376280"/>
            <a:ext cx="1511640" cy="1009440"/>
          </a:xfrm>
          <a:custGeom>
            <a:avLst/>
            <a:gdLst>
              <a:gd name="textAreaLeft" fmla="*/ 236160 w 1511640"/>
              <a:gd name="textAreaRight" fmla="*/ 1323000 w 1511640"/>
              <a:gd name="textAreaTop" fmla="*/ 252360 h 1009440"/>
              <a:gd name="textAreaBottom" fmla="*/ 757080 h 1009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инципы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подход к построению коррекцион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ость как правильное отражение действи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 как соотношение содержания, характера, объема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знанность как необходимость развития у педагога рефлексирующ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сть решения любой педагогической, развивающей и коррекционной задачи с учетом взаимодействия всех факторов: состояния здоровья, диагноза, доступности материала, 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как взаимодействие администрации ДОУ, педагогов, специалистов, родителей по коррекции психоречевого развития до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ьесбережение как повышение уровня здоровья и физического развития детей с диагнозами ОНР и З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ие зон актуального и ближайшего развития как необходимость сделать образовательную среду оптимальной для благоприятного развития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9:28Z</dcterms:created>
  <dc:creator>OEM</dc:creator>
  <dc:description/>
  <dc:language>en-US</dc:language>
  <cp:lastModifiedBy>Наташа</cp:lastModifiedBy>
  <dcterms:modified xsi:type="dcterms:W3CDTF">2015-04-13T13:18:53Z</dcterms:modified>
  <cp:revision>39</cp:revision>
  <dc:subject/>
  <dc:title>Тема проекта</dc:title>
</cp:coreProperties>
</file>