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1B1-2833-4114-A854-1095F915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774-9222-4493-87F9-A875B0C0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AD0-0B66-4733-81CE-8DEC1985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24-0365-4C6F-8DC8-4892AA7A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2E5C-17DA-4AFE-982B-BE04C548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3158-63C0-4732-A422-F413806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34EF-1376-47C4-9701-F503F5BE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8E6-93BA-40CE-807B-540C2D8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539B-C560-42EB-ADD7-4C49C074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8BE6-DD17-44EA-9B19-E82F2B2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CD12-F136-4950-9B9B-C96721D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E78-2780-439F-AB7F-5476028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F6A9-1BE1-431D-A93C-162D641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B06D-7187-4632-8616-FEA3C24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51AA-67F3-47BC-96BB-987D8BF8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E394-A437-4110-9088-9B99B12E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5D9B-72F7-4EB5-936F-A55B0E85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F9A7-256B-4353-9544-0560064E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9B6A-0B61-4695-B29C-8342C47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DF35-303B-4BE1-8AAB-EA3D5FE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89DD-D5FD-413E-B23F-043D1C6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835B-7DD1-4A82-B3C4-8995002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AD6-95DF-4B9B-846B-5E6A8AAB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4662-C620-48C4-8717-EE1A7E2A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8176-1A01-4936-974B-AA4395C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2CFF-56B2-480C-886A-BFA06D0F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7C8B-DB37-40CE-98E8-D099472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E7C4-C99E-44C0-8BF5-4FDC3B08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D2B1-EF3D-48DE-8A77-7E8DC5B8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9D14-E318-48FD-BB20-BAFEE453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2656-4138-4415-B7C5-9C8AF4ED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583F-8D01-4B86-8E10-F18BF60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86F0-B350-47C7-8BD7-FCD4F051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59A-2CF9-4C34-9514-0CE667FD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2F8D-673C-481F-A99C-DFF01DFC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CADE-E72F-4DF0-8C9A-1C385ECA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2A52-B6C3-48AE-90B1-F32AE9B0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B694-0A9F-4B34-9CAD-6B1FC93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F741-AC17-4934-BDC1-0615BC5E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F68B-C8EA-4000-AF32-5DBF810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FD7A-7256-4418-AE7B-E745AC0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FF9A-5D93-4613-A2B8-0C11DEB4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63407-0E40-458F-AF32-C97AE7D3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4AF1-0673-478B-995E-CBA71F0E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6F6-00EE-4669-9874-BCFAF52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9E13-B264-497C-8E19-B73F49C5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83F5-1F45-4A07-8106-5E4CF69E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5EC07-D6CE-4AA1-9FDE-12A5D4A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0C8D-CEE1-415E-A795-47E0CB8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D1B2-2A3D-4B81-A5C9-EFD5238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F46D-4F83-46A2-B2C3-2A4177F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ABE46-4893-4C34-B4E7-67D6602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AB96-A38B-4717-8429-388171A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464D-9E74-4157-88C0-0AA8EBB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5B67-5429-4312-AC25-A6D02F04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375-F775-49A0-8D6F-B85861A7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4AFD-F2CD-44BD-BA06-ADE7729C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12EA-7ABE-43FD-A614-46AF7D82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AA39-B784-40C0-9622-EF200A8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74B8-5D1D-4548-A343-83366B99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7B40-A336-4852-A972-541E0EE4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5788-FBB5-4DD6-8442-5634B59B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A2FA-B1B2-4242-8785-0638AFED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49A6-5F8E-4DD8-8043-BBA4679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8301-BC7C-42C1-9F66-028F0AD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07C6-31F2-4F0F-BE42-9B57FE0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D46-DB83-44DD-91FE-E64058B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64833-876A-43B6-B9A8-4550DA9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58F56-CF83-460B-9C40-007F5986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EB64-B510-4CBB-9757-C6483561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16ADF-BEB3-4BC7-B271-1192266D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AE255-2839-4065-8BF0-448A9AB6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5968-CB54-4D0C-8CBB-601EBEE6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74256-D78B-4809-A372-51135C3A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DD526-8889-40AE-9AF9-497FA1A8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6CA34-8588-42D3-92C7-13F6577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FBEE-02A7-4EB8-89EE-931FBBB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C5B-ABB0-4132-A5DE-488DAE4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93BE-CB6C-4239-AF0A-AD72436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ABA4B-E4A4-47DC-8BAF-5F5967A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70A3C-6E60-42B7-8A78-917BA7DC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646C-4C6E-4CF0-8E5D-727C52CC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D3351-E6BB-4E49-963E-A46A70C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047-752C-477C-8761-70AFEC7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9172-8CBA-481C-9FD2-0C20FFF1645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4122-6C9F-4813-90CF-E98E57460E6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C76C-23C0-4BE1-9A93-87DA2267F30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58A9-B587-40F3-8695-ABF73FCD602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278-5037-4036-9AAB-2C56963BE84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443-FF7D-42E3-8A1A-EC09EB0D547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5E80-4D11-4FB7-B87D-7B62903C6EC4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720" y="2421000"/>
            <a:ext cx="8028000" cy="27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3495c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03495c"/>
                </a:solidFill>
                <a:latin typeface="Impact"/>
              </a:rPr>
              <a:t>Социальная интеграция </a:t>
            </a:r>
            <a:br>
              <a:rPr sz="3600"/>
            </a:br>
            <a:r>
              <a:rPr b="0" lang="ru-RU" sz="3600" spc="-1" strike="noStrike">
                <a:solidFill>
                  <a:srgbClr val="03495c"/>
                </a:solidFill>
                <a:latin typeface="Impact"/>
              </a:rPr>
              <a:t>детей с ограниченными возможностями здоровь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665840" cy="1928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Парастаева Инесса Юрьевна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учитель русского языка и литературы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зам.директора по УВР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МБОУ СОШ №43 г.Владикавказ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1286378467_.shortcut-article.jpg"/>
          <p:cNvPicPr/>
          <p:nvPr/>
        </p:nvPicPr>
        <p:blipFill>
          <a:blip r:embed="rId1"/>
          <a:stretch/>
        </p:blipFill>
        <p:spPr>
          <a:xfrm>
            <a:off x="7072200" y="28584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1258920" y="4680"/>
            <a:ext cx="749124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Общие принципы и правила коррекционной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Индивидуальный подход к каждому уче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редотвращение наступления утомления, используя для эт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нообразные средства (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 нагляд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Использование методов, активизирующих познавательную деятельность учащихся, развивающих их устную и пись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чь и формирующих необходимые учеб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Проявление педагогического такта. Постоянное поощрение за малейшие успехи, своевременная и тактическая помощ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ому ребёнку, развитие в нём веры в собственные силы 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971640" y="572760"/>
            <a:ext cx="799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Эффективными приемами коррекционного воздействия на эмоциональную и познавательную сферу детей с  ОВЗ в развитии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овые ситу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дактические игры, которые связаны с поиском видовых и родовых признаков предм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овые тренинги, способствующие развитию умения общаться с друг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огимнастика и релакс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ворческ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4"/>
          <p:cNvSpPr/>
          <p:nvPr/>
        </p:nvSpPr>
        <p:spPr>
          <a:xfrm>
            <a:off x="1547640" y="907920"/>
            <a:ext cx="74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 России практика обучения детей с ОВЗ вместе с нормально развивающимися сверстниками  (инклюзивное обучение)началась более 15 лет назад, что позволило решить вопросы как получения образования детьми с ОВЗ, так и сохранения и укрепления института семьи и интеграции ребенка в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1476360" y="4581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Arial"/>
                <a:ea typeface="Times New Roman"/>
              </a:rPr>
              <a:t>В МБОУ СОШ №43 инклюзивное обучение реализуется с 2011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5760" y="499680"/>
            <a:ext cx="5000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ru-RU" sz="3900" spc="-1" strike="noStrike">
                <a:solidFill>
                  <a:srgbClr val="006b8d"/>
                </a:solidFill>
                <a:latin typeface="Corbel"/>
              </a:rPr>
              <a:t>Творческих побед </a:t>
            </a:r>
            <a:br>
              <a:rPr sz="3900"/>
            </a:br>
            <a:r>
              <a:rPr b="1" i="1" lang="ru-RU" sz="3900" spc="-1" strike="noStrike">
                <a:solidFill>
                  <a:srgbClr val="006b8d"/>
                </a:solidFill>
                <a:latin typeface="Corbel"/>
              </a:rPr>
              <a:t>в реализации инновационных технологий в обучении и воспитании детей!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39" name="Рисунок 3" descr="web_2011_06_29_painted_hands.jpg"/>
          <p:cNvPicPr/>
          <p:nvPr/>
        </p:nvPicPr>
        <p:blipFill>
          <a:blip r:embed="rId1"/>
          <a:stretch/>
        </p:blipFill>
        <p:spPr>
          <a:xfrm>
            <a:off x="4786200" y="4000680"/>
            <a:ext cx="3286080" cy="24285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54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143160" cy="30002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48" descr=""/>
          <p:cNvPicPr/>
          <p:nvPr/>
        </p:nvPicPr>
        <p:blipFill>
          <a:blip r:embed="rId3"/>
          <a:stretch/>
        </p:blipFill>
        <p:spPr>
          <a:xfrm>
            <a:off x="714240" y="342900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58560" y="620640"/>
            <a:ext cx="7499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Одна из наиболее актуальных проблем образования в настоящее время – организация совместного обучения детей с ограниченными возможностями здоровья (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Corbel"/>
                <a:ea typeface="Times New Roman"/>
              </a:rPr>
              <a:t>далее дети с ОВЗ</a:t>
            </a: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) и их нормально развивающихся сверстников в условиях массовой школ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Все дети с особыми образовательными потребностями нуждаются в обогащении опыта социального и учебного взаимодействия со своими нормально развивающимися сверстник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Каждому ребенку необходимо подобрать доступную и полезную для его развития модель интегрированного обучения, сохраняя нужную специализированную психолого-педагогическую помощ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1187280" y="33336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 настоящее время существуют различные определения понятия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оциализация, социальная адаптация, интеграция, реабилитация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торые раскрывают его в полной м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86800" cy="39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Социализация </a:t>
            </a:r>
            <a:r>
              <a:rPr b="1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это процесс и результат освоения человеком знаний и навыков общественной жизни, общепринятых стереотипов поведения, ценностных ориентаций, позволяющих полноценно участвовать в различных ситуациях общественного взаимодейств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Социальная адаптация - </a:t>
            </a:r>
            <a:r>
              <a:rPr b="0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процесс активного приспособления к условиям социальной среды путем усвоения  ценностей, правил и норм поведения, принятых в обществе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76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Интеграция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полноценное включение лиц с ограниченными возможностями здоровья в стандартную социокультурную жизнь, при которой его дефект не мешает ни ему, ни окружающим в процессах социального взаимодейств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 – восстановление пригодности, способности. Система медико-педагогических мер, направленных на включение аномального ребенка в социальную среду, приобщение к общественной жизни на уровне его психофизических возможностей.</a:t>
            </a:r>
            <a:br>
              <a:rPr sz="39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5" descr="Гражданское обещство"/>
          <p:cNvPicPr/>
          <p:nvPr/>
        </p:nvPicPr>
        <p:blipFill>
          <a:blip r:embed="rId1"/>
          <a:stretch/>
        </p:blipFill>
        <p:spPr>
          <a:xfrm>
            <a:off x="6012000" y="1413000"/>
            <a:ext cx="2736720" cy="20872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3"/>
          <p:cNvSpPr/>
          <p:nvPr/>
        </p:nvSpPr>
        <p:spPr>
          <a:xfrm>
            <a:off x="1281240" y="836640"/>
            <a:ext cx="588312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инте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етей с  ОВЗ рассматр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ак наиболее перспективное направление современной социальной культурной поли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 является одной из важных </a:t>
            </a:r>
            <a:br>
              <a:rPr sz="2800"/>
            </a:b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тупеней в организации </a:t>
            </a:r>
            <a:br>
              <a:rPr sz="2800"/>
            </a:b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бразовательного процесса О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инфраструкту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с ОВЗ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направле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еспечение полноценной жизни, охраны здоровья, образования, воспитания, отдыха и оздоровления, развития детей, удовлетворения их общественных потребност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60284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ь образовательного учреждения</a:t>
            </a:r>
            <a:br>
              <a:rPr sz="2800"/>
            </a:b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олжна быть направлена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на создание условий для получения доступного образования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каждым ребенком с проблемами в развитии, независимо от уровня способностей, образовательных потребносте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на реализацию потенциальных возможностей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етей с ОВЗ в доступных формах обучения, видах деятельности.</a:t>
            </a: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50440" y="214200"/>
            <a:ext cx="8115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этого образовательное учреждение должн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3640" y="1499760"/>
            <a:ext cx="856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нормативную базу процесса   интегрированного образования детей с ОВЗ в системе общего образов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бразовательный процесс профессионально подготовленными педагогам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 доступную образовательную среду в рамках интегрированного образов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комплексную модель деятельности специалистов различного профил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программно-методическое обеспечение интегрированного образования (учебные планы, учебные программы (их варианты), рабочие тетради, учебные пособия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ежведомственное взаимодействие и социальное партнерство между организациями, учреждениями, ведомствами, психолого-педагогическую и социальную поддержку детей с ОВЗ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боту с семьей ребенка с ОВЗ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178560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включения детей с ОВЗ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бразовательное пространство</a:t>
            </a: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32" name="Содержимое 7" descr=""/>
          <p:cNvPicPr/>
          <p:nvPr/>
        </p:nvPicPr>
        <p:blipFill>
          <a:blip r:embed="rId1"/>
          <a:stretch/>
        </p:blipFill>
        <p:spPr>
          <a:xfrm>
            <a:off x="-12600" y="3017880"/>
            <a:ext cx="9175680" cy="38638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86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05:11Z</dcterms:created>
  <dc:creator>Брызгалов</dc:creator>
  <dc:description/>
  <dc:language>en-US</dc:language>
  <cp:lastModifiedBy>user</cp:lastModifiedBy>
  <dcterms:modified xsi:type="dcterms:W3CDTF">2014-05-20T06:14:23Z</dcterms:modified>
  <cp:revision>107</cp:revision>
  <dc:subject/>
  <dc:title>Система тактических установок        по реализации мероприятий                на базе стажировочных площадок по направлениям задачи 1   Федеральной целевой программы развития образования  на 2011- 2015годы</dc:title>
</cp:coreProperties>
</file>