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1C3-A6A1-4CF5-B465-21313F03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F77-D3DE-4B50-940F-957E893F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6B1-927C-4FAC-A560-CC8E8C8D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F21-9654-4899-A304-F3F6702C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16EA-7F55-412F-8C88-FC2FF227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FD8B-3D5B-4E86-94C7-0EE11498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F439-A192-4652-8A4E-9BC85C33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C5BD-E470-4A9C-B06C-854D1C4F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71ED-7AFE-47DB-8DA5-FB97F4B2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7604-AE8C-42ED-BB5D-EB06F9B0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5FDE-6374-4760-A1BC-425DCD92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FBD-A545-497E-B7F3-C4AD2AAE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0E5E-B905-4157-AAAA-7AEC6DB5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AC7A-5A67-46D2-B0E3-852AEF7A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85DC-29D3-4D8F-BBC3-3A37205E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48E2-784A-4E00-96EE-8D5BC44F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DAFA-CB46-4D0E-919B-905C8D50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DA7E-5A34-4E10-B458-6E818AEF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A978F-2707-449B-B7B3-C0B58D2C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FAB3-2091-430C-9711-71639E62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66A8A-3D8D-4D66-ABF7-6EC10E93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A08FF-5A92-4D65-A570-04E672E5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89DF-A5D9-439B-8552-700BE3D2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FE81B-9CA9-430E-90D3-01DBAFA9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F92B-F1B4-46DB-A1C0-051B5C29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7285-3A44-46B2-85F9-864B885F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3E20E-D71E-492C-A6BC-A1826DDD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795BC-8848-4D0A-A94E-5E4AB1D1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E0B9D-BD28-4D33-B9DA-F6DD966B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04325-27FA-4FFB-BF75-5BFD4D8B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AAD19-4A70-4939-95F3-E1619E12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F449C-AC76-42D7-B53C-4D330300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52D51-65F9-49F5-8781-C18AA066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F01-56CD-4D2A-8995-2E22C038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7EEFC-9788-47CA-A9A8-8A487484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1F3FE-66C9-4385-A4DC-D2EDF08C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08972-7C44-4185-9DF6-C6B9A5E7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7B449-5937-4EA8-BE55-E5B0FDF4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0182E-4720-4CEC-A5B9-A1220378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C23D1-5B24-4698-984D-115103DD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CC62-BBEB-43DA-A41B-89CA5F4D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B3201-274D-4291-B87E-361C0E59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8AEB2-7CC3-4A02-8B8E-8D865CBA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C8A66-1F23-477E-A68C-FD12E53C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818-EA59-4F30-AFBC-52D98DF8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51B52-D258-4F68-8E07-6BA1AB78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840E1-1FC9-4106-A8FA-FEE3EC98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BF61F-30D3-40D0-9061-ECFAD235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D7341-6E02-4EF8-B190-762567C5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F2D85-1BDA-4D66-90C7-FE4598BC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92263-5C50-4CD9-8D36-D5F7B3BE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2DBA7-0944-4233-B16D-71EB65A7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85726-FEE6-45E4-AF99-58F768EE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64466-7475-4F41-A71A-E7CE5E60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7DCAA-22B2-45CB-92AF-049BFABF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F50-9EA8-4961-A706-B4DF3320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C7841-3FFB-4A57-B604-B181D00A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E6DD1-EF82-47C0-A31F-B5AB5F25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2B49D-4DCA-40DF-8E2F-45FFE39E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DB1C1-6987-4E87-A71E-B68254F9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471B2-0833-4574-8F1D-E0D91796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C7A7F-018F-49BE-8EF1-98426796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BDA04-576B-499C-BC55-42828F3F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FB1F9-8393-4BAB-BBC0-3DDB559D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CEA10-050D-4BF7-88AB-27709727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9221F-1623-487E-8FEA-B6D9C067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E8C-33B3-4DEB-9797-DFDC718E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FCCF2-2729-4EA7-8681-4F509BED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76B9C-7739-42EC-AE7E-FCECB657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DD864-FEC2-4D9E-8EAC-7ED880E3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A554E-02F5-4479-B322-97832308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CCBC3-7846-4D54-A5B6-5033A073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365D1-243B-4FE4-952B-B77B4F6A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53259-415D-4DB8-8199-7408672D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F73CF-6316-46D2-9E94-F45D9027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8DCA3-40AD-475E-84AA-7F4770B1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18C98-C4BC-4B03-8608-899A1A6E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E54-00CE-4230-A8B4-83DBA3CE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6DFBF-A198-4E67-86B2-3118CA8A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4405E-C834-455B-9949-E4CE7DC7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2A5D3-DE7F-441F-B77A-BC4153BA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CC13C-C49C-4064-A08C-14F6F0D3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86FC0-0689-4526-B22D-C8ED8F61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F16-1B7B-4BEF-9E49-B4BBBF27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DEF1-1601-4CC7-BB16-F5C8D32A5D08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3232-02CA-4BCD-B025-613FFA12C569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99CD-3E6A-46E3-9F00-CB03753FF0DC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0686-49C5-4F34-A364-656BE866F66F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22A1-3D3A-40D9-A6FB-7120B23AF380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EBA6-3CDE-4684-8DCF-F1B1BE64B7DC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4C52-42F3-4A37-AB3E-D5CE65D85948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1720" y="2421000"/>
            <a:ext cx="8028000" cy="27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3495c"/>
                </a:solidFill>
                <a:latin typeface="Impact"/>
              </a:rPr>
              <a:t> </a:t>
            </a:r>
            <a:r>
              <a:rPr b="0" lang="ru-RU" sz="3600" spc="-1" strike="noStrike">
                <a:solidFill>
                  <a:srgbClr val="03495c"/>
                </a:solidFill>
                <a:latin typeface="Impact"/>
              </a:rPr>
              <a:t>Социальная интеграция </a:t>
            </a:r>
            <a:br>
              <a:rPr sz="3600"/>
            </a:br>
            <a:r>
              <a:rPr b="0" lang="ru-RU" sz="3600" spc="-1" strike="noStrike">
                <a:solidFill>
                  <a:srgbClr val="03495c"/>
                </a:solidFill>
                <a:latin typeface="Impact"/>
              </a:rPr>
              <a:t>детей с ограниченными возможностями здоровь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71720" y="4643280"/>
            <a:ext cx="7665840" cy="1928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e56"/>
                </a:solidFill>
                <a:latin typeface="Arial Narrow"/>
              </a:rPr>
              <a:t>Парастаева Инесса Юрьевна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e56"/>
                </a:solidFill>
                <a:latin typeface="Arial Narrow"/>
              </a:rPr>
              <a:t>учитель русского языка и литературы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e56"/>
                </a:solidFill>
                <a:latin typeface="Arial Narrow"/>
              </a:rPr>
              <a:t>зам.директора по УВР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e56"/>
                </a:solidFill>
                <a:latin typeface="Arial Narrow"/>
              </a:rPr>
              <a:t>МБОУ СОШ №43 г.Владикавказ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Рисунок 3" descr="1286378467_.shortcut-article.jpg"/>
          <p:cNvPicPr/>
          <p:nvPr/>
        </p:nvPicPr>
        <p:blipFill>
          <a:blip r:embed="rId1"/>
          <a:stretch/>
        </p:blipFill>
        <p:spPr>
          <a:xfrm>
            <a:off x="7072200" y="28584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"/>
          <p:cNvSpPr/>
          <p:nvPr/>
        </p:nvSpPr>
        <p:spPr>
          <a:xfrm>
            <a:off x="1258920" y="4680"/>
            <a:ext cx="7491240" cy="70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Общие принципы и правила коррекционной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Индивидуальный подход к каждому уче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Предотвращение наступления утомления, используя для эт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нообразные средства (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чередование умственной и практической деятельности, преподнесение материала небольшими дозами, использование интересного и красочного дидактического материала и средств наглядно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Использование методов, активизирующих познавательную деятельность учащихся, развивающих их устную и письме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чь и формирующих необходимые учебные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Проявление педагогического такта. Постоянное поощрение за малейшие успехи, своевременная и тактическая помощ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ждому ребёнку, развитие в нём веры в собственные силы и возм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971640" y="572760"/>
            <a:ext cx="79930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Эффективными приемами коррекционного воздействия на эмоциональную и познавательную сферу детей с  ОВЗ в развитии 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гровые ситу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дактические игры, которые связаны с поиском видовых и родовых признаков предме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гровые тренинги, способствующие развитию умения общаться с друг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ихогимнастика и релакс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ворческая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4"/>
          <p:cNvSpPr/>
          <p:nvPr/>
        </p:nvSpPr>
        <p:spPr>
          <a:xfrm>
            <a:off x="1547640" y="907920"/>
            <a:ext cx="748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 России практика обучения детей с ОВЗ вместе с нормально развивающимися сверстниками  (инклюзивное обучение)началась более 15 лет назад, что позволило решить вопросы как получения образования детьми с ОВЗ, так и сохранения и укрепления института семьи и интеграции ребенка в об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5"/>
          <p:cNvSpPr/>
          <p:nvPr/>
        </p:nvSpPr>
        <p:spPr>
          <a:xfrm>
            <a:off x="1476360" y="458136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303e"/>
                </a:solidFill>
                <a:latin typeface="Arial"/>
                <a:ea typeface="Times New Roman"/>
              </a:rPr>
              <a:t>В МБОУ СОШ №43 инклюзивное обучение реализуется с 2011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785760" y="499680"/>
            <a:ext cx="50007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i="1" lang="ru-RU" sz="3900" spc="-1" strike="noStrike">
                <a:solidFill>
                  <a:srgbClr val="006b8d"/>
                </a:solidFill>
                <a:latin typeface="Corbel"/>
              </a:rPr>
              <a:t>Творческих побед </a:t>
            </a:r>
            <a:br>
              <a:rPr sz="3900"/>
            </a:br>
            <a:r>
              <a:rPr b="1" i="1" lang="ru-RU" sz="3900" spc="-1" strike="noStrike">
                <a:solidFill>
                  <a:srgbClr val="006b8d"/>
                </a:solidFill>
                <a:latin typeface="Corbel"/>
              </a:rPr>
              <a:t>в реализации инновационных технологий в обучении и воспитании детей!</a:t>
            </a: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pic>
        <p:nvPicPr>
          <p:cNvPr id="339" name="Рисунок 3" descr="web_2011_06_29_painted_hands.jpg"/>
          <p:cNvPicPr/>
          <p:nvPr/>
        </p:nvPicPr>
        <p:blipFill>
          <a:blip r:embed="rId1"/>
          <a:stretch/>
        </p:blipFill>
        <p:spPr>
          <a:xfrm>
            <a:off x="4786200" y="4000680"/>
            <a:ext cx="3286080" cy="242856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54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3143160" cy="30002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148" descr=""/>
          <p:cNvPicPr/>
          <p:nvPr/>
        </p:nvPicPr>
        <p:blipFill>
          <a:blip r:embed="rId3"/>
          <a:stretch/>
        </p:blipFill>
        <p:spPr>
          <a:xfrm>
            <a:off x="714240" y="3429000"/>
            <a:ext cx="3071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258560" y="620640"/>
            <a:ext cx="7499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orbel"/>
                <a:ea typeface="Times New Roman"/>
              </a:rPr>
              <a:t>Одна из наиболее актуальных проблем образования в настоящее время – организация совместного обучения детей с ограниченными возможностями здоровья (</a:t>
            </a:r>
            <a:r>
              <a:rPr b="0" lang="ru-RU" sz="2400" spc="-1" strike="noStrike" u="sng">
                <a:solidFill>
                  <a:srgbClr val="333333"/>
                </a:solidFill>
                <a:uFillTx/>
                <a:latin typeface="Corbel"/>
                <a:ea typeface="Times New Roman"/>
              </a:rPr>
              <a:t>далее дети с ОВЗ</a:t>
            </a:r>
            <a:r>
              <a:rPr b="0" lang="ru-RU" sz="2400" spc="-1" strike="noStrike">
                <a:solidFill>
                  <a:srgbClr val="333333"/>
                </a:solidFill>
                <a:latin typeface="Corbel"/>
                <a:ea typeface="Times New Roman"/>
              </a:rPr>
              <a:t>) и их нормально развивающихся сверстников в условиях массовой школы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orbel"/>
                <a:ea typeface="Times New Roman"/>
              </a:rPr>
              <a:t>Все дети с особыми образовательными потребностями нуждаются в обогащении опыта социального и учебного взаимодействия со своими нормально развивающимися сверстникам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orbel"/>
                <a:ea typeface="Times New Roman"/>
              </a:rPr>
              <a:t>Каждому ребенку необходимо подобрать доступную и полезную для его развития модель интегрированного обучения, сохраняя нужную специализированную психолого-педагогическую помощ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3"/>
          <p:cNvSpPr/>
          <p:nvPr/>
        </p:nvSpPr>
        <p:spPr>
          <a:xfrm>
            <a:off x="1187280" y="333360"/>
            <a:ext cx="770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 настоящее время существуют различные определения понятия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социализация, социальная адаптация, интеграция, реабилитация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оторые раскрывают его в полной ме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87280" y="1844640"/>
            <a:ext cx="7786800" cy="393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Социализация </a:t>
            </a:r>
            <a:r>
              <a:rPr b="1" lang="ru-RU" sz="24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это процесс и результат освоения человеком знаний и навыков общественной жизни, общепринятых стереотипов поведения, ценностных ориентаций, позволяющих полноценно участвовать в различных ситуациях общественного взаимодействи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Социальная адаптация - </a:t>
            </a:r>
            <a:r>
              <a:rPr b="0" lang="ru-RU" sz="24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процесс активного приспособления к условиям социальной среды путем усвоения  ценностей, правил и норм поведения, принятых в обществе.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6b8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86276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Интеграция </a:t>
            </a:r>
            <a:r>
              <a:rPr b="0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полноценное включение лиц с ограниченными возможностями здоровья в стандартную социокультурную жизнь, при которой его дефект не мешает ни ему, ни окружающим в процессах социального взаимодействия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 – восстановление пригодности, способности. Система медико-педагогических мер, направленных на включение аномального ребенка в социальную среду, приобщение к общественной жизни на уровне его психофизических возможностей.</a:t>
            </a:r>
            <a:br>
              <a:rPr sz="3900"/>
            </a:br>
            <a:endParaRPr b="0" lang="en-US" sz="2800" spc="-1" strike="noStrike">
              <a:solidFill>
                <a:srgbClr val="006b8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5" descr="Гражданское обещство"/>
          <p:cNvPicPr/>
          <p:nvPr/>
        </p:nvPicPr>
        <p:blipFill>
          <a:blip r:embed="rId1"/>
          <a:stretch/>
        </p:blipFill>
        <p:spPr>
          <a:xfrm>
            <a:off x="6012000" y="1413000"/>
            <a:ext cx="2736720" cy="208728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3"/>
          <p:cNvSpPr/>
          <p:nvPr/>
        </p:nvSpPr>
        <p:spPr>
          <a:xfrm>
            <a:off x="1281240" y="836640"/>
            <a:ext cx="5883120" cy="59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ая инте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етей с  ОВЗ рассматри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ак наиболее перспективное направление современной социальной культурной поли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 является одной из важных </a:t>
            </a:r>
            <a:br>
              <a:rPr sz="2800"/>
            </a:br>
            <a:r>
              <a:rPr b="0" lang="ru-RU" sz="2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ступеней в организации </a:t>
            </a:r>
            <a:br>
              <a:rPr sz="2800"/>
            </a:br>
            <a:r>
              <a:rPr b="0" lang="ru-RU" sz="2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бразовательного процесса О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ая инфраструкту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тей с ОВЗ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направле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беспечение полноценной жизни, охраны здоровья, образования, воспитания, отдыха и оздоровления, развития детей, удовлетворения их общественных потребност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60284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ятельность образовательного учреждения</a:t>
            </a:r>
            <a:br>
              <a:rPr sz="2800"/>
            </a:br>
            <a:r>
              <a:rPr b="1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должна быть направлена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на создание условий для получения доступного образования </a:t>
            </a:r>
            <a:r>
              <a:rPr b="0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каждым ребенком с проблемами в развитии, независимо от уровня способностей, образовательных потребностей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на реализацию потенциальных возможностей </a:t>
            </a:r>
            <a:r>
              <a:rPr b="0" lang="ru-RU" sz="28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детей с ОВЗ в доступных формах обучения, видах деятельности.</a:t>
            </a:r>
            <a:endParaRPr b="0" lang="en-US" sz="2800" spc="-1" strike="noStrike">
              <a:solidFill>
                <a:srgbClr val="006b8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50440" y="214200"/>
            <a:ext cx="81154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этого образовательное учреждение должно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23640" y="1499760"/>
            <a:ext cx="8569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buClr>
                <a:srgbClr val="0f6fc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нормативную базу процесса   интегрированного образования детей с ОВЗ в системе общего образова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0f6fc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образовательный процесс профессионально подготовленными педагогам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0f6fc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 доступную образовательную среду в рамках интегрированного образова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0f6fc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комплексную модель деятельности специалистов различного профил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программно-методическое обеспечение интегрированного образования (учебные планы, учебные программы (их варианты), рабочие тетради, учебные пособия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межведомственное взаимодействие и социальное партнерство между организациями, учреждениями, ведомствами, психолого-педагогическую и социальную поддержку детей с ОВЗ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работу с семьей ребенка с ОВЗ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8400" y="1785600"/>
            <a:ext cx="87152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включения детей с ОВЗ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бразовательное пространство</a:t>
            </a:r>
            <a:endParaRPr b="0" lang="en-US" sz="3200" spc="-1" strike="noStrike">
              <a:solidFill>
                <a:srgbClr val="006b8d"/>
              </a:solidFill>
              <a:latin typeface="Corbel"/>
            </a:endParaRPr>
          </a:p>
        </p:txBody>
      </p:sp>
      <p:pic>
        <p:nvPicPr>
          <p:cNvPr id="332" name="Содержимое 7" descr=""/>
          <p:cNvPicPr/>
          <p:nvPr/>
        </p:nvPicPr>
        <p:blipFill>
          <a:blip r:embed="rId1"/>
          <a:stretch/>
        </p:blipFill>
        <p:spPr>
          <a:xfrm>
            <a:off x="-12600" y="3017880"/>
            <a:ext cx="9175680" cy="386388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2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8286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8:05:11Z</dcterms:created>
  <dc:creator>Брызгалов</dc:creator>
  <dc:description/>
  <dc:language>en-US</dc:language>
  <cp:lastModifiedBy>user</cp:lastModifiedBy>
  <dcterms:modified xsi:type="dcterms:W3CDTF">2014-05-20T06:14:23Z</dcterms:modified>
  <cp:revision>107</cp:revision>
  <dc:subject/>
  <dc:title>Система тактических установок        по реализации мероприятий                на базе стажировочных площадок по направлениям задачи 1   Федеральной целевой программы развития образования  на 2011- 2015годы</dc:title>
</cp:coreProperties>
</file>