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FEF-F0A9-4871-AEC7-ABC27754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39A-55A6-457D-B87D-39B4016C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B70-961B-46EE-99AD-7687D749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244-5984-44DB-838F-B89E045C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74B1-5A84-489D-A42F-A5A1E8C1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9CDA-9F49-47E4-A87C-C727FDA6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7935-6DF3-4276-BE7B-9E47017B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7DCD-ECD3-4EDE-B46D-1AE0451D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B58F-C30A-4EB8-BBFA-891F597B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DFAB-FF58-409C-87D4-DA6DAAF1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28F6-0899-44EB-85D6-046BF2FB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237-4FE1-432D-89DC-38108CF9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75E6-3FD9-4CF4-848E-5827C7D6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F0AE-69F3-4DFD-85E7-55A1BCEA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33C8-5938-448C-846E-8EA128CD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BC1C-22E6-4406-9EC3-591293B3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84AA-A805-43DB-AB05-6DB3A687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8D2-FC9A-42A1-844F-6C109476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274-D8C8-44DF-AEC1-8C763E94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F4A-1DE1-4F82-8707-FDCB5ABA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6B3-3D4A-4BC7-8CA9-7D7E264F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606-D88A-4F17-B638-6DA308AA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8E3-36FF-4765-9626-DAB8164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E5C-D440-476C-A447-852C8866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1F0F-BAE9-4EE4-AF86-8AEE251FB9D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E472-57E4-4139-87CF-F4C03458E0A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155160"/>
            <a:ext cx="856908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Tahoma"/>
              </a:rPr>
              <a:t>Министерство образования науки Самарской област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Tahoma"/>
              </a:rPr>
              <a:t>Государственное автономное образовательно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Tahoma"/>
              </a:rPr>
              <a:t>учреждение дополнительного профессионального образов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ahoma"/>
              </a:rPr>
              <a:t>(повышения квалификации) специалист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ahoma"/>
              </a:rPr>
              <a:t>Самарский областной институт повышения квалификац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ahoma"/>
              </a:rPr>
              <a:t>и переподготовки работников образ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Тема: «ДЕЯТЕЛЬНОСТЬ ПЕДАГОГА ПО РАЗВИТИЮ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ИНТЕРЕСА ДЕТЕЙ ДОШКОЛЬНОГО ВОЗРАСТ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Выполнила 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Быкова Мария Александровн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Воспитатель ГБОУ СОШ с. Курумоч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/п д/с « Белочка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г. Самара 2014го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ктуаль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Актуальность проблемы развития познавательного интереса на педагогическую деятельность уровне определяется поиском создания благоприятных условий развития детей в соответствии с их возрастными и индивидуальными особенностями и склонностями развития способностей и творческого потенциала каждого ребёнка как субъект отношений с самим собой , другими детьми , взрослым и миром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тивореч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2637000"/>
            <a:ext cx="4537080" cy="3384360"/>
          </a:xfrm>
          <a:custGeom>
            <a:avLst/>
            <a:gdLst>
              <a:gd name="textAreaLeft" fmla="*/ 1134360 w 4537080"/>
              <a:gd name="textAreaRight" fmla="*/ 3403080 w 453708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рмирова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знавательно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реса-одна из важнейших задач 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воспитательно 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зовательн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цессе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2471760"/>
            <a:ext cx="205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 основном процесс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 в условиях профессионально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деятельности в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шем учрежден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редметно-развивающая сред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е соответств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требованиям ФГОС.,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2493000"/>
            <a:ext cx="212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едагоги не в полной мере владею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овыми инновационным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технологиями, способствующ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развитию интереса дете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Механизмы реал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64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ля успешной реализации такого социально-личностного аспекта, как развитие познавательного интереса у дошкольников, необходимо произвести изменения в деятельности которое определяет содержание  образовательного процесса, а в частности в его содержании, средствах обучения и воспитания,  а так же в системе контрол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ля эффективности работы по формированию познавательного развития  у дошкольников используют различные методы и приё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85960" y="3940560"/>
            <a:ext cx="604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457200" algn="ctr"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457200" algn="ctr"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457200" algn="ctr"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781360"/>
            <a:ext cx="712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нновационные технологи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развивающие иг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  воображение, творчество и развит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проблемно-игровыми технолог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экспериментирование игров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методами  ТРИ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ловесные – рассказы, беседы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чтение художественной литературы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чтение стихов ,загадок, потешек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редства используемые при формирование познавательного интереса у детей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7329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Таким образом, формирование познавательных интересов и актив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ичности - процессы взаимообусловле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знавательный интерес порожда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ктивность, но, в свою очередь, повышение активности, укрепляет и углубляет познавательный интере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ПАСИБО ЗА ВНИМ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4" descr="Wallpaper39"/>
          <p:cNvPicPr/>
          <p:nvPr/>
        </p:nvPicPr>
        <p:blipFill>
          <a:blip r:embed="rId1"/>
          <a:stretch/>
        </p:blipFill>
        <p:spPr>
          <a:xfrm>
            <a:off x="1187280" y="2421000"/>
            <a:ext cx="72010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19:01:06Z</dcterms:created>
  <dc:creator>оля</dc:creator>
  <dc:description/>
  <dc:language>en-US</dc:language>
  <cp:lastModifiedBy>оля</cp:lastModifiedBy>
  <dcterms:modified xsi:type="dcterms:W3CDTF">2014-10-02T21:04:54Z</dcterms:modified>
  <cp:revision>2</cp:revision>
  <dc:subject/>
  <dc:title>Слайд 1</dc:title>
</cp:coreProperties>
</file>