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156-B8E6-4E2D-8E94-A776BE94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DA0-BC71-4171-A8AF-06DED48D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2DF-35DC-4276-81AF-BDE07253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FED-7BD6-47E6-B64A-D9CB6CF3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2A1-7BAC-4353-91BD-A3CED545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CF80-FA5D-485E-9C13-85090895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30D9-92A0-4A0B-8902-A8144364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9BD9-D0CE-4147-B8EA-349090C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7FFF-2806-4D08-A5F0-8798212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5AF-F506-4167-A676-A204692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DBE8-8F19-49DD-AEF7-4326E5A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FEF-BDFA-4F29-9D79-7B99C45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E272-F918-4352-B280-F1A83CD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4CA4-84C7-41BD-96B1-5DDA483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20B8-4107-48E0-8301-50550751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92DC-A36B-45DA-8B1E-0CE6D842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0FE-697F-42DE-A35E-4068A4AE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26A-32A9-4EC5-A53A-B2B5E72D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821-9F0D-49D4-A721-948F504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E3F-E69B-4C45-B9EA-F5D17A46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D32-54AD-4EAA-AC05-15AE313D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2A5-1795-4CD1-870A-D02F008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B7D-9243-4679-A5D2-5FAE488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1C4-7455-47A6-A660-E3F7388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0C5D-4AF1-4DCA-8130-9467311D23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A85-DB65-44EC-A042-110EF59DE5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55160"/>
            <a:ext cx="85690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Министерство образования науки Самарской обла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Государственное автономное образовательно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учреждение дополнительного профессиональн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ahoma"/>
              </a:rPr>
              <a:t>(повышения квалификации) специалист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ahoma"/>
              </a:rPr>
              <a:t>Самарский областной институт повышения квалификац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Tahoma"/>
              </a:rPr>
              <a:t>и переподготовки работников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Тема: «ДЕЯТЕЛЬНОСТЬ ПЕДАГОГА ПО РАЗВИТИ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ИНТЕРЕСА ДЕТЕЙ ДОШКОЛЬНОГО ВОЗРАСТ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ыполнила 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Быкова Мария Александро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Воспитатель ГБОУ СОШ с. Курумо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/п д/с « Белочка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г. Самара 2014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Актуальность проблемы развития познавательного интереса на педагогическую деятельность уровне определяется поиском создания благоприятных условий развития детей в соответствии с их возрастными и индивидуальными особенностями и склонностями развития способностей и творческого потенциала каждого ребёнка как субъект отношений с самим собой , другими детьми , взрослым и миром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тивореч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2637000"/>
            <a:ext cx="4537080" cy="3384360"/>
          </a:xfrm>
          <a:custGeom>
            <a:avLst/>
            <a:gdLst>
              <a:gd name="textAreaLeft" fmla="*/ 1134360 w 4537080"/>
              <a:gd name="textAreaRight" fmla="*/ 3403080 w 453708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ован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знавательн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реса-одна из важнейших задач 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воспитательно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зовательн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цессе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471760"/>
            <a:ext cx="205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основном процесс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в условиях профессиональн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еятельности 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шем учрежде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едметно-развивающая сре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е соответству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требованиям ФГОС.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249300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едагоги не в полной мере владею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овыми инновационны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технологиями, способствующ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азвитию интереса дете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Механизмы реал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я успешной реализации такого социально-личностного аспекта, как развитие познавательного интереса у дошкольников, необходимо произвести изменения в деятельности которое определяет содержание  образовательного процесса, а в частности в его содержании, средствах обучения и воспитания,  а так же в системе контро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я эффективности работы по формированию познавательного развития  у дошкольников используют различные методы и приё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85960" y="3940560"/>
            <a:ext cx="604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457200" algn="ctr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457200" algn="ctr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457200" algn="ctr"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781360"/>
            <a:ext cx="712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новационные технологи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развивающие 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  воображение, творчество и разви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проблемно-игровыми технолог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экспериментирование игров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методами  ТРИ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ловесные – рассказы, бесед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тение художественной литератур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тение стихов ,загадок, потешек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редства используемые при формирование познавательного интереса у детей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7329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аким образом, формирование познавательных интересов и акти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ичности - процессы взаимообусловле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навательный интерес порожда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ктивность, но, в свою очередь, повышение активности, укрепляет и углубляет познавательный интере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4" descr="Wallpaper39"/>
          <p:cNvPicPr/>
          <p:nvPr/>
        </p:nvPicPr>
        <p:blipFill>
          <a:blip r:embed="rId1"/>
          <a:stretch/>
        </p:blipFill>
        <p:spPr>
          <a:xfrm>
            <a:off x="1187280" y="2421000"/>
            <a:ext cx="72010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9:01:06Z</dcterms:created>
  <dc:creator>оля</dc:creator>
  <dc:description/>
  <dc:language>en-US</dc:language>
  <cp:lastModifiedBy>оля</cp:lastModifiedBy>
  <dcterms:modified xsi:type="dcterms:W3CDTF">2014-10-02T21:04:54Z</dcterms:modified>
  <cp:revision>2</cp:revision>
  <dc:subject/>
  <dc:title>Слайд 1</dc:title>
</cp:coreProperties>
</file>