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gif" ContentType="image/gif"/>
  <Override PartName="/ppt/media/image7.wmf" ContentType="image/x-wmf"/>
  <Override PartName="/ppt/media/image11.jpeg" ContentType="image/jpeg"/>
  <Override PartName="/ppt/media/image13.png" ContentType="image/pn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AB8-10E4-451D-9B0F-6A36115A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E28-EAD0-405A-BFE9-2E84B52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B9D-3BCF-453C-8953-ACECF875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0AE-969B-4255-985D-688880CF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FAA-5CCE-4FC1-8520-55414D3D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16E-25DB-49D7-8433-5E40C6F4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8BCC-4261-4079-8DF1-4BD21019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199A-C9FC-413F-B4CE-9867868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5567-37F6-4918-A7C4-0C6D3862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6036-1025-4F9C-B25B-80CB9EC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9628-FBFC-456A-BFF9-BF74D47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E67-098F-4D29-82C7-D7F0223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FD55-B7EA-4130-848D-5758E491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5B0-AE13-4427-A45C-12F067DC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977-B109-4A5A-9A42-DB381016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D73B-2572-4B6A-9CBE-250E6C7E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7D02-4621-4258-8B48-15099D27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C76-0778-4E3E-8B8E-F9C6360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4FD-2DC2-43C2-9E2C-43F22A35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63D-81DB-4A16-BF1D-78601850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D15-4113-4982-A52D-176AAFBD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905-8B42-4A87-AA9D-F82BA38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A3A-0115-4173-9FA0-6E511CA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08A-62F3-4043-9246-02E2823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5703-B859-41F3-ABBE-6F05B566C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prstGeom prst="pie">
            <a:avLst/>
          </a:pr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560"/>
            <a:chOff x="755640" y="119664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74880" y="1196640"/>
              <a:ext cx="927720" cy="4835520"/>
              <a:chOff x="974880" y="1196640"/>
              <a:chExt cx="927720" cy="483552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74880" y="12074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73680" y="11966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59048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0260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7040"/>
              <a:ext cx="7849080" cy="4346640"/>
              <a:chOff x="755640" y="1427040"/>
              <a:chExt cx="7849080" cy="43466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7040"/>
                <a:ext cx="7829280" cy="869760"/>
                <a:chOff x="755640" y="1427040"/>
                <a:chExt cx="7829280" cy="86976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7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75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2360" y="2004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5720" y="229680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5080" y="2577960"/>
                <a:ext cx="7829640" cy="871920"/>
                <a:chOff x="775080" y="2577960"/>
                <a:chExt cx="782964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5080" y="25779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6848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3240" y="3156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6960" y="34498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1920"/>
                <a:ext cx="7829280" cy="870840"/>
                <a:chOff x="755640" y="3751920"/>
                <a:chExt cx="7829280" cy="87084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19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35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2360" y="4330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5720" y="462276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5080" y="4902840"/>
                <a:ext cx="7829640" cy="870840"/>
                <a:chOff x="775080" y="4902840"/>
                <a:chExt cx="7829640" cy="87084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5080" y="4902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194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3240" y="5481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6960" y="57736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29840" y="1222560"/>
              <a:ext cx="927720" cy="4832640"/>
              <a:chOff x="2229840" y="1222560"/>
              <a:chExt cx="927720" cy="483264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2984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2864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4832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5756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02800" y="1222560"/>
              <a:ext cx="927720" cy="4832640"/>
              <a:chOff x="3502800" y="1222560"/>
              <a:chExt cx="927720" cy="483264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0280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0304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2128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3052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75400" y="1222560"/>
              <a:ext cx="927720" cy="4832640"/>
              <a:chOff x="4775400" y="1222560"/>
              <a:chExt cx="927720" cy="483264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7540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7420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39100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0312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5994000" y="1222560"/>
              <a:ext cx="927720" cy="4832640"/>
              <a:chOff x="5994000" y="1222560"/>
              <a:chExt cx="927720" cy="483264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599400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29280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1248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2172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40320" y="1222560"/>
              <a:ext cx="927720" cy="4832640"/>
              <a:chOff x="7240320" y="1222560"/>
              <a:chExt cx="927720" cy="483264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4032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3912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5880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6804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7D5A-9290-4E73-8927-54A8F94873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lubsv.ucoz.ru/load/mateematika/shablony_dlja_prezentacij/zelenyj_fon/10-1-0-133" TargetMode="External"/><Relationship Id="rId2" Type="http://schemas.openxmlformats.org/officeDocument/2006/relationships/hyperlink" Target="http://nsportal.ru/nachalnaya-shkola/mezhdistsiplinarnoe-obobshchenie/2014/03/02/opyt-raboty-mo-nachalnykh-klassov-po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000160" y="3857760"/>
            <a:ext cx="48117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5e25"/>
                </a:solidFill>
                <a:latin typeface="Times New Roman"/>
              </a:rPr>
              <a:t>Мастер-класс</a:t>
            </a:r>
            <a:r>
              <a:rPr b="1" i="1" lang="ru-RU" sz="2000" spc="-1" strike="noStrike">
                <a:solidFill>
                  <a:srgbClr val="185e2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5e25"/>
                </a:solidFill>
                <a:latin typeface="Times New Roman"/>
              </a:rPr>
              <a:t>учителя географии МБОУ «СОШ №5» г.о. Прохла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5e25"/>
                </a:solidFill>
                <a:latin typeface="Times New Roman"/>
              </a:rPr>
              <a:t>Головко Ольги Никола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71400" y="171432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85e25"/>
                </a:solidFill>
                <a:latin typeface="Cambria"/>
              </a:rPr>
              <a:t>Формирование универсальных учебных действ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олжите любое из предложений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50012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3280" y="1500120"/>
            <a:ext cx="4042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урок дал мн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3000240" y="1214280"/>
            <a:ext cx="1906560" cy="1643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3000240" y="4643280"/>
            <a:ext cx="2000520" cy="173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 rot="1450200">
            <a:off x="6292440" y="4654440"/>
            <a:ext cx="2284560" cy="1928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93297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пользованные материал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7859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http://golubsv.ucoz.ru/load/mateematika/shablony_dlja_prezentacij/zelenyj_fon/10-1-0-1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 - шабл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http://nsportal.ru/nachalnaya-shkola/mezhdistsiplinarnoe-obobshchenie/2014/03/02/opyt-raboty-mo-nachalnykh-klassov-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ankov.ru/exp/article=3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cheburashka14.ucoz.ru/cartin/giper5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900igr.net/kartinki/informatika/Formirovanie-UUD/020-Kommunikativnye-UUD.html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g1.liveinternet.ru/images/attach/b/3/16/629/16629138_4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chool45.tyumenedu.ru/sites/default/files/field/image/s001339_567601_1.jpg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1714320"/>
            <a:ext cx="8072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85e25"/>
                </a:solidFill>
                <a:latin typeface="Cambria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185e25"/>
                </a:solidFill>
                <a:latin typeface="Cambria"/>
              </a:rPr>
              <a:t>за работу!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481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185e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усвоения новых знани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71680" y="928440"/>
            <a:ext cx="807228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  <a:ea typeface="Calibri"/>
              </a:rPr>
              <a:t>     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d4575"/>
                </a:solidFill>
                <a:latin typeface="Cambria"/>
                <a:ea typeface="Calibri"/>
              </a:rPr>
              <a:t>«Мы делаем газету»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  <a:ea typeface="Calibri"/>
              </a:rPr>
              <a:t>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 </a:t>
            </a:r>
            <a:r>
              <a:rPr b="1" i="1" lang="ru-RU" sz="3200" spc="-1" strike="noStrike">
                <a:solidFill>
                  <a:srgbClr val="609927"/>
                </a:solidFill>
                <a:latin typeface="Cambria"/>
                <a:ea typeface="Calibri"/>
              </a:rPr>
              <a:t>познакомить присутствующих с одним из приёмов работы на уроке, способствующим формированию универсальных учебных действий.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Продолжительность</a:t>
            </a:r>
            <a:r>
              <a:rPr b="0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 : </a:t>
            </a: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40 мину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полагаемый результат: 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7140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участники мастер-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получат знания о формировании УУД на уроках географ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обсудят возможности его применения в процессе об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смогут использовать приобретенные знания и приемы в своей практик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сопоставят свой уровень и формы работы с представленным на мастер-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тановка проблем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сли хочешь научиться прыгать – надо прыгат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214720" y="2500200"/>
            <a:ext cx="483372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760" y="1428840"/>
            <a:ext cx="8229600" cy="4734000"/>
          </a:xfrm>
          <a:prstGeom prst="rect">
            <a:avLst/>
          </a:prstGeom>
          <a:solidFill>
            <a:srgbClr val="497ebf"/>
          </a:solidFill>
          <a:ln w="38160">
            <a:solidFill>
              <a:srgbClr val="dde89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de89a"/>
                </a:solidFill>
                <a:latin typeface="Cambria"/>
              </a:rPr>
              <a:t>Формирование УУД на уроках географ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1" descr="http://www.chelsi.ru/uploads/posts/2012-04/1335334612_ol.jpg"/>
          <p:cNvPicPr/>
          <p:nvPr/>
        </p:nvPicPr>
        <p:blipFill>
          <a:blip r:embed="rId1"/>
          <a:stretch/>
        </p:blipFill>
        <p:spPr>
          <a:xfrm>
            <a:off x="3286080" y="4657680"/>
            <a:ext cx="228600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686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еполагание и мотивация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</a:rPr>
              <a:t>Сформулировать понятие, определить, что такое Универсальные Учеб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</a:rPr>
              <a:t>Выяснить, какие бывают УУД, в чём они выраж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</a:rPr>
              <a:t>Определить, как, какими способами можно формировать УУД на уроках 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пускаем газету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8f39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258f39"/>
                </a:solidFill>
                <a:latin typeface="Cambria"/>
              </a:rPr>
              <a:t>Продум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 будет названа газ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ие отделы вашей газеты будут работать над выпу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ую информацию вам необходимо поместить в газе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 будет названа каждая ста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Художественное оформление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5e25"/>
                </a:solidFill>
                <a:latin typeface="Cambria"/>
              </a:rPr>
              <a:t>(на столах инструкции для работы в групп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Содержимое 2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6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dde89a"/>
                  </a:solidFill>
                  <a:latin typeface="Cambria"/>
                </a:rPr>
                <a:t>  </a:t>
              </a:r>
              <a:endParaRPr b="0" lang="en-US" sz="7200" spc="-1" strike="noStrike">
                <a:solidFill>
                  <a:srgbClr val="dde89a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dde89a"/>
                  </a:solidFill>
                  <a:latin typeface="Cambria"/>
                </a:rPr>
                <a:t>Желаю вам плодотворной работы!</a:t>
              </a:r>
              <a:endParaRPr b="0" lang="en-US" sz="72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929120" y="2643120"/>
            <a:ext cx="3762360" cy="3810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 работы - проек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Содержимое 2" descr=""/>
          <p:cNvPicPr/>
          <p:nvPr/>
        </p:nvPicPr>
        <p:blipFill>
          <a:blip r:embed="rId2"/>
          <a:stretch/>
        </p:blipFill>
        <p:spPr>
          <a:xfrm>
            <a:off x="-268200" y="1054080"/>
            <a:ext cx="9710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User</cp:lastModifiedBy>
  <dcterms:modified xsi:type="dcterms:W3CDTF">2015-03-23T13:51:15Z</dcterms:modified>
  <cp:revision>24</cp:revision>
  <dc:subject>урок</dc:subject>
  <dc:title>Презентация</dc:title>
</cp:coreProperties>
</file>