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2A7-F736-4A39-94CE-E1EAF2BD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384-0286-442F-92EA-AB3D68B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388-F55A-49EF-8C47-A9A65923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247-FD79-4361-8262-336A532E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521-3312-49DA-A9F6-6E639EA6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3445-5B35-455A-B98F-56196E4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A22A-89B4-4836-90D2-768F46B6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9B1-F2D0-470B-BA3E-8C3DEB4D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321-1ED5-4E0F-B769-D289D398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358E-4B17-4D39-9CC0-87F73AB4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F859-0C78-405B-A01B-F9661C6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72B-7C7B-40FA-9C79-2EAFA7D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E4F-0211-4C82-86AA-B803D0A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0F2-8313-4F71-89EB-4455367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CC9-0A19-4FB4-808F-CAAB446E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2DC-EC18-4C13-80CC-0015EF29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18DA-7C18-4FD9-9639-218B677A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73A-44D9-4851-954E-7B09CD2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364-302B-41A0-89FF-BABB88A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D74-18FE-4B15-B797-7C33A4D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B3C-B335-417D-AD13-CE04B002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CE7-DBD2-4C5E-884C-BC8703B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66D-06EE-4971-92FE-E9896FF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7EA-BA12-4828-8AE7-084A1C0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752B-B8FE-4F33-B36B-9BEC98BF60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F814-8965-4C5F-A482-5C2F187CCD4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187280" y="98100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работы учащихся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91628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рофильному тру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3132000" y="4581360"/>
            <a:ext cx="40546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Шинкаренко О.Ю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84360" y="476280"/>
            <a:ext cx="592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хальные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6" descr="101_0396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1187280" y="1989000"/>
            <a:ext cx="547236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140000" y="1598760"/>
            <a:ext cx="3509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 и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класса Гунатиди Светлан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1116000" y="692280"/>
            <a:ext cx="5118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н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8" descr="000_0003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 и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ащейся 10класса Салиной Ольг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5" descr="000_000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1280" y="1557360"/>
            <a:ext cx="3395520" cy="44974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7"/>
          <p:cNvSpPr txBox="1"/>
          <p:nvPr/>
        </p:nvSpPr>
        <p:spPr>
          <a:xfrm>
            <a:off x="1476360" y="692280"/>
            <a:ext cx="47484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000_0001"/>
          <p:cNvPicPr/>
          <p:nvPr/>
        </p:nvPicPr>
        <p:blipFill>
          <a:blip r:embed="rId1"/>
          <a:stretch/>
        </p:blipFill>
        <p:spPr>
          <a:xfrm>
            <a:off x="1187280" y="260280"/>
            <a:ext cx="489744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37:29Z</dcterms:created>
  <dc:creator>Admin</dc:creator>
  <dc:description/>
  <dc:language>en-US</dc:language>
  <cp:lastModifiedBy>User</cp:lastModifiedBy>
  <dcterms:modified xsi:type="dcterms:W3CDTF">2015-04-13T14:21:22Z</dcterms:modified>
  <cp:revision>30</cp:revision>
  <dc:subject/>
  <dc:title>Слайд 1</dc:title>
</cp:coreProperties>
</file>