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DD1-F8DC-4743-90F9-A5878656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3BF-07DE-44BB-A87A-64AD5548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C12-F3FA-4417-8CAC-6796C9E4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776-E3E6-41A0-BD3F-7DF06773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F026-FBF2-439F-9A3C-7A539B0F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D548-1FF1-45D4-AAF5-188A837E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7BC0-B044-4402-BEA0-AEF13681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411E-E2FB-47C3-931E-E8E86004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B4C1-D637-48EE-949B-D2EC5699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E92C-E1DB-4AF1-AD91-9E64472E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1EA9-1F11-4969-B909-665965C9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087-B1F3-4021-9F9D-1EA5F66F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D363-1EF5-4233-912B-D4AE3525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E6EA-1B2F-4A91-8939-D2BCE936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B4B8-3ECE-48C1-9005-EC7D83B9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007E-FD33-438C-AC61-3A8CFA1E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563D-CF56-4AEE-9392-67EC127B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01B-5F16-4E0C-9FFD-8BE36734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A0D-7892-4EE9-A83D-85CB5134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BD8-7535-4156-889F-6FCC8DA0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A56-7786-4FE3-BBE0-9DBDEC54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2D60-21B5-4DE0-9259-BABDE379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018-F315-47BB-AF05-C44A27BE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0F2-C0B0-477D-A728-9C4391EE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D68E-F09C-41A1-AD26-8450D04C63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BCC2-54E2-4020-B032-6C60ED6E5B9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1187280" y="98100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работы учащихся 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1547640" y="1916280"/>
            <a:ext cx="49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профильному труду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3132000" y="4581360"/>
            <a:ext cx="40546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: Шинкаренко О.Ю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5"/>
          <p:cNvSpPr txBox="1"/>
          <p:nvPr/>
        </p:nvSpPr>
        <p:spPr>
          <a:xfrm>
            <a:off x="684360" y="476280"/>
            <a:ext cx="5921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схальные рабо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6" name="Picture 6" descr="101_0396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1187280" y="1989000"/>
            <a:ext cx="547236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140000" y="1598760"/>
            <a:ext cx="3509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корирование лентами и страз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бота учениц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0класса Гунатиди Светланы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1116000" y="692280"/>
            <a:ext cx="51181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снальное яйц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9" name="Picture 8" descr="000_0003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384120" y="1598760"/>
            <a:ext cx="33735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корирование лентами и страз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бота учащейся 10класса Салиной Ольг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25" descr="000_000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611280" y="1557360"/>
            <a:ext cx="3395520" cy="4497480"/>
          </a:xfrm>
          <a:prstGeom prst="rect">
            <a:avLst/>
          </a:prstGeom>
          <a:ln w="0">
            <a:noFill/>
          </a:ln>
        </p:spPr>
      </p:pic>
      <p:sp>
        <p:nvSpPr>
          <p:cNvPr id="202" name="WordArt 27"/>
          <p:cNvSpPr txBox="1"/>
          <p:nvPr/>
        </p:nvSpPr>
        <p:spPr>
          <a:xfrm>
            <a:off x="1476360" y="692280"/>
            <a:ext cx="47484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схальное яйц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000_0001"/>
          <p:cNvPicPr/>
          <p:nvPr/>
        </p:nvPicPr>
        <p:blipFill>
          <a:blip r:embed="rId1"/>
          <a:stretch/>
        </p:blipFill>
        <p:spPr>
          <a:xfrm>
            <a:off x="1187280" y="260280"/>
            <a:ext cx="4897440" cy="608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5:37:29Z</dcterms:created>
  <dc:creator>Admin</dc:creator>
  <dc:description/>
  <dc:language>en-US</dc:language>
  <cp:lastModifiedBy>User</cp:lastModifiedBy>
  <dcterms:modified xsi:type="dcterms:W3CDTF">2015-04-13T14:21:22Z</dcterms:modified>
  <cp:revision>30</cp:revision>
  <dc:subject/>
  <dc:title>Слайд 1</dc:title>
</cp:coreProperties>
</file>