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6DB-3326-4568-B4E9-0A2C17CD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B62-AFA2-420F-A104-E5A9E11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CB6-4FB2-40EE-A4C2-AE9655C2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E28-44E2-455B-AE1F-E59DBAC6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75F-2F44-49A3-8243-D4344A79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E6B1-5A9B-44D1-9DD5-ACDC956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B15E-03A9-41C8-ADA8-A494D3F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E57B-A527-4AA7-A420-8B119CD9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0331-A3EC-4C45-8C53-FDC6DCDC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AA5-7C3C-47BA-9629-51F57B8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0BB-2932-4800-A34D-569B558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BF7-540C-4761-9DCE-AC4A4B6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F51F-0354-4955-B356-97F637E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661-B9E8-49E4-BA0B-316C1CC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B3DD-07FB-4F72-8A0B-7B683907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7DD-83C1-4E39-AF71-6F87601B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7BEE-72F7-4BA8-9526-25464E1B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089-32C8-4B24-876E-7D15717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A13-7537-421A-827A-1162CFA2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04E-E89F-4965-AD54-2AAEB75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A47-0D2C-4058-B8A3-86E23EC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725-6907-44DB-81F8-DF69A4B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70B-00C0-4420-851B-556DD04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3DE-778A-494F-B18F-79D390A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36C-3DBD-44A6-B358-16F06ECD67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1F55-C600-4CE7-B868-88CFAB4AE32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187280" y="98100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работы учащихся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916280"/>
            <a:ext cx="49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рофильному тру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3132000" y="4581360"/>
            <a:ext cx="40546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Шинкаренко О.Ю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резание из цветной бумаг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7класса Макаровой Мар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2" descr="000_0012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3"/>
          <p:cNvSpPr txBox="1"/>
          <p:nvPr/>
        </p:nvSpPr>
        <p:spPr>
          <a:xfrm>
            <a:off x="1835280" y="836640"/>
            <a:ext cx="4389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84360" y="189000"/>
            <a:ext cx="64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хальные рабо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5" descr="DSC04265"/>
          <p:cNvPicPr/>
          <p:nvPr/>
        </p:nvPicPr>
        <p:blipFill>
          <a:blip r:embed="rId3"/>
          <a:stretch/>
        </p:blipFill>
        <p:spPr>
          <a:xfrm>
            <a:off x="1763640" y="1598760"/>
            <a:ext cx="42483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атласными лентами, кружевом и бисер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1класса Гунатиди Светла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1908000" y="765000"/>
            <a:ext cx="431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2" name="Picture 8" descr="DSC04267"/>
          <p:cNvPicPr/>
          <p:nvPr/>
        </p:nvPicPr>
        <p:blipFill>
          <a:blip r:embed="rId5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, бисером, бус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1класса Гунатиди Светла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9" descr="DSC04269"/>
          <p:cNvPicPr/>
          <p:nvPr/>
        </p:nvPicPr>
        <p:blipFill>
          <a:blip r:embed="rId3"/>
          <a:stretch/>
        </p:blipFill>
        <p:spPr>
          <a:xfrm>
            <a:off x="468360" y="1598760"/>
            <a:ext cx="3289320" cy="44971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0"/>
          <p:cNvSpPr txBox="1"/>
          <p:nvPr/>
        </p:nvSpPr>
        <p:spPr>
          <a:xfrm>
            <a:off x="1908000" y="765000"/>
            <a:ext cx="4316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корирование лентами, тесьмой, страз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0класса Гричищкиной Екатери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7" descr="DSC04270"/>
          <p:cNvPicPr/>
          <p:nvPr/>
        </p:nvPicPr>
        <p:blipFill>
          <a:blip r:embed="rId3"/>
          <a:stretch/>
        </p:blipFill>
        <p:spPr>
          <a:xfrm>
            <a:off x="384120" y="1598760"/>
            <a:ext cx="3373560" cy="4497120"/>
          </a:xfrm>
          <a:prstGeom prst="rect">
            <a:avLst/>
          </a:prstGeom>
          <a:ln w="0">
            <a:noFill/>
          </a:ln>
        </p:spPr>
      </p:pic>
      <p:sp>
        <p:nvSpPr>
          <p:cNvPr id="208" name="WordArt 8"/>
          <p:cNvSpPr txBox="1"/>
          <p:nvPr/>
        </p:nvSpPr>
        <p:spPr>
          <a:xfrm>
            <a:off x="1979640" y="765000"/>
            <a:ext cx="4245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шивка крест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ениц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 класса Юловой Мари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7" descr="DSC04274"/>
          <p:cNvPicPr/>
          <p:nvPr/>
        </p:nvPicPr>
        <p:blipFill>
          <a:blip r:embed="rId3"/>
          <a:stretch/>
        </p:blipFill>
        <p:spPr>
          <a:xfrm>
            <a:off x="324000" y="1628640"/>
            <a:ext cx="3373200" cy="4497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8"/>
          <p:cNvSpPr txBox="1"/>
          <p:nvPr/>
        </p:nvSpPr>
        <p:spPr>
          <a:xfrm>
            <a:off x="1908000" y="692280"/>
            <a:ext cx="41976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есенний бук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шивка крест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бота ученицы 10класса Гричишкиной Екатерины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7" descr="DSC04276"/>
          <p:cNvPicPr/>
          <p:nvPr/>
        </p:nvPicPr>
        <p:blipFill>
          <a:blip r:embed="rId3"/>
          <a:stretch/>
        </p:blipFill>
        <p:spPr>
          <a:xfrm>
            <a:off x="324000" y="1557360"/>
            <a:ext cx="3373200" cy="44974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8"/>
          <p:cNvSpPr txBox="1"/>
          <p:nvPr/>
        </p:nvSpPr>
        <p:spPr>
          <a:xfrm>
            <a:off x="1547640" y="692280"/>
            <a:ext cx="4677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схальное яйц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37:29Z</dcterms:created>
  <dc:creator>Admin</dc:creator>
  <dc:description/>
  <dc:language>en-US</dc:language>
  <cp:lastModifiedBy>User</cp:lastModifiedBy>
  <dcterms:modified xsi:type="dcterms:W3CDTF">2015-04-13T14:22:20Z</dcterms:modified>
  <cp:revision>30</cp:revision>
  <dc:subject/>
  <dc:title>Слайд 1</dc:title>
</cp:coreProperties>
</file>