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97FF-4DD3-4121-AE83-9A263FA6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874A-F616-4498-B7D9-61FC1DD1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CA2-14FB-47F6-9B2E-9283F4DB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820-1DC4-40B9-A41E-5F6E6DB4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27E9-FD35-4C7D-BBEC-85C14EED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5C63-BFE0-4816-8F13-D06D2787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7419-1DD5-4A9F-8F5B-2E50DA67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8BD7-353F-4C48-ADBF-3591FB8E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756B-61A8-4987-B821-52319E9A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5D03-A81A-4E54-B2AD-DC4660DB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2E5F-31C0-4F0B-945C-0DBBFA78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8FE-A4C6-4D0D-B714-96CCA7E1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E2A9-FDA9-4E2C-9B61-E1C72FEC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3DEC-8A0D-4DC7-9F24-340411D9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6016-6EC5-49BC-B984-25D3C1E7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EF6E-88E2-4881-B17E-38DFA77A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3D16-8064-477C-9144-20A003ED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5ADD-3DCB-483E-9E73-F74B682A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3A15-E89F-4EE3-AF13-37F49D54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B970-8EBD-4FE7-8850-D77ACF37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5FF-2211-4FCF-BF11-91853407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CFC-A9FF-4F28-933A-8FB0BF4E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EAB-EE0E-42A6-B5F0-58BE860E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A61E-C1DC-4773-859E-60E2D6AE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E497-CBF6-4240-888F-AA93362B29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C793-BF55-479D-9FB1-B01B7C83A3EF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1187280" y="981000"/>
            <a:ext cx="5689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е работы учащихся 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1547640" y="1916280"/>
            <a:ext cx="496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профильному труду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3132000" y="4581360"/>
            <a:ext cx="40546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ь: Шинкаренко О.Ю.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ырезание из цветной бумаг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бота ученицы 7класса Макаровой Мар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12" descr="000_0012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384120" y="1598760"/>
            <a:ext cx="3373560" cy="4497120"/>
          </a:xfrm>
          <a:prstGeom prst="rect">
            <a:avLst/>
          </a:prstGeom>
          <a:ln w="0">
            <a:noFill/>
          </a:ln>
        </p:spPr>
      </p:pic>
      <p:sp>
        <p:nvSpPr>
          <p:cNvPr id="197" name="WordArt 13"/>
          <p:cNvSpPr txBox="1"/>
          <p:nvPr/>
        </p:nvSpPr>
        <p:spPr>
          <a:xfrm>
            <a:off x="1835280" y="836640"/>
            <a:ext cx="43894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схальное яйц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4"/>
          <p:cNvSpPr txBox="1"/>
          <p:nvPr/>
        </p:nvSpPr>
        <p:spPr>
          <a:xfrm>
            <a:off x="684360" y="189000"/>
            <a:ext cx="640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схальные работ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9" name="Picture 5" descr="DSC04265"/>
          <p:cNvPicPr/>
          <p:nvPr/>
        </p:nvPicPr>
        <p:blipFill>
          <a:blip r:embed="rId3"/>
          <a:stretch/>
        </p:blipFill>
        <p:spPr>
          <a:xfrm>
            <a:off x="1763640" y="1598760"/>
            <a:ext cx="424836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екорирование атласными лентами, кружевом и бисеро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бота ученицы 11класса Гунатиди Светлан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WordArt 7"/>
          <p:cNvSpPr txBox="1"/>
          <p:nvPr/>
        </p:nvSpPr>
        <p:spPr>
          <a:xfrm>
            <a:off x="1908000" y="765000"/>
            <a:ext cx="43167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схальное яйц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2" name="Picture 8" descr="DSC04267"/>
          <p:cNvPicPr/>
          <p:nvPr/>
        </p:nvPicPr>
        <p:blipFill>
          <a:blip r:embed="rId5"/>
          <a:stretch/>
        </p:blipFill>
        <p:spPr>
          <a:xfrm>
            <a:off x="384120" y="1598760"/>
            <a:ext cx="33735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екорирование лентами, бисером, буса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бота ученицы 11класса Гунатиди Светланы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9" descr="DSC04269"/>
          <p:cNvPicPr/>
          <p:nvPr/>
        </p:nvPicPr>
        <p:blipFill>
          <a:blip r:embed="rId3"/>
          <a:stretch/>
        </p:blipFill>
        <p:spPr>
          <a:xfrm>
            <a:off x="468360" y="1598760"/>
            <a:ext cx="3289320" cy="4497120"/>
          </a:xfrm>
          <a:prstGeom prst="rect">
            <a:avLst/>
          </a:prstGeom>
          <a:ln w="0">
            <a:noFill/>
          </a:ln>
        </p:spPr>
      </p:pic>
      <p:sp>
        <p:nvSpPr>
          <p:cNvPr id="205" name="WordArt 10"/>
          <p:cNvSpPr txBox="1"/>
          <p:nvPr/>
        </p:nvSpPr>
        <p:spPr>
          <a:xfrm>
            <a:off x="1908000" y="765000"/>
            <a:ext cx="43167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схальное яйц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екорирование лентами, тесьмой, страза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бота ученицы 10класса Гричищкиной Екатерины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7" descr="DSC04270"/>
          <p:cNvPicPr/>
          <p:nvPr/>
        </p:nvPicPr>
        <p:blipFill>
          <a:blip r:embed="rId3"/>
          <a:stretch/>
        </p:blipFill>
        <p:spPr>
          <a:xfrm>
            <a:off x="384120" y="1598760"/>
            <a:ext cx="3373560" cy="4497120"/>
          </a:xfrm>
          <a:prstGeom prst="rect">
            <a:avLst/>
          </a:prstGeom>
          <a:ln w="0">
            <a:noFill/>
          </a:ln>
        </p:spPr>
      </p:pic>
      <p:sp>
        <p:nvSpPr>
          <p:cNvPr id="208" name="WordArt 8"/>
          <p:cNvSpPr txBox="1"/>
          <p:nvPr/>
        </p:nvSpPr>
        <p:spPr>
          <a:xfrm>
            <a:off x="1979640" y="765000"/>
            <a:ext cx="4245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схальное яйц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ышивка кресто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бота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еницы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0 класса Юловой Марии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7" descr="DSC04274"/>
          <p:cNvPicPr/>
          <p:nvPr/>
        </p:nvPicPr>
        <p:blipFill>
          <a:blip r:embed="rId3"/>
          <a:stretch/>
        </p:blipFill>
        <p:spPr>
          <a:xfrm>
            <a:off x="324000" y="1628640"/>
            <a:ext cx="3373200" cy="4497480"/>
          </a:xfrm>
          <a:prstGeom prst="rect">
            <a:avLst/>
          </a:prstGeom>
          <a:ln w="0">
            <a:noFill/>
          </a:ln>
        </p:spPr>
      </p:pic>
      <p:sp>
        <p:nvSpPr>
          <p:cNvPr id="211" name="WordArt 8"/>
          <p:cNvSpPr txBox="1"/>
          <p:nvPr/>
        </p:nvSpPr>
        <p:spPr>
          <a:xfrm>
            <a:off x="1908000" y="692280"/>
            <a:ext cx="41976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есенний буке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ышивка кресто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бота ученицы 10класса Гричишкиной Екатерины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7" descr="DSC04276"/>
          <p:cNvPicPr/>
          <p:nvPr/>
        </p:nvPicPr>
        <p:blipFill>
          <a:blip r:embed="rId3"/>
          <a:stretch/>
        </p:blipFill>
        <p:spPr>
          <a:xfrm>
            <a:off x="324000" y="1557360"/>
            <a:ext cx="3373200" cy="4497480"/>
          </a:xfrm>
          <a:prstGeom prst="rect">
            <a:avLst/>
          </a:prstGeom>
          <a:ln w="0">
            <a:noFill/>
          </a:ln>
        </p:spPr>
      </p:pic>
      <p:sp>
        <p:nvSpPr>
          <p:cNvPr id="214" name="WordArt 8"/>
          <p:cNvSpPr txBox="1"/>
          <p:nvPr/>
        </p:nvSpPr>
        <p:spPr>
          <a:xfrm>
            <a:off x="1547640" y="692280"/>
            <a:ext cx="4677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схальное яйц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5:37:29Z</dcterms:created>
  <dc:creator>Admin</dc:creator>
  <dc:description/>
  <dc:language>en-US</dc:language>
  <cp:lastModifiedBy>User</cp:lastModifiedBy>
  <dcterms:modified xsi:type="dcterms:W3CDTF">2015-04-13T14:22:20Z</dcterms:modified>
  <cp:revision>30</cp:revision>
  <dc:subject/>
  <dc:title>Слайд 1</dc:title>
</cp:coreProperties>
</file>