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834-665C-4E42-AB94-F7C75D9F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037-B321-44C9-A488-6C35AA5C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B15-A6C0-4354-BE0D-97F55F5A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588-A8F5-43CC-B4E4-03EB7901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31B-D769-4064-B1EA-BDA629BF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6E8-883B-4E5B-B206-ABF8593B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4CE-678E-4394-85F2-E3D6451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002-4723-46CC-8D1E-7883419F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96E-2488-4F39-9CD6-EA10AC83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C60-B78C-46D1-B6E9-9C79352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7C4-858B-49C9-8948-3F1752D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5A0-CA32-45AD-B0B7-37AB9A5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A4ED-8034-4D52-89E0-0A8ED150A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ntessorivlad.ru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839440" cy="6400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Bookman Old Style"/>
              </a:rPr>
              <a:t>Все профессии ва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600" y="0"/>
            <a:ext cx="18367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162920" y="4419720"/>
            <a:ext cx="17128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4724280"/>
            <a:ext cx="2590920" cy="191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553080" y="171360"/>
            <a:ext cx="2362320" cy="1760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738600" y="3352680"/>
            <a:ext cx="1952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944800" cy="3886200"/>
          </a:xfrm>
          <a:prstGeom prst="rect">
            <a:avLst/>
          </a:prstGeom>
          <a:ln w="38160">
            <a:solidFill>
              <a:srgbClr val="33993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809880" y="1676520"/>
            <a:ext cx="4953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ткройте учебники на с.1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рочитайте текст «Кто сделал хлеб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Мы дорожки подмета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имитация движе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Листья в кучи собира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наклониться, имитировать дви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Чтоб гуляя, мал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Веселились от души!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подскоки на мес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Ох, устали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«обтереть пот со лба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Отдохн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присе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И домой скорей пойдем</a:t>
            </a:r>
            <a:r>
              <a:rPr b="0" i="1" lang="en-US" sz="3200" spc="-1" strike="noStrike">
                <a:solidFill>
                  <a:srgbClr val="993300"/>
                </a:solidFill>
                <a:latin typeface="Bookman Old Style"/>
              </a:rPr>
              <a:t> (шаги на месте</a:t>
            </a:r>
            <a:r>
              <a:rPr b="0" i="1" lang="en-US" sz="1800" spc="-1" strike="noStrike">
                <a:solidFill>
                  <a:srgbClr val="9933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Рабочих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086280" cy="4035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9880" y="1676520"/>
            <a:ext cx="48006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ткройте тетради на с. 4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спомните, о каких профессиях мы говорили и выполните задание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4479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ткройте тетради на с. 50. выполните задание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30492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Всё для все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Каменщик строит жил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латье – работа пор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о ведь портному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егде без тёплого к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Каменщик был бы раздет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Если б умелы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Вовремя не смасте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Фартук, и куртку, и брю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екарь сапожнику к с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шить сапоги пору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у а сапожник без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Много ль нашьёт, натач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тало быть, так и выход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Всё, что мы делаем,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Значит, давайт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Честно, усердно и др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838080"/>
            <a:ext cx="8229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Arial"/>
              </a:rPr>
              <a:t>Все профессии нужны, все профессии важн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895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В учебнике с.128-1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В Рабочей тетради с.50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304920"/>
            <a:ext cx="784836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Bookman Old Style"/>
              </a:rPr>
              <a:t>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images.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www.montessorivla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www.tmndetsad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4</a:t>
            </a: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</a:rPr>
              <a:t>. Плешаков А.А. Окружающий мир. 2 класс. Учебник для общеобразовательных учреждений. – М.: Просвещение, 2009. – 1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</a:rPr>
              <a:t>Плешаков А.А. окружающий мир. Рабочая тетрадь. 2 класс. Часть 1 – М. – Просвещение, 2009. – 61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Bookman Old Style"/>
              </a:rPr>
              <a:t>5</a:t>
            </a:r>
            <a:r>
              <a:rPr b="0" i="1" lang="ru-RU" sz="2000" spc="-1" strike="noStrike">
                <a:solidFill>
                  <a:srgbClr val="993300"/>
                </a:solidFill>
                <a:latin typeface="Bookman Old Style"/>
              </a:rPr>
              <a:t>.О.В. Казакова, Н.А. Сбоева, Н.И. Гаврилкина. Поурочные разработки по курсу «Окружающий мир». – М.6 Вако, 2008. – 367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9933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609480"/>
            <a:ext cx="85345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00"/>
                </a:solidFill>
                <a:latin typeface="Monotype Corsiva"/>
              </a:rPr>
              <a:t>Армейская Инна Анато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00"/>
                </a:solidFill>
                <a:latin typeface="Monotype Corsiva"/>
              </a:rPr>
              <a:t>Учитель начальных классов МОУ «Приютненская СОШ №1 имени И.Г. Карпенк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00"/>
                </a:solidFill>
                <a:latin typeface="Monotype Corsiva"/>
              </a:rPr>
              <a:t>Республика Калмык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724280"/>
            <a:ext cx="7315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езентация опубликована на сайте - viki.rdf.ru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8001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057400"/>
            <a:ext cx="579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Bookman Old Style"/>
              </a:rPr>
              <a:t>Вспомни отрасли экономики. Подумай, какие профессии с ними связ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24080" y="2362320"/>
            <a:ext cx="3048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86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ельское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6290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76840" y="152280"/>
            <a:ext cx="256716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0"/>
            <a:ext cx="3095640" cy="230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28600" y="3657600"/>
            <a:ext cx="238428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019920" y="4114800"/>
            <a:ext cx="2895480" cy="2481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387600" y="3962520"/>
            <a:ext cx="2006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7400" y="30492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5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67652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853160" cy="363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867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то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10080" y="60958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пек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4591080" cy="4905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втослес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181480" y="1523880"/>
            <a:ext cx="3422880" cy="426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81480" y="6019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толя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3520" y="1523880"/>
            <a:ext cx="7619760" cy="4845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58672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талев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380880"/>
            <a:ext cx="3733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609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трои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353040" cy="2473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мен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24280" y="579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монта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105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вар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3886200" cy="292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876920" y="5638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маля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3048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33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трансп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184560" cy="3200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3281400" cy="409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2992320" cy="3314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6172200" cy="36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057400" y="175248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2666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457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торго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56716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76720" y="83808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Социальная 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605040" cy="2685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23972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124080" cy="2395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477120" y="990720"/>
            <a:ext cx="1823760" cy="304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91320" y="4572000"/>
            <a:ext cx="3352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457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Особые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91320" y="1066680"/>
            <a:ext cx="311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81280" y="3429000"/>
            <a:ext cx="275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23T16:47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