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5C4-48B8-4549-892C-AACDD281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F06-DDCC-4167-8EC2-04E07CA9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AAE-9BDC-4DD3-97C7-FF664CE4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8625-2588-4B6D-9340-E7078BE5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A232-D0C5-4204-89BD-726582BA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F42-26E3-4465-8DAA-9CD7343A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8E6-DFFF-4375-A37D-ABD4F5C1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A1D8-C21C-4F42-BF9B-54C5B175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9E2-726F-4B05-B5E9-CDABBAD8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88E-3684-4870-B790-366A951D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4FB-BC23-460F-876B-A27EE989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D4C-02D3-4E94-8DC0-D25854D6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1889-E349-4962-BDC5-196CD246D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ntessorivlad.ru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839440" cy="6400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4382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Bookman Old Style"/>
              </a:rPr>
              <a:t>Все профессии важ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600" y="0"/>
            <a:ext cx="183672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162920" y="4419720"/>
            <a:ext cx="171288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28600" y="4724280"/>
            <a:ext cx="2590920" cy="191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553080" y="171360"/>
            <a:ext cx="2362320" cy="1760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738600" y="3352680"/>
            <a:ext cx="19526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2944800" cy="3886200"/>
          </a:xfrm>
          <a:prstGeom prst="rect">
            <a:avLst/>
          </a:prstGeom>
          <a:ln w="38160">
            <a:solidFill>
              <a:srgbClr val="33993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809880" y="1676520"/>
            <a:ext cx="4953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Откройте учебники на с.13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Прочитайте текст «Кто сделал хлеб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Bookman Old Style"/>
              </a:rPr>
              <a:t>Мы дорожки подметаем</a:t>
            </a:r>
            <a:r>
              <a:rPr b="0" i="1" lang="en-US" sz="3200" spc="-1" strike="noStrike">
                <a:solidFill>
                  <a:srgbClr val="993300"/>
                </a:solidFill>
                <a:latin typeface="Bookman Old Style"/>
              </a:rPr>
              <a:t> (имитация движе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Bookman Old Style"/>
              </a:rPr>
              <a:t>Листья в кучи собираем</a:t>
            </a:r>
            <a:r>
              <a:rPr b="0" i="1" lang="en-US" sz="3200" spc="-1" strike="noStrike">
                <a:solidFill>
                  <a:srgbClr val="993300"/>
                </a:solidFill>
                <a:latin typeface="Bookman Old Style"/>
              </a:rPr>
              <a:t> (наклониться, имитировать дви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Bookman Old Style"/>
              </a:rPr>
              <a:t>Чтоб гуляя, мал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Bookman Old Style"/>
              </a:rPr>
              <a:t>Веселились от души!</a:t>
            </a:r>
            <a:r>
              <a:rPr b="0" i="1" lang="en-US" sz="3200" spc="-1" strike="noStrike">
                <a:solidFill>
                  <a:srgbClr val="993300"/>
                </a:solidFill>
                <a:latin typeface="Bookman Old Style"/>
              </a:rPr>
              <a:t> (подскоки на мес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Bookman Old Style"/>
              </a:rPr>
              <a:t>Ох, устали</a:t>
            </a:r>
            <a:r>
              <a:rPr b="0" i="1" lang="en-US" sz="3200" spc="-1" strike="noStrike">
                <a:solidFill>
                  <a:srgbClr val="993300"/>
                </a:solidFill>
                <a:latin typeface="Bookman Old Style"/>
              </a:rPr>
              <a:t> («обтереть пот со лба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Bookman Old Style"/>
              </a:rPr>
              <a:t>Отдохнем</a:t>
            </a:r>
            <a:r>
              <a:rPr b="0" i="1" lang="en-US" sz="3200" spc="-1" strike="noStrike">
                <a:solidFill>
                  <a:srgbClr val="993300"/>
                </a:solidFill>
                <a:latin typeface="Bookman Old Style"/>
              </a:rPr>
              <a:t> (присе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Bookman Old Style"/>
              </a:rPr>
              <a:t>И домой скорей пойдем</a:t>
            </a:r>
            <a:r>
              <a:rPr b="0" i="1" lang="en-US" sz="3200" spc="-1" strike="noStrike">
                <a:solidFill>
                  <a:srgbClr val="993300"/>
                </a:solidFill>
                <a:latin typeface="Bookman Old Style"/>
              </a:rPr>
              <a:t> (шаги на месте</a:t>
            </a:r>
            <a:r>
              <a:rPr b="0" i="1" lang="en-US" sz="1800" spc="-1" strike="noStrike">
                <a:solidFill>
                  <a:srgbClr val="993300"/>
                </a:solidFill>
                <a:latin typeface="Bookman Old Styl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в Рабочих тетрад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086280" cy="4035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9880" y="1676520"/>
            <a:ext cx="48006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Откройте тетради на с. 4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Вспомните, о каких профессиях мы говорили и выполните задание №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144792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Откройте тетради на с. 50. выполните задание №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30492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Всё для всех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Каменщик строит жилищ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Платье – работа порт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Но ведь портному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Негде без тёплого кр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Каменщик был бы раздет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Если б умелые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Вовремя не смастер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Фартук, и куртку, и брю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Пекарь сапожнику к с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Сшить сапоги поруч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Ну а сапожник без хл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Много ль нашьёт, натач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Стало быть, так и выход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Всё, что мы делаем, н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Значит, давайте труд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Честно, усердно и др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838080"/>
            <a:ext cx="82296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Arial"/>
              </a:rPr>
              <a:t>Все профессии нужны, все профессии важн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895480"/>
            <a:ext cx="7696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В учебнике с.128-1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2.В Рабочей тетради с.50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304920"/>
            <a:ext cx="784836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</a:rPr>
              <a:t>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33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Bookman Old Style"/>
              </a:rPr>
              <a:t>images.yandex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33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Bookman Old Style"/>
                <a:hlinkClick r:id="rId2"/>
              </a:rPr>
              <a:t>www.montessorivlad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33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Bookman Old Style"/>
              </a:rPr>
              <a:t>www.tmndetsady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Bookman Old Style"/>
              </a:rPr>
              <a:t>4</a:t>
            </a:r>
            <a:r>
              <a:rPr b="0" i="1" lang="ru-RU" sz="2000" spc="-1" strike="noStrike">
                <a:solidFill>
                  <a:srgbClr val="993300"/>
                </a:solidFill>
                <a:latin typeface="Bookman Old Style"/>
              </a:rPr>
              <a:t>. Плешаков А.А. Окружающий мир. 2 класс. Учебник для общеобразовательных учреждений. – М.: Просвещение, 2009. – 14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3300"/>
                </a:solidFill>
                <a:latin typeface="Bookman Old Style"/>
              </a:rPr>
              <a:t>Плешаков А.А. окружающий мир. Рабочая тетрадь. 2 класс. Часть 1 – М. – Просвещение, 2009. – 61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Bookman Old Style"/>
              </a:rPr>
              <a:t>5</a:t>
            </a:r>
            <a:r>
              <a:rPr b="0" i="1" lang="ru-RU" sz="2000" spc="-1" strike="noStrike">
                <a:solidFill>
                  <a:srgbClr val="993300"/>
                </a:solidFill>
                <a:latin typeface="Bookman Old Style"/>
              </a:rPr>
              <a:t>.О.В. Казакова, Н.А. Сбоева, Н.И. Гаврилкина. Поурочные разработки по курсу «Окружающий мир». – М.6 Вако, 2008. – 367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33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33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609480"/>
            <a:ext cx="85345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3300"/>
                </a:solidFill>
                <a:latin typeface="Monotype Corsiva"/>
              </a:rPr>
              <a:t>Армейская Инна Анатоль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3300"/>
                </a:solidFill>
                <a:latin typeface="Monotype Corsiva"/>
              </a:rPr>
              <a:t>Учитель начальных классов МОУ «Приютненская СОШ №1 имени И.Г. Карпенк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3300"/>
                </a:solidFill>
                <a:latin typeface="Monotype Corsiva"/>
              </a:rPr>
              <a:t>Республика Калмык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4724280"/>
            <a:ext cx="7315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Презентация опубликована на сайте - viki.rdf.ru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8001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057400"/>
            <a:ext cx="5791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Bookman Old Style"/>
              </a:rPr>
              <a:t>Вспомни отрасли экономики. Подумай, какие профессии с ними связа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00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24080" y="2362320"/>
            <a:ext cx="3048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2860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Сельское хозяй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62908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576840" y="152280"/>
            <a:ext cx="256716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48120" y="0"/>
            <a:ext cx="3095640" cy="2306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28600" y="3657600"/>
            <a:ext cx="2384280" cy="2971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019920" y="4114800"/>
            <a:ext cx="2895480" cy="2481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387600" y="3962520"/>
            <a:ext cx="2006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57400" y="304920"/>
            <a:ext cx="4800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5335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промышл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167652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4853160" cy="3638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5867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ток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2857680" cy="4286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10080" y="60958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пек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0" y="1523880"/>
            <a:ext cx="4591080" cy="4905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28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автослес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181480" y="1523880"/>
            <a:ext cx="3422880" cy="4267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81480" y="6019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столя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33520" y="1523880"/>
            <a:ext cx="7619760" cy="4845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58672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сталев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380880"/>
            <a:ext cx="37335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6094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строитель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3353040" cy="2473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46483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камен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962520" y="167652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724280" y="5791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монта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28600" y="1523880"/>
            <a:ext cx="4648320" cy="3313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480" y="51055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свар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800600" y="1828800"/>
            <a:ext cx="3886200" cy="2927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876920" y="5638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маля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304920"/>
            <a:ext cx="30481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5335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транспо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184560" cy="3200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3281400" cy="4095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2992320" cy="3314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447920" y="1371600"/>
            <a:ext cx="6172200" cy="36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057400" y="1752480"/>
            <a:ext cx="54100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600"/>
            <a:ext cx="2666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4572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торго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2567160" cy="3200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276720" y="838080"/>
            <a:ext cx="510516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Социальная 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605040" cy="2685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239724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04920" y="3886200"/>
            <a:ext cx="3124080" cy="2395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477120" y="990720"/>
            <a:ext cx="1823760" cy="3047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791320" y="4572000"/>
            <a:ext cx="3352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4572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Особые проф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91320" y="1066680"/>
            <a:ext cx="311760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581280" y="3429000"/>
            <a:ext cx="2752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2-23T16:47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