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DDA3-A600-43A6-AA54-CE65815B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956-1B69-4397-BD06-BDF96020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0C0A-084C-4C9A-A770-9E0D6697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D6E-5ED3-4E46-970E-A3DACADA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7BD7-9984-404A-84EA-B36C6DA9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5B80-6E5A-41DA-9034-661719BA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ECC2-59D2-40AC-851C-453B7B7A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F52-84A4-45AD-BA89-873F7F73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9B6-7353-4375-8AA8-4FAC4718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2CE-D63A-41A4-A19D-C5EFD791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7AF-9F0C-44A9-879A-69817FE3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4EC-EC43-4B17-BA7D-7F9ADF69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FDED-1226-4391-98E7-4B039E736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lesto.ru/16073-chto-takoe-professionalnoe-vygoranie-i-kak-s-nim-borotsya.html" TargetMode="External"/><Relationship Id="rId2" Type="http://schemas.openxmlformats.org/officeDocument/2006/relationships/hyperlink" Target="http://elesto.ru/16073-chto-takoe-professionalnoe-vygoranie-i-kak-s-nim-borotsya.html" TargetMode="External"/><Relationship Id="rId3" Type="http://schemas.openxmlformats.org/officeDocument/2006/relationships/hyperlink" Target="http://elesto.ru/16073-chto-takoe-professionalnoe-vygoranie-i-kak-s-nim-borotsya.html" TargetMode="External"/><Relationship Id="rId4" Type="http://schemas.openxmlformats.org/officeDocument/2006/relationships/hyperlink" Target="http://elesto.ru/16073-chto-takoe-professionalnoe-vygoranie-i-kak-s-nim-borotsya.html" TargetMode="External"/><Relationship Id="rId5" Type="http://schemas.openxmlformats.org/officeDocument/2006/relationships/hyperlink" Target="http://nsportal.ru/vuz/psikhologicheskie-nauki/library/2011/12/22/issledovanie-vliyaniya-lichnostnykh-faktorov-na" TargetMode="External"/><Relationship Id="rId6" Type="http://schemas.openxmlformats.org/officeDocument/2006/relationships/hyperlink" Target="http://nsportal.ru/vuz/psikhologicheskie-nauki/library/2011/12/22/issledovanie-vliyaniya-lichnostnykh-faktorov-na" TargetMode="External"/><Relationship Id="rId7" Type="http://schemas.openxmlformats.org/officeDocument/2006/relationships/hyperlink" Target="http://www.myshared.ru/slide/766820/" TargetMode="External"/><Relationship Id="rId8" Type="http://schemas.openxmlformats.org/officeDocument/2006/relationships/hyperlink" Target="http://www.myshared.ru/slide/766820/" TargetMode="Externa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2130120"/>
            <a:ext cx="6781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ПРОФИЛАКТИКА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ПРОФЕССИОНАЛЬНОГО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ВЫГОРАНИЯ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ПЕДАГОГ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0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Педагог-психолог: Нуртдинова Т.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кета для оценки синдрома эмоционального выгорания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09680" y="990720"/>
          <a:ext cx="6021360" cy="4359240"/>
        </p:xfrm>
        <a:graphic>
          <a:graphicData uri="http://schemas.openxmlformats.org/drawingml/2006/table">
            <a:tbl>
              <a:tblPr/>
              <a:tblGrid>
                <a:gridCol w="3154320"/>
                <a:gridCol w="849600"/>
                <a:gridCol w="688680"/>
                <a:gridCol w="633600"/>
                <a:gridCol w="695160"/>
              </a:tblGrid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чти ник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чти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 Я чувствую себя эмоционально опустошенным к концу рабочего д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 Я плохо засыпаю из-за переживаний, связанных с работ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 Эмоциональная нагрузка на работе слишком велика для ме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 После рабочего дня я могу срываться на своих близк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 Я чувствую, что мои нервы натянуты до пред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. Мне сложно снять эмоциональное напряжение, возникающее у меня после рабочего д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. Моя работа плохо влияет на мое здоров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. После рабочего дня у меня уже ни на что не остается си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. Я чувствую себя перегруженным проблемами других люд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нтерпретация результа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1333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веты на каждый вопрос оцениваются по 4-х балльной шкале: почти никогда-0 баллов, иногда-1 , часто-2, почти всегда-3балла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ценка результатов: суммарный показатель менее 3-х баллов – низ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-12 средний; выше 12 — высокий показатель эмоционального выгора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чества, помогающие специалисту избежать профессионального выгорания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04760" y="99072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 первую очеред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это следующие индивидуально-личностные особен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рошее здоровь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знательная, целенаправленная забота о своем физическом состоянии (к примеру, занятия спортом и поддержка здорового образа жизни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сокая самооценка и уверенность в себе, своих способностях и возможностя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-вторых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ыгорания избегают люд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меющие, опыт успешного преодоления профессионального стресс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особные конструктивно меняться в напряженных условия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личающиеся высокой подвижностью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крытостью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щительностью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мостоятельностью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емлением опираться на собственные сил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-третьих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важной отличительной чертой этих людей являютс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особность формировать и поддерживать в себе позитивные, оптимистичные установки и ценности, как в отношении самих себя, так и других людей и жизни вообщ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избежать встречи с синдромом профессионального «выгорания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523880" y="1066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дьте внимательны к себе: это поможет вам своевременно заметить первые симптомы устал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юбите себя или, по крайней мере, старайтесь себе нрав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бирайте дело по себе: сообразно своим склонностям и возможностям. Это позволит вам обрести себя, поверить в свои си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станьте искать в работе счастье или спасение. Она — не убежище, а деятельность, которая хороша сама по себ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станьте жить за других их жизнью. Живите, пожалуйста, своей. Не вместо людей, а вместе с ни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ходите время для себя. Вы имеете право не только на рабочую, но и на частную жизн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сь трезво осмысливать события каждого дня. Можно сделать традицией вечерний пересмотр событ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ам очень хочется кому-то помочь или сделать за него его работу, задайте себе вопрос: так ли уж ему это нужно? А может, он справится са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6520" y="30456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емы антистрессовой защит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362320" y="837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Отвлекайтес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 пользы может принести пятиминутная прогулка на прир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райтесь переключить свои мысли на другой предм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глянитесь вокруг и внимательно осмотрите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щайте внимание на мельчайшие дет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Снижайте значимость событий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Следует помнить, что истинной причиной стресса являются не люди, не разочарования, не ошибки, а то как вы к этому относитес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Используйте принцип позитивности во всем с установками, тип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"не очень-то и хотелось", "главное в жизни не это, не стоит относиться к случившемуся, как к катастрофе", и т.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"нечего себя накручивать", "хватит драматизировать"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кто волнуется раньше, чем положено, тот волнуется больше, чем положено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130120"/>
            <a:ext cx="6781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Действуйте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ая деятельность, особенно физический труд – в стрессовой ситуации выполняет роль громоотвод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есс является очень сильным источником энергии. Разрядиться можно самым простым способом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наведите порядок дома или на рабочем мест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устройте прогулку или быструю ходьбу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пробегитесь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побейте мяч или подушку и т. п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81080" y="2130120"/>
            <a:ext cx="6477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Творите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ая творческая работа может исцелять от переживаний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рисуйт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танцуйт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пойт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лепит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шейт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конструируйте и т. п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213012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Выражайте эмоции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гонять эмоции внутрь, пытаться их скрывать, очень вредно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сь показывать эмоции, "выплескивать" их без вреда для окружающи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моциональная разрядка необходима для сохранения здоровья (физического и психического)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мение рассказать о своих проблемах поможет налаживать контакты с окружающими, понимать самого себ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изображайте эмоции с помощью жестов, мимики, голос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мните, рвите бумагу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кидайте предметы в мишень на стен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попытайтесь нарисовать свое чувство, потом раскрасьте его, сделайте смешным или порвит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поговорите с кем-нибудь, делая акцент на свои чув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213012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ПОДХОДЫ К РАБОТЕ С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ОФЕССИОНАЛЬНЫМ ВЫГОРАНИЕ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 Забота о себе и снижение уровня стресс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стремление к равновесию и гармонии, здоровому образу жизни, удовлетворение потребности в общени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удовольствие (релаксация, игра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умение отвлекаться от переживаний, связанных с работо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 Трансформация негативных убеждений, чувства отчаяния, утраты смысла и безнадежности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стремление находить смысл во всем — как в значительных событиях жизни, так и в привычных, повседневных заботах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стремление бороться со своими негативными убеждения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создание сообществ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 Повышение уровня профессионального мастерства. Работа с супервизор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Саморегуляция.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Эмоциональное сгорание - плата за сочувствие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истина Масла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90512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elesto.ru/16073-chto-takoe-professionalnoe-vygoranie-i-kak-s-nim-borotsya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2.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nsportal.ru/vuz/psikhologicheskie-nauki/library/2011/12/22/issledovanie-vliyaniya-lichnostnykh-faktorov-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3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myshared.ru/slide/766820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523880" y="2130120"/>
            <a:ext cx="7315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моциональное выгор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– это выработанный личностью механизм психологической защиты в виде полного или частичного исключения эмоций в ответ на психотравмирующие воздействия. Профессиональная деятельность педагогов изобилует факторами, провоцирующими эмоциональное выгорание: высокая эмоциональная загруженность, огромное число эмоциогенных факторов, ежедневная и ежечасная необходимость сопереживания, сочувствия, ответственность за жизнь и здоровье детей. К тому же педагогические коллективы, как правило, однополы, а это – дополнительный источник конфлик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2130120"/>
            <a:ext cx="6629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фессиональное выгорание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ределяют как синдром, который развивается на фоне хронического стресса и ведет к истощению эмоционально-энергетических и личностных ресурсов специалист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213012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фессиональное выгорание возникает в результате внутреннего накапливания отрицательных эмоций без соответствующей "разрядки" или "освобождения" от них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2130120"/>
            <a:ext cx="6781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ндром профессионального выгорания развивается постепенно. Он проходит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ри стад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130120"/>
            <a:ext cx="65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ая стад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чинается приглушением эмоций, сглаживанием остроты чувств и свежести переживаний. Специалист неожиданно замечает: вроде бы все пока нормально, но... скучно и пусто на душ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чезают положительные эмоц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является отстраненность в отношениях с членами семь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никает состояние тревожности, неудовлетворен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2130120"/>
            <a:ext cx="6705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втор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адии возникают недоразумения с учащимися. Профессионал начинает в кругу своих коллег с пренебрежением говорить о некоторых из них. Постепенно неприязнь проявляется в присутствии учащихся. Вначале это с трудом сдерживаемая антипатия, а затем и вспышки раздражения. Подобное поведение профессионала специалиста – это не осознаваемое им самим проявление самосохранения при общении, превышающем безопасный для организма уровень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5640" y="2130120"/>
            <a:ext cx="6172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треть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тадии притупляются представления о ценностях жизни. Эмоциональное отношение к миру «уплощается», человек становится опасно равнодушным ко всему, даже к собственной жизн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4:54:06Z</dcterms:created>
  <dc:creator>Катенок</dc:creator>
  <dc:description/>
  <dc:language>en-US</dc:language>
  <cp:lastModifiedBy>1</cp:lastModifiedBy>
  <dcterms:modified xsi:type="dcterms:W3CDTF">2015-02-20T13:58:36Z</dcterms:modified>
  <cp:revision>6</cp:revision>
  <dc:subject/>
  <dc:title>Слайд 1</dc:title>
</cp:coreProperties>
</file>