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979-B835-4753-8F4E-F4AF75F4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B95-FE2F-4088-8225-125C9DC4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398-5B14-44E7-B9B7-3D8E155C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888-06DD-4E50-88FF-981DE5A6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797-682F-4C86-843A-D46AD01C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A63-E7D1-4F72-AECE-CCE2E8A6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EF9-7DEC-4A92-B716-1DF8182F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3DC-D63B-460B-95F0-F31D9C21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682-046F-4E85-B18E-4E80AE97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C00-3854-42ED-A774-22CC871E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649-6C9C-4B86-84A5-5BE3180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F08-2A46-4CAE-84F2-6281492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0708-2B83-4906-AC18-26053ECC4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lesto.ru/16073-chto-takoe-professionalnoe-vygoranie-i-kak-s-nim-borotsya.html" TargetMode="External"/><Relationship Id="rId2" Type="http://schemas.openxmlformats.org/officeDocument/2006/relationships/hyperlink" Target="http://elesto.ru/16073-chto-takoe-professionalnoe-vygoranie-i-kak-s-nim-borotsya.html" TargetMode="External"/><Relationship Id="rId3" Type="http://schemas.openxmlformats.org/officeDocument/2006/relationships/hyperlink" Target="http://elesto.ru/16073-chto-takoe-professionalnoe-vygoranie-i-kak-s-nim-borotsya.html" TargetMode="External"/><Relationship Id="rId4" Type="http://schemas.openxmlformats.org/officeDocument/2006/relationships/hyperlink" Target="http://elesto.ru/16073-chto-takoe-professionalnoe-vygoranie-i-kak-s-nim-borotsya.html" TargetMode="External"/><Relationship Id="rId5" Type="http://schemas.openxmlformats.org/officeDocument/2006/relationships/hyperlink" Target="http://nsportal.ru/vuz/psikhologicheskie-nauki/library/2011/12/22/issledovanie-vliyaniya-lichnostnykh-faktorov-na" TargetMode="External"/><Relationship Id="rId6" Type="http://schemas.openxmlformats.org/officeDocument/2006/relationships/hyperlink" Target="http://nsportal.ru/vuz/psikhologicheskie-nauki/library/2011/12/22/issledovanie-vliyaniya-lichnostnykh-faktorov-na" TargetMode="External"/><Relationship Id="rId7" Type="http://schemas.openxmlformats.org/officeDocument/2006/relationships/hyperlink" Target="http://www.myshared.ru/slide/766820/" TargetMode="External"/><Relationship Id="rId8" Type="http://schemas.openxmlformats.org/officeDocument/2006/relationships/hyperlink" Target="http://www.myshared.ru/slide/766820/" TargetMode="Externa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ФИЛАКТИКА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ФЕССИОНАЛЬНОГО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ЫГОРАНИЯ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ЕДАГО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0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едагог-психолог: Нуртдинова Т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кета для оценки синдрома эмоционального выгорани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09680" y="990720"/>
          <a:ext cx="6021360" cy="4359240"/>
        </p:xfrm>
        <a:graphic>
          <a:graphicData uri="http://schemas.openxmlformats.org/drawingml/2006/table">
            <a:tbl>
              <a:tblPr/>
              <a:tblGrid>
                <a:gridCol w="3154320"/>
                <a:gridCol w="849600"/>
                <a:gridCol w="688680"/>
                <a:gridCol w="633600"/>
                <a:gridCol w="69516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чти 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чти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Я чувствую себя эмоционально опустошенным к концу рабочего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Я плохо засыпаю из-за переживаний, связанных с рабо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Эмоциональная нагрузка на работе слишком велика для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После рабочего дня я могу срываться на своих близк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Я чувствую, что мои нервы натянуты до пред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 Мне сложно снять эмоциональное напряжение, возникающее у меня после рабочего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 Моя работа плохо влияет на мое здоров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. После рабочего дня у меня уже ни на что не остается с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 Я чувствую себя перегруженным проблемами других лю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нтерпретация результа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веты на каждый вопрос оцениваются по 4-х балльной шкале: почти никогда-0 баллов, иногда-1 , часто-2, почти всегда-3балл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ценка результатов: суммарный показатель менее 3-х баллов – низ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-12 средний; выше 12 — высокий показатель эмоционального выгор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чества, помогающие специалисту избежать профессионального выгорания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4760" y="9907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 первую очеред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о следующие индивидуально-личностные особ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здоров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нательная, целенаправленная забота о своем физическом состоянии (к примеру, занятия спортом и поддержка здорового образа жизн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ая самооценка и уверенность в себе, своих способностях и возможност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-вторых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горания избегают люд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еющие, опыт успешного преодоления профессионального стресс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собные конструктивно меняться в напряженных услов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личающиеся высокой подвижность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крытость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ительность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ость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емлением опираться на собственные сил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-третьи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важной отличительной чертой этих людей являю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собность формировать и поддерживать в себе позитивные, оптимистичные установки и ценности, как в отношении самих себя, так и других людей и жизни вообщ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избежать встречи с синдромом профессионального «выгорания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ьте внимательны к себе: это поможет вам своевременно заметить первые симптомы устал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ите себя или, по крайней мере, старайтесь себе нрав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бирайте дело по себе: сообразно своим склонностям и возможностям. Это позволит вам обрести себя, поверить в свои си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станьте искать в работе счастье или спасение. Она — не убежище, а деятельность, которая хороша сама по се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станьте жить за других их жизнью. Живите, пожалуйста, своей. Не вместо людей, а вместе с н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ходите время для себя. Вы имеете право не только на рабочую, но и на частную жиз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сь трезво осмысливать события каждого дня. Можно сделать традицией вечерний пересмотр собы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ам очень хочется кому-то помочь или сделать за него его работу, задайте себе вопрос: так ли уж ему это нужно? А может, он справится са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30456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емы антистрессовой защит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36232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влекайтес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 пользы может принести пятиминутная прогулка на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райтесь переключить свои мысли на другой предм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глянитесь вокруг и внимательно осмотрите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щайте внимание на мельчайшие дет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Снижайте значимость событий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Следует помнить, что истинной причиной стресса являются не люди, не разочарования, не ошибки, а то как вы к этому относитес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Используйте принцип позитивности во всем с установками, тип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"не очень-то и хотелось", "главное в жизни не это, не стоит относиться к случившемуся, как к катастрофе", и т.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"нечего себя накручивать", "хватит драматизировать"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кто волнуется раньше, чем положено, тот волнуется больше, чем положено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Действуйте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ая деятельность, особенно физический труд – в стрессовой ситуации выполняет роль громоотв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сс является очень сильным источником энергии. Разрядиться можно самым простым способом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наведите порядок дома или на рабочем мест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устройте прогулку или быструю ходьб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пробегитесь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побейте мяч или подушку и т. п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1080" y="2130120"/>
            <a:ext cx="6477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Творите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ая творческая работа может исцелять от пережив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рисуй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танцуй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пой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лепи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шей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конструируйте и т. п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Выражайте эмоци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гонять эмоции внутрь, пытаться их скрывать, очень вредно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сь показывать эмоции, "выплескивать" их без вреда для окружающ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моциональная разрядка необходима для сохранения здоровья (физического и психического)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ние рассказать о своих проблемах поможет налаживать контакты с окружающими, понимать самого себ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изображайте эмоции с помощью жестов, мимики, голо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мните, рвите бумагу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кидайте предметы в мишень на стен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попытайтесь нарисовать свое чувство, потом раскрасьте его, сделайте смешным или порвит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поговорите с кем-нибудь, делая акцент на свои чув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13012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ПОДХОДЫ К РАБОТЕ С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ФЕССИОНАЛЬНЫМ ВЫГОРАНИЕ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 Забота о себе и снижение уровня стресс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стремление к равновесию и гармонии, здоровому образу жизни, удовлетворение потребности в общен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удовольствие (релаксация, игра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умение отвлекаться от переживаний, связанных с работ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 Трансформация негативных убеждений, чувства отчаяния, утраты смысла и безнадежност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стремление находить смысл во всем — как в значительных событиях жизни, так и в привычных, повседневных забота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стремление бороться со своими негативными убеждения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создание сообщест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 Повышение уровня профессионального мастерства. Работа с супервизор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аморегуляция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Эмоциональное сгорание - плата за сочувствие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стина Масла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90512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elesto.ru/16073-chto-takoe-professionalnoe-vygoranie-i-kak-s-nim-borotsy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sportal.ru/vuz/psikhologicheskie-nauki/library/2011/12/22/issledovanie-vliyaniya-lichnostnykh-faktorov-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3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myshared.ru/slide/76682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731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оциональное выгор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– это выработанный личностью механизм психологической защиты в виде полного или частичного исключения эмоций в ответ на психотравмирующие воздействия. Профессиональная деятельность педагогов изобилует факторами, провоцирующими эмоциональное выгорание: высокая эмоциональная загруженность, огромное число эмоциогенных факторов, ежедневная и ежечасная необходимость сопереживания, сочувствия, ответственность за жизнь и здоровье детей. К тому же педагогические коллективы, как правило, однополы, а это – дополнительный источник конфлик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213012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фессиональное выгорание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яют как синдром, который развивается на фоне хронического стресса и ведет к истощению эмоционально-энергетических и личностных ресурсов специалист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фессиональное выгорание возникает в результате внутреннего накапливания отрицательных эмоций без соответствующей "разрядки" или "освобождения" от ни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профессионального выгорания развивается постепенно. Он проходит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ри стад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130120"/>
            <a:ext cx="65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ая стад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чинается приглушением эмоций, сглаживанием остроты чувств и свежести переживаний. Специалист неожиданно замечает: вроде бы все пока нормально, но... скучно и пусто на душ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чезают положительные эмо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является отстраненность в отношениях с членами семь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состояние тревожности, неудовлетвор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130120"/>
            <a:ext cx="6705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втор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адии возникают недоразумения с учащимися. Профессионал начинает в кругу своих коллег с пренебрежением говорить о некоторых из них. Постепенно неприязнь проявляется в присутствии учащихся. Вначале это с трудом сдерживаемая антипатия, а затем и вспышки раздражения. Подобное поведение профессионала специалиста – это не осознаваемое им самим проявление самосохранения при общении, превышающем безопасный для организма уровень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2130120"/>
            <a:ext cx="617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треть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тадии притупляются представления о ценностях жизни. Эмоциональное отношение к миру «уплощается», человек становится опасно равнодушным ко всему, даже к собственной жизн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54:06Z</dcterms:created>
  <dc:creator>Катенок</dc:creator>
  <dc:description/>
  <dc:language>en-US</dc:language>
  <cp:lastModifiedBy>1</cp:lastModifiedBy>
  <dcterms:modified xsi:type="dcterms:W3CDTF">2015-02-20T13:58:36Z</dcterms:modified>
  <cp:revision>6</cp:revision>
  <dc:subject/>
  <dc:title>Слайд 1</dc:title>
</cp:coreProperties>
</file>