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9AA-EB37-476E-922D-D1F9593E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55C-50A6-4860-A7B3-5F41B06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F5A-6F94-4E8E-90E1-3FD9F461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B68-9CEF-4F0A-BB46-827CCA0D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214-61BB-4710-9362-FD9F1E5B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889-F827-401C-9481-EA56AC44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FFD-07C0-4A6E-9190-2E654F7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9DA-F4F8-42D9-9C7F-045AAEF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E7F-D14D-4CCC-9FDE-EEAD6B4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036-E9A1-454B-BE77-9EE4F15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2F3-EFB2-40E0-85A6-B4E594D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B2B-5CA8-431E-9057-1FED73F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87FB-A8FD-463E-B259-DF1028C1BB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F806-A9DD-49E3-BA86-2B1DDB13D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%D0%F3%E1%E0%ED%EE%EA#cite_note-1" TargetMode="External"/><Relationship Id="rId3" Type="http://schemas.openxmlformats.org/officeDocument/2006/relationships/hyperlink" Target="http://ru.wikipedia.org/wiki/&#1053;&#1077;&#1084;&#1077;&#1094;&#1082;&#1080;&#1081;_&#1103;&#1079;&#1099;&#1082;" TargetMode="External"/><Relationship Id="rId4" Type="http://schemas.openxmlformats.org/officeDocument/2006/relationships/hyperlink" Target="http://ru.wikipedia.org/wiki/&#1044;&#1077;&#1088;&#1077;&#1074;&#1086;&#1086;&#1073;&#1088;&#1072;&#1073;&#1086;&#1090;&#1082;&#1072;" TargetMode="External"/><Relationship Id="rId5" Type="http://schemas.openxmlformats.org/officeDocument/2006/relationships/hyperlink" Target="http://ru.wikipedia.org/wiki/&#1048;&#1085;&#1089;&#1090;&#1088;&#1091;&#1084;&#1077;&#1085;&#1090;" TargetMode="External"/><Relationship Id="rId6" Type="http://schemas.openxmlformats.org/officeDocument/2006/relationships/hyperlink" Target="http://ru.wikipedia.org/wiki/&#1057;&#1090;&#1088;&#1086;&#1075;&#1072;&#1085;&#1080;&#1077;" TargetMode="External"/><Relationship Id="rId7" Type="http://schemas.openxmlformats.org/officeDocument/2006/relationships/hyperlink" Target="http://ru.wikipedia.org/wiki/&#1064;&#1077;&#1088;&#1086;&#1093;&#1086;&#1074;&#1072;&#1090;&#1086;&#1089;&#1090;&#1100;" TargetMode="External"/><Relationship Id="rId8" Type="http://schemas.openxmlformats.org/officeDocument/2006/relationships/hyperlink" Target="http://ru.wikipedia.org/w/index.php?title=&#1055;&#1088;&#1103;&#1084;&#1086;&#1083;&#1080;&#1085;&#1077;&#1081;&#1085;&#1086;&#1089;&#1090;&#1100;&amp;action=edit&amp;redlink=1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а обучающегося для работы в школьных учебных мастерски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учитель технологии МБОУ «СОШ № 7» г. Калуг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Высшей категории , Почетный работник НПО Российской Федерации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Герасимов В. 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УБА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C6D-76A6-42DC-91CD-B1319B970A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BE20-11F6-40B7-A774-8A0F4672E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Admin\Рабочий стол\i (2).jpg"/>
          <p:cNvPicPr/>
          <p:nvPr/>
        </p:nvPicPr>
        <p:blipFill>
          <a:blip r:embed="rId1"/>
          <a:stretch/>
        </p:blipFill>
        <p:spPr>
          <a:xfrm>
            <a:off x="214200" y="3071880"/>
            <a:ext cx="3276720" cy="3321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6"/>
          <p:cNvSpPr/>
          <p:nvPr/>
        </p:nvSpPr>
        <p:spPr>
          <a:xfrm>
            <a:off x="4214880" y="135720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а́н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от</a:t>
            </a:r>
            <a:r>
              <a:rPr b="0" lang="ru-RU" sz="2000" spc="-1" strike="noStrike" u="sng" baseline="30000">
                <a:solidFill>
                  <a:srgbClr val="0000ff"/>
                </a:solidFill>
                <a:uFillTx/>
                <a:latin typeface="Arial"/>
                <a:hlinkClick r:id="rId2"/>
              </a:rPr>
              <a:t>[1]</a:t>
            </a:r>
            <a:r>
              <a:rPr b="0" lang="ru-RU" sz="2000" spc="-1" strike="noStrike" u="sng" baseline="30000">
                <a:solidFill>
                  <a:srgbClr val="0000ff"/>
                </a:solidFill>
                <a:uFillTx/>
                <a:latin typeface="Arial"/>
                <a:hlinkClick r:id="rId3"/>
              </a:rPr>
              <a:t>не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auban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ручно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деревообрабатывающ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для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строг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убанки используются для придания поверхностям деревянных деталей нужно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шероховат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прямолиней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плоскостности, формы, уменьшения размеров деталей, а также для создания в деталях протяжённых выемок различной формы («четвертей», «шпунтов» и п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УБА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BB5B-3366-4CD5-AB66-7BA5A9ADD1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0BA-708E-48D2-8988-3C0AA618B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Admin\Рабочий стол\020304.jpg"/>
          <p:cNvPicPr/>
          <p:nvPr/>
        </p:nvPicPr>
        <p:blipFill>
          <a:blip r:embed="rId1"/>
          <a:stretch/>
        </p:blipFill>
        <p:spPr>
          <a:xfrm>
            <a:off x="4786200" y="2286000"/>
            <a:ext cx="4175280" cy="4175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794880" y="200016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ллический руба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Ж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337E-7C2B-4B7B-ABE7-1C87562C65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5038-86FD-4FA3-8809-D63281080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Admin\Мои документы\Downloads\i (2).jpg"/>
          <p:cNvPicPr/>
          <p:nvPr/>
        </p:nvPicPr>
        <p:blipFill>
          <a:blip r:embed="rId1"/>
          <a:stretch/>
        </p:blipFill>
        <p:spPr>
          <a:xfrm>
            <a:off x="500040" y="292896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4572000" y="13572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ЫЕ ПИЛЫ (НОЖОВКИ) – один из основных ИНСТРУМЕНТОВ для работы по дереву. И не только – они также применяются для обработки различных искусственных материалов, таких как ДСП, ламинат, ПВ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бы РУЧНАЯ ПИЛА (НОЖОВКА) могла работать, её зубья должны быть разведе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ОД – это механическое отклонение зуб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66B-82CE-498D-A117-846E38A716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3013-F669-4D63-8E3F-32FE0BE75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\Мои документы\Downloads\i (3).jpg"/>
          <p:cNvPicPr/>
          <p:nvPr/>
        </p:nvPicPr>
        <p:blipFill>
          <a:blip r:embed="rId1"/>
          <a:stretch/>
        </p:blipFill>
        <p:spPr>
          <a:xfrm>
            <a:off x="5357880" y="1357200"/>
            <a:ext cx="3481200" cy="3926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500040" y="135720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́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 столярное приспособление в виде лотка для резки досок под углом, как правило составляющим 45°. Изготавливается из дерева, иногда из пластмассы или алюминиевых сплав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АМЕ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0051-7327-4791-8E1A-936322B494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B0A4-D9FB-4A84-8E21-E8CF47B48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Admin\Мои документы\Downloads\i (4).jpg"/>
          <p:cNvPicPr/>
          <p:nvPr/>
        </p:nvPicPr>
        <p:blipFill>
          <a:blip r:embed="rId1"/>
          <a:stretch/>
        </p:blipFill>
        <p:spPr>
          <a:xfrm>
            <a:off x="144360" y="3214800"/>
            <a:ext cx="4021200" cy="29289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785880" y="157176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ме́с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 — плотничий или столярный ручной режущий инструмент. Используется для выборки небольших углублений в древесине, зачистки пазов, снятия фа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Admin\Рабочий стол\220px-Chisel.jpeg"/>
          <p:cNvPicPr/>
          <p:nvPr/>
        </p:nvPicPr>
        <p:blipFill>
          <a:blip r:embed="rId2"/>
          <a:stretch/>
        </p:blipFill>
        <p:spPr>
          <a:xfrm>
            <a:off x="6643800" y="3143160"/>
            <a:ext cx="23572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И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5AAD-B17F-449B-877C-F148374B8C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0966-F24A-49F6-906E-5E19E2051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Admin\Мои документы\Downloads\orbita-tis.ru.0_pic3274.jpg"/>
          <p:cNvPicPr/>
          <p:nvPr/>
        </p:nvPicPr>
        <p:blipFill>
          <a:blip r:embed="rId1"/>
          <a:stretch/>
        </p:blipFill>
        <p:spPr>
          <a:xfrm>
            <a:off x="0" y="4572000"/>
            <a:ext cx="321480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Admin\Мои документы\Downloads\i (5).jpg"/>
          <p:cNvPicPr/>
          <p:nvPr/>
        </p:nvPicPr>
        <p:blipFill>
          <a:blip r:embed="rId2"/>
          <a:stretch/>
        </p:blipFill>
        <p:spPr>
          <a:xfrm>
            <a:off x="6286680" y="1000080"/>
            <a:ext cx="2857320" cy="13525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2428920" y="2428920"/>
            <a:ext cx="642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я́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столярный молоток из дерева твёрдых пород или резины. Используется при сборке, демонтаже, формовке различных материалов и констру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ОДЕЖ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щиеся во время прохождения трудового обучения или производственной практики, должны быть одеты в исправную  и доброкачественную спецодежд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879C-9260-473A-9BCB-FD64443088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E0E1-965C-4220-82F1-5D0F3D3C2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234C-9FE8-45E5-B293-1D62237561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4C1-9096-4BC1-BC18-E7377664B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11.jpg"/>
          <p:cNvPicPr/>
          <p:nvPr/>
        </p:nvPicPr>
        <p:blipFill>
          <a:blip r:embed="rId1"/>
          <a:stretch/>
        </p:blipFill>
        <p:spPr>
          <a:xfrm>
            <a:off x="285840" y="1428840"/>
            <a:ext cx="488628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5429160" y="1857240"/>
            <a:ext cx="3214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Халат, головной убо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АЛАТ ДЛЯ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678-CD70-4399-B636-53AB55247E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7D48-F936-4464-8B22-60CFFE63E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image.jpg"/>
          <p:cNvPicPr/>
          <p:nvPr/>
        </p:nvPicPr>
        <p:blipFill>
          <a:blip r:embed="rId1"/>
          <a:stretch/>
        </p:blipFill>
        <p:spPr>
          <a:xfrm>
            <a:off x="1571760" y="1428840"/>
            <a:ext cx="550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ЕЦОДЕЖ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5CB7-28CD-4954-A4A3-FC5C32C706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ED7-8A09-479F-8656-929D68F542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7.jpg"/>
          <p:cNvPicPr/>
          <p:nvPr/>
        </p:nvPicPr>
        <p:blipFill>
          <a:blip r:embed="rId1"/>
          <a:stretch/>
        </p:blipFill>
        <p:spPr>
          <a:xfrm>
            <a:off x="571680" y="1214280"/>
            <a:ext cx="4572000" cy="4429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0"/>
          <p:cNvSpPr/>
          <p:nvPr/>
        </p:nvSpPr>
        <p:spPr>
          <a:xfrm>
            <a:off x="5429160" y="1857240"/>
            <a:ext cx="3214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Arial"/>
              </a:rPr>
              <a:t>куртка, головной убо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УРТКА РАБОЧ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7BDF-1D06-413C-B36D-F3CCC70B508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007C-96E6-4508-80C0-9F0241A0D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Рабочий стол\ХАЛ601-201.jpg"/>
          <p:cNvPicPr/>
          <p:nvPr/>
        </p:nvPicPr>
        <p:blipFill>
          <a:blip r:embed="rId1"/>
          <a:stretch/>
        </p:blipFill>
        <p:spPr>
          <a:xfrm>
            <a:off x="2928960" y="1643040"/>
            <a:ext cx="376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дохранительные приспособ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2560" y="1599840"/>
            <a:ext cx="44290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боте на станка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щиеся должны одевать  ЗАЩИТНЫЕ ОЧК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71FB-486D-4EF0-81CD-54FC64A413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4BD4-D162-4C5B-8546-2C33D1642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Рабочий стол\10.jpg"/>
          <p:cNvPicPr/>
          <p:nvPr/>
        </p:nvPicPr>
        <p:blipFill>
          <a:blip r:embed="rId1"/>
          <a:stretch/>
        </p:blipFill>
        <p:spPr>
          <a:xfrm>
            <a:off x="4714920" y="1357200"/>
            <a:ext cx="44290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опуск учащихся к работе без спецодежды и предохранительных приспособлений запрещен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9CC-EC27-4F5C-A6D4-2E2419F92F0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7AE0-E41E-44F8-A18A-E25DBED48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Admin\Рабочий стол\12.jpg"/>
          <p:cNvPicPr/>
          <p:nvPr/>
        </p:nvPicPr>
        <p:blipFill>
          <a:blip r:embed="rId1"/>
          <a:stretch/>
        </p:blipFill>
        <p:spPr>
          <a:xfrm>
            <a:off x="3214800" y="400068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НСТРУМЕНТ ДЛЯ РУЧНОЙ ОБРАБОТКИ ДРЕВЕСИН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\Рабочий стол\i (1).jpg"/>
          <p:cNvPicPr/>
          <p:nvPr/>
        </p:nvPicPr>
        <p:blipFill>
          <a:blip r:embed="rId2"/>
          <a:stretch/>
        </p:blipFill>
        <p:spPr>
          <a:xfrm>
            <a:off x="5929200" y="4357800"/>
            <a:ext cx="2009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6:41:28Z</dcterms:created>
  <dc:creator>Admin</dc:creator>
  <dc:description>http://aida.ucoz.ru</dc:description>
  <dc:language>en-US</dc:language>
  <cp:lastModifiedBy>Admin</cp:lastModifiedBy>
  <dcterms:modified xsi:type="dcterms:W3CDTF">2013-09-04T01:03:58Z</dcterms:modified>
  <cp:revision>47</cp:revision>
  <dc:subject/>
  <dc:title>Слайд 1</dc:title>
</cp:coreProperties>
</file>