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459-BF5B-4B12-9933-77FCD6AA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84B-F302-490F-B8AD-0E77455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47F-00B1-4559-8A34-1A7C6740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DBA-31F5-4CE8-A028-69F3B46E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429-DD99-411B-8F1C-B4F6E1F8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3A7-7E09-45D1-9539-C9F5BB85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F50-731D-4051-9D5A-F9A25037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FAA-3A63-4BB1-9E9B-BC94B600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B32-3226-400F-9C24-994A85E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2D0-20E5-43C4-8725-2C971C6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5C5-325B-40D2-821E-0FCC874B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C0C-13D3-44D3-9267-06C2B89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C073-9FE1-4D21-A294-8813F98DB6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2808-F908-40AC-89DD-BA68A0D2C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%D0%F3%E1%E0%ED%EE%EA#cite_note-1" TargetMode="External"/><Relationship Id="rId3" Type="http://schemas.openxmlformats.org/officeDocument/2006/relationships/hyperlink" Target="http://ru.wikipedia.org/wiki/&#1053;&#1077;&#1084;&#1077;&#1094;&#1082;&#1080;&#1081;_&#1103;&#1079;&#1099;&#1082;" TargetMode="External"/><Relationship Id="rId4" Type="http://schemas.openxmlformats.org/officeDocument/2006/relationships/hyperlink" Target="http://ru.wikipedia.org/wiki/&#1044;&#1077;&#1088;&#1077;&#1074;&#1086;&#1086;&#1073;&#1088;&#1072;&#1073;&#1086;&#1090;&#1082;&#1072;" TargetMode="External"/><Relationship Id="rId5" Type="http://schemas.openxmlformats.org/officeDocument/2006/relationships/hyperlink" Target="http://ru.wikipedia.org/wiki/&#1048;&#1085;&#1089;&#1090;&#1088;&#1091;&#1084;&#1077;&#1085;&#1090;" TargetMode="External"/><Relationship Id="rId6" Type="http://schemas.openxmlformats.org/officeDocument/2006/relationships/hyperlink" Target="http://ru.wikipedia.org/wiki/&#1057;&#1090;&#1088;&#1086;&#1075;&#1072;&#1085;&#1080;&#1077;" TargetMode="External"/><Relationship Id="rId7" Type="http://schemas.openxmlformats.org/officeDocument/2006/relationships/hyperlink" Target="http://ru.wikipedia.org/wiki/&#1064;&#1077;&#1088;&#1086;&#1093;&#1086;&#1074;&#1072;&#1090;&#1086;&#1089;&#1090;&#1100;" TargetMode="External"/><Relationship Id="rId8" Type="http://schemas.openxmlformats.org/officeDocument/2006/relationships/hyperlink" Target="http://ru.wikipedia.org/w/index.php?title=&#1055;&#1088;&#1103;&#1084;&#1086;&#1083;&#1080;&#1085;&#1077;&#1081;&#1085;&#1086;&#1089;&#1090;&#1100;&amp;action=edit&amp;redlink=1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ма обучающегося для работы в школьных учебных мастерски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учитель технологии МБОУ «СОШ № 7» г. Калуг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Высшей категории , Почетный работник НПО Российской Федерации</a:t>
            </a:r>
            <a:br>
              <a:rPr sz="2500"/>
            </a:b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Герасимов В. 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УБА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C4F2-2D79-452F-A3D9-631603DDF6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D135-D80A-4CE0-9F26-D2F5A8E1A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Admin\Рабочий стол\i (2).jpg"/>
          <p:cNvPicPr/>
          <p:nvPr/>
        </p:nvPicPr>
        <p:blipFill>
          <a:blip r:embed="rId1"/>
          <a:stretch/>
        </p:blipFill>
        <p:spPr>
          <a:xfrm>
            <a:off x="214200" y="3071880"/>
            <a:ext cx="3276720" cy="3321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6"/>
          <p:cNvSpPr/>
          <p:nvPr/>
        </p:nvSpPr>
        <p:spPr>
          <a:xfrm>
            <a:off x="4214880" y="135720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а́н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от</a:t>
            </a:r>
            <a:r>
              <a:rPr b="0" lang="ru-RU" sz="2000" spc="-1" strike="noStrike" u="sng" baseline="30000">
                <a:solidFill>
                  <a:srgbClr val="0000ff"/>
                </a:solidFill>
                <a:uFillTx/>
                <a:latin typeface="Arial"/>
                <a:hlinkClick r:id="rId2"/>
              </a:rPr>
              <a:t>[1]</a:t>
            </a:r>
            <a:r>
              <a:rPr b="0" lang="ru-RU" sz="2000" spc="-1" strike="noStrike" u="sng" baseline="30000">
                <a:solidFill>
                  <a:srgbClr val="0000ff"/>
                </a:solidFill>
                <a:uFillTx/>
                <a:latin typeface="Arial"/>
                <a:hlinkClick r:id="rId3"/>
              </a:rPr>
              <a:t>не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auban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 — ручно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деревообрабатывающ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для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строг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убанки используются для придания поверхностям деревянных деталей нужно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шероховат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прямолиней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плоскостности, формы, уменьшения размеров деталей, а также для создания в деталях протяжённых выемок различной формы («четвертей», «шпунтов»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УБА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278F-A5F4-48FF-8951-F69E06BF80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A93F-8D23-4514-A150-AE5F5BE4A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Admin\Рабочий стол\020304.jpg"/>
          <p:cNvPicPr/>
          <p:nvPr/>
        </p:nvPicPr>
        <p:blipFill>
          <a:blip r:embed="rId1"/>
          <a:stretch/>
        </p:blipFill>
        <p:spPr>
          <a:xfrm>
            <a:off x="4786200" y="2286000"/>
            <a:ext cx="4175280" cy="41752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794880" y="200016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ллический руба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ОЖ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9FB2-7032-499A-86B9-60828D3BB1B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451F-4FDD-4A99-AADA-754D8F9DF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Admin\Мои документы\Downloads\i (2).jpg"/>
          <p:cNvPicPr/>
          <p:nvPr/>
        </p:nvPicPr>
        <p:blipFill>
          <a:blip r:embed="rId1"/>
          <a:stretch/>
        </p:blipFill>
        <p:spPr>
          <a:xfrm>
            <a:off x="500040" y="292896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4572000" y="13572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ЫЕ ПИЛЫ (НОЖОВКИ) – один из основных ИНСТРУМЕНТОВ для работы по дереву. И не только – они также применяются для обработки различных искусственных материалов, таких как ДСП, ламинат, ПВ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, чтобы РУЧНАЯ ПИЛА (НОЖОВКА) могла работать, её зубья должны быть разведе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ОД – это механическое отклонение зуб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ТУ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755D-20B5-4246-9E35-1D27C1CEB9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CA5F-A8B6-4349-886C-072481D4F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Admin\Мои документы\Downloads\i (3).jpg"/>
          <p:cNvPicPr/>
          <p:nvPr/>
        </p:nvPicPr>
        <p:blipFill>
          <a:blip r:embed="rId1"/>
          <a:stretch/>
        </p:blipFill>
        <p:spPr>
          <a:xfrm>
            <a:off x="5357880" y="1357200"/>
            <a:ext cx="3481200" cy="39261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500040" y="135720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у́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 столярное приспособление в виде лотка для резки досок под углом, как правило составляющим 45°. Изготавливается из дерева, иногда из пластмассы или алюминиевых сплав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ТАМЕ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83F6-6955-4C2C-B06E-074A7A70EC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56CC-3152-4C95-A270-A33384188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Documents and Settings\Admin\Мои документы\Downloads\i (4).jpg"/>
          <p:cNvPicPr/>
          <p:nvPr/>
        </p:nvPicPr>
        <p:blipFill>
          <a:blip r:embed="rId1"/>
          <a:stretch/>
        </p:blipFill>
        <p:spPr>
          <a:xfrm>
            <a:off x="144360" y="3214800"/>
            <a:ext cx="4021200" cy="29289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785880" y="1571760"/>
            <a:ext cx="607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ме́с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 — плотничий или столярный ручной режущий инструмент. Используется для выборки небольших углублений в древесине, зачистки пазов, снятия фа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Admin\Рабочий стол\220px-Chisel.jpeg"/>
          <p:cNvPicPr/>
          <p:nvPr/>
        </p:nvPicPr>
        <p:blipFill>
          <a:blip r:embed="rId2"/>
          <a:stretch/>
        </p:blipFill>
        <p:spPr>
          <a:xfrm>
            <a:off x="6643800" y="3143160"/>
            <a:ext cx="23572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И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16BF-0DAC-4AA5-896E-4F82A5CE87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3A3B-E24D-41D3-B31B-671B2137D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Documents and Settings\Admin\Мои документы\Downloads\orbita-tis.ru.0_pic3274.jpg"/>
          <p:cNvPicPr/>
          <p:nvPr/>
        </p:nvPicPr>
        <p:blipFill>
          <a:blip r:embed="rId1"/>
          <a:stretch/>
        </p:blipFill>
        <p:spPr>
          <a:xfrm>
            <a:off x="0" y="4572000"/>
            <a:ext cx="321480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Admin\Мои документы\Downloads\i (5).jpg"/>
          <p:cNvPicPr/>
          <p:nvPr/>
        </p:nvPicPr>
        <p:blipFill>
          <a:blip r:embed="rId2"/>
          <a:stretch/>
        </p:blipFill>
        <p:spPr>
          <a:xfrm>
            <a:off x="6286680" y="1000080"/>
            <a:ext cx="2857320" cy="13525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7"/>
          <p:cNvSpPr/>
          <p:nvPr/>
        </p:nvSpPr>
        <p:spPr>
          <a:xfrm>
            <a:off x="2428920" y="2428920"/>
            <a:ext cx="6429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я́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столярный молоток из дерева твёрдых пород или резины. Используется при сборке, демонтаже, формовке различных материалов и констру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ЕЦОДЕЖ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ащиеся во время прохождения трудового обучения или производственной практики, должны быть одеты в исправную  и доброкачественную спецодежд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C163-1580-4266-8B9B-1A7DF1536AF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A9E1-799B-484C-9B56-E0B6BF233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ЕЦ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3FE1-40A8-4C38-ACB4-C38020E776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8355-C864-4BE2-8EB5-87D52DA74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\Рабочий стол\11.jpg"/>
          <p:cNvPicPr/>
          <p:nvPr/>
        </p:nvPicPr>
        <p:blipFill>
          <a:blip r:embed="rId1"/>
          <a:stretch/>
        </p:blipFill>
        <p:spPr>
          <a:xfrm>
            <a:off x="285840" y="1428840"/>
            <a:ext cx="488628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5429160" y="1857240"/>
            <a:ext cx="3214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Arial"/>
              </a:rPr>
              <a:t>Халат, головной убор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АЛАТ ДЛЯ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812-C14A-4456-AA90-EE26B05BF8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D6DC-689E-4E7E-AC3A-F16D91BC2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Рабочий стол\image.jpg"/>
          <p:cNvPicPr/>
          <p:nvPr/>
        </p:nvPicPr>
        <p:blipFill>
          <a:blip r:embed="rId1"/>
          <a:stretch/>
        </p:blipFill>
        <p:spPr>
          <a:xfrm>
            <a:off x="1571760" y="1428840"/>
            <a:ext cx="550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ЕЦ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A227-A92B-41FA-8D09-6C9784AEF4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0A45-1049-43A6-BD99-9CED3691B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Admin\Рабочий стол\7.jpg"/>
          <p:cNvPicPr/>
          <p:nvPr/>
        </p:nvPicPr>
        <p:blipFill>
          <a:blip r:embed="rId1"/>
          <a:stretch/>
        </p:blipFill>
        <p:spPr>
          <a:xfrm>
            <a:off x="571680" y="1214280"/>
            <a:ext cx="4572000" cy="4429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0"/>
          <p:cNvSpPr/>
          <p:nvPr/>
        </p:nvSpPr>
        <p:spPr>
          <a:xfrm>
            <a:off x="5429160" y="1857240"/>
            <a:ext cx="3214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Arial"/>
              </a:rPr>
              <a:t>куртка, головной убор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УРТКА РАБОЧ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F634-49B2-4E4F-989D-BACB7264F8D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843-924F-45D3-A7A9-10AADD319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Admin\Рабочий стол\ХАЛ601-201.jpg"/>
          <p:cNvPicPr/>
          <p:nvPr/>
        </p:nvPicPr>
        <p:blipFill>
          <a:blip r:embed="rId1"/>
          <a:stretch/>
        </p:blipFill>
        <p:spPr>
          <a:xfrm>
            <a:off x="2928960" y="1643040"/>
            <a:ext cx="376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едохранительные приспособ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2560" y="1599840"/>
            <a:ext cx="44290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боте на станк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щиеся должны одевать  ЗАЩИТНЫЕ ОЧК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3A8B-D4E5-49B3-8BF8-0BB3D3305B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D63F-D07A-4367-953D-19838FEDF7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Admin\Рабочий стол\10.jpg"/>
          <p:cNvPicPr/>
          <p:nvPr/>
        </p:nvPicPr>
        <p:blipFill>
          <a:blip r:embed="rId1"/>
          <a:stretch/>
        </p:blipFill>
        <p:spPr>
          <a:xfrm>
            <a:off x="4714920" y="1357200"/>
            <a:ext cx="44290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опуск учащихся к работе без спецодежды и предохранительных приспособлений запрещен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62B8-1640-4E7C-B397-609A91BD84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8C1E-2590-4B00-8B35-7475FEE3F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Admin\Рабочий стол\12.jpg"/>
          <p:cNvPicPr/>
          <p:nvPr/>
        </p:nvPicPr>
        <p:blipFill>
          <a:blip r:embed="rId1"/>
          <a:stretch/>
        </p:blipFill>
        <p:spPr>
          <a:xfrm>
            <a:off x="3214800" y="4000680"/>
            <a:ext cx="2143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НСТРУМЕНТ ДЛЯ РУЧНОЙ ОБРАБОТКИ ДРЕВЕСИН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\Рабочий стол\i (1).jpg"/>
          <p:cNvPicPr/>
          <p:nvPr/>
        </p:nvPicPr>
        <p:blipFill>
          <a:blip r:embed="rId2"/>
          <a:stretch/>
        </p:blipFill>
        <p:spPr>
          <a:xfrm>
            <a:off x="5929200" y="4357800"/>
            <a:ext cx="20098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6:41:28Z</dcterms:created>
  <dc:creator>Admin</dc:creator>
  <dc:description>http://aida.ucoz.ru</dc:description>
  <dc:language>en-US</dc:language>
  <cp:lastModifiedBy>Admin</cp:lastModifiedBy>
  <dcterms:modified xsi:type="dcterms:W3CDTF">2013-09-04T01:03:58Z</dcterms:modified>
  <cp:revision>47</cp:revision>
  <dc:subject/>
  <dc:title>Слайд 1</dc:title>
</cp:coreProperties>
</file>