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CE5-7D6E-4D17-8E36-19B2E34E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36A-3B6F-40F6-A224-0891EC2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C90-8705-4137-88E6-EFB426CA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64E-9EF3-4E23-89D7-F09E64A5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BFAE-3A8F-4D45-B87E-C46B1F14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93F8-4FD4-47BC-B460-2BBA51E9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48B7-272E-4F2E-90B4-A4CDDF14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AB7C-172B-45C7-840B-4F64E6C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258A-380C-4EA4-A29B-7F6B5712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A6A2-1380-4856-A194-11A1EB63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67CA-8CB1-4898-BF7F-BB698E3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AE9-6F70-4BF2-91DD-5E06AEE9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83B1-6A75-4E14-9A3F-C6F3333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CB38-BA9F-4309-A1A6-9CE9B9E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F602-E622-4506-9937-57CDEB15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D288-4C83-4C7D-8CCF-2CFEADBD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8EA6-4105-4827-9320-BE86963B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0E212-05A3-458C-97E7-648E5940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CDAE-5E26-43F2-B0E8-C9BC382A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9DA5-0EDA-49DC-8908-ECB7ED7E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7991-6056-4519-AE74-3F0036DF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DBF3-717A-494A-8427-EEE4BB50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8FD-4DE1-4DB4-AF9E-F46909E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19C3-DB65-47AE-BFFC-33F99329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1875-0929-48E6-B2D1-8E59F8FA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C929-4F6F-462A-AA10-730265ED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A432-729D-4A3A-A06C-BE2EF34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2DB8-2FE6-4932-A8DE-F31AC34E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F4DB-3C1C-4C4B-A5FB-CE4A203C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FACF-76A7-4FB2-883C-6F631858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C8D8-8FEA-4422-B9A3-7DDE9941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EF08-ACC0-4A27-845D-B12C8149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6C77-3606-4C93-9819-4E998643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B81-A3F2-41B3-90A0-045BFA71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C2A8-1EFC-4F9F-84FB-29A66217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F7ED-957B-4727-A43A-75670C3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F510-A151-46ED-9806-887E74FC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1716-1E3F-4415-B1AD-CAFF90D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77C6-0BB4-474A-AEA4-ABA38A6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F47F-F18C-46B6-806E-C6A932E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1E34-21BF-415C-96AA-A490E661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60D3-96FB-4288-8DFA-ADBB5854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848DC-7486-458A-ADE0-491B1DC1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062AC-65A5-4453-9C6A-10D7FCAD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2F5-2A46-4473-8E74-A2DEF5F7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DFC6-CD15-4C6D-B9C8-D022BA4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01B6-5DD4-4C24-AA97-5D5AACDA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7A10-39B7-4F7C-ABD6-8A658571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2B3E0-8391-41D0-8210-37538F8A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3B59-EBDD-4D74-884F-766D6A9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3B3F-B0F8-4092-AAE5-4CC76A9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08096-7DC8-4853-BC47-AE308AF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72EA-726F-447F-8D13-FF10FEA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5326D-BD4F-4E7D-9543-2EE1BBB0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5A94-8E29-493C-9A56-A9E28429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649-5B9E-430E-9A80-E63DE969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B086-3492-4EA6-9168-73D04C6E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A938-B14A-4738-95AC-440CB854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B50DC-2A1E-4333-9270-51E3A146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B2F8D-B0BD-4CC9-BE44-4CA5BC4C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5EA8E-707A-44FF-85D9-AE1C7A28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2C78D-A0F1-4EE0-B28E-358CFDC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6D327-3820-44F8-A71E-653FB85F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5E276-6E68-45D3-A382-E95066E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05D6-F2DE-4EF9-A5DC-E5E5480F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E518E-B2F0-4548-B670-7D14106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98F-06A0-4495-A061-B606F3A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F539A-E135-414A-BA55-C7860FD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5391-875E-4D24-BF91-AD11823B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81DD-D3B3-4996-AC8D-8E5A4CFC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07E92-4E1E-4E3B-A95B-B7E0432A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5FEB1-63F1-4E8D-B945-D61DC0BD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9550A-7A9C-49D3-8080-AABFF98A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AFBAC-9BDA-4D50-8C19-5B590F5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D6F9D-7114-4AAF-85B6-2BF5419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B464-1F35-4827-B2AC-28BC3FB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9ED2B-9B11-4300-98BB-E22A35C4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EC8-7027-49A2-A45B-2944844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71E4-C939-4291-95E7-D1D14E5D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E724-2F81-487B-BCD5-F34CD1E7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FF3C-B046-4CCC-AE93-D3A7543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8854-8281-43CF-98F4-19DD8C3C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B9337-A500-4AF1-B53B-0E7E870E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6FC-7894-4720-BF15-E6D5BBF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1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760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852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94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8520"/>
            <a:ext cx="8674200" cy="1603440"/>
          </a:xfrm>
          <a:prstGeom prst="rect">
            <a:avLst/>
          </a:prstGeom>
          <a:ln w="0">
            <a:noFill/>
          </a:ln>
        </p:spPr>
      </p:pic>
      <p:pic>
        <p:nvPicPr>
          <p:cNvPr id="9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EBFE-2B8F-4779-95CC-E854188E4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Штриховая стрелка вправо 16"/>
          <p:cNvGrpSpPr/>
          <p:nvPr/>
        </p:nvGrpSpPr>
        <p:grpSpPr>
          <a:xfrm>
            <a:off x="512640" y="1968480"/>
            <a:ext cx="8479080" cy="1974960"/>
            <a:chOff x="512640" y="1968480"/>
            <a:chExt cx="8479080" cy="1974960"/>
          </a:xfrm>
        </p:grpSpPr>
        <p:pic>
          <p:nvPicPr>
            <p:cNvPr id="52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512640" y="1968480"/>
              <a:ext cx="847908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1840" y="2359080"/>
              <a:ext cx="70437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2A1-1B9D-4B20-B92F-C010C6A3F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Штриховая стрелка вправо 16"/>
          <p:cNvGrpSpPr/>
          <p:nvPr/>
        </p:nvGrpSpPr>
        <p:grpSpPr>
          <a:xfrm>
            <a:off x="298440" y="3902040"/>
            <a:ext cx="8693280" cy="2181240"/>
            <a:chOff x="298440" y="3902040"/>
            <a:chExt cx="8693280" cy="2181240"/>
          </a:xfrm>
        </p:grpSpPr>
        <p:pic>
          <p:nvPicPr>
            <p:cNvPr id="97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298440" y="3902040"/>
              <a:ext cx="869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81120" y="4330800"/>
              <a:ext cx="710568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756A-EDED-4ECB-83FC-6A8FC3699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01605cc23a86.png"/>
          <p:cNvPicPr/>
          <p:nvPr/>
        </p:nvPicPr>
        <p:blipFill>
          <a:blip r:embed="rId3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9021-1666-4C4B-8C37-B548AAE7D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201600" y="341280"/>
            <a:ext cx="3456000" cy="131616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17"/>
          <p:cNvGrpSpPr/>
          <p:nvPr/>
        </p:nvGrpSpPr>
        <p:grpSpPr>
          <a:xfrm>
            <a:off x="285840" y="3714840"/>
            <a:ext cx="428400" cy="2857320"/>
            <a:chOff x="285840" y="3714840"/>
            <a:chExt cx="428400" cy="2857320"/>
          </a:xfrm>
        </p:grpSpPr>
        <p:pic>
          <p:nvPicPr>
            <p:cNvPr id="18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85840" y="45104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85840" y="49082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85840" y="53064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85840" y="57042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85840" y="61020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85840" y="41126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85840" y="3714840"/>
              <a:ext cx="428400" cy="46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35CE-A3FD-4836-BBBF-BDFD24DBC8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414440" y="4627440"/>
            <a:ext cx="6461280" cy="962280"/>
          </a:xfrm>
          <a:prstGeom prst="rect">
            <a:avLst/>
          </a:prstGeom>
          <a:ln w="0">
            <a:noFill/>
          </a:ln>
        </p:spPr>
      </p:pic>
      <p:grpSp>
        <p:nvGrpSpPr>
          <p:cNvPr id="234" name="Группа 17"/>
          <p:cNvGrpSpPr/>
          <p:nvPr/>
        </p:nvGrpSpPr>
        <p:grpSpPr>
          <a:xfrm>
            <a:off x="214200" y="857160"/>
            <a:ext cx="714600" cy="5072040"/>
            <a:chOff x="214200" y="857160"/>
            <a:chExt cx="714600" cy="5072040"/>
          </a:xfrm>
        </p:grpSpPr>
        <p:pic>
          <p:nvPicPr>
            <p:cNvPr id="23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14200" y="2280960"/>
              <a:ext cx="7146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14200" y="29901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14200" y="36993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14200" y="44082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14200" y="51174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14200" y="15660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14200" y="85716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E85D-3D19-4C19-8E7E-A0C3DA447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6413400" y="201600"/>
            <a:ext cx="2529000" cy="6454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CC0-9E31-44F7-87BE-E4F863B1D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:</a:t>
            </a:r>
            <a:endParaRPr b="0" lang="en-US" sz="30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требования к оформлению презентации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к выступлению докладчика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ормление презентации</a:t>
            </a:r>
            <a:endParaRPr b="0" lang="en-US" sz="30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В презентацию даются только основные тезисы Вашей работ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ая задача: все что ВЫ сделали еще и грамотно описать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ополнить полезной информацией.</a:t>
            </a: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. Цветовая визуализация и текст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 – синий, зеленый, бежевый + рамка. Шриф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New Rom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№30. Один стиль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3. Одна картинка заменяет 1000 слов. 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ждой презентации должны быть картинки, НО только тематические! Соотношение с текстом-картинок должно быть 2/3, то есть текста меньше чем картинок. На 1-м слайде должно быть не больше 2 картинок.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4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авило "5 объектов на слайде"</a:t>
            </a: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 нужно создавать кашу на слайде. Память человека способна запоминать в среднем девять двоичных чисел, восемь десятичных чисел, семь букв алфавита и пять односложных слов — то есть человек способен одновременно помнить 7 ± 2 элементов. Поэтому при размещении информации на слайде старайтесь чтобы в сумме слайд содержал всего 5 элементов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5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авило - "Схема, рисунок, график, таблица, текст".</a:t>
            </a:r>
            <a:r>
              <a:rPr b="0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6. Итоговый слайд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т научных обществ учащихся общеобразовательных учрежде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ижневартовск  2013 г.</a:t>
            </a: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Секция…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алахит – это вечно зеленый камень? И почему хозяйка медной горы, покровительница уральских рудокопов, в очередной раз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ыла свои кладовые от посторонних глаз?»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</a:t>
            </a:r>
            <a:br>
              <a:rPr sz="2000"/>
            </a:br>
            <a:r>
              <a:rPr b="0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втор: Иванов И.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МБСОШ № 13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7 «А» класс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Научный руководит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Иванова Т.А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4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4a452a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62400" y="1125360"/>
            <a:ext cx="1749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верка химреактивами (должен быть опыт!)</a:t>
            </a:r>
            <a:r>
              <a:rPr b="0" lang="ru-RU" sz="2800" spc="-1" strike="noStrike">
                <a:solidFill>
                  <a:srgbClr val="5f5f5f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685440" y="189000"/>
            <a:ext cx="8278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fd"/>
                </a:solidFill>
                <a:latin typeface="Times New Roman"/>
                <a:ea typeface="Times New Roman"/>
              </a:rPr>
              <a:t>Мои исследования.</a:t>
            </a:r>
            <a:endParaRPr b="0" lang="en-US" sz="2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332" name="Picture 8" descr="IMG_2808"/>
          <p:cNvPicPr/>
          <p:nvPr/>
        </p:nvPicPr>
        <p:blipFill>
          <a:blip r:embed="rId2"/>
          <a:stretch/>
        </p:blipFill>
        <p:spPr>
          <a:xfrm>
            <a:off x="2411280" y="1557360"/>
            <a:ext cx="3651480" cy="489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http://t3.gstatic.com/images?q=tbn:ANd9GcRStf0F_dHnn6dAGRQ7msDv84BQ9NtCpK1Fnr8uWAs2Gm2H7QKo"/>
          <p:cNvPicPr/>
          <p:nvPr/>
        </p:nvPicPr>
        <p:blipFill>
          <a:blip r:embed="rId2"/>
          <a:stretch/>
        </p:blipFill>
        <p:spPr>
          <a:xfrm>
            <a:off x="324000" y="2106720"/>
            <a:ext cx="4535280" cy="28684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932000" y="1988640"/>
            <a:ext cx="3816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Century Schoolbook"/>
              </a:rPr>
              <a:t>Можно сделать вывод, что камень этот на самом деле вечно зеленый, если на него не воздействуют внешне агрессивные условия. А запасы это полудрагоценного камня с каждым днем истощаются, в том числе виной тому расточительность и жадность людей… И неизвестно насладится ли взор нашего будущего поколения этим камнем, который необходимо беречь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Century Schoolbook"/>
              </a:rPr>
              <a:t>Выводы – краткие, лаконичные. </a:t>
            </a:r>
            <a:r>
              <a:rPr b="0" lang="ru-RU" sz="2000" spc="-1" strike="noStrike">
                <a:solidFill>
                  <a:srgbClr val="1e1c11"/>
                </a:solidFill>
                <a:latin typeface="Century Schoolbook"/>
              </a:rPr>
              <a:t> Должны присутствовать.</a:t>
            </a:r>
            <a:endParaRPr b="0" lang="en-US" sz="20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440" y="189000"/>
            <a:ext cx="8278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fd"/>
                </a:solidFill>
                <a:latin typeface="Times New Roman"/>
                <a:ea typeface="Times New Roman"/>
              </a:rPr>
              <a:t>Выводы.</a:t>
            </a:r>
            <a:endParaRPr b="0" lang="en-US" sz="2400" spc="-1" strike="noStrike">
              <a:solidFill>
                <a:srgbClr val="4a452a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Schoolbook"/>
              </a:rPr>
              <a:t>Требования к выступлению докладчика.</a:t>
            </a:r>
            <a:endParaRPr b="0" lang="en-US" sz="30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Речь четкая, грамотная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( ФИО, школа, тема…)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2. Выступление 5 мин., 2 – 3 мин. вопросы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Желательно предметное сопровождение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06:07Z</dcterms:created>
  <dc:creator>user</dc:creator>
  <dc:description/>
  <dc:language>en-US</dc:language>
  <cp:lastModifiedBy>user</cp:lastModifiedBy>
  <dcterms:modified xsi:type="dcterms:W3CDTF">2015-04-13T12:49:49Z</dcterms:modified>
  <cp:revision>14</cp:revision>
  <dc:subject/>
  <dc:title>Горные породы</dc:title>
</cp:coreProperties>
</file>