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4A9-EA6D-45FB-B712-CFF3C57B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593-81DC-4BA7-8101-64DB0E98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62A-AD79-4DE9-BDAE-05C3BCC2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1B7-AF8C-46B7-9D19-4C1CFD7C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F62A-E619-4426-ADB5-FDA407E2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3B09-8FBC-4973-91C3-07A7EB5A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7760-1F94-418F-888E-56007206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AB3A-274F-4BFB-9684-0ABD57DD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7763-F2E4-4C7F-BD56-6C125A21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2248-3DC0-4A28-AEE7-A0E4B4FC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67F1-7341-42B5-A9C8-5769F286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C16-0836-46B3-BDC2-D2513ED7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DC3B-7710-44DF-9494-9F104DF3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BC64-8017-454E-B098-70EE0551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6B5D-0307-4716-B008-826CE4C9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BF4D-B646-4477-A3BC-CE60C6C8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6D3E-CD05-4930-A74A-BB6C8C93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B56B5-E414-4BFC-8C28-2BA12770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658C6-B4B9-4663-9774-E8B0DFA1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05846-D974-44E1-A1C0-031F2064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93F8D-B8E4-4FFA-AE27-7A402F33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6DA27-A198-427A-B091-01C4069D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ABA0-A7B4-4D05-B0EB-7718E7AC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DE685-D44F-429F-931A-1CAF4637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C4CFA-67C9-4203-A808-693BFDE0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B1530-8D06-4B1C-8451-49A101CC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92220-8A30-477F-B2F0-81A9F713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B107D-74B2-4043-ADF0-06BBAE2B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68B85-9104-404B-9E1F-9BF7B472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10D36-AFE2-43E7-AFF4-CF6E0E2B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4C834-8B7A-4019-8567-1D2EFC67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D5E4E-04CD-477A-922E-13EDAE3E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CA394-EFBF-4579-9FBC-5EDADABF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1A6-D16E-4575-822F-1DF358DF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58A84-362B-403A-B3BC-922B00E5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1AA31-EE43-462C-B1DC-595784D4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5FD8F-A317-4510-8984-99753BFF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ED727-BCDD-428D-88B5-DD77AB75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28E3F-5B66-4D2B-A491-4BD41544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3F899-9719-4FCF-9AE0-9C23A4FC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62BC7-803E-4A0A-B8CF-3F5618AD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F06FE-9455-4E30-96A1-5C1A7272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63748-F056-4394-AE44-A11FACC1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7A517-9F00-43B7-823B-D9B9EACC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A76E-7932-46EB-9450-48AC208D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31D0A-805D-4B00-B0E7-09068839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5F16A-D094-43DC-9C69-94BC59F3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8EA60-3437-4105-BE44-919BBEF3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C612F-41C2-48E9-997E-33BE17B9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5E4EB-1A38-4E7C-A5CA-DC743A72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9E9A0-4C50-4F97-B262-52D0EDDB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55E07-234D-4F04-AD47-4C56006A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49454-90AE-45A0-BB7B-DEA26FB4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69739-F0EB-4596-8776-0B2586E2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0A9A5-243C-4908-A79D-1545B61C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450-B648-40C9-BC51-827E6006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C1A2A-B5C6-4C5F-81D6-6BC1704F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FA244-93B4-468C-BD4F-88CB8B55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7DA67-775B-4D39-9247-9A3E46A3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BD8CD-5829-43D3-A944-406B1D65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FD78B-F3B6-40F9-AAAC-4FEB640C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E5582-227E-4C7F-B90D-5737DBE1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8F936-739A-4CB1-925C-272C9632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3B93C-2C1D-44AD-A6A1-8F214C5C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CC3A2-CCA9-4D60-B492-3D02259D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D40AC-7C09-4912-8D75-1DA26AC2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459E-9BEF-4B9F-9A68-FEC8A5DF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5278C-E86F-4E6F-A5D2-4BEFB46D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029EC-D63F-44A3-9F7C-4451B7AB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CA674-39B6-49B4-B6D2-BA9152FC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D0DC8-3B60-4918-BA94-B440B7FF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95B72-37B1-4794-83C0-3EB54697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6B4E9-0857-4D69-92BC-B8AF4B47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3843A-3221-4589-A067-636E54A4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9F709-EEB2-43DC-8FFC-1D4317D4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4383D-7E60-4718-8C75-A5673796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5A655-ED9E-47FC-978B-8BED43BD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A92-4C9F-48C6-930E-FD2BD1D2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6506E-11D4-41B3-B9AC-1A473875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9DAE2-3056-4E34-86EB-861C7703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82212-6F96-4ED9-9EA7-4C903B61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D71E9-3A21-4B51-A7AB-4CDB5E70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DF807-35EE-4326-BB3F-D21E1482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7391-54C2-41BB-BC78-5ECAB7FA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15"/>
          <p:cNvGrpSpPr/>
          <p:nvPr/>
        </p:nvGrpSpPr>
        <p:grpSpPr>
          <a:xfrm>
            <a:off x="214200" y="1643040"/>
            <a:ext cx="714600" cy="5072040"/>
            <a:chOff x="214200" y="1643040"/>
            <a:chExt cx="714600" cy="5072040"/>
          </a:xfrm>
        </p:grpSpPr>
        <p:pic>
          <p:nvPicPr>
            <p:cNvPr id="1" name="Нашивка 8" descr=""/>
            <p:cNvPicPr/>
            <p:nvPr/>
          </p:nvPicPr>
          <p:blipFill>
            <a:blip r:embed="rId3"/>
            <a:stretch/>
          </p:blipFill>
          <p:spPr>
            <a:xfrm>
              <a:off x="214200" y="30610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Нашивка 9" descr=""/>
            <p:cNvPicPr/>
            <p:nvPr/>
          </p:nvPicPr>
          <p:blipFill>
            <a:blip r:embed="rId4"/>
            <a:stretch/>
          </p:blipFill>
          <p:spPr>
            <a:xfrm>
              <a:off x="214200" y="377604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Нашивка 10" descr=""/>
            <p:cNvPicPr/>
            <p:nvPr/>
          </p:nvPicPr>
          <p:blipFill>
            <a:blip r:embed="rId5"/>
            <a:stretch/>
          </p:blipFill>
          <p:spPr>
            <a:xfrm>
              <a:off x="214200" y="448524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Нашивка 11" descr=""/>
            <p:cNvPicPr/>
            <p:nvPr/>
          </p:nvPicPr>
          <p:blipFill>
            <a:blip r:embed="rId6"/>
            <a:stretch/>
          </p:blipFill>
          <p:spPr>
            <a:xfrm>
              <a:off x="214200" y="51940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Нашивка 12" descr=""/>
            <p:cNvPicPr/>
            <p:nvPr/>
          </p:nvPicPr>
          <p:blipFill>
            <a:blip r:embed="rId7"/>
            <a:stretch/>
          </p:blipFill>
          <p:spPr>
            <a:xfrm>
              <a:off x="214200" y="59032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Нашивка 13" descr=""/>
            <p:cNvPicPr/>
            <p:nvPr/>
          </p:nvPicPr>
          <p:blipFill>
            <a:blip r:embed="rId8"/>
            <a:stretch/>
          </p:blipFill>
          <p:spPr>
            <a:xfrm>
              <a:off x="214200" y="23518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Нашивка 14" descr=""/>
            <p:cNvPicPr/>
            <p:nvPr/>
          </p:nvPicPr>
          <p:blipFill>
            <a:blip r:embed="rId9"/>
            <a:stretch/>
          </p:blipFill>
          <p:spPr>
            <a:xfrm>
              <a:off x="214200" y="1643040"/>
              <a:ext cx="714600" cy="81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Стрелка вправо с вырезом 6" descr=""/>
          <p:cNvPicPr/>
          <p:nvPr/>
        </p:nvPicPr>
        <p:blipFill>
          <a:blip r:embed="rId10"/>
          <a:stretch/>
        </p:blipFill>
        <p:spPr>
          <a:xfrm>
            <a:off x="341280" y="128520"/>
            <a:ext cx="8674200" cy="1603440"/>
          </a:xfrm>
          <a:prstGeom prst="rect">
            <a:avLst/>
          </a:prstGeom>
          <a:ln w="0">
            <a:noFill/>
          </a:ln>
        </p:spPr>
      </p:pic>
      <p:pic>
        <p:nvPicPr>
          <p:cNvPr id="9" name="Содержимое 3" descr="01605cc23a86.png"/>
          <p:cNvPicPr/>
          <p:nvPr/>
        </p:nvPicPr>
        <p:blipFill>
          <a:blip r:embed="rId11"/>
          <a:stretch/>
        </p:blipFill>
        <p:spPr>
          <a:xfrm>
            <a:off x="214200" y="214200"/>
            <a:ext cx="1830600" cy="17780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A949-C18B-4BFE-8E77-D6EC418665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Штриховая стрелка вправо 16"/>
          <p:cNvGrpSpPr/>
          <p:nvPr/>
        </p:nvGrpSpPr>
        <p:grpSpPr>
          <a:xfrm>
            <a:off x="512640" y="1968480"/>
            <a:ext cx="8479080" cy="1974960"/>
            <a:chOff x="512640" y="1968480"/>
            <a:chExt cx="8479080" cy="1974960"/>
          </a:xfrm>
        </p:grpSpPr>
        <p:pic>
          <p:nvPicPr>
            <p:cNvPr id="52" name="Штриховая стрелка вправо 16" descr=""/>
            <p:cNvPicPr/>
            <p:nvPr/>
          </p:nvPicPr>
          <p:blipFill>
            <a:blip r:embed="rId3"/>
            <a:stretch/>
          </p:blipFill>
          <p:spPr>
            <a:xfrm>
              <a:off x="512640" y="1968480"/>
              <a:ext cx="8479080" cy="19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61840" y="2359080"/>
              <a:ext cx="704376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Рисунок 17" descr="52b98b7f5e35.png"/>
          <p:cNvPicPr/>
          <p:nvPr/>
        </p:nvPicPr>
        <p:blipFill>
          <a:blip r:embed="rId4"/>
          <a:stretch/>
        </p:blipFill>
        <p:spPr>
          <a:xfrm>
            <a:off x="285840" y="0"/>
            <a:ext cx="2544840" cy="3000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CB52-A417-421F-B1BA-BA028A576E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Штриховая стрелка вправо 16"/>
          <p:cNvGrpSpPr/>
          <p:nvPr/>
        </p:nvGrpSpPr>
        <p:grpSpPr>
          <a:xfrm>
            <a:off x="298440" y="3902040"/>
            <a:ext cx="8693280" cy="2181240"/>
            <a:chOff x="298440" y="3902040"/>
            <a:chExt cx="8693280" cy="2181240"/>
          </a:xfrm>
        </p:grpSpPr>
        <p:pic>
          <p:nvPicPr>
            <p:cNvPr id="97" name="Штриховая стрелка вправо 16" descr=""/>
            <p:cNvPicPr/>
            <p:nvPr/>
          </p:nvPicPr>
          <p:blipFill>
            <a:blip r:embed="rId3"/>
            <a:stretch/>
          </p:blipFill>
          <p:spPr>
            <a:xfrm>
              <a:off x="298440" y="3902040"/>
              <a:ext cx="869328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81120" y="4330800"/>
              <a:ext cx="7105680" cy="12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Рисунок 17" descr="52b98b7f5e35.png"/>
          <p:cNvPicPr/>
          <p:nvPr/>
        </p:nvPicPr>
        <p:blipFill>
          <a:blip r:embed="rId4"/>
          <a:stretch/>
        </p:blipFill>
        <p:spPr>
          <a:xfrm>
            <a:off x="285840" y="0"/>
            <a:ext cx="2544840" cy="3000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8EE6-A7FB-48EE-B1C3-E87A721EE9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одержимое 3" descr="01605cc23a86.png"/>
          <p:cNvPicPr/>
          <p:nvPr/>
        </p:nvPicPr>
        <p:blipFill>
          <a:blip r:embed="rId3"/>
          <a:stretch/>
        </p:blipFill>
        <p:spPr>
          <a:xfrm>
            <a:off x="214200" y="214200"/>
            <a:ext cx="1830600" cy="17780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169D-C466-4C5F-8A4E-5AE3E6AE52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Стрелка вправо с вырезом 16" descr=""/>
          <p:cNvPicPr/>
          <p:nvPr/>
        </p:nvPicPr>
        <p:blipFill>
          <a:blip r:embed="rId3"/>
          <a:stretch/>
        </p:blipFill>
        <p:spPr>
          <a:xfrm>
            <a:off x="201600" y="341280"/>
            <a:ext cx="3456000" cy="1316160"/>
          </a:xfrm>
          <a:prstGeom prst="rect">
            <a:avLst/>
          </a:prstGeom>
          <a:ln w="0">
            <a:noFill/>
          </a:ln>
        </p:spPr>
      </p:pic>
      <p:grpSp>
        <p:nvGrpSpPr>
          <p:cNvPr id="184" name="Группа 17"/>
          <p:cNvGrpSpPr/>
          <p:nvPr/>
        </p:nvGrpSpPr>
        <p:grpSpPr>
          <a:xfrm>
            <a:off x="285840" y="3714840"/>
            <a:ext cx="428400" cy="2857320"/>
            <a:chOff x="285840" y="3714840"/>
            <a:chExt cx="428400" cy="2857320"/>
          </a:xfrm>
        </p:grpSpPr>
        <p:pic>
          <p:nvPicPr>
            <p:cNvPr id="185" name="Нашивка 18" descr=""/>
            <p:cNvPicPr/>
            <p:nvPr/>
          </p:nvPicPr>
          <p:blipFill>
            <a:blip r:embed="rId4"/>
            <a:stretch/>
          </p:blipFill>
          <p:spPr>
            <a:xfrm>
              <a:off x="285840" y="451044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Нашивка 19" descr=""/>
            <p:cNvPicPr/>
            <p:nvPr/>
          </p:nvPicPr>
          <p:blipFill>
            <a:blip r:embed="rId5"/>
            <a:stretch/>
          </p:blipFill>
          <p:spPr>
            <a:xfrm>
              <a:off x="285840" y="490824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Нашивка 20" descr=""/>
            <p:cNvPicPr/>
            <p:nvPr/>
          </p:nvPicPr>
          <p:blipFill>
            <a:blip r:embed="rId6"/>
            <a:stretch/>
          </p:blipFill>
          <p:spPr>
            <a:xfrm>
              <a:off x="285840" y="530640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Нашивка 21" descr=""/>
            <p:cNvPicPr/>
            <p:nvPr/>
          </p:nvPicPr>
          <p:blipFill>
            <a:blip r:embed="rId7"/>
            <a:stretch/>
          </p:blipFill>
          <p:spPr>
            <a:xfrm>
              <a:off x="285840" y="570420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Нашивка 22" descr=""/>
            <p:cNvPicPr/>
            <p:nvPr/>
          </p:nvPicPr>
          <p:blipFill>
            <a:blip r:embed="rId8"/>
            <a:stretch/>
          </p:blipFill>
          <p:spPr>
            <a:xfrm>
              <a:off x="285840" y="610200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Нашивка 23" descr=""/>
            <p:cNvPicPr/>
            <p:nvPr/>
          </p:nvPicPr>
          <p:blipFill>
            <a:blip r:embed="rId9"/>
            <a:stretch/>
          </p:blipFill>
          <p:spPr>
            <a:xfrm>
              <a:off x="285840" y="411264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Нашивка 24" descr=""/>
            <p:cNvPicPr/>
            <p:nvPr/>
          </p:nvPicPr>
          <p:blipFill>
            <a:blip r:embed="rId10"/>
            <a:stretch/>
          </p:blipFill>
          <p:spPr>
            <a:xfrm>
              <a:off x="285840" y="3714840"/>
              <a:ext cx="428400" cy="46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6C1A-863B-44B6-8C21-F1EA6BD0FD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Стрелка вправо с вырезом 16" descr=""/>
          <p:cNvPicPr/>
          <p:nvPr/>
        </p:nvPicPr>
        <p:blipFill>
          <a:blip r:embed="rId3"/>
          <a:stretch/>
        </p:blipFill>
        <p:spPr>
          <a:xfrm>
            <a:off x="1414440" y="4627440"/>
            <a:ext cx="6461280" cy="962280"/>
          </a:xfrm>
          <a:prstGeom prst="rect">
            <a:avLst/>
          </a:prstGeom>
          <a:ln w="0">
            <a:noFill/>
          </a:ln>
        </p:spPr>
      </p:pic>
      <p:grpSp>
        <p:nvGrpSpPr>
          <p:cNvPr id="234" name="Группа 17"/>
          <p:cNvGrpSpPr/>
          <p:nvPr/>
        </p:nvGrpSpPr>
        <p:grpSpPr>
          <a:xfrm>
            <a:off x="214200" y="857160"/>
            <a:ext cx="714600" cy="5072040"/>
            <a:chOff x="214200" y="857160"/>
            <a:chExt cx="714600" cy="5072040"/>
          </a:xfrm>
        </p:grpSpPr>
        <p:pic>
          <p:nvPicPr>
            <p:cNvPr id="235" name="Нашивка 18" descr=""/>
            <p:cNvPicPr/>
            <p:nvPr/>
          </p:nvPicPr>
          <p:blipFill>
            <a:blip r:embed="rId4"/>
            <a:stretch/>
          </p:blipFill>
          <p:spPr>
            <a:xfrm>
              <a:off x="214200" y="2280960"/>
              <a:ext cx="7146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Нашивка 19" descr=""/>
            <p:cNvPicPr/>
            <p:nvPr/>
          </p:nvPicPr>
          <p:blipFill>
            <a:blip r:embed="rId5"/>
            <a:stretch/>
          </p:blipFill>
          <p:spPr>
            <a:xfrm>
              <a:off x="214200" y="299016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Нашивка 20" descr=""/>
            <p:cNvPicPr/>
            <p:nvPr/>
          </p:nvPicPr>
          <p:blipFill>
            <a:blip r:embed="rId6"/>
            <a:stretch/>
          </p:blipFill>
          <p:spPr>
            <a:xfrm>
              <a:off x="214200" y="369936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Нашивка 21" descr=""/>
            <p:cNvPicPr/>
            <p:nvPr/>
          </p:nvPicPr>
          <p:blipFill>
            <a:blip r:embed="rId7"/>
            <a:stretch/>
          </p:blipFill>
          <p:spPr>
            <a:xfrm>
              <a:off x="214200" y="440820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Нашивка 22" descr=""/>
            <p:cNvPicPr/>
            <p:nvPr/>
          </p:nvPicPr>
          <p:blipFill>
            <a:blip r:embed="rId8"/>
            <a:stretch/>
          </p:blipFill>
          <p:spPr>
            <a:xfrm>
              <a:off x="214200" y="511740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Нашивка 23" descr=""/>
            <p:cNvPicPr/>
            <p:nvPr/>
          </p:nvPicPr>
          <p:blipFill>
            <a:blip r:embed="rId9"/>
            <a:stretch/>
          </p:blipFill>
          <p:spPr>
            <a:xfrm>
              <a:off x="214200" y="156600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Нашивка 24" descr=""/>
            <p:cNvPicPr/>
            <p:nvPr/>
          </p:nvPicPr>
          <p:blipFill>
            <a:blip r:embed="rId10"/>
            <a:stretch/>
          </p:blipFill>
          <p:spPr>
            <a:xfrm>
              <a:off x="214200" y="857160"/>
              <a:ext cx="714600" cy="81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C89D-5CAC-4BE8-87FB-B57466D083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Стрелка вправо с вырезом 16" descr=""/>
          <p:cNvPicPr/>
          <p:nvPr/>
        </p:nvPicPr>
        <p:blipFill>
          <a:blip r:embed="rId3"/>
          <a:stretch/>
        </p:blipFill>
        <p:spPr>
          <a:xfrm>
            <a:off x="6413400" y="201600"/>
            <a:ext cx="2529000" cy="64548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7006-EB17-466B-8E4B-50421A7225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ние:</a:t>
            </a:r>
            <a:endParaRPr b="0" lang="en-US" sz="30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требования к оформлению презентации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бования к выступлению докладчика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формление презентации</a:t>
            </a:r>
            <a:endParaRPr b="0" lang="en-US" sz="30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В презентацию даются только основные тезисы Вашей работы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новная задача: все что ВЫ сделали еще и грамотно описать </a:t>
            </a: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дополнить полезной информацией.</a:t>
            </a:r>
            <a:r>
              <a:rPr b="0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2. Цветовая визуализация и текст.</a:t>
            </a: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вет – синий, зеленый, бежевый + рамка. Шрифт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s New Roman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№30. Один стиль.</a:t>
            </a: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3. Одна картинка заменяет 1000 слов. </a:t>
            </a: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ждой презентации должны быть картинки, НО только тематические! Соотношение с текстом-картинок должно быть 2/3, то есть текста меньше чем картинок. На 1-м слайде должно быть не больше 2 картинок. </a:t>
            </a: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4. </a:t>
            </a:r>
            <a:r>
              <a:rPr b="1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Правило "5 объектов на слайде"</a:t>
            </a:r>
            <a:r>
              <a:rPr b="0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е нужно создавать кашу на слайде. Память человека способна запоминать в среднем девять двоичных чисел, восемь десятичных чисел, семь букв алфавита и пять односложных слов — то есть человек способен одновременно помнить 7 ± 2 элементов. Поэтому при размещении информации на слайде старайтесь чтобы в сумме слайд содержал всего 5 элементов </a:t>
            </a: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5. </a:t>
            </a:r>
            <a:r>
              <a:rPr b="1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Правило - "Схема, рисунок, график, таблица, текст".</a:t>
            </a:r>
            <a:r>
              <a:rPr b="0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  </a:t>
            </a: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6. Итоговый слайд.</a:t>
            </a: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т научных обществ учащихся общеобразовательных учреждени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ижневартовск  2013 г.</a:t>
            </a:r>
            <a:br>
              <a:rPr sz="2000"/>
            </a:br>
            <a:r>
              <a:rPr b="0" lang="ru-RU" sz="2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                          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Секция…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алахит – это вечно зеленый камень? И почему хозяйка медной горы, покровительница уральских рудокопов, в очередной раз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ыла свои кладовые от посторонних глаз?»</a:t>
            </a:r>
            <a:br>
              <a:rPr sz="18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 </a:t>
            </a:r>
            <a:br>
              <a:rPr sz="2000"/>
            </a:br>
            <a:r>
              <a:rPr b="0" lang="ru-RU" sz="2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втор: Иванов И.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МБСОШ № 13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7 «А» класс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     Научный руководитель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Иванова Т.А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.</a:t>
            </a:r>
            <a:br>
              <a:rPr sz="4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4a452a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62400" y="1125360"/>
            <a:ext cx="17492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верка химреактивами (должен быть опыт!)</a:t>
            </a:r>
            <a:r>
              <a:rPr b="0" lang="ru-RU" sz="2800" spc="-1" strike="noStrike">
                <a:solidFill>
                  <a:srgbClr val="5f5f5f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685440" y="189000"/>
            <a:ext cx="82789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bfd"/>
                </a:solidFill>
                <a:latin typeface="Times New Roman"/>
                <a:ea typeface="Times New Roman"/>
              </a:rPr>
              <a:t>Мои исследования.</a:t>
            </a:r>
            <a:endParaRPr b="0" lang="en-US" sz="2400" spc="-1" strike="noStrike">
              <a:solidFill>
                <a:srgbClr val="4a452a"/>
              </a:solidFill>
              <a:latin typeface="Century Schoolbook"/>
            </a:endParaRPr>
          </a:p>
        </p:txBody>
      </p:sp>
      <p:pic>
        <p:nvPicPr>
          <p:cNvPr id="332" name="Picture 8" descr="IMG_2808"/>
          <p:cNvPicPr/>
          <p:nvPr/>
        </p:nvPicPr>
        <p:blipFill>
          <a:blip r:embed="rId2"/>
          <a:stretch/>
        </p:blipFill>
        <p:spPr>
          <a:xfrm>
            <a:off x="2411280" y="1557360"/>
            <a:ext cx="3651480" cy="489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1" descr="http://t3.gstatic.com/images?q=tbn:ANd9GcRStf0F_dHnn6dAGRQ7msDv84BQ9NtCpK1Fnr8uWAs2Gm2H7QKo"/>
          <p:cNvPicPr/>
          <p:nvPr/>
        </p:nvPicPr>
        <p:blipFill>
          <a:blip r:embed="rId2"/>
          <a:stretch/>
        </p:blipFill>
        <p:spPr>
          <a:xfrm>
            <a:off x="324000" y="2106720"/>
            <a:ext cx="4535280" cy="28684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932000" y="1988640"/>
            <a:ext cx="3816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Century Schoolbook"/>
              </a:rPr>
              <a:t>Можно сделать вывод, что камень этот на самом деле вечно зеленый, если на него не воздействуют внешне агрессивные условия. А запасы это полудрагоценного камня с каждым днем истощаются, в том числе виной тому расточительность и жадность людей… И неизвестно насладится ли взор нашего будущего поколения этим камнем, который необходимо беречь.</a:t>
            </a: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Century Schoolbook"/>
              </a:rPr>
              <a:t>Выводы – краткие, лаконичные. </a:t>
            </a:r>
            <a:r>
              <a:rPr b="0" lang="ru-RU" sz="2000" spc="-1" strike="noStrike">
                <a:solidFill>
                  <a:srgbClr val="1e1c11"/>
                </a:solidFill>
                <a:latin typeface="Century Schoolbook"/>
              </a:rPr>
              <a:t> Должны присутствовать.</a:t>
            </a: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85440" y="189000"/>
            <a:ext cx="82789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bfd"/>
                </a:solidFill>
                <a:latin typeface="Times New Roman"/>
                <a:ea typeface="Times New Roman"/>
              </a:rPr>
              <a:t>Выводы.</a:t>
            </a:r>
            <a:endParaRPr b="0" lang="en-US" sz="2400" spc="-1" strike="noStrike">
              <a:solidFill>
                <a:srgbClr val="4a452a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Schoolbook"/>
              </a:rPr>
              <a:t>Требования к выступлению докладчика.</a:t>
            </a:r>
            <a:endParaRPr b="0" lang="en-US" sz="30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Речь четкая, грамотная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( ФИО, школа, тема…)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2. Выступление 5 мин., 2 – 3 мин. вопросы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Желательно предметное сопровождение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8:06:07Z</dcterms:created>
  <dc:creator>user</dc:creator>
  <dc:description/>
  <dc:language>en-US</dc:language>
  <cp:lastModifiedBy>user</cp:lastModifiedBy>
  <dcterms:modified xsi:type="dcterms:W3CDTF">2015-04-13T12:49:49Z</dcterms:modified>
  <cp:revision>14</cp:revision>
  <dc:subject/>
  <dc:title>Горные породы</dc:title>
</cp:coreProperties>
</file>