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  <p:custShowLst>
    <p:custShow name="Произвольный показ 1" id="0">
      <p:sldLst>
        <p:sld r:id="rId7"/>
        <p:sld r:id="rId8"/>
        <p:sld r:id="rId10"/>
        <p:sld r:id="rId11"/>
        <p:sld r:id="rId12"/>
        <p:sld r:id="rId13"/>
        <p:sld r:id="rId14"/>
      </p:sldLst>
    </p:custShow>
    <p:custShow name="Произвольный показ 2" id="1">
      <p:sldLst>
        <p:sld r:id="rId7"/>
        <p:sld r:id="rId8"/>
        <p:sld r:id="rId10"/>
        <p:sld r:id="rId11"/>
        <p:sld r:id="rId12"/>
        <p:sld r:id="rId13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1E6E-46CE-481F-9899-DB79FD29B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BE78-4018-4F22-A3CD-7D287FB5E3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A978-5650-47EE-B309-11588E2844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74C-74E3-4E66-B944-3DC66F7F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888-ACB3-4620-BF8C-A9E658B0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115-4CBE-4C59-80A8-308729B4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FF5-60CF-4146-AAD2-AF48E0BC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15E83-6BFB-4FD2-95B6-F2DE7D0B15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AC7B8-93A4-4BD2-A7A6-E0437EED96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2E5AB-04BF-45FE-AEFB-DBCAC81921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09BD5-6EC8-47A6-B07E-CC1B172C66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87869-12AF-4600-B8D4-C5200A8AC9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BAC64-5BBB-49E3-8A4F-6B910FEF47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5D6D9-DFB9-4D40-B208-701D1C887D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FCA6-120D-4FCD-A68B-E8A2E8F3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3B51E-E902-4CF9-8DA2-4B22FD9C21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C36B6-F4DF-448B-AF66-4DEFD600F2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3DE34-F484-4EA0-A1F4-81F123D315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5766A-BA00-4969-ACC9-FC9226E74C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E38F5-0E9A-4448-B094-4BE6FFB191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C3C-E4BB-4E6F-A4DB-7271FAF1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FF3-9688-492C-A052-74C1525C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5732-C257-4B94-A88A-822110BE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C9D-B6F7-42DE-8D8D-8A772386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83E-1E64-40A6-BE08-2FA8CAB4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9A0-BFB0-4F33-BE5E-2961BD37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65D-0312-4235-A5D4-9C1324A3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72400" y="1314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87B8-8E36-4510-A677-6F6CEBCA337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872400" y="1314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F20B-4A13-49ED-86B0-6169EE37DF86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C:\Users\Настя\Desktop\фото детсад\PICT1276.JPG"/>
          <p:cNvPicPr/>
          <p:nvPr/>
        </p:nvPicPr>
        <p:blipFill>
          <a:blip r:embed="rId1"/>
          <a:stretch/>
        </p:blipFill>
        <p:spPr>
          <a:xfrm>
            <a:off x="2757600" y="1973160"/>
            <a:ext cx="3449520" cy="25434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2146320" y="4683240"/>
            <a:ext cx="574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я проект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 инструктор по физической культур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«НШ – ДС №5»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рюкова Ольга Михайл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Туризм – как метод социальной адаптации воспитанников подготовительной группы в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Спасибо за вним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872400" y="131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C1E9-CAD5-46C3-9564-7161118F4769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C:\Users\Настя\Desktop\фото детсад\PICT1150.JPG"/>
          <p:cNvPicPr/>
          <p:nvPr/>
        </p:nvPicPr>
        <p:blipFill>
          <a:blip r:embed="rId1"/>
          <a:stretch/>
        </p:blipFill>
        <p:spPr>
          <a:xfrm>
            <a:off x="2716200" y="1463760"/>
            <a:ext cx="3394080" cy="271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Раскрыть значение туризма – как метода социальной адаптации и самореализации воспитанников подготовительной группы в ДО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858960" y="179280"/>
            <a:ext cx="759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28a9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Путем вовлечения детей в туристическую деятельность с учетом возрастных психологических и физиологических особенностей создать  условия для становления целостной картины мира в единстве и взаимосвязи представлений о природе, социуме, предметах, а также для приобретения опыта толерантных взаимоотношений, самообслуживания, ценностного отношения к действительности и самому себе, соблюдения правил и норм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Сферы влияния турист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укрепление здоровья воспитанников посредством игр, прогулок и походов на свежем воздух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совершенствование жизненно важных навыков и умений посредством обучения основам туристических знаний, действиям в чрезвычайных ситуациях природного и техногенного характера, основам выживания в природной сре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формирование общих представлений о туризме и краеведении, его значении в жизни человека, роли в укреплении здоровья, физическом развитии и физической подготовл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развитие интереса  к самостоятельным занятиям туризмом и краеведением, подвижными  играми, формами активного отдыха и досу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содействие воспитанию патриотизма, нравственных и волевых качеств, развитию психических процессов и свойств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872400" y="131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D9D2-A8DA-4D5E-87BF-D49FF512B994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824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Мероприятия в ДОУ направленные на воспитание патриотиз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рождения города.19 янва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народного единства. 4 нояб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защитника Отечества.23 февра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Победы 9 м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России.12 ию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символики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6872400" y="131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C8C1-5989-4788-96F5-09C46643D5E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День защитника Отечества в детском са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872400" y="131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6A3B-E4C5-4B9E-AEDF-DD1A7CDE836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Настя\Desktop\Ростим патриотов!\PICT0706.JPG"/>
          <p:cNvPicPr/>
          <p:nvPr/>
        </p:nvPicPr>
        <p:blipFill>
          <a:blip r:embed="rId1"/>
          <a:stretch/>
        </p:blipFill>
        <p:spPr>
          <a:xfrm>
            <a:off x="2368440" y="1909800"/>
            <a:ext cx="4046760" cy="280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Мероприятия  в ДОУ направленные на развитие двигательных кач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2"/>
          <p:cNvSpPr/>
          <p:nvPr/>
        </p:nvSpPr>
        <p:spPr>
          <a:xfrm>
            <a:off x="6872400" y="131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A29F-5E40-445B-8A4D-5641EB105BAB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74760" y="816120"/>
            <a:ext cx="842472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2188800"/>
            <a:ext cx="3962520" cy="17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еселые старты туристя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Зимние развле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Спортивные эстафе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Мы вмес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Подвижны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2"/>
          <p:cNvSpPr/>
          <p:nvPr/>
        </p:nvSpPr>
        <p:spPr>
          <a:xfrm>
            <a:off x="6872400" y="131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3A8C-416D-4F60-8FAC-436147E24CB5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Users\Настя\Desktop\фото детсад\PICT1128.JPG"/>
          <p:cNvPicPr/>
          <p:nvPr/>
        </p:nvPicPr>
        <p:blipFill>
          <a:blip r:embed="rId1"/>
          <a:stretch/>
        </p:blipFill>
        <p:spPr>
          <a:xfrm>
            <a:off x="5222880" y="3876840"/>
            <a:ext cx="3672000" cy="2690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Users\Настя\Desktop\фото детсад\PICT1128.JPG"/>
          <p:cNvPicPr/>
          <p:nvPr/>
        </p:nvPicPr>
        <p:blipFill>
          <a:blip r:embed="rId2"/>
          <a:stretch/>
        </p:blipFill>
        <p:spPr>
          <a:xfrm>
            <a:off x="318960" y="471600"/>
            <a:ext cx="4267440" cy="3103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Users\Настя\Desktop\А-дата\A-DATA_UFD\SDC14141.JPG"/>
          <p:cNvPicPr/>
          <p:nvPr/>
        </p:nvPicPr>
        <p:blipFill>
          <a:blip r:embed="rId3"/>
          <a:stretch/>
        </p:blipFill>
        <p:spPr>
          <a:xfrm>
            <a:off x="4557600" y="3532320"/>
            <a:ext cx="4351320" cy="3090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Users\Настя\Desktop\А-дата\A-DATA_UFD\SDC14106.JPG"/>
          <p:cNvPicPr/>
          <p:nvPr/>
        </p:nvPicPr>
        <p:blipFill>
          <a:blip r:embed="rId4"/>
          <a:stretch/>
        </p:blipFill>
        <p:spPr>
          <a:xfrm>
            <a:off x="4557600" y="457200"/>
            <a:ext cx="4322880" cy="3089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Users\Настя\Desktop\фото детсад\PICT1150.JPG"/>
          <p:cNvPicPr/>
          <p:nvPr/>
        </p:nvPicPr>
        <p:blipFill>
          <a:blip r:embed="rId5"/>
          <a:stretch/>
        </p:blipFill>
        <p:spPr>
          <a:xfrm>
            <a:off x="-53478000" y="23045760"/>
            <a:ext cx="2468520" cy="1851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Users\Настя\Desktop\фото детсад\PICT1255.JPG"/>
          <p:cNvPicPr/>
          <p:nvPr/>
        </p:nvPicPr>
        <p:blipFill>
          <a:blip r:embed="rId6"/>
          <a:stretch/>
        </p:blipFill>
        <p:spPr>
          <a:xfrm>
            <a:off x="285840" y="3543480"/>
            <a:ext cx="4286160" cy="30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клю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уризм – это одно из наиболее эффективных средств воздействия на все стороны развития личности ребенка, позволяющее ребенку самореализоваться в окружающей действительности как личности, развить свои коммуникативные способности во взаимодействии с детьми, воспитателями, родителями, наиболее легко адаптироваться в современных изменяющихся условиях, закалить свою волю и характер. Только совместная деятельность в походных условиях  оказывает наибольшее  воспитательное воздействие  на развитие самостоятельности и ответственности  ребенка за сво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6872400" y="131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3FD1-8916-4BFF-9AA8-24824607044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7:52:49Z</dcterms:created>
  <dc:creator>kp</dc:creator>
  <dc:description/>
  <dc:language>en-US</dc:language>
  <cp:lastModifiedBy>Настя</cp:lastModifiedBy>
  <dcterms:modified xsi:type="dcterms:W3CDTF">2015-04-06T14:45:10Z</dcterms:modified>
  <cp:revision>1663</cp:revision>
  <dc:subject/>
  <dc:title>Слайд 1</dc:title>
</cp:coreProperties>
</file>