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10"/>
        <p:sld r:id="rId11"/>
        <p:sld r:id="rId12"/>
        <p:sld r:id="rId13"/>
        <p:sld r:id="rId14"/>
      </p:sldLst>
    </p:custShow>
    <p:custShow name="Произвольный показ 2" id="1">
      <p:sldLst>
        <p:sld r:id="rId7"/>
        <p:sld r:id="rId8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1DF9-F95D-4F6F-8D64-40786CD59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FDFD-D200-4427-9383-6F1B72719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7EF6-A312-4B4C-858F-0AF640CB01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ECC-C470-432D-81E5-B17BA58C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738-157F-4B5E-AC79-35409AF1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AAE-2267-42A2-B6ED-2E73358E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F4E-6A0F-40F6-94CE-624E13CF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6C7F7-BA06-40BC-AD26-D88E0A62B4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5A79A-C9F7-4918-97CE-0A86D98F03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D9B11-9BFB-4753-BD06-9C684B04FB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B1B11-1088-4C2D-9663-5FD95CF070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78541-D81B-4E25-9F9E-7E4A072DA3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FD79F-06F2-4C5D-9451-1AC8DF4959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6A9E7-DB08-4767-A49E-217976063A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2CD-4A98-4FD2-97D7-FE8B468B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09086-F7FA-4CB4-A2F2-40D191E0EC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D1675-16B6-4B02-AD9B-8167ECED4B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07E67-CD5D-443E-A668-27BA4F9109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530D5-CEF4-4995-BCAE-5050E64E45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EB769-3D9D-44DF-94BB-DDEB277FD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327-CA31-45B1-8E10-A76D464E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71E-6700-4406-9410-446AF75E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D66-DA8C-496F-8251-FACAF803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491-B990-4AFE-874A-87081E5A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BED-8894-46D0-99D7-2945AB4B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EBF-F25E-44F6-88A6-038E3BD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F3B-B7C6-4904-9CC2-BD392C2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2400" y="1314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4911-9D46-40EC-B02A-333DC182789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872400" y="1314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89B2-3093-4076-A72C-DA19CE29C73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C:\Users\Настя\Desktop\фото детсад\PICT1276.JPG"/>
          <p:cNvPicPr/>
          <p:nvPr/>
        </p:nvPicPr>
        <p:blipFill>
          <a:blip r:embed="rId1"/>
          <a:stretch/>
        </p:blipFill>
        <p:spPr>
          <a:xfrm>
            <a:off x="2757600" y="1973160"/>
            <a:ext cx="3449520" cy="25434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2146320" y="4683240"/>
            <a:ext cx="574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проек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инструктор по физической культур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НШ – ДС №5»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рюкова Ольг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Туризм – как метод социальной адаптации воспитанников подготовительной группы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Спасибо за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CC8A-B10B-4AAF-B1E8-4ED53B8993D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:\Users\Настя\Desktop\фото детсад\PICT1150.JPG"/>
          <p:cNvPicPr/>
          <p:nvPr/>
        </p:nvPicPr>
        <p:blipFill>
          <a:blip r:embed="rId1"/>
          <a:stretch/>
        </p:blipFill>
        <p:spPr>
          <a:xfrm>
            <a:off x="2716200" y="1463760"/>
            <a:ext cx="3394080" cy="271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Раскрыть значение туризма – как метода социальной адаптации и самореализации воспитанников подготовительной группы в Д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858960" y="179280"/>
            <a:ext cx="759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28a9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утем вовлечения детей в туристическую деятельность с учетом возрастных психологических и физиологических особенностей создать  условия для становления целостной картины мира в единстве и взаимосвязи представлений о природе, социуме, предметах, а также для приобретения опыта толерантных взаимоотношений, самообслуживания, ценностного отношения к действительности и самому себе, соблюдения правил и норм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Сферы влияния турист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укрепление здоровья воспитанников посредством игр, прогулок и походов на свежем воздух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совершенствование жизненно важных навыков и умений посредством обучения основам туристических знаний, действиям в чрезвычайных ситуациях природного и техногенного характера, основам выживания в природной сре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формирование общих представлений о туризме и краеведении, его значении в жизни человека, роли в укреплении здоровья, физическом развитии и физической подгото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развитие интереса  к самостоятельным занятиям туризмом и краеведением, подвижными  играми, формами активного отдыха и досу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содействие воспитанию патриотизма, нравственных и волевых качеств, развитию психических процессов и свойств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2E2D-6E33-49D2-B556-C9F5311CBA8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824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Мероприятия в ДОУ направленные на воспитание патриот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рождения города.19 янв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народного единства. 4 нояб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защитника Отечества.23 февра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Победы 9 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России.12 ию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День символик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F95A-C58C-48E1-9B24-59A1AE564E4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День защитника Отечества в детском са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9DD3-B4E3-49F2-8A7B-378EC015B41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Настя\Desktop\Ростим патриотов!\PICT0706.JPG"/>
          <p:cNvPicPr/>
          <p:nvPr/>
        </p:nvPicPr>
        <p:blipFill>
          <a:blip r:embed="rId1"/>
          <a:stretch/>
        </p:blipFill>
        <p:spPr>
          <a:xfrm>
            <a:off x="2368440" y="1909800"/>
            <a:ext cx="4046760" cy="28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Мероприятия  в ДОУ направленные на развитие двигательных кач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2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5D9-49D5-4CC3-9244-ABBCE79DBEA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74760" y="816120"/>
            <a:ext cx="842472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188800"/>
            <a:ext cx="3962520" cy="17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селые старты туристя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Зимние развл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портивные эстаф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ы вме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одвиж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2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753E-A4AD-4AC2-8447-7F0B412DA26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Users\Настя\Desktop\фото детсад\PICT1128.JPG"/>
          <p:cNvPicPr/>
          <p:nvPr/>
        </p:nvPicPr>
        <p:blipFill>
          <a:blip r:embed="rId1"/>
          <a:stretch/>
        </p:blipFill>
        <p:spPr>
          <a:xfrm>
            <a:off x="5222880" y="3876840"/>
            <a:ext cx="3672000" cy="26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Настя\Desktop\фото детсад\PICT1128.JPG"/>
          <p:cNvPicPr/>
          <p:nvPr/>
        </p:nvPicPr>
        <p:blipFill>
          <a:blip r:embed="rId2"/>
          <a:stretch/>
        </p:blipFill>
        <p:spPr>
          <a:xfrm>
            <a:off x="318960" y="471600"/>
            <a:ext cx="4267440" cy="3103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Users\Настя\Desktop\А-дата\A-DATA_UFD\SDC14141.JPG"/>
          <p:cNvPicPr/>
          <p:nvPr/>
        </p:nvPicPr>
        <p:blipFill>
          <a:blip r:embed="rId3"/>
          <a:stretch/>
        </p:blipFill>
        <p:spPr>
          <a:xfrm>
            <a:off x="4557600" y="3532320"/>
            <a:ext cx="4351320" cy="309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Users\Настя\Desktop\А-дата\A-DATA_UFD\SDC14106.JPG"/>
          <p:cNvPicPr/>
          <p:nvPr/>
        </p:nvPicPr>
        <p:blipFill>
          <a:blip r:embed="rId4"/>
          <a:stretch/>
        </p:blipFill>
        <p:spPr>
          <a:xfrm>
            <a:off x="4557600" y="457200"/>
            <a:ext cx="4322880" cy="308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Users\Настя\Desktop\фото детсад\PICT1150.JPG"/>
          <p:cNvPicPr/>
          <p:nvPr/>
        </p:nvPicPr>
        <p:blipFill>
          <a:blip r:embed="rId5"/>
          <a:stretch/>
        </p:blipFill>
        <p:spPr>
          <a:xfrm>
            <a:off x="-53478000" y="2304576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Настя\Desktop\фото детсад\PICT1255.JPG"/>
          <p:cNvPicPr/>
          <p:nvPr/>
        </p:nvPicPr>
        <p:blipFill>
          <a:blip r:embed="rId6"/>
          <a:stretch/>
        </p:blipFill>
        <p:spPr>
          <a:xfrm>
            <a:off x="285840" y="3543480"/>
            <a:ext cx="4286160" cy="30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клю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уризм – это одно из наиболее эффективных средств воздействия на все стороны развития личности ребенка, позволяющее ребенку самореализоваться в окружающей действительности как личности, развить свои коммуникативные способности во взаимодействии с детьми, воспитателями, родителями, наиболее легко адаптироваться в современных изменяющихся условиях, закалить свою волю и характер. Только совместная деятельность в походных условиях  оказывает наибольшее  воспитательное воздействие  на развитие самостоятельности и ответственности  ребенка за сво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6872400" y="131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E837-FA51-408E-BAF0-40AF7C3C35C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7:52:49Z</dcterms:created>
  <dc:creator>kp</dc:creator>
  <dc:description/>
  <dc:language>en-US</dc:language>
  <cp:lastModifiedBy>Настя</cp:lastModifiedBy>
  <dcterms:modified xsi:type="dcterms:W3CDTF">2015-04-06T14:45:10Z</dcterms:modified>
  <cp:revision>1663</cp:revision>
  <dc:subject/>
  <dc:title>Слайд 1</dc:title>
</cp:coreProperties>
</file>