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9D75-78C6-44D2-8B35-AE469D92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7E47-E11B-452F-B694-84C5F9D3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FC36-15A2-4139-A66C-0EBE4015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F7B2-F4F1-4C19-8065-62B76565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294D-CF85-4EE6-BEFF-53B74C6F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44A2-AD50-494A-B2B8-6CF7A1E5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D76E-56A3-41F9-A340-74591A64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A8FF-4C69-457B-8D86-C75EA59C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B142-DA5D-4271-9E76-BFB889F3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A9BF-5356-425B-8970-C4434172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7133-4C85-42E6-BAD4-32C9D90D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1128-E08E-46A4-A519-AC3EC18F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4332-C23C-446C-B1C7-C8978C615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kalug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7">
            <a:hlinkClick r:id="rId2" action="ppaction://hlinksldjump"/>
          </p:cNvPr>
          <p:cNvSpPr/>
          <p:nvPr/>
        </p:nvSpPr>
        <p:spPr>
          <a:xfrm>
            <a:off x="4859280" y="3573360"/>
            <a:ext cx="1008000" cy="360360"/>
          </a:xfrm>
          <a:prstGeom prst="wedgeEllipseCallout">
            <a:avLst>
              <a:gd name="adj1" fmla="val -65277"/>
              <a:gd name="adj2" fmla="val 164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Коммунально-строительный техникум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9">
            <a:hlinkClick r:id="rId3" action="ppaction://hlinksldjump"/>
          </p:cNvPr>
          <p:cNvSpPr/>
          <p:nvPr/>
        </p:nvSpPr>
        <p:spPr>
          <a:xfrm>
            <a:off x="5076720" y="1484280"/>
            <a:ext cx="1295640" cy="504720"/>
          </a:xfrm>
          <a:prstGeom prst="wedgeEllipseCallout">
            <a:avLst>
              <a:gd name="adj1" fmla="val -53064"/>
              <a:gd name="adj2" fmla="val 701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Механико-технологический колледж молочной промышленности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2">
            <a:hlinkClick r:id="rId4" action="ppaction://hlinksldjump"/>
          </p:cNvPr>
          <p:cNvSpPr/>
          <p:nvPr/>
        </p:nvSpPr>
        <p:spPr>
          <a:xfrm>
            <a:off x="3203640" y="4221000"/>
            <a:ext cx="1008000" cy="505080"/>
          </a:xfrm>
          <a:prstGeom prst="wedgeEllipseCallout">
            <a:avLst>
              <a:gd name="adj1" fmla="val -57245"/>
              <a:gd name="adj2" fmla="val 676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3276720" y="4221000"/>
            <a:ext cx="863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66cc"/>
                </a:solidFill>
                <a:uFillTx/>
                <a:latin typeface="Arial"/>
                <a:hlinkClick r:id="rId5" action="ppaction://hlinksldjump"/>
              </a:rPr>
              <a:t>Транспортно-технологический техникум им. А. Т. Карпова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3">
            <a:hlinkClick r:id="rId6" action="ppaction://hlinksldjump"/>
          </p:cNvPr>
          <p:cNvSpPr/>
          <p:nvPr/>
        </p:nvSpPr>
        <p:spPr>
          <a:xfrm>
            <a:off x="5148360" y="4653000"/>
            <a:ext cx="1008000" cy="431640"/>
          </a:xfrm>
          <a:prstGeom prst="wedgeEllipseCallout">
            <a:avLst>
              <a:gd name="adj1" fmla="val -57717"/>
              <a:gd name="adj2" fmla="val 709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Индустриально-технологический колледж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5">
            <a:hlinkClick r:id="rId7" action="ppaction://hlinksldjump"/>
          </p:cNvPr>
          <p:cNvSpPr/>
          <p:nvPr/>
        </p:nvSpPr>
        <p:spPr>
          <a:xfrm>
            <a:off x="3059280" y="1844640"/>
            <a:ext cx="1225440" cy="504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Профессиональный лицей № 6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троительный техникум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7">
            <a:hlinkClick r:id="rId2" action="ppaction://hlinksldjump"/>
          </p:cNvPr>
          <p:cNvSpPr/>
          <p:nvPr/>
        </p:nvSpPr>
        <p:spPr>
          <a:xfrm>
            <a:off x="7224840" y="5775480"/>
            <a:ext cx="1919160" cy="1082520"/>
          </a:xfrm>
          <a:custGeom>
            <a:avLst/>
            <a:gdLst>
              <a:gd name="textAreaLeft" fmla="*/ 69840 w 1919160"/>
              <a:gd name="textAreaRight" fmla="*/ 1849320 w 1919160"/>
              <a:gd name="textAreaTop" fmla="*/ 69840 h 1082520"/>
              <a:gd name="textAreaBottom" fmla="*/ 1012680 h 1082520"/>
            </a:gdLst>
            <a:ahLst/>
            <a:rect l="textAreaLeft" t="textAreaTop" r="textAreaRight" b="textAreaBottom"/>
            <a:pathLst>
              <a:path w="38288" h="21600">
                <a:moveTo>
                  <a:pt x="0" y="0"/>
                </a:moveTo>
                <a:lnTo>
                  <a:pt x="38288" y="0"/>
                </a:lnTo>
                <a:lnTo>
                  <a:pt x="38288" y="21600"/>
                </a:lnTo>
                <a:lnTo>
                  <a:pt x="0" y="21600"/>
                </a:lnTo>
                <a:close/>
              </a:path>
              <a:path fill="lightenLess" w="38288" h="21600">
                <a:moveTo>
                  <a:pt x="0" y="0"/>
                </a:moveTo>
                <a:lnTo>
                  <a:pt x="38288" y="0"/>
                </a:lnTo>
                <a:lnTo>
                  <a:pt x="36888" y="1400"/>
                </a:lnTo>
                <a:lnTo>
                  <a:pt x="1400" y="1400"/>
                </a:lnTo>
                <a:close/>
              </a:path>
              <a:path fill="darken" w="38288" h="21600">
                <a:moveTo>
                  <a:pt x="38288" y="0"/>
                </a:moveTo>
                <a:lnTo>
                  <a:pt x="38288" y="21600"/>
                </a:lnTo>
                <a:lnTo>
                  <a:pt x="36888" y="20200"/>
                </a:lnTo>
                <a:lnTo>
                  <a:pt x="36888" y="1400"/>
                </a:lnTo>
                <a:close/>
              </a:path>
              <a:path fill="darkenLess" w="38288" h="21600">
                <a:moveTo>
                  <a:pt x="38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88" y="20200"/>
                </a:lnTo>
                <a:close/>
              </a:path>
              <a:path fill="lighten" w="38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288" h="21600">
                <a:moveTo>
                  <a:pt x="12138" y="10800"/>
                </a:moveTo>
                <a:lnTo>
                  <a:pt x="26151" y="3794"/>
                </a:lnTo>
                <a:lnTo>
                  <a:pt x="2615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3514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Молочный техникум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7">
            <a:hlinkClick r:id="" action="ppaction://hlinkshowjump?jump=firstslide"/>
          </p:cNvPr>
          <p:cNvSpPr/>
          <p:nvPr/>
        </p:nvSpPr>
        <p:spPr>
          <a:xfrm>
            <a:off x="7128000" y="5877000"/>
            <a:ext cx="2016000" cy="981000"/>
          </a:xfrm>
          <a:custGeom>
            <a:avLst/>
            <a:gdLst>
              <a:gd name="textAreaLeft" fmla="*/ 63360 w 2016000"/>
              <a:gd name="textAreaRight" fmla="*/ 1952640 w 201600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44381" h="21600">
                <a:moveTo>
                  <a:pt x="0" y="0"/>
                </a:moveTo>
                <a:lnTo>
                  <a:pt x="44381" y="0"/>
                </a:lnTo>
                <a:lnTo>
                  <a:pt x="44381" y="21600"/>
                </a:lnTo>
                <a:lnTo>
                  <a:pt x="0" y="21600"/>
                </a:lnTo>
                <a:close/>
              </a:path>
              <a:path fill="lightenLess" w="44381" h="21600">
                <a:moveTo>
                  <a:pt x="0" y="0"/>
                </a:moveTo>
                <a:lnTo>
                  <a:pt x="44381" y="0"/>
                </a:lnTo>
                <a:lnTo>
                  <a:pt x="42981" y="1400"/>
                </a:lnTo>
                <a:lnTo>
                  <a:pt x="1400" y="1400"/>
                </a:lnTo>
                <a:close/>
              </a:path>
              <a:path fill="darken" w="44381" h="21600">
                <a:moveTo>
                  <a:pt x="44381" y="0"/>
                </a:moveTo>
                <a:lnTo>
                  <a:pt x="44381" y="21600"/>
                </a:lnTo>
                <a:lnTo>
                  <a:pt x="42981" y="20200"/>
                </a:lnTo>
                <a:lnTo>
                  <a:pt x="42981" y="1400"/>
                </a:lnTo>
                <a:close/>
              </a:path>
              <a:path fill="darkenLess" w="44381" h="21600">
                <a:moveTo>
                  <a:pt x="44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81" y="20200"/>
                </a:lnTo>
                <a:close/>
              </a:path>
              <a:path fill="lighten" w="44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381" h="21600">
                <a:moveTo>
                  <a:pt x="15184" y="10800"/>
                </a:moveTo>
                <a:lnTo>
                  <a:pt x="29197" y="3794"/>
                </a:lnTo>
                <a:lnTo>
                  <a:pt x="29197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81642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ПТУ№1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0"/>
          <p:cNvSpPr/>
          <p:nvPr/>
        </p:nvSpPr>
        <p:spPr>
          <a:xfrm>
            <a:off x="7272360" y="5684760"/>
            <a:ext cx="1871640" cy="1173240"/>
          </a:xfrm>
          <a:custGeom>
            <a:avLst/>
            <a:gdLst>
              <a:gd name="textAreaLeft" fmla="*/ 75960 w 1871640"/>
              <a:gd name="textAreaRight" fmla="*/ 1795680 w 1871640"/>
              <a:gd name="textAreaTop" fmla="*/ 75960 h 1173240"/>
              <a:gd name="textAreaBottom" fmla="*/ 1097280 h 1173240"/>
            </a:gdLst>
            <a:ahLst/>
            <a:rect l="textAreaLeft" t="textAreaTop" r="textAreaRight" b="textAreaBottom"/>
            <a:pathLst>
              <a:path w="34454" h="21600">
                <a:moveTo>
                  <a:pt x="0" y="0"/>
                </a:moveTo>
                <a:lnTo>
                  <a:pt x="34454" y="0"/>
                </a:lnTo>
                <a:lnTo>
                  <a:pt x="34454" y="21600"/>
                </a:lnTo>
                <a:lnTo>
                  <a:pt x="0" y="21600"/>
                </a:lnTo>
                <a:close/>
              </a:path>
              <a:path fill="lightenLess" w="34454" h="21600">
                <a:moveTo>
                  <a:pt x="0" y="0"/>
                </a:moveTo>
                <a:lnTo>
                  <a:pt x="34454" y="0"/>
                </a:lnTo>
                <a:lnTo>
                  <a:pt x="33054" y="1400"/>
                </a:lnTo>
                <a:lnTo>
                  <a:pt x="1400" y="1400"/>
                </a:lnTo>
                <a:close/>
              </a:path>
              <a:path fill="darken" w="34454" h="21600">
                <a:moveTo>
                  <a:pt x="34454" y="0"/>
                </a:moveTo>
                <a:lnTo>
                  <a:pt x="34454" y="21600"/>
                </a:lnTo>
                <a:lnTo>
                  <a:pt x="33054" y="20200"/>
                </a:lnTo>
                <a:lnTo>
                  <a:pt x="33054" y="1400"/>
                </a:lnTo>
                <a:close/>
              </a:path>
              <a:path fill="darkenLess" w="34454" h="21600">
                <a:moveTo>
                  <a:pt x="34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54" y="20200"/>
                </a:lnTo>
                <a:close/>
              </a:path>
              <a:path fill="lighten" w="34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54" h="21600">
                <a:moveTo>
                  <a:pt x="10221" y="10800"/>
                </a:moveTo>
                <a:lnTo>
                  <a:pt x="24233" y="3794"/>
                </a:lnTo>
                <a:lnTo>
                  <a:pt x="2423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58475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ПТУ №16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7"/>
          <p:cNvSpPr/>
          <p:nvPr/>
        </p:nvSpPr>
        <p:spPr>
          <a:xfrm>
            <a:off x="7486560" y="5877000"/>
            <a:ext cx="1657440" cy="981000"/>
          </a:xfrm>
          <a:custGeom>
            <a:avLst/>
            <a:gdLst>
              <a:gd name="textAreaLeft" fmla="*/ 63360 w 1657440"/>
              <a:gd name="textAreaRight" fmla="*/ 1594080 w 165744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36489" h="21600">
                <a:moveTo>
                  <a:pt x="0" y="0"/>
                </a:moveTo>
                <a:lnTo>
                  <a:pt x="36489" y="0"/>
                </a:lnTo>
                <a:lnTo>
                  <a:pt x="36489" y="21600"/>
                </a:lnTo>
                <a:lnTo>
                  <a:pt x="0" y="21600"/>
                </a:lnTo>
                <a:close/>
              </a:path>
              <a:path fill="lightenLess" w="36489" h="21600">
                <a:moveTo>
                  <a:pt x="0" y="0"/>
                </a:moveTo>
                <a:lnTo>
                  <a:pt x="36489" y="0"/>
                </a:lnTo>
                <a:lnTo>
                  <a:pt x="35089" y="1400"/>
                </a:lnTo>
                <a:lnTo>
                  <a:pt x="1400" y="1400"/>
                </a:lnTo>
                <a:close/>
              </a:path>
              <a:path fill="darken" w="36489" h="21600">
                <a:moveTo>
                  <a:pt x="36489" y="0"/>
                </a:moveTo>
                <a:lnTo>
                  <a:pt x="36489" y="21600"/>
                </a:lnTo>
                <a:lnTo>
                  <a:pt x="35089" y="20200"/>
                </a:lnTo>
                <a:lnTo>
                  <a:pt x="35089" y="1400"/>
                </a:lnTo>
                <a:close/>
              </a:path>
              <a:path fill="darkenLess" w="36489" h="21600">
                <a:moveTo>
                  <a:pt x="36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89" y="20200"/>
                </a:lnTo>
                <a:close/>
              </a:path>
              <a:path fill="lighten" w="36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489" h="21600">
                <a:moveTo>
                  <a:pt x="11238" y="10800"/>
                </a:moveTo>
                <a:lnTo>
                  <a:pt x="25251" y="3794"/>
                </a:lnTo>
                <a:lnTo>
                  <a:pt x="2525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30897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ТУ№6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8244000" y="6524640"/>
            <a:ext cx="900000" cy="333360"/>
          </a:xfrm>
          <a:custGeom>
            <a:avLst/>
            <a:gdLst>
              <a:gd name="textAreaLeft" fmla="*/ 21600 w 900000"/>
              <a:gd name="textAreaRight" fmla="*/ 878400 w 900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58276" h="21600">
                <a:moveTo>
                  <a:pt x="0" y="0"/>
                </a:moveTo>
                <a:lnTo>
                  <a:pt x="58276" y="0"/>
                </a:lnTo>
                <a:lnTo>
                  <a:pt x="58276" y="21600"/>
                </a:lnTo>
                <a:lnTo>
                  <a:pt x="0" y="21600"/>
                </a:lnTo>
                <a:close/>
              </a:path>
              <a:path fill="lightenLess" w="58276" h="21600">
                <a:moveTo>
                  <a:pt x="0" y="0"/>
                </a:moveTo>
                <a:lnTo>
                  <a:pt x="58276" y="0"/>
                </a:lnTo>
                <a:lnTo>
                  <a:pt x="56876" y="1400"/>
                </a:lnTo>
                <a:lnTo>
                  <a:pt x="1400" y="1400"/>
                </a:lnTo>
                <a:close/>
              </a:path>
              <a:path fill="darken" w="58276" h="21600">
                <a:moveTo>
                  <a:pt x="58276" y="0"/>
                </a:moveTo>
                <a:lnTo>
                  <a:pt x="58276" y="21600"/>
                </a:lnTo>
                <a:lnTo>
                  <a:pt x="56876" y="20200"/>
                </a:lnTo>
                <a:lnTo>
                  <a:pt x="56876" y="1400"/>
                </a:lnTo>
                <a:close/>
              </a:path>
              <a:path fill="darkenLess" w="58276" h="21600">
                <a:moveTo>
                  <a:pt x="582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876" y="20200"/>
                </a:lnTo>
                <a:close/>
              </a:path>
              <a:path fill="lighten" w="582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276" h="21600">
                <a:moveTo>
                  <a:pt x="22131" y="10800"/>
                </a:moveTo>
                <a:lnTo>
                  <a:pt x="36144" y="3794"/>
                </a:lnTo>
                <a:lnTo>
                  <a:pt x="3614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06915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20:39:13Z</dcterms:created>
  <dc:creator>Мой Компьютер</dc:creator>
  <dc:description/>
  <dc:language>en-US</dc:language>
  <cp:lastModifiedBy>Татьяна Ильинична</cp:lastModifiedBy>
  <dcterms:modified xsi:type="dcterms:W3CDTF">2012-11-06T05:47:47Z</dcterms:modified>
  <cp:revision>22</cp:revision>
  <dc:subject/>
  <dc:title>Виртуальное путешествие по учреждениям начального и среднего профессионального образования </dc:title>
</cp:coreProperties>
</file>