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76C-4804-43AE-B563-CEB8702A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7A8-247F-404A-AFEB-DBFB3534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D56-494D-4B50-8C61-A5A48A77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C0D-C28E-40F6-9DFD-732C5A61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0FF-F68D-4FAA-9526-D2376098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E4E-F76A-4671-B404-D4466F09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806-6A3A-4A57-B3EF-5F9467BB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86A-0ADC-4A25-80F6-60612B91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140-F6FB-4CC8-800C-3CC65695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F33-1A76-42CF-9130-A3CCA31E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09B-78B0-4749-8364-DDE37F80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6E5-3897-449F-A4FB-5A6F5092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46A0-25BB-4242-A5A2-0F11D0DEF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kalu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7">
            <a:hlinkClick r:id="rId2" action="ppaction://hlinksldjump"/>
          </p:cNvPr>
          <p:cNvSpPr/>
          <p:nvPr/>
        </p:nvSpPr>
        <p:spPr>
          <a:xfrm>
            <a:off x="4859280" y="3573360"/>
            <a:ext cx="1008000" cy="360360"/>
          </a:xfrm>
          <a:prstGeom prst="wedgeEllipseCallout">
            <a:avLst>
              <a:gd name="adj1" fmla="val -65277"/>
              <a:gd name="adj2" fmla="val 164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Коммунально-строительный техникум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9">
            <a:hlinkClick r:id="rId3" action="ppaction://hlinksldjump"/>
          </p:cNvPr>
          <p:cNvSpPr/>
          <p:nvPr/>
        </p:nvSpPr>
        <p:spPr>
          <a:xfrm>
            <a:off x="5076720" y="1484280"/>
            <a:ext cx="1295640" cy="504720"/>
          </a:xfrm>
          <a:prstGeom prst="wedgeEllipseCallout">
            <a:avLst>
              <a:gd name="adj1" fmla="val -53064"/>
              <a:gd name="adj2" fmla="val 70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Механико-технологический колледж молочной промышленности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>
            <a:hlinkClick r:id="rId4" action="ppaction://hlinksldjump"/>
          </p:cNvPr>
          <p:cNvSpPr/>
          <p:nvPr/>
        </p:nvSpPr>
        <p:spPr>
          <a:xfrm>
            <a:off x="3203640" y="4221000"/>
            <a:ext cx="1008000" cy="505080"/>
          </a:xfrm>
          <a:prstGeom prst="wedgeEllipseCallout">
            <a:avLst>
              <a:gd name="adj1" fmla="val -57245"/>
              <a:gd name="adj2" fmla="val 67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276720" y="4221000"/>
            <a:ext cx="863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Транспортно-технологический техникум им. А. Т. Карпова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3">
            <a:hlinkClick r:id="rId6" action="ppaction://hlinksldjump"/>
          </p:cNvPr>
          <p:cNvSpPr/>
          <p:nvPr/>
        </p:nvSpPr>
        <p:spPr>
          <a:xfrm>
            <a:off x="5148360" y="4653000"/>
            <a:ext cx="1008000" cy="431640"/>
          </a:xfrm>
          <a:prstGeom prst="wedgeEllipseCallout">
            <a:avLst>
              <a:gd name="adj1" fmla="val -57717"/>
              <a:gd name="adj2" fmla="val 709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Индустриально-технологический колледж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5">
            <a:hlinkClick r:id="rId7" action="ppaction://hlinksldjump"/>
          </p:cNvPr>
          <p:cNvSpPr/>
          <p:nvPr/>
        </p:nvSpPr>
        <p:spPr>
          <a:xfrm>
            <a:off x="3059280" y="1844640"/>
            <a:ext cx="1225440" cy="504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фессиональный лицей № 6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троительный техникум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">
            <a:hlinkClick r:id="rId2" action="ppaction://hlinksldjump"/>
          </p:cNvPr>
          <p:cNvSpPr/>
          <p:nvPr/>
        </p:nvSpPr>
        <p:spPr>
          <a:xfrm>
            <a:off x="7224840" y="5775480"/>
            <a:ext cx="1919160" cy="1082520"/>
          </a:xfrm>
          <a:custGeom>
            <a:avLst/>
            <a:gdLst>
              <a:gd name="textAreaLeft" fmla="*/ 69840 w 1919160"/>
              <a:gd name="textAreaRight" fmla="*/ 1849320 w 1919160"/>
              <a:gd name="textAreaTop" fmla="*/ 69840 h 1082520"/>
              <a:gd name="textAreaBottom" fmla="*/ 1012680 h 1082520"/>
            </a:gdLst>
            <a:ahLst/>
            <a:rect l="textAreaLeft" t="textAreaTop" r="textAreaRight" b="textAreaBottom"/>
            <a:pathLst>
              <a:path w="38288" h="21600">
                <a:moveTo>
                  <a:pt x="0" y="0"/>
                </a:moveTo>
                <a:lnTo>
                  <a:pt x="38288" y="0"/>
                </a:lnTo>
                <a:lnTo>
                  <a:pt x="38288" y="21600"/>
                </a:lnTo>
                <a:lnTo>
                  <a:pt x="0" y="21600"/>
                </a:lnTo>
                <a:close/>
              </a:path>
              <a:path fill="lightenLess" w="38288" h="21600">
                <a:moveTo>
                  <a:pt x="0" y="0"/>
                </a:moveTo>
                <a:lnTo>
                  <a:pt x="38288" y="0"/>
                </a:lnTo>
                <a:lnTo>
                  <a:pt x="36888" y="1400"/>
                </a:lnTo>
                <a:lnTo>
                  <a:pt x="1400" y="1400"/>
                </a:lnTo>
                <a:close/>
              </a:path>
              <a:path fill="darken" w="38288" h="21600">
                <a:moveTo>
                  <a:pt x="38288" y="0"/>
                </a:moveTo>
                <a:lnTo>
                  <a:pt x="38288" y="21600"/>
                </a:lnTo>
                <a:lnTo>
                  <a:pt x="36888" y="20200"/>
                </a:lnTo>
                <a:lnTo>
                  <a:pt x="36888" y="1400"/>
                </a:lnTo>
                <a:close/>
              </a:path>
              <a:path fill="darkenLess" w="38288" h="21600">
                <a:moveTo>
                  <a:pt x="38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88" y="20200"/>
                </a:lnTo>
                <a:close/>
              </a:path>
              <a:path fill="lighten" w="38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288" h="21600">
                <a:moveTo>
                  <a:pt x="12138" y="10800"/>
                </a:moveTo>
                <a:lnTo>
                  <a:pt x="26151" y="3794"/>
                </a:lnTo>
                <a:lnTo>
                  <a:pt x="2615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351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Молочный техникум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>
            <a:hlinkClick r:id="" action="ppaction://hlinkshowjump?jump=firstslide"/>
          </p:cNvPr>
          <p:cNvSpPr/>
          <p:nvPr/>
        </p:nvSpPr>
        <p:spPr>
          <a:xfrm>
            <a:off x="7128000" y="5877000"/>
            <a:ext cx="2016000" cy="981000"/>
          </a:xfrm>
          <a:custGeom>
            <a:avLst/>
            <a:gdLst>
              <a:gd name="textAreaLeft" fmla="*/ 63360 w 2016000"/>
              <a:gd name="textAreaRight" fmla="*/ 1952640 w 201600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44381" h="21600">
                <a:moveTo>
                  <a:pt x="0" y="0"/>
                </a:moveTo>
                <a:lnTo>
                  <a:pt x="44381" y="0"/>
                </a:lnTo>
                <a:lnTo>
                  <a:pt x="44381" y="21600"/>
                </a:lnTo>
                <a:lnTo>
                  <a:pt x="0" y="21600"/>
                </a:lnTo>
                <a:close/>
              </a:path>
              <a:path fill="lightenLess" w="44381" h="21600">
                <a:moveTo>
                  <a:pt x="0" y="0"/>
                </a:moveTo>
                <a:lnTo>
                  <a:pt x="44381" y="0"/>
                </a:lnTo>
                <a:lnTo>
                  <a:pt x="42981" y="1400"/>
                </a:lnTo>
                <a:lnTo>
                  <a:pt x="1400" y="1400"/>
                </a:lnTo>
                <a:close/>
              </a:path>
              <a:path fill="darken" w="44381" h="21600">
                <a:moveTo>
                  <a:pt x="44381" y="0"/>
                </a:moveTo>
                <a:lnTo>
                  <a:pt x="44381" y="21600"/>
                </a:lnTo>
                <a:lnTo>
                  <a:pt x="42981" y="20200"/>
                </a:lnTo>
                <a:lnTo>
                  <a:pt x="42981" y="1400"/>
                </a:lnTo>
                <a:close/>
              </a:path>
              <a:path fill="darkenLess" w="44381" h="21600">
                <a:moveTo>
                  <a:pt x="44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81" y="20200"/>
                </a:lnTo>
                <a:close/>
              </a:path>
              <a:path fill="lighten" w="44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81" h="21600">
                <a:moveTo>
                  <a:pt x="15184" y="10800"/>
                </a:moveTo>
                <a:lnTo>
                  <a:pt x="29197" y="3794"/>
                </a:lnTo>
                <a:lnTo>
                  <a:pt x="2919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8164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ТУ№1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0"/>
          <p:cNvSpPr/>
          <p:nvPr/>
        </p:nvSpPr>
        <p:spPr>
          <a:xfrm>
            <a:off x="7272360" y="5684760"/>
            <a:ext cx="1871640" cy="1173240"/>
          </a:xfrm>
          <a:custGeom>
            <a:avLst/>
            <a:gdLst>
              <a:gd name="textAreaLeft" fmla="*/ 75960 w 1871640"/>
              <a:gd name="textAreaRight" fmla="*/ 1795680 w 1871640"/>
              <a:gd name="textAreaTop" fmla="*/ 75960 h 1173240"/>
              <a:gd name="textAreaBottom" fmla="*/ 1097280 h 1173240"/>
            </a:gdLst>
            <a:ahLst/>
            <a:rect l="textAreaLeft" t="textAreaTop" r="textAreaRight" b="textAreaBottom"/>
            <a:pathLst>
              <a:path w="34454" h="21600">
                <a:moveTo>
                  <a:pt x="0" y="0"/>
                </a:moveTo>
                <a:lnTo>
                  <a:pt x="34454" y="0"/>
                </a:lnTo>
                <a:lnTo>
                  <a:pt x="34454" y="21600"/>
                </a:lnTo>
                <a:lnTo>
                  <a:pt x="0" y="21600"/>
                </a:lnTo>
                <a:close/>
              </a:path>
              <a:path fill="lightenLess" w="34454" h="21600">
                <a:moveTo>
                  <a:pt x="0" y="0"/>
                </a:moveTo>
                <a:lnTo>
                  <a:pt x="34454" y="0"/>
                </a:lnTo>
                <a:lnTo>
                  <a:pt x="33054" y="1400"/>
                </a:lnTo>
                <a:lnTo>
                  <a:pt x="1400" y="1400"/>
                </a:lnTo>
                <a:close/>
              </a:path>
              <a:path fill="darken" w="34454" h="21600">
                <a:moveTo>
                  <a:pt x="34454" y="0"/>
                </a:moveTo>
                <a:lnTo>
                  <a:pt x="34454" y="21600"/>
                </a:lnTo>
                <a:lnTo>
                  <a:pt x="33054" y="20200"/>
                </a:lnTo>
                <a:lnTo>
                  <a:pt x="33054" y="1400"/>
                </a:lnTo>
                <a:close/>
              </a:path>
              <a:path fill="darkenLess" w="34454" h="21600">
                <a:moveTo>
                  <a:pt x="34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54" y="20200"/>
                </a:lnTo>
                <a:close/>
              </a:path>
              <a:path fill="lighten" w="34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54" h="21600">
                <a:moveTo>
                  <a:pt x="10221" y="10800"/>
                </a:moveTo>
                <a:lnTo>
                  <a:pt x="24233" y="3794"/>
                </a:lnTo>
                <a:lnTo>
                  <a:pt x="242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8475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ТУ №16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7"/>
          <p:cNvSpPr/>
          <p:nvPr/>
        </p:nvSpPr>
        <p:spPr>
          <a:xfrm>
            <a:off x="7486560" y="5877000"/>
            <a:ext cx="1657440" cy="981000"/>
          </a:xfrm>
          <a:custGeom>
            <a:avLst/>
            <a:gdLst>
              <a:gd name="textAreaLeft" fmla="*/ 63360 w 1657440"/>
              <a:gd name="textAreaRight" fmla="*/ 1594080 w 165744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36489" h="21600">
                <a:moveTo>
                  <a:pt x="0" y="0"/>
                </a:moveTo>
                <a:lnTo>
                  <a:pt x="36489" y="0"/>
                </a:lnTo>
                <a:lnTo>
                  <a:pt x="36489" y="21600"/>
                </a:lnTo>
                <a:lnTo>
                  <a:pt x="0" y="21600"/>
                </a:lnTo>
                <a:close/>
              </a:path>
              <a:path fill="lightenLess" w="36489" h="21600">
                <a:moveTo>
                  <a:pt x="0" y="0"/>
                </a:moveTo>
                <a:lnTo>
                  <a:pt x="36489" y="0"/>
                </a:lnTo>
                <a:lnTo>
                  <a:pt x="35089" y="1400"/>
                </a:lnTo>
                <a:lnTo>
                  <a:pt x="1400" y="1400"/>
                </a:lnTo>
                <a:close/>
              </a:path>
              <a:path fill="darken" w="36489" h="21600">
                <a:moveTo>
                  <a:pt x="36489" y="0"/>
                </a:moveTo>
                <a:lnTo>
                  <a:pt x="36489" y="21600"/>
                </a:lnTo>
                <a:lnTo>
                  <a:pt x="35089" y="20200"/>
                </a:lnTo>
                <a:lnTo>
                  <a:pt x="35089" y="1400"/>
                </a:lnTo>
                <a:close/>
              </a:path>
              <a:path fill="darkenLess" w="36489" h="21600">
                <a:moveTo>
                  <a:pt x="36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89" y="20200"/>
                </a:lnTo>
                <a:close/>
              </a:path>
              <a:path fill="lighten" w="36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489" h="21600">
                <a:moveTo>
                  <a:pt x="11238" y="10800"/>
                </a:moveTo>
                <a:lnTo>
                  <a:pt x="25251" y="3794"/>
                </a:lnTo>
                <a:lnTo>
                  <a:pt x="2525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0897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ТУ№6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8244000" y="6524640"/>
            <a:ext cx="900000" cy="333360"/>
          </a:xfrm>
          <a:custGeom>
            <a:avLst/>
            <a:gdLst>
              <a:gd name="textAreaLeft" fmla="*/ 21600 w 900000"/>
              <a:gd name="textAreaRight" fmla="*/ 878400 w 900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8276" h="21600">
                <a:moveTo>
                  <a:pt x="0" y="0"/>
                </a:moveTo>
                <a:lnTo>
                  <a:pt x="58276" y="0"/>
                </a:lnTo>
                <a:lnTo>
                  <a:pt x="58276" y="21600"/>
                </a:lnTo>
                <a:lnTo>
                  <a:pt x="0" y="21600"/>
                </a:lnTo>
                <a:close/>
              </a:path>
              <a:path fill="lightenLess" w="58276" h="21600">
                <a:moveTo>
                  <a:pt x="0" y="0"/>
                </a:moveTo>
                <a:lnTo>
                  <a:pt x="58276" y="0"/>
                </a:lnTo>
                <a:lnTo>
                  <a:pt x="56876" y="1400"/>
                </a:lnTo>
                <a:lnTo>
                  <a:pt x="1400" y="1400"/>
                </a:lnTo>
                <a:close/>
              </a:path>
              <a:path fill="darken" w="58276" h="21600">
                <a:moveTo>
                  <a:pt x="58276" y="0"/>
                </a:moveTo>
                <a:lnTo>
                  <a:pt x="58276" y="21600"/>
                </a:lnTo>
                <a:lnTo>
                  <a:pt x="56876" y="20200"/>
                </a:lnTo>
                <a:lnTo>
                  <a:pt x="56876" y="1400"/>
                </a:lnTo>
                <a:close/>
              </a:path>
              <a:path fill="darkenLess" w="58276" h="21600">
                <a:moveTo>
                  <a:pt x="58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76" y="20200"/>
                </a:lnTo>
                <a:close/>
              </a:path>
              <a:path fill="lighten" w="58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276" h="21600">
                <a:moveTo>
                  <a:pt x="22131" y="10800"/>
                </a:moveTo>
                <a:lnTo>
                  <a:pt x="36144" y="3794"/>
                </a:lnTo>
                <a:lnTo>
                  <a:pt x="3614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06915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20:39:13Z</dcterms:created>
  <dc:creator>Мой Компьютер</dc:creator>
  <dc:description/>
  <dc:language>en-US</dc:language>
  <cp:lastModifiedBy>Татьяна Ильинична</cp:lastModifiedBy>
  <dcterms:modified xsi:type="dcterms:W3CDTF">2012-11-06T05:47:47Z</dcterms:modified>
  <cp:revision>22</cp:revision>
  <dc:subject/>
  <dc:title>Виртуальное путешествие по учреждениям начального и среднего профессионального образования </dc:title>
</cp:coreProperties>
</file>