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27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2.jpeg" ContentType="image/jpeg"/>
  <Override PartName="/ppt/media/image6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2.png" ContentType="image/png"/>
  <Override PartName="/ppt/media/image23.jpeg" ContentType="image/jpe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54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97A-FE71-44BB-AB96-A179AF29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56F-8E0F-4913-B412-13D96A16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668-6CCA-40BF-AEA3-04F07E0B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268-69CE-4D57-AEB4-2B32C43F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C17-A98A-4BC6-B1B3-75E069D5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15C-FF5C-4F6C-9A1D-2589DAC3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2DF-06C5-4A86-9BB2-6D6CE6E9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42D-85D4-40FA-83DA-548B2ED1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6A7-C951-439D-B53A-48E4FEA5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267-6719-4156-8D46-2ADA8A26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CFF-16C4-4D2D-93AF-D71A492A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015-1249-457B-8516-4DAD2581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2C8E-E259-46BF-A39B-5F3F28D31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n.yandex.ru/count/SBXCSsUhJsi40000ZhFdC1K5XPmZ4vK2cm5kGxS2Am68eJYwG8cWW1b9dQOYo0gwy9YcP_kkcEy7agCYufAc0ugaeE0wgW6bes290P6qfwes18-oqjBh0v-wi1aC1vC6GeoGN4IWa3v9hv1SH9IOHmYdYCsee75L1wIm0000dgxshzkAH9Vfs0In0R84UH00?test-tag=468582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n.yandex.ru/count/UnXD-m4adWW40000ZhvqC1K5XPmZ4vK2cm5kGxS2Am68eJYwG8cWW1b9dQOYo0gw_QkyJEoXorq8agCYufAc0ugaeE0wgW6bes290P6pTAKM2u-oqjBh0v-wi1aC1vC6GeoGN4IWa3v9hv1SH9IOHmYdYCsee75L1wIm0000dgxoDCQQEohfs0In0R84UH00?test-tag=462028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.yandex.ru/count/F0qK4Xjw40q40000ZhwDC1K5XPmZ4vK2cm5kGxS2Am68k16Fm069dZCFdQH1lGsw_3RTAh71eVGDagJiKBoc6ugie51agW6bhE3x0P6ukrMG38--wv9d1v-t2ZHF2vC6GeoGDr-WaAXXhv0tNvIHaGsdd582gA3Ok0Mai00009wk-WoYunX2wTW4iG6o17eG?test-tag=4685825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итель технологии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БОУ «СОШ № 7» г. Калуги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ерасимов В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85840" y="14292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Проектирование и монтаж трубопроводов систем холодного водоснаб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Documents and Settings\Admin\Рабочий стол\i.jpg"/>
          <p:cNvPicPr/>
          <p:nvPr/>
        </p:nvPicPr>
        <p:blipFill>
          <a:blip r:embed="rId1"/>
          <a:stretch/>
        </p:blipFill>
        <p:spPr>
          <a:xfrm>
            <a:off x="3500280" y="1500120"/>
            <a:ext cx="2000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допроводные тру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допроводные труб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спользуемые в строительстве сетей и наружных водопроводов должны обладать следующими качествам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ть прочность достаточную для принятия суммарного напряжения от внутреннего давления воды, транспортной нагрузки и давления грун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ть длительный срок эксплуат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енняя поверхность водопроводных труб должна иметь высокую гидравлическую гладк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ми перечисленными требованиями обладают стальные, чугунные, железобетонные, асбестоцементные и пластиковые тру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бы из черного металла (сталь и чугун) имеют плохие теплозащитные свойства, большую массу, склонны к разрушению при замерзании в них жидкости, не имеют стойкости к коррозии. Более эффективны в водопроводных системах стабилизированные полиэтиленовые трубы. Их морозостойкость устойчива до -6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, а теплопроводность всего 0,25 - 0,32Ккалл/ч*м*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дземных коммуникаций трубы укладываются на глубину 0,5 м ниже расчетной глубины промерзания для данного климатического поя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правильно делать разво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:\Documents and Settings\Admin\Мои документы\37.jpg"/>
          <p:cNvPicPr/>
          <p:nvPr/>
        </p:nvPicPr>
        <p:blipFill>
          <a:blip r:embed="rId1"/>
          <a:stretch/>
        </p:blipFill>
        <p:spPr>
          <a:xfrm>
            <a:off x="1862280" y="1500120"/>
            <a:ext cx="54194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азводка водоснаб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Admin\Мои документы\38.jpg"/>
          <p:cNvPicPr/>
          <p:nvPr/>
        </p:nvPicPr>
        <p:blipFill>
          <a:blip r:embed="rId2"/>
          <a:stretch/>
        </p:blipFill>
        <p:spPr>
          <a:xfrm>
            <a:off x="2286000" y="1500120"/>
            <a:ext cx="50720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нтехника ,Водопровод 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Admin\Мои документы\Копия 39.jpg"/>
          <p:cNvPicPr/>
          <p:nvPr/>
        </p:nvPicPr>
        <p:blipFill>
          <a:blip r:embed="rId1"/>
          <a:stretch/>
        </p:blipFill>
        <p:spPr>
          <a:xfrm>
            <a:off x="1785960" y="1428840"/>
            <a:ext cx="5715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нтехнические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Admin\Мои документы\38.JPG"/>
          <p:cNvPicPr/>
          <p:nvPr/>
        </p:nvPicPr>
        <p:blipFill>
          <a:blip r:embed="rId1"/>
          <a:stretch/>
        </p:blipFill>
        <p:spPr>
          <a:xfrm>
            <a:off x="1714680" y="1428840"/>
            <a:ext cx="57150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аровые кра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Admin\Мои документы\Копия 40.gif"/>
          <p:cNvPicPr/>
          <p:nvPr/>
        </p:nvPicPr>
        <p:blipFill>
          <a:blip r:embed="rId1"/>
          <a:stretch/>
        </p:blipFill>
        <p:spPr>
          <a:xfrm>
            <a:off x="428760" y="1785960"/>
            <a:ext cx="2143080" cy="2362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2714760" y="1714680"/>
            <a:ext cx="5929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ироко распространены шаровые краны из латуни и самых разных марок стали: нержавеющей, с содержанием молибдена и обычной углеродистой. Встречаются также изделия из пластика, где детали, контактирующие с рабочей средой, сделаны из стойких к агрессивной среде материалов: полиэтилена или полипропилена. Шаровые краны из пластмассы имеют низкую герметичность и чувствительны к механическим примесям в рабочей среде. Но главное их отличие от изделий из металла в области примен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движки</a:t>
            </a: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Admin\Мои документы\Копия (2) 40.gif"/>
          <p:cNvPicPr/>
          <p:nvPr/>
        </p:nvPicPr>
        <p:blipFill>
          <a:blip r:embed="rId1"/>
          <a:stretch/>
        </p:blipFill>
        <p:spPr>
          <a:xfrm>
            <a:off x="0" y="1500120"/>
            <a:ext cx="247644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2286000" y="1714680"/>
            <a:ext cx="6500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виж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это наиболее распространенная запорная арматура предназначенная для полного перекрытия потока среды. Они устанавливаются на магистральных и технологических трубопроводах. Запирающий элемент в них перемещается перпендикулярно движению рабочей среды, совершая возвратно-поступательное движение. Он имеет два крайних положения: «Открыто» и «Закрыто». Промышленность выпускает широкий ассортимент задвижек различного конструктивного исполнения. Их 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струкцией затвора (запирающего элемен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расположению ходового уз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типу прив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висимости от способа соединения с трубопров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Задви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Мои документы\Копия 39.jpg"/>
          <p:cNvPicPr/>
          <p:nvPr/>
        </p:nvPicPr>
        <p:blipFill>
          <a:blip r:embed="rId1"/>
          <a:stretch/>
        </p:blipFill>
        <p:spPr>
          <a:xfrm>
            <a:off x="1785960" y="1600200"/>
            <a:ext cx="5143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Мои документы\Копия (3) 40.gif"/>
          <p:cNvPicPr/>
          <p:nvPr/>
        </p:nvPicPr>
        <p:blipFill>
          <a:blip r:embed="rId1"/>
          <a:stretch/>
        </p:blipFill>
        <p:spPr>
          <a:xfrm>
            <a:off x="571680" y="1714680"/>
            <a:ext cx="1785600" cy="17856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2286000" y="1500120"/>
            <a:ext cx="6357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бопроводная арматура в которой подвижная часть затвора выполнена в форме тела вращения с отверстием для прохода рабочей среды. Для перекрытия затвор вращается вокруг своей оси перпендикулярно трубопроводу. Кран состоит из двух частей: корпус (неподвижен), пробка (вращае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Calibri"/>
              </a:rPr>
              <a:t>Кр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лапаны запорные (вентили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Admin\Мои документы\Копия (2) 40.png"/>
          <p:cNvPicPr/>
          <p:nvPr/>
        </p:nvPicPr>
        <p:blipFill>
          <a:blip r:embed="rId1"/>
          <a:stretch/>
        </p:blipFill>
        <p:spPr>
          <a:xfrm>
            <a:off x="714240" y="1500120"/>
            <a:ext cx="200052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3286080" y="1143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рытие рабочей среды осуществляется запорным органом, который двигается возвратно-поступательно по центральной оси уплотнительной поверхности в корпусе. Шпиндель является подвижным элементом, он ввинчивается в резьбу расположенную в бугеле или крышки в неподвижной ходовой гай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Холодное водоснабж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одное водоснабж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это мероприятия по снабжению водой заданного качества большего количества потребителей в необходимых количест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братный клап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Мои документы\Копия (4) 40.gif"/>
          <p:cNvPicPr/>
          <p:nvPr/>
        </p:nvPicPr>
        <p:blipFill>
          <a:blip r:embed="rId1"/>
          <a:stretch/>
        </p:blipFill>
        <p:spPr>
          <a:xfrm>
            <a:off x="571680" y="1643040"/>
            <a:ext cx="2000160" cy="29289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2643120" y="1857240"/>
            <a:ext cx="55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видность предохранительных устройств срабатывающее автоматически. Он предназначен для предотвращения движения потока рабочей среды в обратном напр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Арматура внутренних водопровод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 назначению и способу применения разделяют: запорную, водоразборную, предохранительную, регулировочную и специальную арматуру. В системах хозяйственно-питьевого водопровода применяется арматура с рабочим давлением 6 кг/см2, в системах объединяющих питьевое водоснабжение и водопровод пожаротушения рабочее давление 9 кг/см2. В основном применяется водопроводная арматура вентильного типа. Она позволяет плавно регулировать расход воды, что позволяет избегать гидравлических удар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Правила монтажа системы внутреннего водоснабжен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Admin\Мои документы\Копия 40.png"/>
          <p:cNvPicPr/>
          <p:nvPr/>
        </p:nvPicPr>
        <p:blipFill>
          <a:blip r:embed="rId1"/>
          <a:stretch/>
        </p:blipFill>
        <p:spPr>
          <a:xfrm>
            <a:off x="642960" y="1571760"/>
            <a:ext cx="792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Admin\Мои документы\Копия (5) 40.gif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Схема водоснабже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Documents and Settings\Admin\Мои документы\Копия 40.jpg"/>
          <p:cNvPicPr/>
          <p:nvPr/>
        </p:nvPicPr>
        <p:blipFill>
          <a:blip r:embed="rId1"/>
          <a:stretch/>
        </p:blipFill>
        <p:spPr>
          <a:xfrm>
            <a:off x="1143000" y="1500120"/>
            <a:ext cx="6929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СТ 21.205-93 СПД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ловные обозначения элементов санитарно-технических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00040" y="214200"/>
          <a:ext cx="8358120" cy="645660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568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ение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Рако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о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Умыв а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Умывальник групп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мывальник групповой круг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Ва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Ва нна нож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Поддон душе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Бид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Унитаз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2" descr="D:\Documents and Settings\Admin\Рабочий стол\x020.jpg"/>
          <p:cNvPicPr/>
          <p:nvPr/>
        </p:nvPicPr>
        <p:blipFill>
          <a:blip r:embed="rId1"/>
          <a:stretch/>
        </p:blipFill>
        <p:spPr>
          <a:xfrm>
            <a:off x="6357960" y="857160"/>
            <a:ext cx="361800" cy="38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Documents and Settings\Admin\Рабочий стол\x024.jpg"/>
          <p:cNvPicPr/>
          <p:nvPr/>
        </p:nvPicPr>
        <p:blipFill>
          <a:blip r:embed="rId2"/>
          <a:stretch/>
        </p:blipFill>
        <p:spPr>
          <a:xfrm>
            <a:off x="6357960" y="1571760"/>
            <a:ext cx="35244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:\Documents and Settings\Admin\Рабочий стол\x028.jpg"/>
          <p:cNvPicPr/>
          <p:nvPr/>
        </p:nvPicPr>
        <p:blipFill>
          <a:blip r:embed="rId3"/>
          <a:stretch/>
        </p:blipFill>
        <p:spPr>
          <a:xfrm>
            <a:off x="6357960" y="2286000"/>
            <a:ext cx="361800" cy="33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D:\Documents and Settings\Admin\Рабочий стол\x032.jpg"/>
          <p:cNvPicPr/>
          <p:nvPr/>
        </p:nvPicPr>
        <p:blipFill>
          <a:blip r:embed="rId4"/>
          <a:stretch/>
        </p:blipFill>
        <p:spPr>
          <a:xfrm>
            <a:off x="6357960" y="2857680"/>
            <a:ext cx="561960" cy="33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D:\Documents and Settings\Admin\Рабочий стол\x036.jpg"/>
          <p:cNvPicPr/>
          <p:nvPr/>
        </p:nvPicPr>
        <p:blipFill>
          <a:blip r:embed="rId5"/>
          <a:stretch/>
        </p:blipFill>
        <p:spPr>
          <a:xfrm>
            <a:off x="6357960" y="335772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D:\Documents and Settings\Admin\Рабочий стол\x040 (1).jpg"/>
          <p:cNvPicPr/>
          <p:nvPr/>
        </p:nvPicPr>
        <p:blipFill>
          <a:blip r:embed="rId6"/>
          <a:stretch/>
        </p:blipFill>
        <p:spPr>
          <a:xfrm>
            <a:off x="6286680" y="3857760"/>
            <a:ext cx="628560" cy="33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D:\Documents and Settings\Admin\Рабочий стол\x044.jpg"/>
          <p:cNvPicPr/>
          <p:nvPr/>
        </p:nvPicPr>
        <p:blipFill>
          <a:blip r:embed="rId7"/>
          <a:stretch/>
        </p:blipFill>
        <p:spPr>
          <a:xfrm>
            <a:off x="6500880" y="4357800"/>
            <a:ext cx="31428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D:\Documents and Settings\Admin\Рабочий стол\x048.jpg"/>
          <p:cNvPicPr/>
          <p:nvPr/>
        </p:nvPicPr>
        <p:blipFill>
          <a:blip r:embed="rId8"/>
          <a:stretch/>
        </p:blipFill>
        <p:spPr>
          <a:xfrm>
            <a:off x="6429240" y="4857840"/>
            <a:ext cx="31464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D:\Documents and Settings\Admin\Рабочий стол\x052.jpg"/>
          <p:cNvPicPr/>
          <p:nvPr/>
        </p:nvPicPr>
        <p:blipFill>
          <a:blip r:embed="rId9"/>
          <a:stretch/>
        </p:blipFill>
        <p:spPr>
          <a:xfrm>
            <a:off x="6429240" y="5214960"/>
            <a:ext cx="352440" cy="428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D:\Documents and Settings\Admin\Рабочий стол\x056.jpg"/>
          <p:cNvPicPr/>
          <p:nvPr/>
        </p:nvPicPr>
        <p:blipFill>
          <a:blip r:embed="rId10"/>
          <a:stretch/>
        </p:blipFill>
        <p:spPr>
          <a:xfrm>
            <a:off x="6500880" y="5857920"/>
            <a:ext cx="352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15800" y="603360"/>
          <a:ext cx="8250480" cy="5394240"/>
        </p:xfrm>
        <a:graphic>
          <a:graphicData uri="http://schemas.openxmlformats.org/drawingml/2006/table">
            <a:tbl>
              <a:tblPr/>
              <a:tblGrid>
                <a:gridCol w="4584960"/>
                <a:gridCol w="3665520"/>
              </a:tblGrid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 Чаша напо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Писсуар наст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Писсуар напо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Слив больни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Тр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Воронка спуск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Воронка внутреннего водос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Сетка душе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Фонтанчик питье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17" descr="D:\Documents and Settings\Admin\Рабочий стол\x060.jpg"/>
          <p:cNvPicPr/>
          <p:nvPr/>
        </p:nvPicPr>
        <p:blipFill>
          <a:blip r:embed="rId1"/>
          <a:stretch/>
        </p:blipFill>
        <p:spPr>
          <a:xfrm>
            <a:off x="6572160" y="71424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D:\Documents and Settings\Admin\Рабочий стол\x064.jpg"/>
          <p:cNvPicPr/>
          <p:nvPr/>
        </p:nvPicPr>
        <p:blipFill>
          <a:blip r:embed="rId2"/>
          <a:stretch/>
        </p:blipFill>
        <p:spPr>
          <a:xfrm>
            <a:off x="6572160" y="1500120"/>
            <a:ext cx="381240" cy="20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D:\Documents and Settings\Admin\Рабочий стол\x068.jpg"/>
          <p:cNvPicPr/>
          <p:nvPr/>
        </p:nvPicPr>
        <p:blipFill>
          <a:blip r:embed="rId3"/>
          <a:stretch/>
        </p:blipFill>
        <p:spPr>
          <a:xfrm>
            <a:off x="6643800" y="2000160"/>
            <a:ext cx="31428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D:\Documents and Settings\Admin\Рабочий стол\x072.jpg"/>
          <p:cNvPicPr/>
          <p:nvPr/>
        </p:nvPicPr>
        <p:blipFill>
          <a:blip r:embed="rId4"/>
          <a:stretch/>
        </p:blipFill>
        <p:spPr>
          <a:xfrm>
            <a:off x="6643800" y="242892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D:\Documents and Settings\Admin\Рабочий стол\x076.jpg"/>
          <p:cNvPicPr/>
          <p:nvPr/>
        </p:nvPicPr>
        <p:blipFill>
          <a:blip r:embed="rId5"/>
          <a:stretch/>
        </p:blipFill>
        <p:spPr>
          <a:xfrm>
            <a:off x="6643800" y="3000240"/>
            <a:ext cx="361800" cy="4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D:\Documents and Settings\Admin\Рабочий стол\x080.jpg"/>
          <p:cNvPicPr/>
          <p:nvPr/>
        </p:nvPicPr>
        <p:blipFill>
          <a:blip r:embed="rId6"/>
          <a:stretch/>
        </p:blipFill>
        <p:spPr>
          <a:xfrm>
            <a:off x="6643800" y="3643200"/>
            <a:ext cx="31428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D:\Documents and Settings\Admin\Рабочий стол\x084.jpg"/>
          <p:cNvPicPr/>
          <p:nvPr/>
        </p:nvPicPr>
        <p:blipFill>
          <a:blip r:embed="rId7"/>
          <a:stretch/>
        </p:blipFill>
        <p:spPr>
          <a:xfrm>
            <a:off x="6715080" y="4214880"/>
            <a:ext cx="31428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" descr="D:\Documents and Settings\Admin\Рабочий стол\x088.jpg"/>
          <p:cNvPicPr/>
          <p:nvPr/>
        </p:nvPicPr>
        <p:blipFill>
          <a:blip r:embed="rId8"/>
          <a:stretch/>
        </p:blipFill>
        <p:spPr>
          <a:xfrm>
            <a:off x="6715080" y="4714920"/>
            <a:ext cx="285840" cy="46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5" descr="D:\Documents and Settings\Admin\Рабочий стол\x092.jpg"/>
          <p:cNvPicPr/>
          <p:nvPr/>
        </p:nvPicPr>
        <p:blipFill>
          <a:blip r:embed="rId9"/>
          <a:stretch/>
        </p:blipFill>
        <p:spPr>
          <a:xfrm>
            <a:off x="6715080" y="5572080"/>
            <a:ext cx="3524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36680" y="603360"/>
          <a:ext cx="8208720" cy="4984560"/>
        </p:xfrm>
        <a:graphic>
          <a:graphicData uri="http://schemas.openxmlformats.org/drawingml/2006/table">
            <a:tbl>
              <a:tblPr/>
              <a:tblGrid>
                <a:gridCol w="5349600"/>
                <a:gridCol w="2859120"/>
              </a:tblGrid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лапан (вентиль) запорны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 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 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Клапан (вентиль) трехход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лапан (вентиль) регулирующ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 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Клапан обратны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 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6" descr="D:\Documents and Settings\Admin\Рабочий стол\x220.jpg"/>
          <p:cNvPicPr/>
          <p:nvPr/>
        </p:nvPicPr>
        <p:blipFill>
          <a:blip r:embed="rId1"/>
          <a:stretch/>
        </p:blipFill>
        <p:spPr>
          <a:xfrm>
            <a:off x="6929280" y="1143000"/>
            <a:ext cx="466920" cy="28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D:\Documents and Settings\Admin\Рабочий стол\x222.jpg"/>
          <p:cNvPicPr/>
          <p:nvPr/>
        </p:nvPicPr>
        <p:blipFill>
          <a:blip r:embed="rId2"/>
          <a:stretch/>
        </p:blipFill>
        <p:spPr>
          <a:xfrm>
            <a:off x="7000920" y="1643040"/>
            <a:ext cx="390600" cy="380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D:\Documents and Settings\Admin\Рабочий стол\x224.jpg"/>
          <p:cNvPicPr/>
          <p:nvPr/>
        </p:nvPicPr>
        <p:blipFill>
          <a:blip r:embed="rId3"/>
          <a:stretch/>
        </p:blipFill>
        <p:spPr>
          <a:xfrm>
            <a:off x="6929280" y="2071800"/>
            <a:ext cx="447840" cy="38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D:\Documents and Settings\Admin\Рабочий стол\x226.jpg"/>
          <p:cNvPicPr/>
          <p:nvPr/>
        </p:nvPicPr>
        <p:blipFill>
          <a:blip r:embed="rId4"/>
          <a:stretch/>
        </p:blipFill>
        <p:spPr>
          <a:xfrm>
            <a:off x="7000920" y="3071880"/>
            <a:ext cx="466560" cy="409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0" descr="D:\Documents and Settings\Admin\Рабочий стол\x228.jpg"/>
          <p:cNvPicPr/>
          <p:nvPr/>
        </p:nvPicPr>
        <p:blipFill>
          <a:blip r:embed="rId5"/>
          <a:stretch/>
        </p:blipFill>
        <p:spPr>
          <a:xfrm>
            <a:off x="7072200" y="3643200"/>
            <a:ext cx="38124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1" descr="D:\Documents and Settings\Admin\Рабочий стол\x230.jpg"/>
          <p:cNvPicPr/>
          <p:nvPr/>
        </p:nvPicPr>
        <p:blipFill>
          <a:blip r:embed="rId6"/>
          <a:stretch/>
        </p:blipFill>
        <p:spPr>
          <a:xfrm>
            <a:off x="6858000" y="4643280"/>
            <a:ext cx="466560" cy="295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2" descr="D:\Documents and Settings\Admin\Рабочий стол\x232.jpg"/>
          <p:cNvPicPr/>
          <p:nvPr/>
        </p:nvPicPr>
        <p:blipFill>
          <a:blip r:embed="rId7"/>
          <a:stretch/>
        </p:blipFill>
        <p:spPr>
          <a:xfrm>
            <a:off x="6929280" y="5072040"/>
            <a:ext cx="3715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Documents and Settings\Admin\Рабочий стол\04972b39487221fcce61e438378ffdd8_1340461253_800_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98600" y="582480"/>
          <a:ext cx="8167680" cy="5550120"/>
        </p:xfrm>
        <a:graphic>
          <a:graphicData uri="http://schemas.openxmlformats.org/drawingml/2006/table">
            <a:tbl>
              <a:tblPr/>
              <a:tblGrid>
                <a:gridCol w="4084560"/>
                <a:gridCol w="4083120"/>
              </a:tblGrid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Клапан предохранительны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лапан дросс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 Клапан редук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 Задви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 Затвор поворо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Кран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33" descr="D:\Documents and Settings\Admin\Рабочий стол\x234.jpg"/>
          <p:cNvPicPr/>
          <p:nvPr/>
        </p:nvPicPr>
        <p:blipFill>
          <a:blip r:embed="rId1"/>
          <a:stretch/>
        </p:blipFill>
        <p:spPr>
          <a:xfrm>
            <a:off x="6286680" y="1285920"/>
            <a:ext cx="438120" cy="51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4" descr="D:\Documents and Settings\Admin\Рабочий стол\x236.jpg"/>
          <p:cNvPicPr/>
          <p:nvPr/>
        </p:nvPicPr>
        <p:blipFill>
          <a:blip r:embed="rId2"/>
          <a:stretch/>
        </p:blipFill>
        <p:spPr>
          <a:xfrm>
            <a:off x="6286680" y="2143080"/>
            <a:ext cx="352080" cy="55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5" descr="D:\Documents and Settings\Admin\Рабочий стол\x238.jpg"/>
          <p:cNvPicPr/>
          <p:nvPr/>
        </p:nvPicPr>
        <p:blipFill>
          <a:blip r:embed="rId3"/>
          <a:stretch/>
        </p:blipFill>
        <p:spPr>
          <a:xfrm>
            <a:off x="6286680" y="3071880"/>
            <a:ext cx="438120" cy="266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6" descr="D:\Documents and Settings\Admin\Рабочий стол\x240.jpg"/>
          <p:cNvPicPr/>
          <p:nvPr/>
        </p:nvPicPr>
        <p:blipFill>
          <a:blip r:embed="rId4"/>
          <a:stretch/>
        </p:blipFill>
        <p:spPr>
          <a:xfrm>
            <a:off x="6215040" y="3714840"/>
            <a:ext cx="428760" cy="257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7" descr="D:\Documents and Settings\Admin\Рабочий стол\x242.jpg"/>
          <p:cNvPicPr/>
          <p:nvPr/>
        </p:nvPicPr>
        <p:blipFill>
          <a:blip r:embed="rId5"/>
          <a:stretch/>
        </p:blipFill>
        <p:spPr>
          <a:xfrm>
            <a:off x="6286680" y="4357800"/>
            <a:ext cx="399960" cy="29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8" descr="D:\Documents and Settings\Admin\Рабочий стол\x244.jpg"/>
          <p:cNvPicPr/>
          <p:nvPr/>
        </p:nvPicPr>
        <p:blipFill>
          <a:blip r:embed="rId6"/>
          <a:stretch/>
        </p:blipFill>
        <p:spPr>
          <a:xfrm>
            <a:off x="6286680" y="5072040"/>
            <a:ext cx="4190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00040" y="357120"/>
          <a:ext cx="8167680" cy="6148440"/>
        </p:xfrm>
        <a:graphic>
          <a:graphicData uri="http://schemas.openxmlformats.org/drawingml/2006/table">
            <a:tbl>
              <a:tblPr/>
              <a:tblGrid>
                <a:gridCol w="4083120"/>
                <a:gridCol w="4084560"/>
              </a:tblGrid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 проход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 уг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 Кран трехход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Кран водоразб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 Кран писсу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Кран (клапан) пож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 Кран полив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Кран двойной регулир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Смесител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 общее обо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с душевой сет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 Вод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40" descr="D:\Documents and Settings\Admin\Рабочий стол\x246.jpg"/>
          <p:cNvPicPr/>
          <p:nvPr/>
        </p:nvPicPr>
        <p:blipFill>
          <a:blip r:embed="rId1"/>
          <a:stretch/>
        </p:blipFill>
        <p:spPr>
          <a:xfrm>
            <a:off x="6143760" y="500040"/>
            <a:ext cx="428400" cy="25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D:\Documents and Settings\Admin\Рабочий стол\x248.jpg"/>
          <p:cNvPicPr/>
          <p:nvPr/>
        </p:nvPicPr>
        <p:blipFill>
          <a:blip r:embed="rId2"/>
          <a:stretch/>
        </p:blipFill>
        <p:spPr>
          <a:xfrm>
            <a:off x="6215040" y="928800"/>
            <a:ext cx="352440" cy="38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2" descr="D:\Documents and Settings\Admin\Рабочий стол\x250.jpg"/>
          <p:cNvPicPr/>
          <p:nvPr/>
        </p:nvPicPr>
        <p:blipFill>
          <a:blip r:embed="rId3"/>
          <a:stretch/>
        </p:blipFill>
        <p:spPr>
          <a:xfrm>
            <a:off x="6215040" y="1428840"/>
            <a:ext cx="419040" cy="33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3" descr="D:\Documents and Settings\Admin\Рабочий стол\x252.jpg"/>
          <p:cNvPicPr/>
          <p:nvPr/>
        </p:nvPicPr>
        <p:blipFill>
          <a:blip r:embed="rId4"/>
          <a:stretch/>
        </p:blipFill>
        <p:spPr>
          <a:xfrm>
            <a:off x="6215040" y="1928880"/>
            <a:ext cx="419040" cy="257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4" descr="D:\Documents and Settings\Admin\Рабочий стол\x254.jpg"/>
          <p:cNvPicPr/>
          <p:nvPr/>
        </p:nvPicPr>
        <p:blipFill>
          <a:blip r:embed="rId5"/>
          <a:stretch/>
        </p:blipFill>
        <p:spPr>
          <a:xfrm>
            <a:off x="6286680" y="2357280"/>
            <a:ext cx="304560" cy="400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5" descr="D:\Documents and Settings\Admin\Рабочий стол\x256.jpg"/>
          <p:cNvPicPr/>
          <p:nvPr/>
        </p:nvPicPr>
        <p:blipFill>
          <a:blip r:embed="rId6"/>
          <a:stretch/>
        </p:blipFill>
        <p:spPr>
          <a:xfrm>
            <a:off x="6000840" y="2857680"/>
            <a:ext cx="752400" cy="371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6" descr="D:\Documents and Settings\Admin\Рабочий стол\x258.jpg"/>
          <p:cNvPicPr/>
          <p:nvPr/>
        </p:nvPicPr>
        <p:blipFill>
          <a:blip r:embed="rId7"/>
          <a:stretch/>
        </p:blipFill>
        <p:spPr>
          <a:xfrm>
            <a:off x="6143760" y="3357720"/>
            <a:ext cx="476280" cy="390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7" descr="D:\Documents and Settings\Admin\Рабочий стол\x260.jpg"/>
          <p:cNvPicPr/>
          <p:nvPr/>
        </p:nvPicPr>
        <p:blipFill>
          <a:blip r:embed="rId8"/>
          <a:stretch/>
        </p:blipFill>
        <p:spPr>
          <a:xfrm>
            <a:off x="6000840" y="3857760"/>
            <a:ext cx="714240" cy="3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8" descr="D:\Documents and Settings\Admin\Рабочий стол\x262.jpg"/>
          <p:cNvPicPr/>
          <p:nvPr/>
        </p:nvPicPr>
        <p:blipFill>
          <a:blip r:embed="rId9"/>
          <a:stretch/>
        </p:blipFill>
        <p:spPr>
          <a:xfrm>
            <a:off x="6143760" y="4786200"/>
            <a:ext cx="466560" cy="41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9" descr="D:\Documents and Settings\Admin\Рабочий стол\x264.jpg"/>
          <p:cNvPicPr/>
          <p:nvPr/>
        </p:nvPicPr>
        <p:blipFill>
          <a:blip r:embed="rId10"/>
          <a:stretch/>
        </p:blipFill>
        <p:spPr>
          <a:xfrm>
            <a:off x="6143760" y="5286240"/>
            <a:ext cx="47628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0" descr="D:\Documents and Settings\Admin\Рабочий стол\x266.jpg"/>
          <p:cNvPicPr/>
          <p:nvPr/>
        </p:nvPicPr>
        <p:blipFill>
          <a:blip r:embed="rId11"/>
          <a:stretch/>
        </p:blipFill>
        <p:spPr>
          <a:xfrm>
            <a:off x="6286680" y="6143760"/>
            <a:ext cx="67608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ЗАДАНИЕ НА ДОМ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Выучить условные обозначения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Система водоснаб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истема водоснабж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представляет собой совокупность инженерных устройств и сооружений для получения природной воды, хранение ее запасов, транспортировке к месту потребления, очистки полученной воды до нужного качества. Проект системы холодного водоснабжения составляется чаще всего параллельно с системой канализации. Система водоснабжения должна соответствовать санитарным нормам, экономическим и техническим требовани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азводка водоснаб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C:\Documents and Settings\Admin\Мои документы\33.jpg"/>
          <p:cNvPicPr/>
          <p:nvPr/>
        </p:nvPicPr>
        <p:blipFill>
          <a:blip r:embed="rId2"/>
          <a:stretch/>
        </p:blipFill>
        <p:spPr>
          <a:xfrm>
            <a:off x="1857240" y="1643040"/>
            <a:ext cx="471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нутренний водопро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й водопровод состоит из следующих элементов: ввода водопровода в здание; разводящих сетей трубопроводов; повысительных установок, к которым относятся повысительные насосные, водопроводные баки и резервуары, расположенные внутри з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вод водопро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водом называется подземный участок сети от наружной магистрали до водомера, установленного в здании. Диаметры труб для вводов водопровода в здания определяются расчетом по максимальному секундному расходу воды. Вводы выполняют из чугунных водопроводных труб. Допускается применение стальных труб с наружным покрытием битумной изоляцией, предохраняющей их от корроз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Уклон трубопро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жилых домах устраивают один ввод водопровода с уклоном 0,003 в сторону наружной сети, чтобы его можно было опорож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одоснабжение для вашего дома и 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\Мои документы\34.jpg"/>
          <p:cNvPicPr/>
          <p:nvPr/>
        </p:nvPicPr>
        <p:blipFill>
          <a:blip r:embed="rId2"/>
          <a:stretch/>
        </p:blipFill>
        <p:spPr>
          <a:xfrm>
            <a:off x="2031840" y="1714680"/>
            <a:ext cx="508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4:20:09Z</dcterms:created>
  <dc:creator>Admin</dc:creator>
  <dc:description/>
  <dc:language>en-US</dc:language>
  <cp:lastModifiedBy>Admin</cp:lastModifiedBy>
  <dcterms:modified xsi:type="dcterms:W3CDTF">2015-02-22T13:49:16Z</dcterms:modified>
  <cp:revision>34</cp:revision>
  <dc:subject/>
  <dc:title>Слайд 1</dc:title>
</cp:coreProperties>
</file>