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2B9-F8B9-4558-B02E-610BC571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B7E-4FFC-4682-A5D8-61FFDA6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7BF-DAD0-4AB6-AA04-01645579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C03-625F-4EBB-9A2A-64461D49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43CD-A618-4155-87D0-169C2C89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73DE-DB16-4E4B-B54A-7A58A8C3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61FB-E15D-4926-9CBE-09A59539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D1A3-903D-43C9-AAEC-20A70D89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EEA5-3F2B-46C8-A52F-5D21DB2E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50F4-F7A4-44DB-99FC-2C3442A4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B0EE-B6FE-4F34-B7B3-E7838410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AC7-E51B-4C3A-A11A-BEB7EB4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CE6F-787B-4A69-84FC-CAA251C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2746-850D-48E0-8393-BAE1FA7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3907-7634-47F8-B52D-FFEDC427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8AE8-F574-46F8-ADFB-256462B6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EF24-FB78-4679-9ACB-5F1CC288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938-CBBC-458A-A31F-03DD09E3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C64-7220-4DBB-B93F-1496D40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4B5-8126-46B7-BF94-72BFB02A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E2B-D6BF-4336-9338-06A23BF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5CF-5A38-4BBE-8408-AF91EE58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297-19DC-4E44-8EF5-4D93A00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768-BA78-4479-BB75-851FCDA7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A1CB-4AE8-43BB-9F40-58D6DF196E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8979-E989-45C5-8AC3-6A5AEA3A58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425916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Первобытный ми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2000" y="981000"/>
            <a:ext cx="2730240" cy="507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4968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71640" y="380520"/>
            <a:ext cx="33847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Жанры ИЗ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ортр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Натюрмо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Пейза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Бытов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Истор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Анималис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«анимал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с латинского языка означает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«животное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5040360" cy="375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12000" y="765000"/>
            <a:ext cx="2666880" cy="2829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73840" y="657360"/>
            <a:ext cx="21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Фрески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141800" cy="3521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56360" y="71928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Фрес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76720" y="3665520"/>
            <a:ext cx="3751200" cy="297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1008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Первобытная скульптур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4132440"/>
            <a:ext cx="4248000" cy="242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2273040" cy="364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1700280"/>
            <a:ext cx="2519280" cy="20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435640" y="4005360"/>
            <a:ext cx="334332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32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Скульптор  Ватаги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861" t="7993" r="40556" b="13613"/>
          <a:stretch/>
        </p:blipFill>
        <p:spPr>
          <a:xfrm>
            <a:off x="611280" y="2421000"/>
            <a:ext cx="3408120" cy="36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461484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11160" t="7993" r="17454" b="26204"/>
          <a:stretch/>
        </p:blipFill>
        <p:spPr>
          <a:xfrm>
            <a:off x="395280" y="333360"/>
            <a:ext cx="3887640" cy="2747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663640" cy="3673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95640" y="3213000"/>
            <a:ext cx="2409840" cy="309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826920" y="3141720"/>
            <a:ext cx="25718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527280" cy="25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14304" t="12192" r="17454" b="23397"/>
          <a:stretch/>
        </p:blipFill>
        <p:spPr>
          <a:xfrm>
            <a:off x="1692360" y="3294000"/>
            <a:ext cx="4464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473720" cy="3430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27520" y="2205000"/>
            <a:ext cx="3516480" cy="4287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1904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Критерии оценки групповой рабо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Правдоподобность природной среды согласно фрагмен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Скульптуры животных пропорциональны, соотнесены по размеру с природной сред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Творческий подход к решению пробл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0:25:17Z</dcterms:created>
  <dc:creator>User</dc:creator>
  <dc:description/>
  <dc:language>en-US</dc:language>
  <cp:lastModifiedBy>User</cp:lastModifiedBy>
  <dcterms:modified xsi:type="dcterms:W3CDTF">2015-04-13T12:00:39Z</dcterms:modified>
  <cp:revision>5</cp:revision>
  <dc:subject/>
  <dc:title>Первобытный мир</dc:title>
</cp:coreProperties>
</file>