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270-9F4E-49B6-A753-2E13033F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E71-A921-49BC-96C5-E8AC6E77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24D-63EF-448E-BACC-2D1C0AA3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D22-0ACF-41CC-8C14-2050DF86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10CE-D6BD-4CB1-AE7D-B9C043E4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64E0-DA81-4488-969E-D485C1FB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B4BA-39C4-48BC-8654-2A36711B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F5B2-4175-463E-9EEC-DBED51B9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1135-975C-431E-A46B-D4D91606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3375-8853-4EC1-9427-DC704675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C70B-1F3D-47F7-A49C-9EEF33B9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178-E6CC-4B99-88F8-CD7D4624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8819-4E41-4457-8E4E-6D43B0B0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253F-2B0C-45C1-BCF5-7E307320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3A64-4875-431E-9B93-0E668A34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B14B-3F0F-48C7-A815-4A866236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073D-A500-49E2-AA65-098BA5B3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2700-7380-4491-8FDE-3E8867D6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BF2-53A4-4AD3-A077-FA926A46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2642-7D17-45EE-8C32-C33D884C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1AA-C5AA-40D7-AB07-42477357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732-835C-495A-B2FC-610CFCB6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E20-A6B1-4C0D-93FE-D931F53B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201-E056-4A83-ADD9-77B84973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3DD0-3036-48EC-A8C3-D2919D990F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68A6-0C27-4B7D-85C8-035BAEF57F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425916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Первобытный ми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12000" y="981000"/>
            <a:ext cx="2730240" cy="5079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49687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71640" y="380520"/>
            <a:ext cx="33847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Жанры ИЗ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Портр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Натюрмор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Пейзаж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Бытов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Историче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Анималистиче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«анимал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с латинского языка означает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«животное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5040360" cy="3751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012000" y="765000"/>
            <a:ext cx="2666880" cy="2829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73840" y="657360"/>
            <a:ext cx="214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Фрески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141800" cy="3521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56360" y="71928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Фреск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076720" y="3665520"/>
            <a:ext cx="3751200" cy="2971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361008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Первобытная скульптур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4132440"/>
            <a:ext cx="4248000" cy="2427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780000" y="333360"/>
            <a:ext cx="2273040" cy="364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11280" y="1700280"/>
            <a:ext cx="2519280" cy="2031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435640" y="4005360"/>
            <a:ext cx="334332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332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Скульптор  Ватагин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708360" y="26028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4861" t="7993" r="40556" b="13613"/>
          <a:stretch/>
        </p:blipFill>
        <p:spPr>
          <a:xfrm>
            <a:off x="611280" y="2421000"/>
            <a:ext cx="3408120" cy="367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284720" y="2349360"/>
            <a:ext cx="461484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rcRect l="11160" t="7993" r="17454" b="26204"/>
          <a:stretch/>
        </p:blipFill>
        <p:spPr>
          <a:xfrm>
            <a:off x="395280" y="333360"/>
            <a:ext cx="3887640" cy="2747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56360" y="260280"/>
            <a:ext cx="2663640" cy="3673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995640" y="3213000"/>
            <a:ext cx="2409840" cy="3097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826920" y="3141720"/>
            <a:ext cx="25718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527280" cy="259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14304" t="12192" r="17454" b="23397"/>
          <a:stretch/>
        </p:blipFill>
        <p:spPr>
          <a:xfrm>
            <a:off x="1692360" y="3294000"/>
            <a:ext cx="44640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4473720" cy="3430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627520" y="2205000"/>
            <a:ext cx="3516480" cy="4287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24000" y="3933720"/>
            <a:ext cx="1904760" cy="2540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059280" y="3933720"/>
            <a:ext cx="1904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Критерии оценки групповой работ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Правдоподобность природной среды согласно фрагмент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Скульптуры животных пропорциональны, соотнесены по размеру с природной средо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Творческий подход к решению пробл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0:25:17Z</dcterms:created>
  <dc:creator>User</dc:creator>
  <dc:description/>
  <dc:language>en-US</dc:language>
  <cp:lastModifiedBy>User</cp:lastModifiedBy>
  <dcterms:modified xsi:type="dcterms:W3CDTF">2015-04-13T12:00:39Z</dcterms:modified>
  <cp:revision>5</cp:revision>
  <dc:subject/>
  <dc:title>Первобытный мир</dc:title>
</cp:coreProperties>
</file>