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869-575E-4300-8773-D7C697A7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509-45CB-47FE-95C9-7CA3EA60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F1B-6930-4D9B-BE01-6C6B2614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512-8880-4B79-B18E-C1464B3B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D255-3A50-4274-B703-5E072F75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8B74-5AF9-4BC7-B200-E9D24505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06BF-C25C-4F79-9FEC-1A5FDE99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0733-5681-4026-A928-C851F145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AC69-16DE-4EED-B7AA-09B3C864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8F5F-0E8B-4CA4-85D8-FF7D674C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B10D-7D89-41BB-ACB3-C7D61589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2DF-35F9-435F-83CB-4131DDE2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5708-4687-4C8A-BA04-6F7E5EEC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3F8A-8F09-4E59-8639-3F9632D0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A999-8945-4D81-BA6D-C51BD805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FFE4-EED5-4DF2-89AF-B165B348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359A-7DF0-4795-A55C-CD88475A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AEC-00DE-46F6-A419-0C18A363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88F-3A56-4EEC-9146-B1074A0F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117-6EF3-4A0F-B6B4-8CB4C393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835-A177-4A27-8D81-EFFE3A4E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2DA-2C1E-41C3-952B-EF441962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F15-BF3F-4A18-88B3-8EBDDE78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E7F-AA19-4A10-AE8B-88FD02B0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1E54-75D3-47F4-B554-0AAD4E7214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9BF9-D89C-4FD0-A8FF-AFFBCC0EBE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Атомные подводные лодк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лгалев Дмитрий 9 «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влюченков Максим 9 «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то такое «Атомная подводная лодка?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томная подводная лод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П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 — подводна лодка с ядерной силовой установк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тор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начально в подводном судостроении одной из наиболее важных проблем было увеличение времени нахождения под водой и увеличение скорости подводного хода, как наиболее важных характеристик субмарин. Прогрессу в этой области мешало несовершенство энергетических установок, а в частности — их малая мощность и зависимость времени нахождения под водой от содержания кислорода в воздухе внутри лодки. Сперва эти проблемы решались повышением мощности электромоторов, ёмкости аккумуляторов, увеличением запаса сжиженного кислорода, воздуха высокого давления, регенеративных патронов. Во время Второй мировой войны в Германии впервые стало серийно применяться устройство для работы дизелей под водой — шноркель (прибор РДП) и парогазотурбинная энергетическая установка системы Вальтера. В послевоенное время в США и СССР, а затем и в других странах появилась атомная энергетика, начав новый этап развития подводного флота. Однако, создание мобильного компактного реактора заняло более 10 лет и потребовало значительных усил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ые подводные лодки с атомными реакторами на борту появились соответственно в США в 1955 году — USS Nautilus, и в СССР в 1958 году — К-3 «Ленинский комсомол»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 1963 году в строй вошла первая британская атомарина H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Dreadnought (S101)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 1969 году начала нести боевую службу первая французская атомная субмарина Le Redoutable (S 611), причём она относилась не к торпедным подводным лодкам, а к классу стратегических субмарин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 1974 году свою первую атомную подводную лодку ввёл в строй Кита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-407 «Новомосковск» — последняя атомная подводная лодка, построенная в ССС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-407 «Новомосковск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Picture 4" descr="724px-Delta-class-submarine-firing-SS-N-18-DIA"/>
          <p:cNvPicPr/>
          <p:nvPr/>
        </p:nvPicPr>
        <p:blipFill>
          <a:blip r:embed="rId1"/>
          <a:stretch/>
        </p:blipFill>
        <p:spPr>
          <a:xfrm>
            <a:off x="324000" y="1628640"/>
            <a:ext cx="488772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Атомная энергетическая установк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томную энергетическую установку, которая в основном является модификацией паротурбинной, начали применять на судах в конце 50-х гг. XX в. К энергетической установке судна с атомным двигателем относятся реактор, парогенератор и турбинная установка, приводящая в движение судовой движитель. Реактор - это установка для получения ядерных цепных реакций, во время которых возникает энергия, преобразуемая далее в механическую. В ядерном реакторе созданы такие условия, что число расщеплений ядра за единицу времени является величиной постоянной, т. е. цепная реакция происходит постоя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нструкция и принцип действия ядерного реактор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— стальной корпус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— замедлител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 — отражател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 — защит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 — тепловыделяющие элемент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 — вход теплоносител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 — выход теплоносител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 — регулирующие стерж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Picture 4" descr="6_25"/>
          <p:cNvPicPr/>
          <p:nvPr/>
        </p:nvPicPr>
        <p:blipFill>
          <a:blip r:embed="rId1"/>
          <a:stretch/>
        </p:blipFill>
        <p:spPr>
          <a:xfrm>
            <a:off x="5796000" y="1700280"/>
            <a:ext cx="3348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дерное топливо содержит делящийся материал, как правило, уран или плутоний. При расщеплении ядер атомов, которые распадаются на так называемые фрагменты - или на свободные нейтроны высоких энергий, освобождается очень много энергии. Для уменьшения высокой энергии нейтронов служит замедлитель: графит, бериллий или вода. Для того чтобы свести к минимуму возможность потери нейтронов, устанавливают отражатель. Он состоит в основном из бериллия или графита. Во избежание слишком сильного потока нейтронов в реакторе на соответствующей глубине устанавливают регулирующие стержни из поглощающих нейтроны материалов (кадмия, бора, индия). Энергообмен в реакторе происходит с помощью теплоносителей, воды, органических жидкостей, сплавов из легкоплавких металлов и т. д. В настоящее время на судах применяют, как правило, реакторы, охлаждаемые водой под давлением. Схема машинного отделения судна с реактором такого типа дана на рисунке ниж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19:48:22Z</dcterms:created>
  <dc:creator>Олег</dc:creator>
  <dc:description/>
  <dc:language>en-US</dc:language>
  <cp:lastModifiedBy>User</cp:lastModifiedBy>
  <dcterms:modified xsi:type="dcterms:W3CDTF">2015-04-14T12:24:25Z</dcterms:modified>
  <cp:revision>4</cp:revision>
  <dc:subject/>
  <dc:title>Атомные подводные лодки</dc:title>
</cp:coreProperties>
</file>