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ADF-6719-4439-853C-4AFDA1EA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630-5D83-4A66-AC12-4EFA927C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30E0-9390-460D-83F6-46BFE321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67A-E9CD-4D85-8184-AA1EBA34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4ECF-96C9-4F35-A344-95E9F963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4B14-9540-4583-A15C-735B7947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ED07-DE37-40C1-8F16-512DDD10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44B9-B017-4898-AB47-C4469B29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426D-330C-4095-9CE3-9D906A7A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38F1-5E0E-4544-A8FB-5953F567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B95D-F23B-4596-905B-31D1B840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EBE0-FAEF-4175-AB37-34BD44C0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10D4-8333-4239-AF86-2DB57E2D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1037-6AC5-4DD0-8365-88971F2B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0A6C-2445-41C6-8EC8-1B33A6F0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F3AD-E7D2-4633-ACEF-99A839E0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0651-ECCB-419A-9207-CC301338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8342-31D3-429E-9484-0C681182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DC7F-30C5-421D-91E4-86CDDA7B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403-EFA0-40BF-A5F9-6C2C5D0E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46D-31F2-41A4-A239-67BC6683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5595-9818-4B06-9C68-1CE8782A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A1F6-AF5A-4299-BB32-0A6B9A5E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3FB9-BDC8-492B-81AE-E60EE446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C0F6-E42E-44CC-B9FF-DC98CACFC6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F6B1-5F89-43D4-99E8-F4BDF485F94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Атомные подводные лодк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лгалев Дмитрий 9 «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влюченков Максим 9 «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Что такое «Атомная подводная лодка?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томная подводная лод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АП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 — подводна лодка с ядерной силовой установк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стор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начально в подводном судостроении одной из наиболее важных проблем было увеличение времени нахождения под водой и увеличение скорости подводного хода, как наиболее важных характеристик субмарин. Прогрессу в этой области мешало несовершенство энергетических установок, а в частности — их малая мощность и зависимость времени нахождения под водой от содержания кислорода в воздухе внутри лодки. Сперва эти проблемы решались повышением мощности электромоторов, ёмкости аккумуляторов, увеличением запаса сжиженного кислорода, воздуха высокого давления, регенеративных патронов. Во время Второй мировой войны в Германии впервые стало серийно применяться устройство для работы дизелей под водой — шноркель (прибор РДП) и парогазотурбинная энергетическая установка системы Вальтера. В послевоенное время в США и СССР, а затем и в других странах появилась атомная энергетика, начав новый этап развития подводного флота. Однако, создание мобильного компактного реактора заняло более 10 лет и потребовало значительных усил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ые подводные лодки с атомными реакторами на борту появились соответственно в США в 1955 году — USS Nautilus, и в СССР в 1958 году — К-3 «Ленинский комсомол»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 1963 году в строй вошла первая британская атомарина H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Dreadnought (S101)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 1969 году начала нести боевую службу первая французская атомная субмарина Le Redoutable (S 611), причём она относилась не к торпедным подводным лодкам, а к классу стратегических субмарин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 1974 году свою первую атомную подводную лодку ввёл в строй Кита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-407 «Новомосковск» — последняя атомная подводная лодка, построенная в ССС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-407 «Новомосковск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Picture 4" descr="724px-Delta-class-submarine-firing-SS-N-18-DIA"/>
          <p:cNvPicPr/>
          <p:nvPr/>
        </p:nvPicPr>
        <p:blipFill>
          <a:blip r:embed="rId1"/>
          <a:stretch/>
        </p:blipFill>
        <p:spPr>
          <a:xfrm>
            <a:off x="324000" y="1628640"/>
            <a:ext cx="488772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Атомная энергетическая установк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томную энергетическую установку, которая в основном является модификацией паротурбинной, начали применять на судах в конце 50-х гг. XX в. К энергетической установке судна с атомным двигателем относятся реактор, парогенератор и турбинная установка, приводящая в движение судовой движитель. Реактор - это установка для получения ядерных цепных реакций, во время которых возникает энергия, преобразуемая далее в механическую. В ядерном реакторе созданы такие условия, что число расщеплений ядра за единицу времени является величиной постоянной, т. е. цепная реакция происходит постоян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нструкция и принцип действия ядерного реактор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 — стальной корпус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 — замедлител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 — отражател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 — защит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 — тепловыделяющие элемент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 — вход теплоносител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 — выход теплоносител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8 — регулирующие стерж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Picture 4" descr="6_25"/>
          <p:cNvPicPr/>
          <p:nvPr/>
        </p:nvPicPr>
        <p:blipFill>
          <a:blip r:embed="rId1"/>
          <a:stretch/>
        </p:blipFill>
        <p:spPr>
          <a:xfrm>
            <a:off x="5796000" y="1700280"/>
            <a:ext cx="3348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дерное топливо содержит делящийся материал, как правило, уран или плутоний. При расщеплении ядер атомов, которые распадаются на так называемые фрагменты - или на свободные нейтроны высоких энергий, освобождается очень много энергии. Для уменьшения высокой энергии нейтронов служит замедлитель: графит, бериллий или вода. Для того чтобы свести к минимуму возможность потери нейтронов, устанавливают отражатель. Он состоит в основном из бериллия или графита. Во избежание слишком сильного потока нейтронов в реакторе на соответствующей глубине устанавливают регулирующие стержни из поглощающих нейтроны материалов (кадмия, бора, индия). Энергообмен в реакторе происходит с помощью теплоносителей, воды, органических жидкостей, сплавов из легкоплавких металлов и т. д. В настоящее время на судах применяют, как правило, реакторы, охлаждаемые водой под давлением. Схема машинного отделения судна с реактором такого типа дана на рисунке ниж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9T19:48:22Z</dcterms:created>
  <dc:creator>Олег</dc:creator>
  <dc:description/>
  <dc:language>en-US</dc:language>
  <cp:lastModifiedBy>User</cp:lastModifiedBy>
  <dcterms:modified xsi:type="dcterms:W3CDTF">2015-04-14T12:24:25Z</dcterms:modified>
  <cp:revision>4</cp:revision>
  <dc:subject/>
  <dc:title>Атомные подводные лодки</dc:title>
</cp:coreProperties>
</file>