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864-B88C-484F-B743-EEFF3778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6A9-E5B1-4C8E-9604-29E2C96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96A-8A0C-45D6-ABBD-54410626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947-A939-4DA2-85DE-FB8069E8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208-DF04-431A-A987-CE57583E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83C-6168-4083-9415-BC7E181F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045-A9B9-4778-A86E-29BA899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DE6-B0BA-4A27-957F-01656B00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1D0-0C3B-4BD3-9D03-8C966D0F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3D4-FB07-40EB-AF1B-EAF36B0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A2B-82D2-4F23-A27C-4B775C6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3FF-EA48-4D30-91F2-395588E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7F0-81D9-4DD3-BEC9-A5175D0C2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26"/>
          <p:cNvPicPr/>
          <p:nvPr/>
        </p:nvPicPr>
        <p:blipFill>
          <a:blip r:embed="rId1"/>
          <a:stretch/>
        </p:blipFill>
        <p:spPr>
          <a:xfrm>
            <a:off x="232092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_VPN2929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441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0" y="5029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ногих нынешних мальчишек и девчонок Великая Отечественная война - это далекое прошлое. Прошлое, о котором они знают по рассказам своих дедов или узнают  о войне из фильмов и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1331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4290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Стихи посвященные Дню поб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645440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650293"/>
          <p:cNvPicPr/>
          <p:nvPr/>
        </p:nvPicPr>
        <p:blipFill>
          <a:blip r:embed="rId2"/>
          <a:stretch/>
        </p:blipFill>
        <p:spPr>
          <a:xfrm>
            <a:off x="0" y="3244680"/>
            <a:ext cx="4952880" cy="361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29200" y="3581280"/>
            <a:ext cx="4114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Еще тогда нас не было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3. Помните! Через века, через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4. Солнце скрылось за го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5. 9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6. Памятник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7. Давно закончилась вой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8. Пусть буд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5545080"/>
          <a:ext cx="3570120" cy="1311480"/>
        </p:xfrm>
        <a:graphic>
          <a:graphicData uri="http://schemas.openxmlformats.org/drawingml/2006/table">
            <a:tbl>
              <a:tblPr/>
              <a:tblGrid>
                <a:gridCol w="3570120"/>
              </a:tblGrid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ский праздник -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 вся стран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вают наши дед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ые орд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81480" y="5300640"/>
          <a:ext cx="3962520" cy="1862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 утра зовет дорог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оржественный парад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думчиво с порог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лед и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ушки глядят.             (Т. Белозе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G_0023"/>
          <p:cNvPicPr/>
          <p:nvPr/>
        </p:nvPicPr>
        <p:blipFill>
          <a:blip r:embed="rId1"/>
          <a:stretch/>
        </p:blipFill>
        <p:spPr>
          <a:xfrm>
            <a:off x="0" y="0"/>
            <a:ext cx="6324480" cy="548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504389"/>
          <p:cNvPicPr/>
          <p:nvPr/>
        </p:nvPicPr>
        <p:blipFill>
          <a:blip r:embed="rId2"/>
          <a:stretch/>
        </p:blipFill>
        <p:spPr>
          <a:xfrm>
            <a:off x="5119560" y="0"/>
            <a:ext cx="402444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105520" y="1461960"/>
          <a:ext cx="4190760" cy="11908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ремел салют из края в край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даты, подарили вы планет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й Май, победный Ма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9"/>
          <p:cNvSpPr/>
          <p:nvPr/>
        </p:nvSpPr>
        <p:spPr>
          <a:xfrm>
            <a:off x="4481640" y="-233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94360" y="2757600"/>
          <a:ext cx="5268960" cy="1736640"/>
        </p:xfrm>
        <a:graphic>
          <a:graphicData uri="http://schemas.openxmlformats.org/drawingml/2006/table">
            <a:tbl>
              <a:tblPr/>
              <a:tblGrid>
                <a:gridCol w="52689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 военной буре огнево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бу решая будущих столет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бой вели, священный бой!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271294952373267"/>
          <p:cNvPicPr/>
          <p:nvPr/>
        </p:nvPicPr>
        <p:blipFill>
          <a:blip r:embed="rId1"/>
          <a:stretch/>
        </p:blipFill>
        <p:spPr>
          <a:xfrm>
            <a:off x="0" y="0"/>
            <a:ext cx="5064120" cy="6648480"/>
          </a:xfrm>
          <a:prstGeom prst="rect">
            <a:avLst/>
          </a:prstGeom>
          <a:ln w="0">
            <a:noFill/>
          </a:ln>
        </p:spPr>
      </p:pic>
      <p:sp>
        <p:nvSpPr>
          <p:cNvPr id="88" name="WordArt 20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9" descr="MPj04337300000[1]"/>
          <p:cNvPicPr/>
          <p:nvPr/>
        </p:nvPicPr>
        <p:blipFill>
          <a:blip r:embed="rId1"/>
          <a:stretch/>
        </p:blipFill>
        <p:spPr>
          <a:xfrm>
            <a:off x="0" y="0"/>
            <a:ext cx="4646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2"/>
          <p:cNvSpPr/>
          <p:nvPr/>
        </p:nvSpPr>
        <p:spPr>
          <a:xfrm>
            <a:off x="4877280" y="1336680"/>
            <a:ext cx="400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тогда нас не было на 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 Победой вы домой приш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Мая, слава вам наве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всей земли, от всей зем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им, солдаты, ва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жизнь, за детство и вес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иши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ный д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, в котором мы живем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(М. Влади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2" descr="MPj04224230000[1]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-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-63360"/>
          <a:ext cx="6477120" cy="17398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е! Через века, через года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е придет никогда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лачьте! В горле сдержите стоны, горькие стоны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и павших будьте достойны! Вечно достойны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ом и песней, мечтой и стихами, жизнью просторной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ой секундой, каждым дыханьем будьте достойн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5"/>
          <p:cNvSpPr/>
          <p:nvPr/>
        </p:nvSpPr>
        <p:spPr>
          <a:xfrm>
            <a:off x="4481640" y="453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4481640" y="9149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0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5181480"/>
          <a:ext cx="5638680" cy="16765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! Покуда сердца стучатся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ю ценой завоевано счастье,- пожалуйста,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ю свою отправляя в полет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икогда не споет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своим расскажите о них, чтоб запомнили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детей расскажите о них, чтобы тоже запомнил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9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MPj04337520000[1]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4040" y="23760"/>
            <a:ext cx="58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все времена бессмертной Земли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мерцающим звездам ведя корабли,- о погибших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тречайте трепетную весну, люди Земл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бейте войну, прокляните войну, люди Земли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чту пронесите через года и жизнью наполните!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о тех, кто уже не придет никогда,- заклинаю,-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.Рождествен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29200" y="1400040"/>
          <a:ext cx="4114800" cy="11908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5"/>
          <p:cNvSpPr/>
          <p:nvPr/>
        </p:nvSpPr>
        <p:spPr>
          <a:xfrm>
            <a:off x="4481640" y="179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29200" y="2371680"/>
          <a:ext cx="4267080" cy="44863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48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жары, от злого зно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ерки на плечах повыгорали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 знамя боево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рагов солдаты сердцем заслонял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жизни не щадили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я отчий край - страну родную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лели, победи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 врагов в боях за Родину святую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(А. Ковален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6"/>
          <p:cNvSpPr/>
          <p:nvPr/>
        </p:nvSpPr>
        <p:spPr>
          <a:xfrm>
            <a:off x="4481640" y="8051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MPj04008580000[1]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3"/>
          <p:cNvSpPr txBox="1"/>
          <p:nvPr/>
        </p:nvSpPr>
        <p:spPr>
          <a:xfrm>
            <a:off x="853452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4" descr="40867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0" y="-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152280"/>
          <a:ext cx="3733560" cy="1114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на бой смертельный шли в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зны верные сын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жизни мирной и счастливо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лось вам среди вой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5"/>
          <p:cNvSpPr/>
          <p:nvPr/>
        </p:nvSpPr>
        <p:spPr>
          <a:xfrm>
            <a:off x="4481640" y="-644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5000" y="4419720"/>
          <a:ext cx="3581280" cy="24382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24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героически прош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боями все четыре года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победить врага смог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служить любовь народ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 вам, отцы и дед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, братья и сы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ваш подарок к Дню Побед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вный праздник всей страны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 Воскобойни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6"/>
          <p:cNvSpPr/>
          <p:nvPr/>
        </p:nvSpPr>
        <p:spPr>
          <a:xfrm>
            <a:off x="4481640" y="9424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3"/>
          <p:cNvSpPr txBox="1"/>
          <p:nvPr/>
        </p:nvSpPr>
        <p:spPr>
          <a:xfrm>
            <a:off x="45720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Солдаты воевали, а женщины растили детей - будущее страны. Общими усилиями была достигнута победа над врагом! В этом году наш народ отмечает 63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562720" y="30708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ляне, от лагеря близк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багульник все лето цвет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рогу глядят с обелис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хотинец, матрос и пи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-1382760"/>
          <a:ext cx="208080" cy="10220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62720" y="1295280"/>
          <a:ext cx="3429000" cy="45720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57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ечаток счастливого дет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лся на лицах солдат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уже никуда им не деть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оенной суровости дат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Вот в таком же зеленом июне, -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сказал пожилой старшина, -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рала их, веселых и юных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омой не вернула война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вете, прижав автом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олдаты на штурм высоты..."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реющим нашим вожаты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 ногам положили цве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(В. Фети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WordArt 32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34" descr="035nesvizh07v"/>
          <p:cNvPicPr/>
          <p:nvPr/>
        </p:nvPicPr>
        <p:blipFill>
          <a:blip r:embed="rId1"/>
          <a:stretch/>
        </p:blipFill>
        <p:spPr>
          <a:xfrm>
            <a:off x="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Pj04328780000[1]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5638680" y="-2520"/>
            <a:ext cx="3505320" cy="350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Брест, Москву, за Сталингра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за блокаду Ленинград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Керчь, Одессу и Белград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се осколки от снаряд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 ночам вам до сих по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и под Бугом где-то сня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"мессеры" строчат в у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з ложбинки не поднять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вет в атаку лейтенан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тут же падает, сражен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5228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MPj04318560000[1]"/>
          <p:cNvPicPr/>
          <p:nvPr/>
        </p:nvPicPr>
        <p:blipFill>
          <a:blip r:embed="rId1"/>
          <a:stretch/>
        </p:blipFill>
        <p:spPr>
          <a:xfrm>
            <a:off x="0" y="0"/>
            <a:ext cx="8610480" cy="688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6324480" y="0"/>
            <a:ext cx="2819520" cy="6908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дома долго будут жд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лишь дождутся похоронн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дин и тот же день и ч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стречу вы к друзьям спеш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 каждым годом меньше вас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с за это вы прост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е сумели вас сбереч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алечили ваши 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 место этих встре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дят внуки ветеран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м всем, кто вынес ту войну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ылу иль на полях сражений, Принес победную весну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лон и память поколени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 Кочур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view_1378"/>
          <p:cNvPicPr/>
          <p:nvPr/>
        </p:nvPicPr>
        <p:blipFill>
          <a:blip r:embed="rId1"/>
          <a:stretch/>
        </p:blipFill>
        <p:spPr>
          <a:xfrm>
            <a:off x="457200" y="96840"/>
            <a:ext cx="8153280" cy="5924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76320" y="6172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много важных слов на свете - Мама, Родина, счастье. А есть еще важное слово - МИ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MPj042442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будет тогда, когда все люди на нашей планете будут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MPj04309370000[1]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961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-15264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небо будет голубы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в небе не клубится ды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пушки грозные молча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улеметы не строча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 жили люди, города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р нужен на земле всегда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Н. Найден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15228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91320" y="1519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victory_day_37_resize"/>
          <p:cNvPicPr/>
          <p:nvPr/>
        </p:nvPicPr>
        <p:blipFill>
          <a:blip r:embed="rId1"/>
          <a:stretch/>
        </p:blipFill>
        <p:spPr>
          <a:xfrm>
            <a:off x="0" y="0"/>
            <a:ext cx="5562720" cy="468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60786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презентацию - Виктория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скачали эту работу на сайте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52"/>
          <p:cNvPicPr/>
          <p:nvPr/>
        </p:nvPicPr>
        <p:blipFill>
          <a:blip r:embed="rId2"/>
          <a:stretch/>
        </p:blipFill>
        <p:spPr>
          <a:xfrm>
            <a:off x="5587920" y="1523880"/>
            <a:ext cx="3546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 поздравляют тех воинов Великой Отечественной Войны, которые живут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9%20%CC%E0%FF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9_may_2004_072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MPj043375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5090722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6477120"/>
            <a:ext cx="929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о  9 мая устраивают парад военных в честь праздника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139350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user</cp:lastModifiedBy>
  <dcterms:modified xsi:type="dcterms:W3CDTF">2009-06-01T11:47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