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2A7-0B84-46FE-85DF-9C103608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D99-3E20-491A-9B8B-CC7410DC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C07-C45F-46FE-AC37-CF4B80B7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0C7-8C20-4655-B81A-0683DB53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354-21F6-4767-8ADA-B4967420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B2C-0A2B-4EB5-8C2E-29CE8010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413-3D05-40E1-B200-76C9D09A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AB5-5D75-4260-97CC-DBDCBBB2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91D-3B86-4868-BB90-BF8E1DEE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C21-38B1-490E-920E-60EBB453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797-0D84-43E2-B8D9-A0D50C12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18A-BB9B-4CF7-A597-E453C4F5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C89E-6414-497F-8D10-093CD6A2F26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16000" y="1628640"/>
            <a:ext cx="7056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ление десятичных дробей </a:t>
            </a:r>
            <a:endParaRPr b="0" lang="en-US" sz="1800" spc="1" strike="noStrike">
              <a:ln w="0">
                <a:noFill/>
              </a:ln>
              <a:solidFill>
                <a:srgbClr val="8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натуральное число</a:t>
            </a:r>
            <a:endParaRPr b="0" lang="en-US" sz="1800" spc="1" strike="noStrike">
              <a:ln w="0">
                <a:noFill/>
              </a:ln>
              <a:solidFill>
                <a:srgbClr val="8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929040" y="5357880"/>
            <a:ext cx="47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ьянов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авина В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577"/>
          <p:cNvPicPr/>
          <p:nvPr/>
        </p:nvPicPr>
        <p:blipFill>
          <a:blip r:embed="rId1"/>
          <a:stretch/>
        </p:blipFill>
        <p:spPr>
          <a:xfrm>
            <a:off x="1042920" y="4076640"/>
            <a:ext cx="2232000" cy="2065320"/>
          </a:xfrm>
          <a:prstGeom prst="rect">
            <a:avLst/>
          </a:prstGeom>
          <a:ln w="0">
            <a:noFill/>
          </a:ln>
        </p:spPr>
      </p:pic>
      <p:sp>
        <p:nvSpPr>
          <p:cNvPr id="45" name="Скругленный прямоугольник 7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alibri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163520" y="1785960"/>
            <a:ext cx="7415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Рисунок18"/>
          <p:cNvPicPr/>
          <p:nvPr/>
        </p:nvPicPr>
        <p:blipFill>
          <a:blip r:embed="rId1"/>
          <a:stretch/>
        </p:blipFill>
        <p:spPr>
          <a:xfrm>
            <a:off x="785880" y="2928960"/>
            <a:ext cx="4714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28400" y="549360"/>
            <a:ext cx="871524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   1,65 : 15 =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   55,99 : 11 =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   166,32 : 231 =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   280,56 : 167 =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   79,2 : 33 =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   87,36 : 28 =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   19,98 : 111 =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   121,22 : 551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4500720" y="549360"/>
            <a:ext cx="502920" cy="2519280"/>
          </a:xfrm>
          <a:custGeom>
            <a:avLst/>
            <a:gdLst>
              <a:gd name="textAreaLeft" fmla="*/ 0 w 502920"/>
              <a:gd name="textAreaRight" fmla="*/ 181440 w 50292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788000" y="3573360"/>
            <a:ext cx="503280" cy="2519640"/>
          </a:xfrm>
          <a:custGeom>
            <a:avLst/>
            <a:gdLst>
              <a:gd name="textAreaLeft" fmla="*/ 0 w 503280"/>
              <a:gd name="textAreaRight" fmla="*/ 181800 w 503280"/>
              <a:gd name="textAreaTop" fmla="*/ 65520 h 2519640"/>
              <a:gd name="textAreaBottom" fmla="*/ 245412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5219640" y="1484280"/>
            <a:ext cx="71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-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5435640" y="4437000"/>
            <a:ext cx="71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-2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1571760" y="642960"/>
            <a:ext cx="61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2643120" y="13572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397160"/>
          <a:ext cx="6096240" cy="11127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TextBox 4"/>
          <p:cNvSpPr/>
          <p:nvPr/>
        </p:nvSpPr>
        <p:spPr>
          <a:xfrm>
            <a:off x="1857240" y="3357720"/>
            <a:ext cx="44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о все верно оценка «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 ошибка оценка «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 ошибки оценка «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619640" y="1643040"/>
            <a:ext cx="7041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376, 1379(а-д), 138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"/>
          <p:cNvPicPr/>
          <p:nvPr/>
        </p:nvPicPr>
        <p:blipFill>
          <a:blip r:embed="rId1"/>
          <a:stretch/>
        </p:blipFill>
        <p:spPr>
          <a:xfrm>
            <a:off x="599292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87152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5"/>
          <p:cNvSpPr/>
          <p:nvPr/>
        </p:nvSpPr>
        <p:spPr>
          <a:xfrm>
            <a:off x="500040" y="500040"/>
            <a:ext cx="842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1e0e01"/>
                </a:solidFill>
                <a:uFillTx/>
                <a:latin typeface="Calibri"/>
              </a:rPr>
              <a:t>Цель урока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крепить умения и навыки деления десятичных дробей на натуральные числ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именить умения и навыки при решении задач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500040" y="428760"/>
            <a:ext cx="8215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254061"/>
                </a:solidFill>
                <a:latin typeface="Calibri"/>
              </a:rPr>
              <a:t>"</a:t>
            </a:r>
            <a:r>
              <a:rPr b="1" i="1" lang="ru-RU" sz="6600" spc="-1" strike="noStrike">
                <a:solidFill>
                  <a:srgbClr val="254061"/>
                </a:solidFill>
                <a:latin typeface="Calibri"/>
              </a:rPr>
              <a:t>Без знаний дробей никто не может признаваться знающим арифметику</a:t>
            </a:r>
            <a:r>
              <a:rPr b="0" i="1" lang="ru-RU" sz="6600" spc="-1" strike="noStrike">
                <a:solidFill>
                  <a:srgbClr val="254061"/>
                </a:solidFill>
                <a:latin typeface="Calibri"/>
              </a:rPr>
              <a:t>" 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213840" y="285840"/>
            <a:ext cx="8637480" cy="6229080"/>
            <a:chOff x="213840" y="285840"/>
            <a:chExt cx="8637480" cy="6229080"/>
          </a:xfrm>
        </p:grpSpPr>
        <p:sp>
          <p:nvSpPr>
            <p:cNvPr id="49" name="Freeform 4"/>
            <p:cNvSpPr/>
            <p:nvPr/>
          </p:nvSpPr>
          <p:spPr>
            <a:xfrm>
              <a:off x="661320" y="311040"/>
              <a:ext cx="7768440" cy="1080"/>
            </a:xfrm>
            <a:prstGeom prst="pie">
              <a:avLst/>
            </a:pr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699480" y="6502320"/>
              <a:ext cx="7743240" cy="1440"/>
            </a:xfrm>
            <a:prstGeom prst="pie">
              <a:avLst/>
            </a:pr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8813520" y="717120"/>
              <a:ext cx="1440" cy="5353560"/>
            </a:xfrm>
            <a:prstGeom prst="pie">
              <a:avLst/>
            </a:pr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264960" y="717120"/>
              <a:ext cx="25560" cy="5353560"/>
            </a:xfrm>
            <a:prstGeom prst="pie">
              <a:avLst/>
            </a:pr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264960" y="6058440"/>
              <a:ext cx="434160" cy="456480"/>
            </a:xfrm>
            <a:prstGeom prst="pie">
              <a:avLst/>
            </a:pr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 flipH="1">
              <a:off x="8416440" y="6045480"/>
              <a:ext cx="434520" cy="456480"/>
            </a:xfrm>
            <a:prstGeom prst="pie">
              <a:avLst/>
            </a:pr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 flipH="1" rot="16200000">
              <a:off x="8404920" y="271440"/>
              <a:ext cx="431280" cy="459720"/>
            </a:xfrm>
            <a:prstGeom prst="pie">
              <a:avLst/>
            </a:pr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 rot="5400000">
              <a:off x="227880" y="271440"/>
              <a:ext cx="431280" cy="459720"/>
            </a:xfrm>
            <a:prstGeom prst="pie">
              <a:avLst/>
            </a:prstGeom>
            <a:noFill/>
            <a:ln w="7632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14"/>
          <p:cNvSpPr/>
          <p:nvPr/>
        </p:nvSpPr>
        <p:spPr>
          <a:xfrm>
            <a:off x="857160" y="1571760"/>
            <a:ext cx="72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a268c"/>
                </a:solidFill>
                <a:latin typeface="Times New Roman"/>
              </a:rPr>
              <a:t>Девиз урока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ычислите ус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,5 - 1,6;          3,4 - 0,2;         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 + 0,35;          3,2 - 1,4;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,6 - 0,05;        0,3 • 2;                     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7 • 10;           0,18 • 5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8 • 3;            0,09 • 6;          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,2 • 2;            1,6 • 5;        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акк"/>
          <p:cNvPicPr/>
          <p:nvPr/>
        </p:nvPicPr>
        <p:blipFill>
          <a:blip r:embed="rId1"/>
          <a:stretch/>
        </p:blipFill>
        <p:spPr>
          <a:xfrm>
            <a:off x="6429240" y="3357720"/>
            <a:ext cx="22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круглите число 209,36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до десят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до деся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до сот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акк"/>
          <p:cNvPicPr/>
          <p:nvPr/>
        </p:nvPicPr>
        <p:blipFill>
          <a:blip r:embed="rId1"/>
          <a:stretch/>
        </p:blipFill>
        <p:spPr>
          <a:xfrm>
            <a:off x="5292720" y="1628640"/>
            <a:ext cx="2521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ыполните деление ус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,6 : 2 =                  1 : 2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,3 : 3 =                  0,15 : 5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,8 : 4 =                  0,48 : 6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,4 : 7 =                  10,5 : 5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,9 : 3 =                   0,6 : 3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,8 : 4 =                   4 : 5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акк"/>
          <p:cNvPicPr/>
          <p:nvPr/>
        </p:nvPicPr>
        <p:blipFill>
          <a:blip r:embed="rId1"/>
          <a:stretch/>
        </p:blipFill>
        <p:spPr>
          <a:xfrm>
            <a:off x="6572160" y="3143160"/>
            <a:ext cx="2357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аботаем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41, 1343,1346, 13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Рисунок18"/>
          <p:cNvPicPr/>
          <p:nvPr/>
        </p:nvPicPr>
        <p:blipFill>
          <a:blip r:embed="rId1"/>
          <a:stretch/>
        </p:blipFill>
        <p:spPr>
          <a:xfrm>
            <a:off x="2786040" y="3292560"/>
            <a:ext cx="439272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Решаем уравнени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428920" y="164304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348 (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х – х = 8,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х = 8,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 = 8,7 :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 =2,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: х=2,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i"/>
          <p:cNvPicPr/>
          <p:nvPr/>
        </p:nvPicPr>
        <p:blipFill>
          <a:blip r:embed="rId1"/>
          <a:stretch/>
        </p:blipFill>
        <p:spPr>
          <a:xfrm>
            <a:off x="599292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1104bc"/>
                </a:solidFill>
                <a:latin typeface="Calibri"/>
              </a:rPr>
              <a:t>ФИЗКУЛЬМИНУТКА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285920"/>
            <a:ext cx="7143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ы здоровьем дорож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полняем все режи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зкультуре хоть минут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ждый день мы посвяти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796606407cb2d4efe937045b5298e54a"/>
          <p:cNvPicPr/>
          <p:nvPr/>
        </p:nvPicPr>
        <p:blipFill>
          <a:blip r:embed="rId1"/>
          <a:stretch/>
        </p:blipFill>
        <p:spPr>
          <a:xfrm>
            <a:off x="6643800" y="3071880"/>
            <a:ext cx="22510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08:33:44Z</dcterms:created>
  <dc:creator>школа</dc:creator>
  <dc:description/>
  <dc:language>en-US</dc:language>
  <cp:lastModifiedBy>User</cp:lastModifiedBy>
  <dcterms:modified xsi:type="dcterms:W3CDTF">2015-04-14T14:08:15Z</dcterms:modified>
  <cp:revision>12</cp:revision>
  <dc:subject/>
  <dc:title>Слайд 1</dc:title>
</cp:coreProperties>
</file>