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BF7-056E-4503-A20B-B9D7C0E5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D17-74B8-48C9-8196-A710717F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E1C-46D6-4CCC-A839-F97819A9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F61-79A5-4486-88E3-0B85D2F7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AFB-C471-4145-ABF8-071E4336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1D8-0804-4AE8-9CA9-775E26B4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2C0-C300-4FC6-9F68-4F79080E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C43-6251-4A58-9318-E38EDFBF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7C6-736E-421D-A4FE-B268F880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6A6-313B-45AB-AD5A-BEE2736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B46-7FDE-43D6-ACE0-AF59756F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131-8E88-4A92-BCF3-DC3FD444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C8BA-90F5-4071-83A7-E4A19EB6EB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3454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ЕГЭ 2015.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Часть 2.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Структура устной части экзамена.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4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x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5б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19664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е базового уровня слож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ловный диалог-расспрос на основе зрительной опоры (рекламное объявлени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бходимо задать 5 вопросов по предложенной тема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,5 минуты на предварительное ознакомление с зада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20 секунд на формулировк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ждого вопро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81723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Критерии оценивания задания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857240"/>
            <a:ext cx="8713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76780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748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 чего на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предложенную иллюстрацию и определите, что она реклами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8920" y="1484280"/>
            <a:ext cx="8713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формулировать вопр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тип в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/whether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й вопро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ительные слова –  специ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ните, что общий вопрос задается с восходящей интонацией,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ьный – с нисходя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1628280"/>
            <a:ext cx="871380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формулировать вопр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 отсутствии вопросительных слов помните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             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              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               is there/ ar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2"/>
          <p:cNvCxnSpPr/>
          <p:nvPr/>
        </p:nvCxnSpPr>
        <p:spPr>
          <a:xfrm>
            <a:off x="1403280" y="3141360"/>
            <a:ext cx="12247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70" name="Прямая со стрелкой 7"/>
          <p:cNvCxnSpPr/>
          <p:nvPr/>
        </p:nvCxnSpPr>
        <p:spPr>
          <a:xfrm>
            <a:off x="1547640" y="3715920"/>
            <a:ext cx="12247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71" name="Прямая со стрелкой 8"/>
          <p:cNvCxnSpPr/>
          <p:nvPr/>
        </p:nvCxnSpPr>
        <p:spPr>
          <a:xfrm>
            <a:off x="2016000" y="4292280"/>
            <a:ext cx="12247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72" name="Прямая со стрелкой 9"/>
          <p:cNvCxnSpPr/>
          <p:nvPr/>
        </p:nvCxnSpPr>
        <p:spPr>
          <a:xfrm>
            <a:off x="2484360" y="4868640"/>
            <a:ext cx="12247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1628280"/>
            <a:ext cx="871380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формулировать вопр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врем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ense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ое необходимо использовать, и выберите 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ующий вспомогательный 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используйте короткие и четкие формули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63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ЗАДАНИЕ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5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x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7б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125000"/>
            <a:ext cx="83520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нологическое тематическое высказывание на основе зрительной опоры (фотография/карти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выбирает одну из трех фотографий и описывает ее, опираясь на предложенный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5 минуты на предварительное ознакомление с зад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мин на выполнени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Что оценива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412640"/>
            <a:ext cx="8578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коммуникативной задачи (даны ответы на все вопр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высказывания (наличие вступления и заключения, завершенность высказывания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33000"/>
            <a:ext cx="880092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Задание 3 базового уровня –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писание фото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1B31-2E21-4DE8-BB52-3C25FDD49E43}" type="slidenum">
              <a:rPr b="0" lang="ru-RU" sz="4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2560" y="1628640"/>
            <a:ext cx="9001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ценивается аналитически по трём критериям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коммуникативной задачи/содержание (макс. – 3 балл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устного высказывания (макс. – 2 балл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овое оформление высказывания (макс. –2 бал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баллов максим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923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Особенности компьютерных тес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6985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ивычность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живого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ность п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сть нажать на пау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сть вернуться к предыдущему или перейти к следующему зад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сть переспросить/уточ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Критерии оценивания заданий 3-4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Решение коммуникативной зада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67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494000"/>
          <a:ext cx="8767800" cy="5364000"/>
        </p:xfrm>
        <a:graphic>
          <a:graphicData uri="http://schemas.openxmlformats.org/drawingml/2006/table">
            <a:tbl>
              <a:tblPr/>
              <a:tblGrid>
                <a:gridCol w="4384800"/>
                <a:gridCol w="4383000"/>
              </a:tblGrid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ая задача выполнена полностью: содержание полно,  точно и развернуто отражает все аспекты, указанные в задании (в среднем не менее 3-х фраз по каждому пункту пл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. задача выполнена не полностью: 2 аспекта не раскрыты (остальные раскрыты полно), ИЛИ все аспекты раскрыты неполно (в среднем менее 2-х фраз по каждому пункту пл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. задача выполнена частично: 1 аспект не раскрыт (остальные раскрыты полно), ИЛИ 1-2 раскрыты неполно (в среднем не менее 2-х фраз по каждому пункту пл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ая задача выполнена менее, чем на 50%: 3 и более аспектов содержания не раскры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03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Arial"/>
              </a:rPr>
              <a:t>Задание </a:t>
            </a:r>
            <a:r>
              <a:rPr b="1" lang="en-US" sz="30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ru-RU" sz="3000" spc="-1" strike="noStrike">
                <a:solidFill>
                  <a:srgbClr val="7030a0"/>
                </a:solidFill>
                <a:latin typeface="Arial"/>
              </a:rPr>
              <a:t> – описать фото</a:t>
            </a:r>
            <a:br>
              <a:rPr sz="3000"/>
            </a:br>
            <a:r>
              <a:rPr b="1" lang="ru-RU" sz="3000" spc="-1" strike="noStrike">
                <a:solidFill>
                  <a:srgbClr val="7030a0"/>
                </a:solidFill>
                <a:latin typeface="Arial"/>
              </a:rPr>
              <a:t>Доп. схема оцениван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0042-B791-4BE1-B147-BC8B9BEEE157}" type="slidenum">
              <a:rPr b="0" lang="ru-RU" sz="4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Объект 2" descr=""/>
          <p:cNvPicPr/>
          <p:nvPr/>
        </p:nvPicPr>
        <p:blipFill>
          <a:blip r:embed="rId1"/>
          <a:stretch/>
        </p:blipFill>
        <p:spPr>
          <a:xfrm>
            <a:off x="384120" y="1341360"/>
            <a:ext cx="81504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нном задании необходимо описать только 1 картинку на Ваш вы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163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ЗАДАНИЕ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6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x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7б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206028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нолог-сравнение двух фотограф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емуся предлагается кратко описать и сравнить две фотографии, следуя предложенному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же необходимо выразить и аргументировать свою точ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ения по тематике фотограф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6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x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7б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220464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5 минуты на предварительное ознакомление с зад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мин на выполнени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000" y="980640"/>
            <a:ext cx="8351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Задания С5 и С6 оцениваются по 3 критерия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коммуникативной задачи с учетом полноты высказывания (макс. – 3 бал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высказывания с учетом целостности и логичности высказывания (макс. – 2 бал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50920" y="692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языковое оформление высказывания с учетом выразительности и эмоциональности речи, разнообразия лексико-грамматического материала и умения использовать ср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ой связи (макс. – 2 бал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036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Задание 4 – сравнить фото</a:t>
            </a:r>
            <a:br>
              <a:rPr sz="3000"/>
            </a:b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Доп. схема оцениван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Объект 2" descr=""/>
          <p:cNvPicPr/>
          <p:nvPr/>
        </p:nvPicPr>
        <p:blipFill>
          <a:blip r:embed="rId1"/>
          <a:stretch/>
        </p:blipFill>
        <p:spPr>
          <a:xfrm>
            <a:off x="895320" y="1773360"/>
            <a:ext cx="81518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00360" y="4365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ЗАДАН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3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x. 1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196640"/>
            <a:ext cx="835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базового уровня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вслух небольшого фрагмента информационного или научно-популярного стилистически нейтрального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5 минуты на предварительное ознакомление с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5 минуты – на непосред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Что оценива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268280"/>
            <a:ext cx="8669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вырази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носительные навыки (паузы, фразовое ударение, интонационные контуры, произношение слов, ударение в слов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не более 5 фонетических ошибок, в т.ч. 1-2 ошиб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ажающие смыс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3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Критерии оценивания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1857240"/>
            <a:ext cx="8713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1857240"/>
            <a:ext cx="913140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48392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то 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тельно изучите предложенный отры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про себя, разделив каждое предложение на смысловые отрезки, чтобы при чтении вслух использовать правиль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он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4200" y="845640"/>
            <a:ext cx="85788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очитайте текст сначала шепотом, а затем в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ращайте внимание на слова, трудные для произ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не торопитесь при чтении, придерживайтесь среднего темпа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328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ЗАДАН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ИваненкИ</cp:lastModifiedBy>
  <dcterms:modified xsi:type="dcterms:W3CDTF">2015-04-14T17:02:20Z</dcterms:modified>
  <cp:revision>754</cp:revision>
  <dc:subject/>
  <dc:title>Diapositiva 1</dc:title>
</cp:coreProperties>
</file>