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03A-C032-4791-B973-0192260B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8C1B-41DC-4C0F-A0D8-85D86D66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9BD-7EE9-4F9E-9035-BD5FFD7C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ACD-D142-4ADC-BF7E-A0A129A9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2C2-F5B9-4FCC-A709-FED4D18D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84D-51BC-4C8E-9D80-8D9C143C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3473-3C3E-47CE-95A4-282D4E83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2B8-01A5-422B-9515-2B5C118E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A0AD-685A-4DE0-9FD3-28BD36FE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7C6-A091-4B73-986F-18189E27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4E17-35BB-43F0-A5F0-FF709E26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54B3-50DE-44AA-BD79-3EAB3514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BDD3-DF9A-482C-8915-75D9189DB5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34544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Arial"/>
              </a:rPr>
              <a:t>ЕГЭ 2015. 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Arial"/>
              </a:rPr>
              <a:t>Часть 2. 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Arial"/>
              </a:rPr>
              <a:t>Структура устной части экзамена.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4 (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x.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5б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19664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ание базового уровня слож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ловный диалог-расспрос на основе зрительной опоры (рекламное объявлени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обходимо задать 5 вопросов по предложенной темати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,5 минуты на предварительное ознакомление с задан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20 секунд на формулировк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ждого вопро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81723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Критерии оценивания задания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857240"/>
            <a:ext cx="8713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8767800" cy="43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748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 чего на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те предложенную иллюстрацию и определите, что она рекламир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8920" y="1484280"/>
            <a:ext cx="8713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к формулировать вопро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тип во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/whether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ий вопро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ительные слова –  специ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ните, что общий вопрос задается с восходящей интонацией, 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ьный – с нисходя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360" y="1628280"/>
            <a:ext cx="8713800" cy="43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к формулировать вопро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и отсутствии вопросительных слов помните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             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               how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ility                is there/ ar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2"/>
          <p:cNvCxnSpPr/>
          <p:nvPr/>
        </p:nvCxnSpPr>
        <p:spPr>
          <a:xfrm>
            <a:off x="1403280" y="3141360"/>
            <a:ext cx="12247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70" name="Прямая со стрелкой 7"/>
          <p:cNvCxnSpPr/>
          <p:nvPr/>
        </p:nvCxnSpPr>
        <p:spPr>
          <a:xfrm>
            <a:off x="1547640" y="3715920"/>
            <a:ext cx="12247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71" name="Прямая со стрелкой 8"/>
          <p:cNvCxnSpPr/>
          <p:nvPr/>
        </p:nvCxnSpPr>
        <p:spPr>
          <a:xfrm>
            <a:off x="2016000" y="4292280"/>
            <a:ext cx="12247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72" name="Прямая со стрелкой 9"/>
          <p:cNvCxnSpPr/>
          <p:nvPr/>
        </p:nvCxnSpPr>
        <p:spPr>
          <a:xfrm>
            <a:off x="2484360" y="4868640"/>
            <a:ext cx="12247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360" y="1628280"/>
            <a:ext cx="8713800" cy="43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к формулировать вопро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врем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ense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ое необходимо использовать, и выберите 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ствующий вспомогательный 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используйте короткие и четкие формулир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163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ЗАДАНИЕ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5 (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x.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7б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125000"/>
            <a:ext cx="83520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нологическое тематическое высказывание на основе зрительной опоры (фотография/картин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йся выбирает одну из трех фотографий и описывает ее, опираясь на предложенный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5 минуты на предварительное ознакомление с зад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мин на выполнение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Что оценивае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412640"/>
            <a:ext cx="8578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коммуникативной задачи (даны ответы на все вопросы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ция высказывания (наличие вступления и заключения, завершенность высказывания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33000"/>
            <a:ext cx="8800920" cy="14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Задание 3 базового уровня –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описание фото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9EF0-ABCE-429F-B9FC-27B80AABE5BA}" type="slidenum">
              <a:rPr b="0" lang="ru-RU" sz="4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2560" y="1628640"/>
            <a:ext cx="9001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оценивается аналитически по трём критериям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коммуникативной задачи/содержание (макс. – 3 балл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ция устного высказывания (макс. – 2 балл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зыковое оформление высказывания (макс. –2 бал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баллов максиму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764640"/>
            <a:ext cx="9234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Особенности компьютерных тест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6985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-432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ивычность ситу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живого 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раниченность по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озможность нажать на пау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озможность вернуться к предыдущему или перейти к следующему зад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озможность переспросить/уточ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89308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Критерии оценивания заданий 3-4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Решение коммуникативной задач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67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1494000"/>
          <a:ext cx="8767800" cy="5364000"/>
        </p:xfrm>
        <a:graphic>
          <a:graphicData uri="http://schemas.openxmlformats.org/drawingml/2006/table">
            <a:tbl>
              <a:tblPr/>
              <a:tblGrid>
                <a:gridCol w="4384800"/>
                <a:gridCol w="4383000"/>
              </a:tblGrid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 бал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тивная задача выполнена полностью: содержание полно,  точно и развернуто отражает все аспекты, указанные в задании (в среднем не менее 3-х фраз по каждому пункту план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 бал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. задача выполнена не полностью: 2 аспекта не раскрыты (остальные раскрыты полно), ИЛИ все аспекты раскрыты неполно (в среднем менее 2-х фраз по каждому пункту план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 бал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. задача выполнена частично: 1 аспект не раскрыт (остальные раскрыты полно), ИЛИ 1-2 раскрыты неполно (в среднем не менее 2-х фраз по каждому пункту план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тивная задача выполнена менее, чем на 50%: 3 и более аспектов содержания не раскры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036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Arial"/>
              </a:rPr>
              <a:t>Задание </a:t>
            </a:r>
            <a:r>
              <a:rPr b="1" lang="en-US" sz="30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1" lang="ru-RU" sz="3000" spc="-1" strike="noStrike">
                <a:solidFill>
                  <a:srgbClr val="7030a0"/>
                </a:solidFill>
                <a:latin typeface="Arial"/>
              </a:rPr>
              <a:t> – описать фото</a:t>
            </a:r>
            <a:br>
              <a:rPr sz="3000"/>
            </a:br>
            <a:r>
              <a:rPr b="1" lang="ru-RU" sz="3000" spc="-1" strike="noStrike">
                <a:solidFill>
                  <a:srgbClr val="7030a0"/>
                </a:solidFill>
                <a:latin typeface="Arial"/>
              </a:rPr>
              <a:t>Доп. схема оценивания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45A4-1017-4230-920D-4D31F225C2D0}" type="slidenum">
              <a:rPr b="0" lang="ru-RU" sz="4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Объект 2" descr=""/>
          <p:cNvPicPr/>
          <p:nvPr/>
        </p:nvPicPr>
        <p:blipFill>
          <a:blip r:embed="rId1"/>
          <a:stretch/>
        </p:blipFill>
        <p:spPr>
          <a:xfrm>
            <a:off x="384120" y="1341360"/>
            <a:ext cx="81504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анном задании необходимо описать только 1 картинку на Ваш вы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163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ЗАДАНИЕ 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ние 4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6 (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x.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7б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206028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нолог-сравнение двух фотограф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емуся предлагается кратко описать и сравнить две фотографии, следуя предложенному пла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же необходимо выразить и аргументировать свою точ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рения по тематике фотограф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ние 4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6 (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x.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7б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4000" y="220464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5 минуты на предварительное ознакомление с зад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мин на выполнение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68000" y="980640"/>
            <a:ext cx="8351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Задания С5 и С6 оцениваются по 3 критерия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коммуникативной задачи с учетом полноты высказывания (макс. – 3 бал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ция высказывания с учетом целостности и логичности высказывания (макс. – 2 бал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50920" y="692280"/>
            <a:ext cx="86421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языковое оформление высказывания с учетом выразительности и эмоциональности речи, разнообразия лексико-грамматического материала и умения использовать сред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еской связи (макс. – 2 бал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036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Задание 4 – сравнить фото</a:t>
            </a:r>
            <a:br>
              <a:rPr sz="3000"/>
            </a:b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Доп. схема оценивания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Объект 2" descr=""/>
          <p:cNvPicPr/>
          <p:nvPr/>
        </p:nvPicPr>
        <p:blipFill>
          <a:blip r:embed="rId1"/>
          <a:stretch/>
        </p:blipFill>
        <p:spPr>
          <a:xfrm>
            <a:off x="895320" y="1773360"/>
            <a:ext cx="81518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00360" y="4365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ЗАДАН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3 (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x. 1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1196640"/>
            <a:ext cx="8352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базового уровня сл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ение вслух небольшого фрагмента информационного или научно-популярного стилистически нейтрального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5 минуты на предварительное ознакомление с тек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5 минуты – на непосред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ение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Что оценивае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268280"/>
            <a:ext cx="8669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выразительного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носительные навыки (паузы, фразовое ударение, интонационные контуры, произношение слов, ударение в слов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ускается не более 5 фонетических ошибок, в т.ч. 1-2 ошиб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ажающие смыс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3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Критерии оценивания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1857240"/>
            <a:ext cx="8713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1857240"/>
            <a:ext cx="913140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Стратегии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483920"/>
            <a:ext cx="8686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то 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тельно изучите предложенный отрыв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текст про себя, разделив каждое предложение на смысловые отрезки, чтобы при чтении вслух использовать правильн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он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4200" y="845640"/>
            <a:ext cx="85788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рочитайте текст сначала шепотом, а затем всл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бращайте внимание на слова, трудные для произ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не торопитесь при чтении, придерживайтесь среднего темпа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328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ЗАДАН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ИваненкИ</cp:lastModifiedBy>
  <dcterms:modified xsi:type="dcterms:W3CDTF">2015-04-14T17:02:20Z</dcterms:modified>
  <cp:revision>754</cp:revision>
  <dc:subject/>
  <dc:title>Diapositiva 1</dc:title>
</cp:coreProperties>
</file>