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5356-2230-402C-9270-39F83100FE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1034-F662-430B-AFAA-31F8A1DBAA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F7A-89B7-4607-AEEF-498EA53C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0DE-C7A1-4D79-9A3E-69CB2DC9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BF7-1308-48C3-A367-58C48663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78B-7608-4E93-8AEE-8543AB8E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E02-8562-4650-96D5-0F0BF020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DB5-CC99-43FA-A30D-C3A56ADC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01E-5887-41C7-B47A-A381337A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DBE4-CB46-4D19-AB31-697432D4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15F-981A-4DE5-A515-B841AC1E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E89C-E046-4517-8A1F-0491EB5A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8B2-692B-442A-B07D-8404E62C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3DD-AD9A-44BB-8C5E-2F8BFFB8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7470-796A-4253-9E57-2FA84E0735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34544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Lucida Handwriting"/>
              </a:rPr>
              <a:t>ЕГЭ 2015</a:t>
            </a:r>
            <a:br>
              <a:rPr sz="4800"/>
            </a:br>
            <a:r>
              <a:rPr b="1" lang="ru-RU" sz="4800" spc="-1" strike="noStrike">
                <a:solidFill>
                  <a:srgbClr val="006666"/>
                </a:solidFill>
                <a:latin typeface="Lucida Handwriting"/>
              </a:rPr>
              <a:t>Часть 1. Структура письменной части экзамена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3. Задание на полное понимание прослушанного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213336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высокого уровня сл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7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лушать интер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ь тест множественного выбора по содержанию (3 оп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66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тельно изучить вопросы и предложенные вариа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прослушивания необходимо постараться выбрать 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анализировать оставшиеся  вариа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9280" y="765000"/>
            <a:ext cx="8147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А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ьте осторожны с теми вариантами ответа, в которых встречаются слова и фразы из текста; чаще всего такие варианты являются невер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авильных ответах часто используются синонимы, периф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ЧТ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Задания 10 – 1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3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20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1. Задание на понимание основного содержания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560" y="2060640"/>
            <a:ext cx="79563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-7 минут на выпол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обрать заголовки из предложенного списка к 7 микротекстам (один лишний заголов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8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40" y="155736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тельно прочитать заголовки, уяснить общую тему тек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озможности выстроить ассоциативный ряд с ключевым словом каждого 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 читай «по диагонали», не вчитываясь слишком глубоко в содерж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79280" y="765000"/>
            <a:ext cx="76327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А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чевые слова в тексте, указывающие на правильный ответ, всегда принадлежат к группе базовой лекс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простые , доступные ключевые слова чаще всего находятся в первых двух или последних двух строках текс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2. Задание на установление структурно-смысловых связей в текс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4000" y="2565000"/>
            <a:ext cx="6912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н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агается связный текст, в котором пропущены 6 фрагментов и список из 7 фрагментов для заполнения пропус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0520" y="1483920"/>
            <a:ext cx="7452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анализируй предложения с пропусками с целью определить, какая часть предложения выпущена (придаточное предложение, дополнение, обстоятельство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предложенные варианты и соотнеси предложенные фрагменты с пропусками с точки зрения синтакси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-360" y="692280"/>
            <a:ext cx="68756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А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тельный аспект, общий смысл предложения не менее важен, чем структурный аспект, синтаксис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 смысловом и в структурном плане выбор фрагмента определяется тем, что предшествует пропуску и следует за 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АУД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Задания 1 – 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3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20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80" y="259920"/>
            <a:ext cx="91407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3. Задание на полное по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125000"/>
            <a:ext cx="730872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е сложное в разделе «Чт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ий уровень сл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е и детальное понимание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 множественного выбора (определить правильный ответ на каждый вопрос из четырех предложенны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360" y="1125360"/>
            <a:ext cx="6948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мотреть текст, но не читать внима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 первый вопрос по тексту связан с определением основной темы текста. Поэтому следует обратить внимание на заголовок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ний вопрос может касаться всего текста и общей авторской поз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А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ледует ориентироваться на прямое повторение фразы или словосочетания текста в предложенных вариантах ответа, чаще всего это заведомо невер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ГРАММАТИКА И ЛЕКС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42732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Задания 19-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4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20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1. Задания на контроль грамматических навы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7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заполнить пропуски преобразованными грамматически сло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424160"/>
            <a:ext cx="802800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мотрите список предлагаемых для преобразования слов, определи часть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и существительные, прилагательные, местоимения, наречия, числительные и модальные глаголы (они практически всегда предполагают одну опцию преобразов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-360" y="620280"/>
            <a:ext cx="76676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Работа с глагол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 наклонение (изъявительное, повелительное, сослагательн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залог (действительный или страдательны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время (настоящее, прошедшее, будуще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а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наличие/отсутствие идеи предшеств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2. Задание на контроль словообразовательных навы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 часть речи исходного слова и необходимую часть речи для про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исходное слово и пропущенное слово принадлежат к одной и той же части речи, следует подобрать соответствующий отрицательный префи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50560" y="907560"/>
            <a:ext cx="84358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А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честве правильных ответов принимаются британский и американский варианты написания слов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vourite/favor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1. Задание на понимание основного содержания прослушанного текс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7308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сопоставить микротексты с утверждениями, данными в списке (есть одно лишнее утвержд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3. Задание на контроль лексико-грамматических навы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ный уровень (самое сложное задание в раздел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жественный выбор (восстановить пропуски в связном отрывке текста, выбрав слово из четырех опц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907920"/>
            <a:ext cx="868680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ое внимание следует обращать на сочетаемость лексических еди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ни, что грамматическая конструкция влияет на выбор лексической еди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заполнения пропусков снова прочитай и проверь, нет ли нарушений логики, грам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ПИСЬ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4005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Задания 39 – 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6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20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1. Задание на написание личного пись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ивается по трем критериям (содержание, организация текста, языковое оформление текс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0-140 слов (допускается не более 10% отклонения в объем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0" y="836280"/>
            <a:ext cx="8686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А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использовать краткий и полный вариант написания адр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о должно содержать фразы, выражающие благодарность за полученное письмо и указание на предыдущие конта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56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опросы желательно отвечать в том порядке, в каком они даны в тексте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й вводные слова и обороты, начиная новую мысль (</a:t>
            </a: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 must say, as for 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815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2. Задание на создание развернутого письменного высказывания с элементами рассуждения «Мое мне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9640" y="3789360"/>
            <a:ext cx="69120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ий уровень сл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-250 слов (не более 10% отклонения в объем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А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овпадении 30% текста учащегося с текстами из письменных источников работа не проверяется (10 и более слов подря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ребуется полное по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о уловить основное содержание, опираясь на ключев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Объект 3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Объект 3" descr=""/>
          <p:cNvPicPr/>
          <p:nvPr/>
        </p:nvPicPr>
        <p:blipFill>
          <a:blip r:embed="rId1"/>
          <a:stretch/>
        </p:blipFill>
        <p:spPr>
          <a:xfrm>
            <a:off x="103320" y="620640"/>
            <a:ext cx="89373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765000"/>
            <a:ext cx="914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тавление собственного м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n my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 therefore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o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o my way of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t is my firm belief/opinion/view/conviction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 am inclined to believe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t seems/appears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As far as I am conce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0" y="764640"/>
            <a:ext cx="82440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первого аргу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Firs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First and forem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First of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A major benefit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o begin/start with (it is important to emphas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второго аргу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Seco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Furth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More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What is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Be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Simi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A further convincing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Another (positive/negative) aspec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1268280"/>
            <a:ext cx="868680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 последнего аргумента, 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Fi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Las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981000"/>
            <a:ext cx="8686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ширение, иллюстрация аргу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Providing that (provi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U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As long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No matter 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Whe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056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противоположной точки 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here is another side to the issue/ questi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here are people who have the opposite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-360" y="691920"/>
            <a:ext cx="10620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контраргу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n contrast with the idea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Desp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n spit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Regardless of the 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While, whe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hough (althou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Nonetheless, neverth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0560" y="907560"/>
            <a:ext cx="84358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при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Fo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For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f we look at the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f we take Internet p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78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утвер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ить общую тему, объединяющую вс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ожить, какой особый аспект общей темы выделяется в каждом утвержд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ожить, какие слова и словосочетания могут быть использованы в каждом тек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0560" y="907560"/>
            <a:ext cx="84358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деление мысли, придание ей того или иного оттенка, уси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Cl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Obvi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Needless to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gener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ление причинно-следственной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Owing/ due to the 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For this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On the ground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Another caus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her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Consequ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5056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, 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o conclude</a:t>
            </a: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o summarize</a:t>
            </a: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On the whole (I believe th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А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лане задания сказано: 2-3 аргумента в поддержку своей точки зрения ( от вас ожидаются 2 развернутых или 3 более кратких аргумен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жде чем излагать аргументы противоположной стороны, следует задуматься о собственных контраргум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765000"/>
            <a:ext cx="8362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ключении обязательно нужно обозначить еще раз свою позицию (она не должна меняться на протяжении сочин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льзя занимать компромиссную пози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264960" y="879480"/>
            <a:ext cx="9377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Список использованных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78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овова Е.Н. ЕГЭ 2012. Английский язык. Тематические тестовые задания / Е.Н. Соловова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ohn Parsons.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: Центр изучения английского языка Елены Солововой.,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менко Е.А., Бодоньи М.А., Долгопольская И.Б., Черникова Н.В. Английский язык. Подготовка к ЕГЭ-2015. Пособие с аудиоприложением. / Под редакцией Е.А.Фоменко. – Ростов-на Дону: Легион,20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версия ЕГЭ-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ege-i-gve-11/demoversii-specifikacii-kodifik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ите похожие между собой утверждения и установи различия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68360" y="836280"/>
            <a:ext cx="9864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2. Задание на понимание в прослушанном тексте запрашиваемой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360" y="2420640"/>
            <a:ext cx="8317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ный уровень сл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лушивание беседы в стандартной ситуации повседневного 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оценить утверждения по содержанию (ВЕРНО, НЕВЕРНО, В ТЕКСТЕ НЕ СКАЗА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341360"/>
            <a:ext cx="7740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 прослушиванием прочитать предложенные утверждения и обобщить информацию о ситуации, полученную из 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о обратите внимание на отрицательные предложения , перефразируйте их так, чтобы смысл предложения оставался тем же, при этом отсутствовала бы отрицательная час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78920" y="98100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КАК ВАРИАН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первого прослушивания определить, есть ли информация в тексте вообще (получаем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T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второго прослушивания оцениваем оставшиеся утверждения ка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/FALS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ИваненкИ</cp:lastModifiedBy>
  <dcterms:modified xsi:type="dcterms:W3CDTF">2015-04-14T16:10:36Z</dcterms:modified>
  <cp:revision>751</cp:revision>
  <dc:subject/>
  <dc:title>Diapositiva 1</dc:title>
</cp:coreProperties>
</file>