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665-E999-4CBD-8D88-FE1F87CC3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8CBB-992A-44D8-A6D5-D82228239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043-583D-40BB-96C3-79CF1697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419-FA8D-4C2F-AB82-9F67A043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9E0-01D0-4258-B4D4-61228CF9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70C-0464-4EFE-B226-E83FB93E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352-8E5D-4563-BC75-03089A7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E4C-CE85-4816-8C5C-2BBFDCE4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6D2-5154-4C78-B9A6-EFC05DEB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5DC-C0A2-4ADD-A136-A3C40DD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DDD-4CC7-471E-83C6-10D4CAB1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11F-3599-4578-8E41-B865C6D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91C-B63E-41FC-A085-95D2782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FC7-D94E-482E-9F08-002F710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225-7332-45A4-A2E5-92484474B0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3454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Lucida Handwriting"/>
              </a:rPr>
              <a:t>ЕГЭ 2015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Lucida Handwriting"/>
              </a:rPr>
              <a:t>Часть 1. Структура письменной части экзамена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полное понимание прослуша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213336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высокого уровня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ушать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тест множественного выбора по содержанию (3 оп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66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изучить вопросы и предложенные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рослушивания необходимо постараться выбрать 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оставшиеся 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9280" y="765000"/>
            <a:ext cx="814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осторожны с теми вариантами ответа, в которых встречаются слова и фразы из текста; чаще всего такие варианты являются невер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авильных ответах часто используются синонимы, периф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Ч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0 –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3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понимание основного содержан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2060640"/>
            <a:ext cx="7956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7 минут на вы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ать заголовки из предложенного списка к 7 микротекстам (один лишний заголов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40" y="155736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прочитать заголовки, уяснить общую тему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озможности выстроить ассоциативный ряд с ключевым словом каждого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читай «по диагонали», не вчитываясь слишком глубоко в содерж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79280" y="765000"/>
            <a:ext cx="7632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слова в тексте, указывающие на правильный ответ, всегда принадлежат к группе базовой лек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простые , доступные ключевые слова чаще всего находятся в первых двух или последних двух строках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установление структурно-смысловых связей в тек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565000"/>
            <a:ext cx="6912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тся связный текст, в котором пропущены 6 фрагментов и список из 7 фрагментов для заполнения пропу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20" y="1483920"/>
            <a:ext cx="7452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 предложения с пропусками с целью определить, какая часть предложения выпущена (придаточное предложение, дополнение, обстоятельств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предложенные варианты и соотнеси предложенные фрагменты с пропусками с точки зрения синтакси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360" y="692280"/>
            <a:ext cx="6875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тельный аспект, общий смысл предложения не менее важен, чем структурный аспект, синтаксис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смысловом и в структурном плане выбор фрагмента определяется тем, что предшествует пропуску и следует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АУД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9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 –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3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80" y="259920"/>
            <a:ext cx="9140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полное по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125000"/>
            <a:ext cx="7308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е сложное в разделе «Чт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е и детальное понима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множественного выбора (определить правильный ответ на каждый вопрос из четырех предложе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125360"/>
            <a:ext cx="6948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еть текст, но не читать вним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первый вопрос по тексту связан с определением основной темы текста. Поэтому следует обратить внимание на заголовок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й вопрос может касаться всего текста и общей авторской 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ледует ориентироваться на прямое повторение фразы или словосочетания текста в предложенных вариантах ответа, чаще всего это заведомо невер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ГРАММАТИКА И ЛЕКС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42732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19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4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я на контроль грамматически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заполнить пропуски преобразованными грамматическ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424160"/>
            <a:ext cx="8028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ите список предлагаемых для преобразования слов, определи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 существительные, прилагательные, местоимения, наречия, числительные и модальные глаголы (они практически всегда предполагают одну опцию преобраз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620280"/>
            <a:ext cx="76676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бота с глаго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 наклонение (изъявительное, повелительное, сослага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залог (действительный или страдатель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время (настоящее, прошедшее, будущ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наличие/отсутствие идеи предш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контроль словообразовательны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 часть речи исходного слова и необходимую часть речи для про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исходное слово и пропущенное слово принадлежат к одной и той же части речи, следует подобрать соответствующий отрицательный префи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правильных ответов принимаются британский и американский варианты написания сл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urite/favor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понимание основного содержания прослушанного текс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73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сопоставить микротексты с утверждениями, данными в списке (есть одно лишнее утверж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3. Задание на контроль лексико-грамматических навы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(самое сложное задание в раздел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енный выбор (восстановить пропуски в связном отрывке текста, выбрав слово из четырех опц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90792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ое внимание следует обращать на сочетаемость лексических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, что грамматическая конструкция влияет на выбор лексической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полнения пропусков снова прочитай и проверь, нет ли нарушений логики, грам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ИСЬ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4005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Задания 39 –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6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88e"/>
                </a:solidFill>
                <a:latin typeface="Arial"/>
              </a:rPr>
              <a:t>2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1. Задание на написание личного пис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вается по трем критериям (содержание, организация текста, языковое оформление тек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-140 слов (допускается не более 10% отклонения в объ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использовать краткий и полный вариант написания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должно содержать фразы, выражающие благодарность за полученное письмо и указание на предыдущие конт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ы желательно отвечать в том порядке, в каком они даны в текст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 вводные слова и обороты, начиная новую мысль (</a:t>
            </a: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must say, as for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15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создание развернутого письменного высказывания с элементами рассуждения «Мое мн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3789360"/>
            <a:ext cx="6912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-250 слов (не более 10% отклонения в объе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впадении 30% текста учащегося с текстами из письменных источников работа не проверяется (10 и более слов подря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ребуется полное 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уловить основное содержание, опираясь на ключев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103320" y="620640"/>
            <a:ext cx="8937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76500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собственного м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my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therefor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my way of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t is my firm belief/opinion/view/convictio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 am inclined to believ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t seems/appears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s far as I am conce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0" y="764640"/>
            <a:ext cx="82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ервого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 and fore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rst of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 major benefi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begin/start with (it is important to empha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торого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eco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urth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More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at i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Be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 further convincing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nother (positive/negative) aspec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268280"/>
            <a:ext cx="868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 последнего аргумента, 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La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98100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ение, иллюстрация 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Providing that (prov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s long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o matter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e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ротивоположн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 is another side to the issue/ ques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 are people who have the opposite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-360" y="691920"/>
            <a:ext cx="1062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контрарг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contrast with the idea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Desp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n spit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Regardless of the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While, whe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ough (alth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onetheless, neverth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при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 we look at th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If we take Internet p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у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ь общую тему, объединяющую вс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ть, какой особый аспект общей темы выделяется в каждом утвер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ить, какие слова и словосочетания могут быть использованы в каждом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ение мысли, придание ей того или иного оттенка, уси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b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Needless to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wing/ due to the 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For this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n the ground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Another cau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Cons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, 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conclude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To summarize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On the whole (I believe t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лане задания сказано: 2-3 аргумента в поддержку своей точки зрения ( от вас ожидаются 2 развернутых или 3 более кратких аргу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чем излагать аргументы противоположной стороны, следует задуматься о собственных контраргум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лючении обязательно нужно обозначить еще раз свою позицию (она не должна меняться на протяжении сочи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ьзя занимать компромиссную пози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264960" y="879480"/>
            <a:ext cx="9377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писок использован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78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ова Е.Н. ЕГЭ 2012. Английский язык. Тематические тестовые задания / Е.Н. Соловов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hn Parsons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Центр изучения английского языка Елены Солововой.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менко Е.А., Бодоньи М.А., Долгопольская И.Б., Черникова Н.В. Английский язык. Подготовка к ЕГЭ-2015. Пособие с аудиоприложением. / Под редакцией Е.А.Фоменко. – Ростов-на Дону: Легион,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версия ЕГЭ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ege-i-gve-11/demoversii-specifikacii-kodifik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похожие между собой утверждения и установи различия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68360" y="836280"/>
            <a:ext cx="98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2. Задание на понимание в прослушанном тексте запрашиваем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420640"/>
            <a:ext cx="83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ум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ушивание беседы в стандартной ситуации повседневн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оценить утверждения по содержанию (ВЕРНО, НЕВЕРНО, В ТЕКСТЕ НЕ СКАЗА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341360"/>
            <a:ext cx="7740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 прослушиванием прочитать предложенные утверждения и обобщить информацию о ситуации, полученную из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о обратите внимание на отрицательные предложения , перефразируйте их так, чтобы смысл предложения оставался тем же, при этом отсутствовала бы отрицательная 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920" y="98100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КАК ВАРИ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ервого прослушивания определить, есть ли информация в тексте вообще (получаем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T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го прослушивания оцениваем оставшиеся утверждения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ваненкИ</cp:lastModifiedBy>
  <dcterms:modified xsi:type="dcterms:W3CDTF">2015-04-14T16:10:36Z</dcterms:modified>
  <cp:revision>751</cp:revision>
  <dc:subject/>
  <dc:title>Diapositiva 1</dc:title>
</cp:coreProperties>
</file>