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81169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93440" y="3965040"/>
            <a:ext cx="81169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2520" y="1832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93440" y="3965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2520" y="3965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261324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7720" y="1832040"/>
            <a:ext cx="261324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2000" y="1832040"/>
            <a:ext cx="261324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93440" y="3965040"/>
            <a:ext cx="261324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7720" y="3965040"/>
            <a:ext cx="261324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82000" y="3965040"/>
            <a:ext cx="261324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93440" y="1832040"/>
            <a:ext cx="8116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8116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60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2520" y="1832040"/>
            <a:ext cx="3960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13880" y="599760"/>
            <a:ext cx="83012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2520" y="1832040"/>
            <a:ext cx="3960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93440" y="3965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60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2520" y="1832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2520" y="3965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2520" y="1832040"/>
            <a:ext cx="39607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93440" y="3965040"/>
            <a:ext cx="811692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3440" y="1832040"/>
            <a:ext cx="8116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139680"/>
            <a:ext cx="5419800" cy="17859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793440" y="1832040"/>
            <a:ext cx="8116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" name="Рисунок 4" descr=""/>
          <p:cNvPicPr/>
          <p:nvPr/>
        </p:nvPicPr>
        <p:blipFill>
          <a:blip r:embed="rId2"/>
          <a:stretch/>
        </p:blipFill>
        <p:spPr>
          <a:xfrm>
            <a:off x="1979640" y="2160720"/>
            <a:ext cx="5715000" cy="3598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Страница сочетаемости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2130480" y="1832040"/>
            <a:ext cx="5443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2994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Общеупотребительные слова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71120" y="431640"/>
            <a:ext cx="830124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  <a:ea typeface="HG Mincho Light J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064160" y="2376360"/>
            <a:ext cx="17593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Круп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Горя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Рез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Крас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Породис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Скак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Бег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Ум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Хорош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4319640" y="2303640"/>
            <a:ext cx="15004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Корм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Куп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П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Чист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По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Седл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Запряг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Лов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Подк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6840360" y="2233440"/>
            <a:ext cx="10753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Копы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Топ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Таб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П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Трой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П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Гр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Х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Ржан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Масти  лошадей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93800" y="1832040"/>
            <a:ext cx="3960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HG Mincho Light J"/>
              </a:rPr>
              <a:t>Гнедая масть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2520" y="1832040"/>
            <a:ext cx="3961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HG Mincho Light J"/>
              </a:rPr>
              <a:t>Вороная масть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3" name="Рисунок 4" descr=""/>
          <p:cNvPicPr/>
          <p:nvPr/>
        </p:nvPicPr>
        <p:blipFill>
          <a:blip r:embed="rId1"/>
          <a:stretch/>
        </p:blipFill>
        <p:spPr>
          <a:xfrm>
            <a:off x="4952880" y="2293920"/>
            <a:ext cx="4032360" cy="3465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793800" y="2303640"/>
            <a:ext cx="3959280" cy="349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280" y="1079280"/>
            <a:ext cx="430524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HG Mincho Light J"/>
              </a:rPr>
              <a:t>Караковая масть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52600" y="1101600"/>
            <a:ext cx="396252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HG Mincho Light J"/>
              </a:rPr>
              <a:t>Буланая масть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>
            <a:off x="647640" y="1655640"/>
            <a:ext cx="4248360" cy="4103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"/>
          <p:cNvPicPr/>
          <p:nvPr/>
        </p:nvPicPr>
        <p:blipFill>
          <a:blip r:embed="rId2"/>
          <a:stretch/>
        </p:blipFill>
        <p:spPr>
          <a:xfrm>
            <a:off x="5311800" y="1584360"/>
            <a:ext cx="340056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0200" y="431640"/>
            <a:ext cx="82994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0560" y="1079640"/>
            <a:ext cx="39607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HG Mincho Light J"/>
              </a:rPr>
              <a:t>Каурая масть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2520" y="1101600"/>
            <a:ext cx="396108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HG Mincho Light J"/>
              </a:rPr>
              <a:t>Чубарая масть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Рисунок 4" descr=""/>
          <p:cNvPicPr/>
          <p:nvPr/>
        </p:nvPicPr>
        <p:blipFill>
          <a:blip r:embed="rId1"/>
          <a:stretch/>
        </p:blipFill>
        <p:spPr>
          <a:xfrm>
            <a:off x="720720" y="1584360"/>
            <a:ext cx="4030560" cy="424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2"/>
          <a:stretch/>
        </p:blipFill>
        <p:spPr>
          <a:xfrm>
            <a:off x="4902120" y="1584360"/>
            <a:ext cx="4011840" cy="417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792000" y="1933560"/>
            <a:ext cx="8118720" cy="3879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rial"/>
              </a:rPr>
              <a:t>Словообразовательная страница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3880" y="474480"/>
            <a:ext cx="8301240" cy="13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Слова, обозначающие понятия, связанные с содержанием лошадей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792000" y="1728720"/>
            <a:ext cx="3672000" cy="3311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4815000" y="1728720"/>
            <a:ext cx="3465360" cy="32385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43200" y="5184720"/>
            <a:ext cx="5025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Конюшн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 –“помещение для лошадей”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812840" y="5040360"/>
            <a:ext cx="3922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Конезавод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“конезаводческо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предприятие по разведени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лошад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1640" y="720360"/>
            <a:ext cx="83012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284c"/>
                </a:solidFill>
                <a:latin typeface="Andalus"/>
              </a:rPr>
              <a:t>Слова, связанные с использованием лошадей</a:t>
            </a:r>
            <a:br>
              <a:rPr sz="2800"/>
            </a:br>
            <a:r>
              <a:rPr b="1" i="1" lang="en-US" sz="2800" spc="-1" strike="noStrike">
                <a:solidFill>
                  <a:srgbClr val="99284c"/>
                </a:solidFill>
                <a:latin typeface="Andalus"/>
              </a:rPr>
              <a:t>        в промышленности, на транспорте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792000" y="1957320"/>
            <a:ext cx="4032360" cy="26510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5110200" y="1944720"/>
            <a:ext cx="3962520" cy="2663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252880" y="4506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HG Mincho Light J"/>
              </a:rPr>
              <a:t>Ко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428160" y="4502160"/>
            <a:ext cx="126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HG Mincho Light J"/>
              </a:rPr>
              <a:t>Коног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890080" y="4967280"/>
            <a:ext cx="869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ndalus"/>
                <a:ea typeface="HG Mincho Light J"/>
              </a:rPr>
              <a:t>Погонщик лошади, возящей вагонетку в шахте при конной откатке уг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-2106000" y="4967280"/>
            <a:ext cx="952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ndalus"/>
                <a:ea typeface="HG Mincho Light J"/>
              </a:rPr>
              <a:t>Вид общественного траспорта – вагон, движущийся по рельсам, который тянули лошад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284c"/>
                </a:solidFill>
                <a:latin typeface="Andalus"/>
              </a:rPr>
              <a:t>Слова, обозначающие понятия, связанные с использованием лошадей на войне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863640" y="1871640"/>
            <a:ext cx="3960720" cy="3168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4824360" y="1762200"/>
            <a:ext cx="4089600" cy="3205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1096200" y="5184720"/>
            <a:ext cx="349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Конармия - “конная армия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758840" y="5184720"/>
            <a:ext cx="437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Конармеец - “боец конной арми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9200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Илья Муромец и его верный конь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779400" y="1800360"/>
            <a:ext cx="5052960" cy="369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2462040" y="720720"/>
            <a:ext cx="450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  <a:ea typeface="HG Mincho Light J"/>
              </a:rPr>
              <a:t>Литературная стра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594800" y="5472000"/>
            <a:ext cx="509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HG Mincho Light J"/>
              </a:rPr>
              <a:t>В.Васнецов. Богатырский гал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63280" y="792000"/>
            <a:ext cx="811836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33"/>
                </a:solidFill>
                <a:latin typeface="Andalus"/>
                <a:ea typeface="HG Mincho Light J"/>
              </a:rPr>
              <a:t>Этнографическая страница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28720" y="1359000"/>
            <a:ext cx="6046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3880" y="518760"/>
            <a:ext cx="83012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284c"/>
                </a:solidFill>
                <a:latin typeface="Andalus"/>
              </a:rPr>
              <a:t>А.С. Пушкин</a:t>
            </a:r>
            <a:br>
              <a:rPr sz="3200"/>
            </a:br>
            <a:r>
              <a:rPr b="1" i="1" lang="en-US" sz="3200" spc="-1" strike="noStrike">
                <a:solidFill>
                  <a:srgbClr val="99284c"/>
                </a:solidFill>
                <a:latin typeface="Andalus"/>
              </a:rPr>
              <a:t>“Песнь о Вещем Олеге”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1"/>
          <a:stretch/>
        </p:blipFill>
        <p:spPr>
          <a:xfrm>
            <a:off x="1655640" y="1762200"/>
            <a:ext cx="6480360" cy="4152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К. Г. Паустовский “Теплый хлеб”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576360" y="1368360"/>
            <a:ext cx="5182920" cy="4464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5769720" y="2160720"/>
            <a:ext cx="33642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На вас не напасёшьс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на христарадников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Вон твой хлеб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Иди, копай его морд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из-под снега”,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закричал Филь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rial"/>
              </a:rPr>
              <a:t>Ф. Абрамов</a:t>
            </a:r>
            <a:br>
              <a:rPr sz="3400"/>
            </a:br>
            <a:r>
              <a:rPr b="1" i="1" lang="en-US" sz="3400" spc="-1" strike="noStrike">
                <a:solidFill>
                  <a:srgbClr val="99284c"/>
                </a:solidFill>
                <a:latin typeface="Arial"/>
              </a:rPr>
              <a:t>“О чем плачут лошади”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24" name="Рисунок 2" descr=""/>
          <p:cNvPicPr/>
          <p:nvPr/>
        </p:nvPicPr>
        <p:blipFill>
          <a:blip r:embed="rId1"/>
          <a:stretch/>
        </p:blipFill>
        <p:spPr>
          <a:xfrm>
            <a:off x="720720" y="158436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5375160" y="2232000"/>
            <a:ext cx="35546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Рыжуха с надежд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с мольбой подняла 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мне свои огромные, в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еще мокрые глаз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в фиолетовой глуб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которых я вдруг  уви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себя – маленьког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uny"/>
                <a:ea typeface="HG Mincho Light J"/>
              </a:rPr>
              <a:t>крохотного человека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4240" y="1223640"/>
            <a:ext cx="81964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HG Mincho Light J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HG Mincho Light J"/>
              </a:rPr>
              <a:t>Были, были времена, когда лошадью дышали и жили, когда ей скармливали самый лакомый кусок, а то и последнюю краюху хлеба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HG Mincho Light J"/>
              </a:rPr>
              <a:t>И сколько же ласковых слов выслушивала она, с какой любовью распрягали её, выхаживали, водили на водопой, скребли, чистили...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3880" y="474480"/>
            <a:ext cx="8301240" cy="13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В. В. Маяковский</a:t>
            </a:r>
            <a:br>
              <a:rPr sz="3400"/>
            </a:b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“Хорошее отношение к лошадям”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29" name="Рисунок 2" descr=""/>
          <p:cNvPicPr/>
          <p:nvPr/>
        </p:nvPicPr>
        <p:blipFill>
          <a:blip r:embed="rId1"/>
          <a:stretch/>
        </p:blipFill>
        <p:spPr>
          <a:xfrm>
            <a:off x="1440000" y="1681200"/>
            <a:ext cx="6788160" cy="4233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3880" y="474480"/>
            <a:ext cx="8301240" cy="13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93440" y="1832040"/>
            <a:ext cx="8116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  <a:ea typeface="HG Mincho Light J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1816200" y="2120760"/>
            <a:ext cx="6205320" cy="2536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Обряды с конем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1871640" y="1511280"/>
            <a:ext cx="6192720" cy="4233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82360" y="792000"/>
            <a:ext cx="8116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33"/>
                </a:solidFill>
                <a:latin typeface="Andalus"/>
                <a:ea typeface="HG Mincho Light J"/>
              </a:rPr>
              <a:t>Священные покровители – Флор и Лавр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2087640" y="1368360"/>
            <a:ext cx="5400720" cy="3743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177920" y="5045040"/>
            <a:ext cx="779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ndalus"/>
                <a:ea typeface="HG Mincho Light J"/>
              </a:rPr>
              <a:t>Фролы – 31 августа – день памяти этих святых,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ndalus"/>
                <a:ea typeface="HG Mincho Light J"/>
              </a:rPr>
              <a:t>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ndalus"/>
                <a:ea typeface="HG Mincho Light J"/>
              </a:rPr>
              <a:t>конский празд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rial"/>
              </a:rPr>
              <a:t>Лексикографическая страница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3301560"/>
            <a:ext cx="3816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HG Mincho Light J"/>
              </a:rPr>
              <a:t> </a:t>
            </a:r>
            <a:endParaRPr b="0" lang="en-US" sz="2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863640" y="3825720"/>
            <a:ext cx="3168720" cy="2149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610280" y="1681200"/>
            <a:ext cx="9451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Лошадь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 – домашнее животное, ходящее в упряжи или под седл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(Толковый словарь русского языка под ред. Д.Н. Ушакова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-7920" y="3527280"/>
            <a:ext cx="12399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Конь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 – в шахматах: фигура, изображающая конскую голову на высокой изогнутой ше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(Ожегов С.И.,Шведова Н.Ю. Толковый словарь русского языка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6" descr=""/>
          <p:cNvPicPr/>
          <p:nvPr/>
        </p:nvPicPr>
        <p:blipFill>
          <a:blip r:embed="rId2"/>
          <a:stretch/>
        </p:blipFill>
        <p:spPr>
          <a:xfrm>
            <a:off x="863640" y="1440000"/>
            <a:ext cx="3168720" cy="2414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Этимологическая страница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09280" y="1511280"/>
            <a:ext cx="811836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284c"/>
                </a:solidFill>
                <a:latin typeface="Andalus"/>
                <a:ea typeface="HG Mincho Light J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863640" y="1584360"/>
            <a:ext cx="4321080" cy="4174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268960" y="2448000"/>
            <a:ext cx="38642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Слово “конь” – общеславянско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т.е. оно известно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слвянских языках. Сло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лошадь” в памятн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письменности отмечается с 12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Фразеологическая страница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0560" y="1368360"/>
            <a:ext cx="396072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ndalus"/>
                <a:ea typeface="HG Mincho Light J"/>
              </a:rPr>
              <a:t>Вольное животно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6920" y="1388880"/>
            <a:ext cx="3962520" cy="40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Andalus"/>
                <a:ea typeface="HG Mincho Light J"/>
              </a:rPr>
              <a:t>Кони на войн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1"/>
          <a:stretch/>
        </p:blipFill>
        <p:spPr>
          <a:xfrm>
            <a:off x="755640" y="1871640"/>
            <a:ext cx="3852720" cy="2852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2"/>
          <a:stretch/>
        </p:blipFill>
        <p:spPr>
          <a:xfrm>
            <a:off x="5111640" y="1871640"/>
            <a:ext cx="3384720" cy="2879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647640" y="4896000"/>
            <a:ext cx="4368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Какими заклепами ко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ни замыкай,а он рвется на вол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147280" y="4896000"/>
            <a:ext cx="3794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Казак без коня, что солд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без руж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rial"/>
              </a:rPr>
              <a:t>Казаки - “степные кентавры”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863640" y="1440000"/>
            <a:ext cx="7488360" cy="4103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3037320" y="5543640"/>
            <a:ext cx="494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HG Mincho Light J"/>
              </a:rPr>
              <a:t>Ф.Рубо. Казаки у горной ре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3880" y="599760"/>
            <a:ext cx="83012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284c"/>
                </a:solidFill>
                <a:latin typeface="Andalus"/>
              </a:rPr>
              <a:t>Проводы казака в последний путь</a:t>
            </a:r>
            <a:endParaRPr b="1" i="1" lang="en-US" sz="3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1008000" y="1454040"/>
            <a:ext cx="4535640" cy="4017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4977000" y="1681200"/>
            <a:ext cx="464436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При проводах каза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в последний путь 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гробом шел его боев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конь с притороченн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к седлу его оружием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HG Mincho Light J"/>
              </a:rPr>
              <a:t>а уже за конем шли его близкие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12:08:18Z</dcterms:created>
  <dc:creator/>
  <dc:description>Общая презентация нового продукта, учитывающая пожелания заказчика</dc:description>
  <dc:language>en-US</dc:language>
  <cp:lastModifiedBy>User</cp:lastModifiedBy>
  <dcterms:modified xsi:type="dcterms:W3CDTF">2015-04-14T15:42:42Z</dcterms:modified>
  <cp:revision>15</cp:revision>
  <dc:subject/>
  <dc:title>Презентация нового продук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0">
    <vt:lpwstr/>
  </property>
  <property fmtid="{D5CDD505-2E9C-101B-9397-08002B2CF9AE}" pid="3" name="Info 1">
    <vt:lpwstr/>
  </property>
  <property fmtid="{D5CDD505-2E9C-101B-9397-08002B2CF9AE}" pid="4" name="Info 2">
    <vt:lpwstr/>
  </property>
  <property fmtid="{D5CDD505-2E9C-101B-9397-08002B2CF9AE}" pid="5" name="Info 3">
    <vt:lpwstr/>
  </property>
</Properties>
</file>