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9CE5-A8CC-4780-A4C2-67FC4D10C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F3EC-B4B1-4611-9733-7E5F0A38E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1DE-756B-4154-91C0-358041E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96C-5789-4AF0-B003-1942055B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F9C-F5C7-45B5-A476-1BFF410F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2BC-AA11-4B7E-9425-57202908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98B-1580-4A58-9F53-CB48C66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000-B01B-4103-9854-4D33CA4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D35-2491-4FF5-8DE6-7EDB5238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0B3-8BC9-4A65-A7E3-A05581E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02E-6BA2-4309-9106-3F1E588C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362-537E-476A-B06A-8D2ED4D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F47-28A5-44E8-A5AC-A20A2C5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F61-7B60-40A0-939C-6D7528D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D4C-36F4-4FDE-806B-388BCAEF5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allpaperserver2.vstre4a.info/file.php__server_id=2&amp;id=652e49744bc44766e0eb2b04ec5ca12db3a5aa2fd79ef3e2c8671429b8edeb51&amp;h=1200&amp;w=1600&amp;cp=16068cab9282ba28040fc01a1c6f5e3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Где зимуют птицы?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ВОРОН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3" descr="Снимок вороны"/>
          <p:cNvPicPr/>
          <p:nvPr/>
        </p:nvPicPr>
        <p:blipFill>
          <a:blip r:embed="rId1"/>
          <a:stretch/>
        </p:blipFill>
        <p:spPr>
          <a:xfrm>
            <a:off x="1979640" y="1341360"/>
            <a:ext cx="4952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ИНИЦ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3" descr="338428"/>
          <p:cNvPicPr/>
          <p:nvPr/>
        </p:nvPicPr>
        <p:blipFill>
          <a:blip r:embed="rId1"/>
          <a:stretch/>
        </p:blipFill>
        <p:spPr>
          <a:xfrm>
            <a:off x="2050920" y="1413000"/>
            <a:ext cx="5280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Verdana"/>
              </a:rPr>
              <a:t>ГАЛК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Содержимое 3" descr="галка.bmp"/>
          <p:cNvPicPr/>
          <p:nvPr/>
        </p:nvPicPr>
        <p:blipFill>
          <a:blip r:embed="rId1"/>
          <a:stretch/>
        </p:blipFill>
        <p:spPr>
          <a:xfrm>
            <a:off x="1357200" y="1857240"/>
            <a:ext cx="61437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ОЙ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3" descr="soyka08"/>
          <p:cNvPicPr/>
          <p:nvPr/>
        </p:nvPicPr>
        <p:blipFill>
          <a:blip r:embed="rId1"/>
          <a:stretch/>
        </p:blipFill>
        <p:spPr>
          <a:xfrm>
            <a:off x="97164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ПОПОЛЗЕНЬ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3" descr="Поползень с семечкой"/>
          <p:cNvPicPr/>
          <p:nvPr/>
        </p:nvPicPr>
        <p:blipFill>
          <a:blip r:embed="rId1"/>
          <a:stretch/>
        </p:blipFill>
        <p:spPr>
          <a:xfrm>
            <a:off x="755640" y="1484280"/>
            <a:ext cx="7369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57120" y="2205000"/>
            <a:ext cx="9215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Перелётные птиц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ЛАСТОЧ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3" descr="Фотография деревенской ласточки"/>
          <p:cNvPicPr/>
          <p:nvPr/>
        </p:nvPicPr>
        <p:blipFill>
          <a:blip r:embed="rId1"/>
          <a:stretch/>
        </p:blipFill>
        <p:spPr>
          <a:xfrm>
            <a:off x="755640" y="1484280"/>
            <a:ext cx="76914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ОЛОВЕЙ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3" descr="Фотография соловья"/>
          <p:cNvPicPr/>
          <p:nvPr/>
        </p:nvPicPr>
        <p:blipFill>
          <a:blip r:embed="rId1"/>
          <a:stretch/>
        </p:blipFill>
        <p:spPr>
          <a:xfrm>
            <a:off x="1403280" y="1628640"/>
            <a:ext cx="64692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КВОРЕЦ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3" descr="Скворец"/>
          <p:cNvPicPr/>
          <p:nvPr/>
        </p:nvPicPr>
        <p:blipFill>
          <a:blip r:embed="rId1"/>
          <a:stretch/>
        </p:blipFill>
        <p:spPr>
          <a:xfrm>
            <a:off x="1403280" y="1628640"/>
            <a:ext cx="6612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ТРЯСОГУЗ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3" descr="Трясогузка горная"/>
          <p:cNvPicPr/>
          <p:nvPr/>
        </p:nvPicPr>
        <p:blipFill>
          <a:blip r:embed="rId1"/>
          <a:stretch/>
        </p:blipFill>
        <p:spPr>
          <a:xfrm>
            <a:off x="1187280" y="1628640"/>
            <a:ext cx="73314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ird_0017"/>
          <p:cNvPicPr/>
          <p:nvPr/>
        </p:nvPicPr>
        <p:blipFill>
          <a:blip r:embed="rId1"/>
          <a:stretch/>
        </p:blipFill>
        <p:spPr>
          <a:xfrm>
            <a:off x="1357200" y="571680"/>
            <a:ext cx="6553440" cy="4392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655720" y="5214960"/>
            <a:ext cx="40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ГРАЧ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3" descr="Фотография грача на ветке"/>
          <p:cNvPicPr/>
          <p:nvPr/>
        </p:nvPicPr>
        <p:blipFill>
          <a:blip r:embed="rId1"/>
          <a:stretch/>
        </p:blipFill>
        <p:spPr>
          <a:xfrm>
            <a:off x="1214280" y="1496880"/>
            <a:ext cx="66596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ЦАПЛЯ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" descr="77"/>
          <p:cNvPicPr/>
          <p:nvPr/>
        </p:nvPicPr>
        <p:blipFill>
          <a:blip r:embed="rId1"/>
          <a:stretch/>
        </p:blipFill>
        <p:spPr>
          <a:xfrm>
            <a:off x="755640" y="1484280"/>
            <a:ext cx="76662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ЗЯБЛИК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3" descr="Зяблик"/>
          <p:cNvPicPr/>
          <p:nvPr/>
        </p:nvPicPr>
        <p:blipFill>
          <a:blip r:embed="rId1"/>
          <a:stretch/>
        </p:blipFill>
        <p:spPr>
          <a:xfrm>
            <a:off x="1095480" y="1357200"/>
            <a:ext cx="66578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УТ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3" descr="Самка кряквы"/>
          <p:cNvPicPr/>
          <p:nvPr/>
        </p:nvPicPr>
        <p:blipFill>
          <a:blip r:embed="rId1"/>
          <a:stretch/>
        </p:blipFill>
        <p:spPr>
          <a:xfrm>
            <a:off x="714240" y="1457280"/>
            <a:ext cx="7529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ЧАЙКА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3" descr="Фотография чайки озерной"/>
          <p:cNvPicPr/>
          <p:nvPr/>
        </p:nvPicPr>
        <p:blipFill>
          <a:blip r:embed="rId1"/>
          <a:stretch/>
        </p:blipFill>
        <p:spPr>
          <a:xfrm>
            <a:off x="1143000" y="1428840"/>
            <a:ext cx="6988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Зимние гости с севера: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снегирь и свиристель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24"/>
          <p:cNvPicPr/>
          <p:nvPr/>
        </p:nvPicPr>
        <p:blipFill>
          <a:blip r:embed="rId1"/>
          <a:stretch/>
        </p:blipFill>
        <p:spPr>
          <a:xfrm>
            <a:off x="285840" y="1785960"/>
            <a:ext cx="432756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7" descr="свиристель.bmp"/>
          <p:cNvPicPr/>
          <p:nvPr/>
        </p:nvPicPr>
        <p:blipFill>
          <a:blip r:embed="rId2"/>
          <a:stretch/>
        </p:blipFill>
        <p:spPr>
          <a:xfrm>
            <a:off x="5143680" y="1857240"/>
            <a:ext cx="3465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Verdana"/>
              </a:rPr>
              <a:t>Кому улетать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84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Перелётные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олов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ч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5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Оседлые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ниц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ова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Verdana"/>
              </a:rPr>
              <a:t>Третий лишний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ал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ползень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а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64328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ползе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Ласт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785880" y="9288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перелет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857160" y="26431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оседл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14240" y="45720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зимние г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Verdana"/>
              </a:rPr>
              <a:t>Задание</a:t>
            </a:r>
            <a:r>
              <a:rPr b="1" lang="ru-RU" sz="4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Verdana"/>
              </a:rPr>
              <a:t>мудрой совы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57720" y="2331720"/>
            <a:ext cx="528624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отличается жизнь птиц в тёплых краях во время зимовки от жизни на родин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MCj03701400000[1]"/>
          <p:cNvPicPr/>
          <p:nvPr/>
        </p:nvPicPr>
        <p:blipFill>
          <a:blip r:embed="rId1"/>
          <a:stretch/>
        </p:blipFill>
        <p:spPr>
          <a:xfrm>
            <a:off x="0" y="2133720"/>
            <a:ext cx="3095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oroka01"/>
          <p:cNvPicPr/>
          <p:nvPr/>
        </p:nvPicPr>
        <p:blipFill>
          <a:blip r:embed="rId1"/>
          <a:stretch/>
        </p:blipFill>
        <p:spPr>
          <a:xfrm>
            <a:off x="1143000" y="642960"/>
            <a:ext cx="6842160" cy="4584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730240" y="542916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298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Verdana"/>
              </a:rPr>
              <a:t>Дорогие дети!</a:t>
            </a: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Не забывайте кормить птиц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кормушка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134"/>
          <p:cNvPicPr/>
          <p:nvPr/>
        </p:nvPicPr>
        <p:blipFill>
          <a:blip r:embed="rId1"/>
          <a:stretch/>
        </p:blipFill>
        <p:spPr>
          <a:xfrm>
            <a:off x="785880" y="357120"/>
            <a:ext cx="5000400" cy="6161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086160" y="2500200"/>
            <a:ext cx="261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дят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размер 1024x768"/>
          <p:cNvPicPr/>
          <p:nvPr/>
        </p:nvPicPr>
        <p:blipFill>
          <a:blip r:embed="rId1"/>
          <a:stretch/>
        </p:blipFill>
        <p:spPr>
          <a:xfrm>
            <a:off x="1285920" y="357120"/>
            <a:ext cx="6696000" cy="4942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291120" y="5429160"/>
            <a:ext cx="232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Оседлые</a:t>
            </a:r>
            <a:br>
              <a:rPr sz="9600"/>
            </a:b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птиц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6" descr="глухарь.bmp"/>
          <p:cNvPicPr/>
          <p:nvPr/>
        </p:nvPicPr>
        <p:blipFill>
          <a:blip r:embed="rId1"/>
          <a:stretch/>
        </p:blipFill>
        <p:spPr>
          <a:xfrm>
            <a:off x="2143080" y="1643040"/>
            <a:ext cx="4000680" cy="4452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ГЛУХАРЬ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ЯСТРЕБ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3" descr="f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84280"/>
            <a:ext cx="7345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ГОЛУБ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3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557360"/>
            <a:ext cx="66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25:18Z</dcterms:created>
  <dc:creator>User</dc:creator>
  <dc:description/>
  <dc:language>en-US</dc:language>
  <cp:lastModifiedBy>student07</cp:lastModifiedBy>
  <dcterms:modified xsi:type="dcterms:W3CDTF">2012-06-05T10:29:34Z</dcterms:modified>
  <cp:revision>15</cp:revision>
  <dc:subject/>
  <dc:title>Где зимуют птицы?</dc:title>
</cp:coreProperties>
</file>