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385D-76AB-4853-AF26-A49CF7722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307-E10D-48D6-976D-6D52F1E6B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371-0AB2-4578-B2A7-C37690B4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6FB-6AD0-4D75-9946-FE7C45EA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83C-90F7-4207-925B-8302DB2A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363-112F-4884-8218-D82C9E4B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743-1A37-469E-A5D7-E90C9B52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8B6-AEB7-4D31-A0F8-808F6CB9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1EE-5F53-40C5-9B68-B45B5AC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3D2-CDFB-439C-8BE9-4D9CFF8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86E-8F06-4E0B-8238-A7A879B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C7C-9B57-4F43-ACBC-46B6EA0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C9A-35D7-46DF-962C-7CB6FAA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BF9-649A-46AE-8E61-6C57693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BED8-6317-48B6-BB8F-D22864860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allpaperserver2.vstre4a.info/file.php__server_id=2&amp;id=652e49744bc44766e0eb2b04ec5ca12db3a5aa2fd79ef3e2c8671429b8edeb51&amp;h=1200&amp;w=1600&amp;cp=16068cab9282ba28040fc01a1c6f5e3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Где зимуют птицы?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ВОРОН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3" descr="Снимок вороны"/>
          <p:cNvPicPr/>
          <p:nvPr/>
        </p:nvPicPr>
        <p:blipFill>
          <a:blip r:embed="rId1"/>
          <a:stretch/>
        </p:blipFill>
        <p:spPr>
          <a:xfrm>
            <a:off x="1979640" y="1341360"/>
            <a:ext cx="4952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ИНИЦ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3" descr="338428"/>
          <p:cNvPicPr/>
          <p:nvPr/>
        </p:nvPicPr>
        <p:blipFill>
          <a:blip r:embed="rId1"/>
          <a:stretch/>
        </p:blipFill>
        <p:spPr>
          <a:xfrm>
            <a:off x="2050920" y="1413000"/>
            <a:ext cx="5280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Verdana"/>
              </a:rPr>
              <a:t>ГАЛК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Содержимое 3" descr="галка.bmp"/>
          <p:cNvPicPr/>
          <p:nvPr/>
        </p:nvPicPr>
        <p:blipFill>
          <a:blip r:embed="rId1"/>
          <a:stretch/>
        </p:blipFill>
        <p:spPr>
          <a:xfrm>
            <a:off x="1357200" y="1857240"/>
            <a:ext cx="61437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ОЙ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3" descr="soyka08"/>
          <p:cNvPicPr/>
          <p:nvPr/>
        </p:nvPicPr>
        <p:blipFill>
          <a:blip r:embed="rId1"/>
          <a:stretch/>
        </p:blipFill>
        <p:spPr>
          <a:xfrm>
            <a:off x="97164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ПОПОЛЗЕНЬ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3" descr="Поползень с семечкой"/>
          <p:cNvPicPr/>
          <p:nvPr/>
        </p:nvPicPr>
        <p:blipFill>
          <a:blip r:embed="rId1"/>
          <a:stretch/>
        </p:blipFill>
        <p:spPr>
          <a:xfrm>
            <a:off x="755640" y="1484280"/>
            <a:ext cx="73692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57120" y="2205000"/>
            <a:ext cx="9215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Перелётные птицы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ЛАСТОЧ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3" descr="Фотография деревенской ласточки"/>
          <p:cNvPicPr/>
          <p:nvPr/>
        </p:nvPicPr>
        <p:blipFill>
          <a:blip r:embed="rId1"/>
          <a:stretch/>
        </p:blipFill>
        <p:spPr>
          <a:xfrm>
            <a:off x="755640" y="1484280"/>
            <a:ext cx="76914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ОЛОВЕЙ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3" descr="Фотография соловья"/>
          <p:cNvPicPr/>
          <p:nvPr/>
        </p:nvPicPr>
        <p:blipFill>
          <a:blip r:embed="rId1"/>
          <a:stretch/>
        </p:blipFill>
        <p:spPr>
          <a:xfrm>
            <a:off x="1403280" y="1628640"/>
            <a:ext cx="64692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СКВОРЕЦ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3" descr="Скворец"/>
          <p:cNvPicPr/>
          <p:nvPr/>
        </p:nvPicPr>
        <p:blipFill>
          <a:blip r:embed="rId1"/>
          <a:stretch/>
        </p:blipFill>
        <p:spPr>
          <a:xfrm>
            <a:off x="1403280" y="1628640"/>
            <a:ext cx="6612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ТРЯСОГУЗ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3" descr="Трясогузка горная"/>
          <p:cNvPicPr/>
          <p:nvPr/>
        </p:nvPicPr>
        <p:blipFill>
          <a:blip r:embed="rId1"/>
          <a:stretch/>
        </p:blipFill>
        <p:spPr>
          <a:xfrm>
            <a:off x="1187280" y="1628640"/>
            <a:ext cx="73314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ird_0017"/>
          <p:cNvPicPr/>
          <p:nvPr/>
        </p:nvPicPr>
        <p:blipFill>
          <a:blip r:embed="rId1"/>
          <a:stretch/>
        </p:blipFill>
        <p:spPr>
          <a:xfrm>
            <a:off x="1357200" y="571680"/>
            <a:ext cx="6553440" cy="4392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655720" y="5214960"/>
            <a:ext cx="40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ГРАЧ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3" descr="Фотография грача на ветке"/>
          <p:cNvPicPr/>
          <p:nvPr/>
        </p:nvPicPr>
        <p:blipFill>
          <a:blip r:embed="rId1"/>
          <a:stretch/>
        </p:blipFill>
        <p:spPr>
          <a:xfrm>
            <a:off x="1214280" y="1496880"/>
            <a:ext cx="66596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ЦАПЛЯ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" descr="77"/>
          <p:cNvPicPr/>
          <p:nvPr/>
        </p:nvPicPr>
        <p:blipFill>
          <a:blip r:embed="rId1"/>
          <a:stretch/>
        </p:blipFill>
        <p:spPr>
          <a:xfrm>
            <a:off x="755640" y="1484280"/>
            <a:ext cx="76662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ЗЯБЛИК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3" descr="Зяблик"/>
          <p:cNvPicPr/>
          <p:nvPr/>
        </p:nvPicPr>
        <p:blipFill>
          <a:blip r:embed="rId1"/>
          <a:stretch/>
        </p:blipFill>
        <p:spPr>
          <a:xfrm>
            <a:off x="1095480" y="1357200"/>
            <a:ext cx="66578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УТКА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3" descr="Самка кряквы"/>
          <p:cNvPicPr/>
          <p:nvPr/>
        </p:nvPicPr>
        <p:blipFill>
          <a:blip r:embed="rId1"/>
          <a:stretch/>
        </p:blipFill>
        <p:spPr>
          <a:xfrm>
            <a:off x="714240" y="1457280"/>
            <a:ext cx="7529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ЧАЙКА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3" descr="Фотография чайки озерной"/>
          <p:cNvPicPr/>
          <p:nvPr/>
        </p:nvPicPr>
        <p:blipFill>
          <a:blip r:embed="rId1"/>
          <a:stretch/>
        </p:blipFill>
        <p:spPr>
          <a:xfrm>
            <a:off x="1143000" y="1428840"/>
            <a:ext cx="6988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Verdana"/>
              </a:rPr>
              <a:t>Зимние гости с севера: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Verdana"/>
              </a:rPr>
              <a:t>снегирь и свиристель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24"/>
          <p:cNvPicPr/>
          <p:nvPr/>
        </p:nvPicPr>
        <p:blipFill>
          <a:blip r:embed="rId1"/>
          <a:stretch/>
        </p:blipFill>
        <p:spPr>
          <a:xfrm>
            <a:off x="285840" y="1785960"/>
            <a:ext cx="4327560" cy="403236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7" descr="свиристель.bmp"/>
          <p:cNvPicPr/>
          <p:nvPr/>
        </p:nvPicPr>
        <p:blipFill>
          <a:blip r:embed="rId2"/>
          <a:stretch/>
        </p:blipFill>
        <p:spPr>
          <a:xfrm>
            <a:off x="5143680" y="1857240"/>
            <a:ext cx="3465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Verdana"/>
              </a:rPr>
              <a:t>Кому улетать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84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Перелётные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олов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ч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552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Verdana"/>
              </a:rPr>
              <a:t>Оседлые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ниц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ова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Verdana"/>
              </a:rPr>
              <a:t>Третий лишний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Гал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Гра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ползень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Га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Гр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64328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ползе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Verdana"/>
              </a:rPr>
              <a:t>Ласт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785880" y="9288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перелетн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857160" y="26431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оседлы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14240" y="457200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зимние г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Verdana"/>
              </a:rPr>
              <a:t>Задание</a:t>
            </a:r>
            <a:r>
              <a:rPr b="1" lang="ru-RU" sz="4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Verdana"/>
              </a:rPr>
              <a:t>мудрой совы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57720" y="2331720"/>
            <a:ext cx="528624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отличается жизнь птиц в тёплых краях во время зимовки от жизни на родине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MCj03701400000[1]"/>
          <p:cNvPicPr/>
          <p:nvPr/>
        </p:nvPicPr>
        <p:blipFill>
          <a:blip r:embed="rId1"/>
          <a:stretch/>
        </p:blipFill>
        <p:spPr>
          <a:xfrm>
            <a:off x="0" y="2133720"/>
            <a:ext cx="3095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oroka01"/>
          <p:cNvPicPr/>
          <p:nvPr/>
        </p:nvPicPr>
        <p:blipFill>
          <a:blip r:embed="rId1"/>
          <a:stretch/>
        </p:blipFill>
        <p:spPr>
          <a:xfrm>
            <a:off x="1143000" y="642960"/>
            <a:ext cx="6842160" cy="4584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730240" y="542916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ор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2980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Verdana"/>
              </a:rPr>
              <a:t>Дорогие дети!</a:t>
            </a: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Не забывайте кормить птиц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кормушка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134"/>
          <p:cNvPicPr/>
          <p:nvPr/>
        </p:nvPicPr>
        <p:blipFill>
          <a:blip r:embed="rId1"/>
          <a:stretch/>
        </p:blipFill>
        <p:spPr>
          <a:xfrm>
            <a:off x="785880" y="357120"/>
            <a:ext cx="5000400" cy="6161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6086160" y="2500200"/>
            <a:ext cx="261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дят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размер 1024x768"/>
          <p:cNvPicPr/>
          <p:nvPr/>
        </p:nvPicPr>
        <p:blipFill>
          <a:blip r:embed="rId1"/>
          <a:stretch/>
        </p:blipFill>
        <p:spPr>
          <a:xfrm>
            <a:off x="1285920" y="357120"/>
            <a:ext cx="6696000" cy="4942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291120" y="5429160"/>
            <a:ext cx="232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с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Оседлые</a:t>
            </a:r>
            <a:br>
              <a:rPr sz="9600"/>
            </a:br>
            <a:r>
              <a:rPr b="1" lang="ru-RU" sz="9600" spc="-1" strike="noStrike">
                <a:solidFill>
                  <a:srgbClr val="333399"/>
                </a:solidFill>
                <a:latin typeface="Verdana"/>
              </a:rPr>
              <a:t>птицы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6" descr="глухарь.bmp"/>
          <p:cNvPicPr/>
          <p:nvPr/>
        </p:nvPicPr>
        <p:blipFill>
          <a:blip r:embed="rId1"/>
          <a:stretch/>
        </p:blipFill>
        <p:spPr>
          <a:xfrm>
            <a:off x="2143080" y="1643040"/>
            <a:ext cx="4000680" cy="4452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3399"/>
                </a:solidFill>
                <a:latin typeface="Verdana"/>
              </a:rPr>
              <a:t>ГЛУХАРЬ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ЯСТРЕБ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3" descr="f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84280"/>
            <a:ext cx="7345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99"/>
                </a:solidFill>
                <a:latin typeface="Verdana"/>
              </a:rPr>
              <a:t>ГОЛУБ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3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557360"/>
            <a:ext cx="66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25:18Z</dcterms:created>
  <dc:creator>User</dc:creator>
  <dc:description/>
  <dc:language>en-US</dc:language>
  <cp:lastModifiedBy>student07</cp:lastModifiedBy>
  <dcterms:modified xsi:type="dcterms:W3CDTF">2012-06-05T10:29:34Z</dcterms:modified>
  <cp:revision>15</cp:revision>
  <dc:subject/>
  <dc:title>Где зимуют птицы?</dc:title>
</cp:coreProperties>
</file>