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25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E34-FF7B-4090-945F-C5B0AD0C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A57-D33B-43D1-9755-75DECAB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15C-986B-4570-9B55-707814C7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D97-74EC-42C5-921F-E80F2F0E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B3D1-1F30-4118-A68B-6C807FBC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B88B-166E-4B54-B1E2-3163353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4A94-89B0-4BC3-8598-91F17206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988D-03F6-4F4F-8DBF-F71ECB6C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6591-AEFE-4169-AEB7-D141F95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BF44-1B5A-4D84-9077-5A3B1AC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BAD-D6A5-43C8-94E1-D3889BF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EFB-8250-4692-9C3A-9E01498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B549-8BA4-467F-BF54-280DCDB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455D-0C5F-4617-B23C-DE74A2E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64B5-7AF1-474F-859C-FF31F9E2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5597-9C0D-4EE7-82AF-AB9DF12D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28A8-11F1-43A3-9EBC-F1C678D8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0A19-57AF-49C8-9275-F507DE3C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52DB-6F17-4033-9050-16C8120E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988C-1288-4850-AE19-8D8BBDAB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E94F-67D6-4F61-902A-2C9F8BBC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D230-51C6-4D04-9184-33B65E4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5F6-8F0B-4679-9B7E-EE78D4F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2913-107C-49E4-9B68-AAB79F16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4E1D-31B0-451A-A81B-6A10C91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53C2-1549-4FC4-858E-5978B4A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479E-7545-4AD1-961B-9412F81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77C8-9524-47A3-A6AF-68DD50A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04F2-EC93-4B95-8C07-9DB9BB2D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5DE6-9063-4B9F-9F7A-33825F77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9BD-8E90-4EAB-8462-4D249D1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5C1-443F-4988-AC03-3FC9EDE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52D-FD81-48A0-B26F-17B4EBDF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918-0998-4087-AAC3-DE4CC59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735-732C-4C12-BF77-660E655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CA3-BA64-40A2-8AAE-84BDB22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F943-F822-40CC-AE73-A59FFF7B0B4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6AF3-51D8-4B47-ADAA-E49EF3B7F9F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2BE-D39C-4353-B9BA-92CA725D5C8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042920" y="1628640"/>
            <a:ext cx="763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10082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5c5c"/>
                  </a:outerShdw>
                </a:effectLst>
                <a:latin typeface="Arial"/>
              </a:rPr>
              <a:t>ГЛОБАЛЬНЫЕ ПРОБЛЕМЫ</a:t>
            </a:r>
            <a:endParaRPr b="1" lang="en-US" sz="1800" spc="1" strike="noStrike">
              <a:ln w="12600">
                <a:solidFill>
                  <a:srgbClr val="410082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2700000"/>
              </a:gradFill>
              <a:effectLst>
                <a:outerShdw dist="17819" dir="2700000" blurRad="0" rotWithShape="0">
                  <a:srgbClr val="005c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10082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5c5c"/>
                  </a:outerShdw>
                </a:effectLst>
                <a:latin typeface="Arial"/>
              </a:rPr>
              <a:t>СОВРЕМЕННОСТИ</a:t>
            </a:r>
            <a:endParaRPr b="1" lang="en-US" sz="1800" spc="1" strike="noStrike">
              <a:ln w="12600">
                <a:solidFill>
                  <a:srgbClr val="410082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2700000"/>
              </a:gradFill>
              <a:effectLst>
                <a:outerShdw dist="17819" dir="2700000" blurRad="0" rotWithShape="0">
                  <a:srgbClr val="005c5c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ortage-glacier-2004"/>
          <p:cNvPicPr/>
          <p:nvPr/>
        </p:nvPicPr>
        <p:blipFill>
          <a:blip r:embed="rId1"/>
          <a:stretch/>
        </p:blipFill>
        <p:spPr>
          <a:xfrm>
            <a:off x="5364000" y="1197000"/>
            <a:ext cx="3564000" cy="367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portage-glacier-1914"/>
          <p:cNvPicPr/>
          <p:nvPr/>
        </p:nvPicPr>
        <p:blipFill>
          <a:blip r:embed="rId2"/>
          <a:stretch/>
        </p:blipFill>
        <p:spPr>
          <a:xfrm>
            <a:off x="1116000" y="1197000"/>
            <a:ext cx="3745080" cy="37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rhone-glacier"/>
          <p:cNvPicPr/>
          <p:nvPr/>
        </p:nvPicPr>
        <p:blipFill>
          <a:blip r:embed="rId3"/>
          <a:stretch/>
        </p:blipFill>
        <p:spPr>
          <a:xfrm>
            <a:off x="1763640" y="1052640"/>
            <a:ext cx="6050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список учащихся 002"/>
          <p:cNvPicPr/>
          <p:nvPr/>
        </p:nvPicPr>
        <p:blipFill>
          <a:blip r:embed="rId1"/>
          <a:stretch/>
        </p:blipFill>
        <p:spPr>
          <a:xfrm>
            <a:off x="2182680" y="189000"/>
            <a:ext cx="4476960" cy="648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список учащихся 015"/>
          <p:cNvPicPr/>
          <p:nvPr/>
        </p:nvPicPr>
        <p:blipFill>
          <a:blip r:embed="rId2"/>
          <a:stretch/>
        </p:blipFill>
        <p:spPr>
          <a:xfrm>
            <a:off x="1042920" y="260280"/>
            <a:ext cx="53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список учащихся 016"/>
          <p:cNvPicPr/>
          <p:nvPr/>
        </p:nvPicPr>
        <p:blipFill>
          <a:blip r:embed="rId3"/>
          <a:stretch/>
        </p:blipFill>
        <p:spPr>
          <a:xfrm>
            <a:off x="4211640" y="1341360"/>
            <a:ext cx="4664160" cy="519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список учащихся 017"/>
          <p:cNvPicPr/>
          <p:nvPr/>
        </p:nvPicPr>
        <p:blipFill>
          <a:blip r:embed="rId4"/>
          <a:stretch/>
        </p:blipFill>
        <p:spPr>
          <a:xfrm>
            <a:off x="2556000" y="333360"/>
            <a:ext cx="3887640" cy="626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список учащихся 018"/>
          <p:cNvPicPr/>
          <p:nvPr/>
        </p:nvPicPr>
        <p:blipFill>
          <a:blip r:embed="rId5"/>
          <a:stretch/>
        </p:blipFill>
        <p:spPr>
          <a:xfrm>
            <a:off x="755640" y="1484280"/>
            <a:ext cx="6624720" cy="48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список учащихся 019"/>
          <p:cNvPicPr/>
          <p:nvPr/>
        </p:nvPicPr>
        <p:blipFill>
          <a:blip r:embed="rId6"/>
          <a:stretch/>
        </p:blipFill>
        <p:spPr>
          <a:xfrm>
            <a:off x="1905120" y="609480"/>
            <a:ext cx="618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762120" y="762120"/>
            <a:ext cx="76327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ПАС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ЯДЕРНОЙ ВОЙ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И ЛОКАЛЬНЫХ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ОНФЛИКТО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настоящему времени в арсеналах ядерных держав накоплено 50 тыс. ядерных боеприпасов общей мощностью 13 тыс. мегатон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мире имеется около 150 тыс. тонн боевых отравляющих вещест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1189080" y="36360"/>
            <a:ext cx="7772400" cy="1676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826560" y="1412640"/>
            <a:ext cx="8317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менение клима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рушение озонового слоя атмосфер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начительное воздействие на генофонд человече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рушение баланса в биосфе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бель 2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 – 25 процентов оставшихся в живых скончаются от эпидемий, радиации, генетических болезн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ядерная зима», разрушение озонового слоя и другие экологические изменения сделают невозможным существование высших форм жизни на Зем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&#10;town ruins                                                     000007BF_x0007_Zip 100                        AB89E6CB: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116000" y="198900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признание  приоритета общечеловеческих ценност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отказ от войны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как средства решения конфликт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признание права народов самостоятельно и свободно выбирать свою судьб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- понимание взаимосвязанности современного мира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Rectangl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09480" y="2209680"/>
            <a:ext cx="763272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СЕВЕР - ЮГ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09480" y="3805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т внешней задолженности, которая превысила 1 трлн. американских доллар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 800 млн. живет в абсолютной бед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 50 млн. ежегодно умирают от голод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ь населения не имеет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 недоедания страдает свыше 500 млн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,5 млрд. человек лишены элементарной медицинской помощ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¾ населения живут, не имея санитарных усло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йцария 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фганистан 40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ия 75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я 51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ранция 74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иопия 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 73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гола 43,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304920"/>
            <a:ext cx="77724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лобальными называют проблемы, которые охватывают весь мир, всё человечество, создают угрозу для его настоящего и будущего и требуют для своего решения объединённых усилий, совместных действий всех государств и народов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914400" y="1828800"/>
            <a:ext cx="7345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ЕМОГРАФИЧЕСК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ИТУ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рубеже «до н.э. – н.э.»  - около 234 млн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1800 году – 1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1990 году – 5,5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2025 году – 8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2050 году – 10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2150 году – до 27 млрд. челове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ельно возможное количество людей для Земли – 14 млрд. челов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890640" y="-79200"/>
            <a:ext cx="8174160" cy="124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1042920" y="1052640"/>
          <a:ext cx="7772400" cy="3851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ые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иес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ША   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ликобритания  2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стрия  2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ия  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мания  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н  6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рия  5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иппины 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иланд  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кистан  5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4"/>
          <p:cNvSpPr/>
          <p:nvPr/>
        </p:nvSpPr>
        <p:spPr>
          <a:xfrm>
            <a:off x="971640" y="527364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2d1"/>
                </a:solidFill>
                <a:latin typeface="Arial"/>
              </a:rPr>
              <a:t>За период 1975-2000 гг. из 2,2 млрд. прироста населения мира около 90 процентов – 2,0 млрд. – приходится на развивающиеся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фрика на 140,4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тинская Америка  на 89,3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зия  на 76,1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верная Америка  на 30, 2 процен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вропа  на 16,1 процен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6840" y="159984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 – доступные и оттого приносящие прибыль природные ресурсы России иссякну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28 год – от СПИДа к этому времени погибнет 600 млн. челове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48 год – в морях не останется ни одного вида, существование которого не было бы под угроз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70 год – окончательно растает шапка льдов вокруг Северного полюса, растает вечная мерзло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00 год – из-за глобального потепления более трети территории суши превратится в пустын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нообразие животного и растительного мира останется в прошл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Organization Chart 2"/>
          <p:cNvGrpSpPr/>
          <p:nvPr/>
        </p:nvGrpSpPr>
        <p:grpSpPr>
          <a:xfrm>
            <a:off x="1065240" y="266760"/>
            <a:ext cx="7703640" cy="6256800"/>
            <a:chOff x="1065240" y="266760"/>
            <a:chExt cx="7703640" cy="6256800"/>
          </a:xfrm>
        </p:grpSpPr>
        <p:cxnSp>
          <p:nvCxnSpPr>
            <p:cNvPr id="175" name="_s2052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6112080" y="2982240"/>
              <a:ext cx="782640" cy="317124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  <a:headEnd len="lg" type="stealth" w="lg"/>
            </a:ln>
          </p:spPr>
        </p:cxnSp>
        <p:cxnSp>
          <p:nvCxnSpPr>
            <p:cNvPr id="178" name="_s2053"/>
            <p:cNvCxnSpPr>
              <a:stCxn id="179" idx="0"/>
              <a:endCxn id="177" idx="2"/>
            </p:cNvCxnSpPr>
            <p:nvPr/>
          </p:nvCxnSpPr>
          <p:spPr>
            <a:xfrm flipV="1" rot="16200000">
              <a:off x="5319000" y="3775320"/>
              <a:ext cx="782640" cy="158508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0" name="_s2054"/>
            <p:cNvCxnSpPr>
              <a:stCxn id="181" idx="0"/>
              <a:endCxn id="177" idx="2"/>
            </p:cNvCxnSpPr>
            <p:nvPr/>
          </p:nvCxnSpPr>
          <p:spPr>
            <a:xfrm flipV="1">
              <a:off x="4918320" y="4176720"/>
              <a:ext cx="2160" cy="78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2055"/>
            <p:cNvCxnSpPr>
              <a:stCxn id="183" idx="0"/>
              <a:endCxn id="177" idx="2"/>
            </p:cNvCxnSpPr>
            <p:nvPr/>
          </p:nvCxnSpPr>
          <p:spPr>
            <a:xfrm flipH="1" flipV="1" rot="5400000">
              <a:off x="3733920" y="3774600"/>
              <a:ext cx="782640" cy="158652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4" name="_s2056"/>
            <p:cNvCxnSpPr>
              <a:stCxn id="185" idx="0"/>
              <a:endCxn id="177" idx="2"/>
            </p:cNvCxnSpPr>
            <p:nvPr/>
          </p:nvCxnSpPr>
          <p:spPr>
            <a:xfrm flipH="1" flipV="1" rot="5400000">
              <a:off x="2940120" y="2980800"/>
              <a:ext cx="782640" cy="3174120"/>
            </a:xfrm>
            <a:prstGeom prst="bentConnector3">
              <a:avLst>
                <a:gd name="adj1" fmla="val 14588"/>
              </a:avLst>
            </a:prstGeom>
            <a:ln w="28440">
              <a:solidFill>
                <a:srgbClr val="ffffff"/>
              </a:solidFill>
              <a:miter/>
              <a:headEnd len="lg" type="stealth" w="lg"/>
            </a:ln>
          </p:spPr>
        </p:cxnSp>
        <p:cxnSp>
          <p:nvCxnSpPr>
            <p:cNvPr id="186" name="_s2057"/>
            <p:cNvCxnSpPr>
              <a:stCxn id="177" idx="0"/>
              <a:endCxn id="187" idx="2"/>
            </p:cNvCxnSpPr>
            <p:nvPr/>
          </p:nvCxnSpPr>
          <p:spPr>
            <a:xfrm flipV="1">
              <a:off x="4918320" y="1830600"/>
              <a:ext cx="2160" cy="78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headEnd len="lg" type="stealth" w="lg"/>
            </a:ln>
          </p:spPr>
        </p:cxnSp>
        <p:sp>
          <p:nvSpPr>
            <p:cNvPr id="187" name="_s2058"/>
            <p:cNvSpPr/>
            <p:nvPr/>
          </p:nvSpPr>
          <p:spPr>
            <a:xfrm>
              <a:off x="4237200" y="2667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50000">
                  <a:srgbClr val="ceb966"/>
                </a:gs>
                <a:gs pos="100000">
                  <a:srgbClr val="5e552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ГЛОБ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ПРОБЛЕ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СОВРЕМ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4238640" y="2612880"/>
              <a:ext cx="1357920" cy="156420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80">
                  <a:moveTo>
                    <a:pt x="3600" y="0"/>
                  </a:moveTo>
                  <a:arcTo wR="3600" hR="3600" stAng="16200000" swAng="-5400000"/>
                  <a:lnTo>
                    <a:pt x="0" y="21280"/>
                  </a:lnTo>
                  <a:arcTo wR="3600" hR="3600" stAng="10800000" swAng="-5400000"/>
                  <a:lnTo>
                    <a:pt x="18000" y="248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eb966"/>
                </a:gs>
                <a:gs pos="100000">
                  <a:srgbClr val="5e552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РАСШИР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МЕЖДУНАРОД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СОТРУДНИЧЕ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2060"/>
            <p:cNvSpPr/>
            <p:nvPr/>
          </p:nvSpPr>
          <p:spPr>
            <a:xfrm>
              <a:off x="106524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МЕДЕЦИ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2061"/>
            <p:cNvSpPr/>
            <p:nvPr/>
          </p:nvSpPr>
          <p:spPr>
            <a:xfrm>
              <a:off x="265104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2062"/>
            <p:cNvSpPr/>
            <p:nvPr/>
          </p:nvSpPr>
          <p:spPr>
            <a:xfrm>
              <a:off x="423720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КОНТРОЛЬ 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ВООРУЖЕНИЕ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2063"/>
            <p:cNvSpPr/>
            <p:nvPr/>
          </p:nvSpPr>
          <p:spPr>
            <a:xfrm>
              <a:off x="582336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НАУЧ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ИССЛЕД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2064"/>
            <p:cNvSpPr/>
            <p:nvPr/>
          </p:nvSpPr>
          <p:spPr>
            <a:xfrm>
              <a:off x="7409520" y="4959360"/>
              <a:ext cx="1359360" cy="1564200"/>
            </a:xfrm>
            <a:custGeom>
              <a:avLst/>
              <a:gdLst>
                <a:gd name="textAreaLeft" fmla="*/ 66240 w 1359360"/>
                <a:gd name="textAreaRight" fmla="*/ 1293120 w 1359360"/>
                <a:gd name="textAreaTop" fmla="*/ 66240 h 1564200"/>
                <a:gd name="textAreaBottom" fmla="*/ 1497960 h 1564200"/>
              </a:gdLst>
              <a:ahLst/>
              <a:rect l="textAreaLeft" t="textAreaTop" r="textAreaRight" b="textAreaBottom"/>
              <a:pathLst>
                <a:path w="21600" h="24854">
                  <a:moveTo>
                    <a:pt x="3600" y="0"/>
                  </a:moveTo>
                  <a:arcTo wR="3600" hR="3600" stAng="16200000" swAng="-5400000"/>
                  <a:lnTo>
                    <a:pt x="0" y="21254"/>
                  </a:lnTo>
                  <a:arcTo wR="3600" hR="3600" stAng="10800000" swAng="-5400000"/>
                  <a:lnTo>
                    <a:pt x="18000" y="24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e552f"/>
                </a:gs>
                <a:gs pos="100000">
                  <a:srgbClr val="ceb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ЭКОЛОГ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-208080" y="304920"/>
            <a:ext cx="9772920" cy="1755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971640" y="2204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резкое увеличение расходования природных ресур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трицательное антропогенное воздействие на природную среду, ухудшение экологических условий жизни люде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усиление неравномерности в уровнях социально – экономического развития между промышленно развитыми и развивающимися стран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оздание оружия массового уничтоже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Diagram 3"/>
          <p:cNvGrpSpPr/>
          <p:nvPr/>
        </p:nvGrpSpPr>
        <p:grpSpPr>
          <a:xfrm>
            <a:off x="2490840" y="813240"/>
            <a:ext cx="4159800" cy="4400640"/>
            <a:chOff x="2490840" y="813240"/>
            <a:chExt cx="4159800" cy="4400640"/>
          </a:xfrm>
        </p:grpSpPr>
        <p:sp>
          <p:nvSpPr>
            <p:cNvPr id="128" name="_s1028"/>
            <p:cNvSpPr/>
            <p:nvPr/>
          </p:nvSpPr>
          <p:spPr>
            <a:xfrm flipH="1">
              <a:off x="3568680" y="3857400"/>
              <a:ext cx="501120" cy="3394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29"/>
            <p:cNvSpPr/>
            <p:nvPr/>
          </p:nvSpPr>
          <p:spPr>
            <a:xfrm>
              <a:off x="2490840" y="3859920"/>
              <a:ext cx="1156320" cy="135396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УГРОЖАЮ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ГИБЕЛЬ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ВСЕМ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ЧЕЛОВЕЧЕСТВ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030"/>
            <p:cNvSpPr/>
            <p:nvPr/>
          </p:nvSpPr>
          <p:spPr>
            <a:xfrm>
              <a:off x="5069880" y="3859920"/>
              <a:ext cx="501120" cy="3394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>
              <a:off x="5494320" y="3859920"/>
              <a:ext cx="1156320" cy="135396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ТРЕБУЮТ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КОЛЛЕКТИВНЫХ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УСИЛИЙ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МИРОВОГО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СООБЩЕ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032"/>
            <p:cNvSpPr/>
            <p:nvPr/>
          </p:nvSpPr>
          <p:spPr>
            <a:xfrm flipV="1">
              <a:off x="4570920" y="2167200"/>
              <a:ext cx="0" cy="677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3992400" y="813240"/>
              <a:ext cx="1157040" cy="135396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НОСЯТ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ПЛАНЕТАРНЫ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ХАРАКТЕ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3992400" y="2844720"/>
              <a:ext cx="1157040" cy="135468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Narrow"/>
                </a:rPr>
                <a:t>ГЛОБ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Narrow"/>
                </a:rPr>
                <a:t>ПРОБЛЕ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04920" y="765000"/>
          <a:ext cx="8564400" cy="5545440"/>
        </p:xfrm>
        <a:graphic>
          <a:graphicData uri="http://schemas.openxmlformats.org/drawingml/2006/table">
            <a:tbl>
              <a:tblPr/>
              <a:tblGrid>
                <a:gridCol w="2120760"/>
                <a:gridCol w="2065320"/>
                <a:gridCol w="2228760"/>
                <a:gridCol w="2149560"/>
              </a:tblGrid>
              <a:tr h="14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 Rounded MT Bold"/>
                        </a:rPr>
                        <a:t>полит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800000"/>
                          </a:solidFill>
                          <a:uFillTx/>
                          <a:latin typeface="Arial Rounded MT Bold"/>
                        </a:rPr>
                        <a:t>эк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 Rounded MT Bold"/>
                        </a:rPr>
                        <a:t>социа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9cb084"/>
                          </a:solidFill>
                          <a:uFillTx/>
                          <a:latin typeface="Arial Rounded MT Bold"/>
                        </a:rPr>
                        <a:t>эконо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«Парниковый 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графическая 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родовольственная 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агрязнение атмосферы,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населенный «ЮГ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Полюса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стребление ле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cb084"/>
                          </a:solidFill>
                          <a:latin typeface="Arial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838080" y="1752480"/>
            <a:ext cx="761868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ЕЖДУНАРОД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РРОРИЗ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icture"/>
          <p:cNvPicPr/>
          <p:nvPr/>
        </p:nvPicPr>
        <p:blipFill>
          <a:blip r:embed="rId1"/>
          <a:stretch/>
        </p:blipFill>
        <p:spPr>
          <a:xfrm>
            <a:off x="863640" y="404640"/>
            <a:ext cx="8280360" cy="576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image_big"/>
          <p:cNvPicPr/>
          <p:nvPr/>
        </p:nvPicPr>
        <p:blipFill>
          <a:blip r:embed="rId2"/>
          <a:stretch/>
        </p:blipFill>
        <p:spPr>
          <a:xfrm>
            <a:off x="468360" y="260280"/>
            <a:ext cx="4176720" cy="5516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420936[1]"/>
          <p:cNvPicPr/>
          <p:nvPr/>
        </p:nvPicPr>
        <p:blipFill>
          <a:blip r:embed="rId3"/>
          <a:stretch/>
        </p:blipFill>
        <p:spPr>
          <a:xfrm>
            <a:off x="826920" y="260280"/>
            <a:ext cx="8317080" cy="640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6-7-1"/>
          <p:cNvPicPr/>
          <p:nvPr/>
        </p:nvPicPr>
        <p:blipFill>
          <a:blip r:embed="rId4"/>
          <a:stretch/>
        </p:blipFill>
        <p:spPr>
          <a:xfrm>
            <a:off x="826920" y="692280"/>
            <a:ext cx="8136000" cy="5473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931767_20070214210255"/>
          <p:cNvPicPr/>
          <p:nvPr/>
        </p:nvPicPr>
        <p:blipFill>
          <a:blip r:embed="rId5"/>
          <a:stretch/>
        </p:blipFill>
        <p:spPr>
          <a:xfrm>
            <a:off x="304920" y="457200"/>
            <a:ext cx="813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85800" y="1752480"/>
            <a:ext cx="7993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КОЛОГИЧЕСК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БЛ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жегодно из недр планеты извлекается более 100 млрд. тонн различных веществ, из которых 98,5 процентов превращается в отход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жегодно в атмосферу выбрасывается 20 млрд. тонн окиси углерода, двуокиси серы, 250 млн. тонн пыли и др.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оды Мирового океана ежегодно сбрасывается 6-10 млн. тонн сырой нефти и нефтепродуктов, 17,4 млн. тонн твердых вещест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ощадь пустынь с 1975 по 2000 гг. возросла на 20 процент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1950 по 2000 гг. площадь лесов уменьшилась почти на 10 процен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3:37:54Z</dcterms:created>
  <dc:creator>михаил</dc:creator>
  <dc:description/>
  <dc:language>en-US</dc:language>
  <cp:lastModifiedBy>дом</cp:lastModifiedBy>
  <dcterms:modified xsi:type="dcterms:W3CDTF">2015-03-09T13:44:5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