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25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82B-871F-4293-B7B7-FC74E921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6C7-1184-4787-9C60-F8EB559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A77-E11D-4C0A-AAD6-198AD002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CF3-1BA5-4E3B-80B5-FA94BA63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2F42-23E5-4046-B987-14F06239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5B36-046E-43FC-9603-9339F41A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3E03-7121-46FD-A775-4C8094C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36B0-5A08-4277-9413-8D0BA17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989B-6B5C-41ED-A52A-BA861AFA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995F-B4CF-4D41-B594-CB6A3E47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0F0C-34F1-4528-BBF5-2E318E9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87F-AF2B-44E7-A290-153D6858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AB03-11C8-43D9-986D-82EDDBD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BFA-D359-419A-9902-FCF5A03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EE36-9CF0-448B-98C8-0EAC158F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4C32-2D88-42C6-B551-534E739D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ACA5-2567-41BB-9F3E-7E35F4DB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9BB5-E467-4C1D-9C28-450FFB1C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687D-DE5E-4872-83A5-4130379A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BB93-EABC-40C2-9313-14735F4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1D34-C776-4343-9492-CD1627D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0100-9345-48CE-A705-135E9C9B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4B9-1EF5-4E15-BF02-BEE1EB9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BB37-6816-4302-8FD0-AE82CB8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1027-2C8E-4A2F-99F5-A555F7B4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3781-D362-4ED8-A3FB-C0ABF48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9EFE-1908-49CD-BD7B-4170F51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5A09-9888-4533-900C-C4376E75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763F-BA01-4643-9193-88F145F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8C98-F437-4EFC-8D44-298FAC5D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BD6-7C66-409B-ACCE-FD53ECB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CAF-1BDA-49DB-BAAD-2671EA9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795-E734-4A39-A244-32D946FF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C78-4F29-444C-A1C3-AF2BE6B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B5E-612A-4DC0-9524-A846926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8CE-B9A6-469D-8423-D8ECE8C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87A-D6D5-48CE-9B04-F2CC075CCE5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8FAC-3CB4-42D5-9235-8C37CE25D84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F57-2171-4C19-BD41-333386BC213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042920" y="1628640"/>
            <a:ext cx="763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10082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5c5c"/>
                  </a:outerShdw>
                </a:effectLst>
                <a:latin typeface="Arial"/>
              </a:rPr>
              <a:t>ГЛОБАЛЬНЫЕ ПРОБЛЕМЫ</a:t>
            </a:r>
            <a:endParaRPr b="1" lang="en-US" sz="1800" spc="1" strike="noStrike">
              <a:ln w="12600">
                <a:solidFill>
                  <a:srgbClr val="410082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2700000"/>
              </a:gradFill>
              <a:effectLst>
                <a:outerShdw dist="17819" dir="2700000" blurRad="0" rotWithShape="0">
                  <a:srgbClr val="005c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10082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5c5c"/>
                  </a:outerShdw>
                </a:effectLst>
                <a:latin typeface="Arial"/>
              </a:rPr>
              <a:t>СОВРЕМЕННОСТИ</a:t>
            </a:r>
            <a:endParaRPr b="1" lang="en-US" sz="1800" spc="1" strike="noStrike">
              <a:ln w="12600">
                <a:solidFill>
                  <a:srgbClr val="410082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2700000"/>
              </a:gradFill>
              <a:effectLst>
                <a:outerShdw dist="17819" dir="2700000" blurRad="0" rotWithShape="0">
                  <a:srgbClr val="005c5c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ortage-glacier-2004"/>
          <p:cNvPicPr/>
          <p:nvPr/>
        </p:nvPicPr>
        <p:blipFill>
          <a:blip r:embed="rId1"/>
          <a:stretch/>
        </p:blipFill>
        <p:spPr>
          <a:xfrm>
            <a:off x="5364000" y="1197000"/>
            <a:ext cx="3564000" cy="367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portage-glacier-1914"/>
          <p:cNvPicPr/>
          <p:nvPr/>
        </p:nvPicPr>
        <p:blipFill>
          <a:blip r:embed="rId2"/>
          <a:stretch/>
        </p:blipFill>
        <p:spPr>
          <a:xfrm>
            <a:off x="1116000" y="1197000"/>
            <a:ext cx="3745080" cy="37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rhone-glacier"/>
          <p:cNvPicPr/>
          <p:nvPr/>
        </p:nvPicPr>
        <p:blipFill>
          <a:blip r:embed="rId3"/>
          <a:stretch/>
        </p:blipFill>
        <p:spPr>
          <a:xfrm>
            <a:off x="1763640" y="1052640"/>
            <a:ext cx="6050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список учащихся 002"/>
          <p:cNvPicPr/>
          <p:nvPr/>
        </p:nvPicPr>
        <p:blipFill>
          <a:blip r:embed="rId1"/>
          <a:stretch/>
        </p:blipFill>
        <p:spPr>
          <a:xfrm>
            <a:off x="2182680" y="189000"/>
            <a:ext cx="4476960" cy="648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список учащихся 015"/>
          <p:cNvPicPr/>
          <p:nvPr/>
        </p:nvPicPr>
        <p:blipFill>
          <a:blip r:embed="rId2"/>
          <a:stretch/>
        </p:blipFill>
        <p:spPr>
          <a:xfrm>
            <a:off x="1042920" y="260280"/>
            <a:ext cx="53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список учащихся 016"/>
          <p:cNvPicPr/>
          <p:nvPr/>
        </p:nvPicPr>
        <p:blipFill>
          <a:blip r:embed="rId3"/>
          <a:stretch/>
        </p:blipFill>
        <p:spPr>
          <a:xfrm>
            <a:off x="4211640" y="1341360"/>
            <a:ext cx="4664160" cy="519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список учащихся 017"/>
          <p:cNvPicPr/>
          <p:nvPr/>
        </p:nvPicPr>
        <p:blipFill>
          <a:blip r:embed="rId4"/>
          <a:stretch/>
        </p:blipFill>
        <p:spPr>
          <a:xfrm>
            <a:off x="2556000" y="333360"/>
            <a:ext cx="3887640" cy="626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список учащихся 018"/>
          <p:cNvPicPr/>
          <p:nvPr/>
        </p:nvPicPr>
        <p:blipFill>
          <a:blip r:embed="rId5"/>
          <a:stretch/>
        </p:blipFill>
        <p:spPr>
          <a:xfrm>
            <a:off x="755640" y="1484280"/>
            <a:ext cx="6624720" cy="48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список учащихся 019"/>
          <p:cNvPicPr/>
          <p:nvPr/>
        </p:nvPicPr>
        <p:blipFill>
          <a:blip r:embed="rId6"/>
          <a:stretch/>
        </p:blipFill>
        <p:spPr>
          <a:xfrm>
            <a:off x="1905120" y="609480"/>
            <a:ext cx="618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762120" y="762120"/>
            <a:ext cx="7632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ПАС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ЯДЕРНОЙ ВОЙ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И ЛОКАЛЬНЫХ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ОНФЛИКТО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настоящему времени в арсеналах ядерных держав накоплено 50 тыс. ядерных боеприпасов общей мощностью 13 тыс. мегатон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мире имеется около 150 тыс. тонн боевых отравляющих вещест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1189080" y="36360"/>
            <a:ext cx="7772400" cy="1676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826560" y="1412640"/>
            <a:ext cx="8317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менение клима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рушение озонового слоя атмосфер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начительное воздействие на генофонд человече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рушение баланса в биосфе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бель 2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 – 25 процентов оставшихся в живых скончаются от эпидемий, радиации, генетических болезн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ядерная зима», разрушение озонового слоя и другие экологические изменения сделают невозможным существование высших форм жизни на Зем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&#10;town ruins                                                     000007BF_x0007_Zip 100                        AB89E6CB: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116000" y="198900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признание  приоритета общечеловеческих ценност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отказ от войны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как средства решения конфликт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признание права народов самостоятельно и свободно выбирать свою судьб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понимание взаимосвязанности современного мира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Rectangl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09480" y="2209680"/>
            <a:ext cx="763272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СЕВЕР - ЮГ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09480" y="3805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т внешней задолженности, которая превысила 1 трлн. американских доллар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 800 млн. живет в абсолютной бед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 50 млн. ежегодно умирают от голод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ь населения не имеет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 недоедания страдает свыше 500 млн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,5 млрд. человек лишены элементарной медицинской помощ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¾ населения живут, не имея санитарных усло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йцария 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фганистан 40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ия 75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я 51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нция 74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иопия 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 73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гола 43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304920"/>
            <a:ext cx="77724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лобальными называют проблемы, которые охватывают весь мир, всё человечество, создают угрозу для его настоящего и будущего и требуют для своего решения объединённых усилий, совместных действий всех государств и народов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914400" y="1828800"/>
            <a:ext cx="7345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ЕМОГРАФИЧЕСК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ИТУ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рубеже «до н.э. – н.э.»  - около 234 млн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1800 году – 1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1990 году – 5,5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2025 году – 8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2050 году – 10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2150 году – до 27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ельно возможное количество людей для Земли – 14 млрд. челов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890640" y="-79200"/>
            <a:ext cx="8174160" cy="124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1042920" y="1052640"/>
          <a:ext cx="7772400" cy="3851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ые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иес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ША   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ликобритания  2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стрия  2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ия  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мания  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н  6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рия  5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иппины 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иланд  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кистан  5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4"/>
          <p:cNvSpPr/>
          <p:nvPr/>
        </p:nvSpPr>
        <p:spPr>
          <a:xfrm>
            <a:off x="971640" y="527364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2d1"/>
                </a:solidFill>
                <a:latin typeface="Arial"/>
              </a:rPr>
              <a:t>За период 1975-2000 гг. из 2,2 млрд. прироста населения мира около 90 процентов – 2,0 млрд. – приходится на развивающиеся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фрика на 140,4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тинская Америка  на 89,3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зия  на 76,1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верная Америка  на 30, 2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вропа  на 16,1 процен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6840" y="159984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 – доступные и оттого приносящие прибыль природные ресурсы России иссякну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28 год – от СПИДа к этому времени погибнет 600 млн. челове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48 год – в морях не останется ни одного вида, существование которого не было бы под угроз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70 год – окончательно растает шапка льдов вокруг Северного полюса, растает вечная мерзло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00 год – из-за глобального потепления более трети территории суши превратится в пустын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нообразие животного и растительного мира останется в прошл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Organization Chart 2"/>
          <p:cNvGrpSpPr/>
          <p:nvPr/>
        </p:nvGrpSpPr>
        <p:grpSpPr>
          <a:xfrm>
            <a:off x="1065240" y="266760"/>
            <a:ext cx="7703640" cy="6256800"/>
            <a:chOff x="1065240" y="266760"/>
            <a:chExt cx="7703640" cy="6256800"/>
          </a:xfrm>
        </p:grpSpPr>
        <p:cxnSp>
          <p:nvCxnSpPr>
            <p:cNvPr id="175" name="_s2052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6112080" y="2982240"/>
              <a:ext cx="782640" cy="317124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  <a:headEnd len="lg" type="stealth" w="lg"/>
            </a:ln>
          </p:spPr>
        </p:cxnSp>
        <p:cxnSp>
          <p:nvCxnSpPr>
            <p:cNvPr id="178" name="_s2053"/>
            <p:cNvCxnSpPr>
              <a:stCxn id="179" idx="0"/>
              <a:endCxn id="177" idx="2"/>
            </p:cNvCxnSpPr>
            <p:nvPr/>
          </p:nvCxnSpPr>
          <p:spPr>
            <a:xfrm flipV="1" rot="16200000">
              <a:off x="5319000" y="3775320"/>
              <a:ext cx="782640" cy="158508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0" name="_s2054"/>
            <p:cNvCxnSpPr>
              <a:stCxn id="181" idx="0"/>
              <a:endCxn id="177" idx="2"/>
            </p:cNvCxnSpPr>
            <p:nvPr/>
          </p:nvCxnSpPr>
          <p:spPr>
            <a:xfrm flipV="1">
              <a:off x="4918320" y="4176720"/>
              <a:ext cx="2160" cy="78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2055"/>
            <p:cNvCxnSpPr>
              <a:stCxn id="183" idx="0"/>
              <a:endCxn id="177" idx="2"/>
            </p:cNvCxnSpPr>
            <p:nvPr/>
          </p:nvCxnSpPr>
          <p:spPr>
            <a:xfrm flipH="1" flipV="1" rot="5400000">
              <a:off x="3733920" y="3774600"/>
              <a:ext cx="782640" cy="158652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4" name="_s2056"/>
            <p:cNvCxnSpPr>
              <a:stCxn id="185" idx="0"/>
              <a:endCxn id="177" idx="2"/>
            </p:cNvCxnSpPr>
            <p:nvPr/>
          </p:nvCxnSpPr>
          <p:spPr>
            <a:xfrm flipH="1" flipV="1" rot="5400000">
              <a:off x="2940120" y="2980800"/>
              <a:ext cx="782640" cy="317412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  <a:headEnd len="lg" type="stealth" w="lg"/>
            </a:ln>
          </p:spPr>
        </p:cxnSp>
        <p:cxnSp>
          <p:nvCxnSpPr>
            <p:cNvPr id="186" name="_s2057"/>
            <p:cNvCxnSpPr>
              <a:stCxn id="177" idx="0"/>
              <a:endCxn id="187" idx="2"/>
            </p:cNvCxnSpPr>
            <p:nvPr/>
          </p:nvCxnSpPr>
          <p:spPr>
            <a:xfrm flipV="1">
              <a:off x="4918320" y="1830600"/>
              <a:ext cx="2160" cy="78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headEnd len="lg" type="stealth" w="lg"/>
            </a:ln>
          </p:spPr>
        </p:cxnSp>
        <p:sp>
          <p:nvSpPr>
            <p:cNvPr id="187" name="_s2058"/>
            <p:cNvSpPr/>
            <p:nvPr/>
          </p:nvSpPr>
          <p:spPr>
            <a:xfrm>
              <a:off x="4237200" y="2667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50000">
                  <a:srgbClr val="ceb966"/>
                </a:gs>
                <a:gs pos="100000">
                  <a:srgbClr val="5e552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ГЛОБ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ПРОБЛЕ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СОВРЕМ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4238640" y="2612880"/>
              <a:ext cx="1357920" cy="156420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80">
                  <a:moveTo>
                    <a:pt x="3600" y="0"/>
                  </a:moveTo>
                  <a:arcTo wR="3600" hR="3600" stAng="16200000" swAng="-5400000"/>
                  <a:lnTo>
                    <a:pt x="0" y="21280"/>
                  </a:lnTo>
                  <a:arcTo wR="3600" hR="3600" stAng="10800000" swAng="-5400000"/>
                  <a:lnTo>
                    <a:pt x="18000" y="248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eb966"/>
                </a:gs>
                <a:gs pos="100000">
                  <a:srgbClr val="5e552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РАСШИР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МЕЖДУНАРОД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СОТРУДНИЧЕ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2060"/>
            <p:cNvSpPr/>
            <p:nvPr/>
          </p:nvSpPr>
          <p:spPr>
            <a:xfrm>
              <a:off x="106524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МЕДЕЦИ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2061"/>
            <p:cNvSpPr/>
            <p:nvPr/>
          </p:nvSpPr>
          <p:spPr>
            <a:xfrm>
              <a:off x="265104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2062"/>
            <p:cNvSpPr/>
            <p:nvPr/>
          </p:nvSpPr>
          <p:spPr>
            <a:xfrm>
              <a:off x="423720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КОНТРОЛЬ 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ВООРУЖЕНИЕ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2063"/>
            <p:cNvSpPr/>
            <p:nvPr/>
          </p:nvSpPr>
          <p:spPr>
            <a:xfrm>
              <a:off x="582336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НАУЧ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2064"/>
            <p:cNvSpPr/>
            <p:nvPr/>
          </p:nvSpPr>
          <p:spPr>
            <a:xfrm>
              <a:off x="740952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ЭКОЛОГ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-208080" y="304920"/>
            <a:ext cx="9772920" cy="1755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971640" y="2204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резкое увеличение расходования природных ресур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трицательное антропогенное воздействие на природную среду, ухудшение экологических условий жизни люд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усиление неравномерности в уровнях социально – экономического развития между промышленно развитыми и развивающимися стран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оздание оружия массового уничтож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Diagram 3"/>
          <p:cNvGrpSpPr/>
          <p:nvPr/>
        </p:nvGrpSpPr>
        <p:grpSpPr>
          <a:xfrm>
            <a:off x="2490840" y="813240"/>
            <a:ext cx="4159800" cy="4400640"/>
            <a:chOff x="2490840" y="813240"/>
            <a:chExt cx="4159800" cy="4400640"/>
          </a:xfrm>
        </p:grpSpPr>
        <p:sp>
          <p:nvSpPr>
            <p:cNvPr id="128" name="_s1028"/>
            <p:cNvSpPr/>
            <p:nvPr/>
          </p:nvSpPr>
          <p:spPr>
            <a:xfrm flipH="1">
              <a:off x="3568680" y="3857400"/>
              <a:ext cx="501120" cy="3394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29"/>
            <p:cNvSpPr/>
            <p:nvPr/>
          </p:nvSpPr>
          <p:spPr>
            <a:xfrm>
              <a:off x="2490840" y="3859920"/>
              <a:ext cx="1156320" cy="135396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УГРОЖ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ГИБЕЛЬ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ВСЕМ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ЧЕЛОВЕЧЕСТВ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030"/>
            <p:cNvSpPr/>
            <p:nvPr/>
          </p:nvSpPr>
          <p:spPr>
            <a:xfrm>
              <a:off x="5069880" y="3859920"/>
              <a:ext cx="501120" cy="3394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>
              <a:off x="5494320" y="3859920"/>
              <a:ext cx="1156320" cy="135396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ТРЕБУЮТ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КОЛЛЕКТИВНЫХ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УСИЛИЙ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МИРОВОГО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СООБЩЕ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2"/>
            <p:cNvSpPr/>
            <p:nvPr/>
          </p:nvSpPr>
          <p:spPr>
            <a:xfrm flipV="1">
              <a:off x="4570920" y="2167200"/>
              <a:ext cx="0" cy="677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3992400" y="813240"/>
              <a:ext cx="1157040" cy="135396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НОСЯТ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ПЛАНЕТАРНЫ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ХАРАКТЕ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3992400" y="2844720"/>
              <a:ext cx="1157040" cy="135468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Narrow"/>
                </a:rPr>
                <a:t>ГЛОБ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Narrow"/>
                </a:rPr>
                <a:t>ПРОБЛЕ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04920" y="765000"/>
          <a:ext cx="8564400" cy="5545440"/>
        </p:xfrm>
        <a:graphic>
          <a:graphicData uri="http://schemas.openxmlformats.org/drawingml/2006/table">
            <a:tbl>
              <a:tblPr/>
              <a:tblGrid>
                <a:gridCol w="2120760"/>
                <a:gridCol w="2065320"/>
                <a:gridCol w="2228760"/>
                <a:gridCol w="2149560"/>
              </a:tblGrid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 Rounded MT Bold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800000"/>
                          </a:solidFill>
                          <a:uFillTx/>
                          <a:latin typeface="Arial Rounded MT Bold"/>
                        </a:rPr>
                        <a:t>эк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 Rounded MT Bold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9cb084"/>
                          </a:solidFill>
                          <a:uFillTx/>
                          <a:latin typeface="Arial Rounded MT Bold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«Парниковый 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графическая 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родовольственная 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агрязнение атмосферы,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населенный «ЮГ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олюса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стребление ле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838080" y="1752480"/>
            <a:ext cx="761868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ЖДУНАРОД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РРОРИЗ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icture"/>
          <p:cNvPicPr/>
          <p:nvPr/>
        </p:nvPicPr>
        <p:blipFill>
          <a:blip r:embed="rId1"/>
          <a:stretch/>
        </p:blipFill>
        <p:spPr>
          <a:xfrm>
            <a:off x="863640" y="404640"/>
            <a:ext cx="8280360" cy="576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image_big"/>
          <p:cNvPicPr/>
          <p:nvPr/>
        </p:nvPicPr>
        <p:blipFill>
          <a:blip r:embed="rId2"/>
          <a:stretch/>
        </p:blipFill>
        <p:spPr>
          <a:xfrm>
            <a:off x="468360" y="260280"/>
            <a:ext cx="4176720" cy="551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420936[1]"/>
          <p:cNvPicPr/>
          <p:nvPr/>
        </p:nvPicPr>
        <p:blipFill>
          <a:blip r:embed="rId3"/>
          <a:stretch/>
        </p:blipFill>
        <p:spPr>
          <a:xfrm>
            <a:off x="826920" y="260280"/>
            <a:ext cx="8317080" cy="640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6-7-1"/>
          <p:cNvPicPr/>
          <p:nvPr/>
        </p:nvPicPr>
        <p:blipFill>
          <a:blip r:embed="rId4"/>
          <a:stretch/>
        </p:blipFill>
        <p:spPr>
          <a:xfrm>
            <a:off x="826920" y="692280"/>
            <a:ext cx="8136000" cy="5473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931767_20070214210255"/>
          <p:cNvPicPr/>
          <p:nvPr/>
        </p:nvPicPr>
        <p:blipFill>
          <a:blip r:embed="rId5"/>
          <a:stretch/>
        </p:blipFill>
        <p:spPr>
          <a:xfrm>
            <a:off x="304920" y="457200"/>
            <a:ext cx="813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85800" y="1752480"/>
            <a:ext cx="7993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КОЛОГИЧЕСК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БЛ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жегодно из недр планеты извлекается более 100 млрд. тонн различных веществ, из которых 98,5 процентов превращается в отход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жегодно в атмосферу выбрасывается 20 млрд. тонн окиси углерода, двуокиси серы, 250 млн. тонн пыли и др.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оды Мирового океана ежегодно сбрасывается 6-10 млн. тонн сырой нефти и нефтепродуктов, 17,4 млн. тонн твердых вещест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ощадь пустынь с 1975 по 2000 гг. возросла на 20 процент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1950 по 2000 гг. площадь лесов уменьшилась почти на 10 проц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3:37:54Z</dcterms:created>
  <dc:creator>михаил</dc:creator>
  <dc:description/>
  <dc:language>en-US</dc:language>
  <cp:lastModifiedBy>дом</cp:lastModifiedBy>
  <dcterms:modified xsi:type="dcterms:W3CDTF">2015-03-09T13:44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