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2460-1C9C-4698-AF37-C338F11659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3ED2-B189-4656-BDF2-C1F32B1BB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648-5A18-499D-AF58-53F707FD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F27-8397-4324-A187-09E17499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71FD1-97B1-4F44-8B97-D9DDBF5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87D49-F6F6-4798-9274-F00F6D43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0853F-5DBF-4766-95AA-59334968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B7B16-1DE3-4B7F-9A90-BC8DF52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154DA-8A88-4E7C-95C5-DB74717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A19AB-5F76-475C-8CB1-D5897A3E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FEDD2-8BBE-40CF-8961-18BCA476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35917-16E1-43C7-BFBF-26E1D970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0F5FB-B06F-4A61-9274-70EB245B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92F-A5E3-4618-9011-5F249945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CEA-DC86-49F8-BB48-DE4CCDC8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6103-C65B-4B43-A0E3-85911A78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A2C0-9613-4D25-BA1E-A0A1CE05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6773-73F4-4603-947A-F30680C6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6208-6504-4D83-8BD4-8A13DF69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DF98-2B17-4177-B74C-64C2F9CD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C6B2-21FD-4808-B2F1-EDE97DFD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347C-3070-4219-8E83-68AC904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4AE-1BE1-4110-953A-505FFCF2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C99A-E8C8-4C73-8225-C0663DCC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9E59-C27B-4326-A170-BE72773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E1D6-2A07-47BD-8BFA-9CC3025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E83-05BF-47C1-A27B-ADCE9323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7ED2-CCFD-40B0-A1DB-4FBE1A4A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CEC0-1A73-4005-AC50-6A335E5F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313F-F0FA-42E9-A7AC-16AEDA95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4B6D-88BF-40E9-9DA4-FBC01BBA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21658-A597-47DA-8EEB-EB48DEEA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7E75-2EEC-470E-9C3A-B0D175EF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B9E-3E81-4ACF-B5FD-D042FCA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A926-7E44-4AE0-9899-F77E5502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A4887-7D91-4233-8937-12BFEA11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58E2-61AE-4419-BF35-284EFD80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6580-41AC-4631-9F01-17C3918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3419-C6F9-43E5-9661-DA23E49C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CC877-9997-4930-85FC-F450A165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300E-102C-4A05-9561-1F97FBE9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581A-2916-4976-9F1D-9B52B0DD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6D21-228E-43CF-9877-5F562F29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D4D53-3D42-41BB-B7C8-BCCBDE12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7AF-3A1F-4255-934C-EAC2CBC6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2FDF8-06B0-44E1-9421-B1F9F75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4A3B-B8DE-4AE1-B6E0-1C387088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02452-3298-4D73-81C9-FDC57837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96A3-73FB-482C-A29E-A1944CE1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3489D-7F2E-498C-9150-F8745E7A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E48B-9B9F-4BA1-BEF8-DCAF3ACC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7AB5-DF1C-4A51-A1D9-865224AE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BD269-1DE6-455E-9E36-5F141215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D9C9-7524-4391-B49B-115C7E26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2BF2-8255-4F99-BFA3-D1063023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B71-1D85-42F4-A07B-24FD187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226D9-4D8A-4E44-AD8E-DF56F7E1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EDD86-5F9F-4EAC-A334-C7D10027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632E9-B198-48AA-B54D-DE23BEAE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AE2F-3A11-4E68-94DB-C7A35F83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A33B-913F-447E-B09C-F755D2CF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D013B-6222-4294-A537-0720EC6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296B7-0CE1-41E6-8D3A-3219D36B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D18F-0241-4319-9307-45777FA2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8D68D-13DA-43C8-8492-AB66547E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44C9-FCD5-4A7A-AC75-F4B60943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C6A-ECE8-4728-8FB0-C681ABDC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6632-9A8F-4F69-9C5F-C01D8058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4FA3-B057-438C-9D35-A44A70B8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ED56F-D058-4DAA-A7AC-447D0452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8C292-5926-4971-9EF9-58540CFB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6D622-5C53-476B-8ECE-408B7E9A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8E31-B977-4F68-9E76-BA4B92F1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94130-9EBF-4E20-85BD-956DDB8F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2E301-0397-4B7F-8B3E-A2BEF46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320D-8FC0-49BD-83FD-BAC7894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0E4BE-1CC7-446A-96C0-2C08169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F3A-4A75-4D37-8046-FC3E9AB3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C7FE4-6D75-4F07-842F-EDD6DA5D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26E5-9EC5-43AD-8ADB-541209CB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3A91B-D8E2-43F3-BC8D-CEEB1F15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1175B-8F35-4B72-AEC8-8D6B0266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1E87B-61FD-4DF0-8B5F-59CC84D0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95EA-91EF-462B-85CC-588BCDAD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0B877-E96B-43E3-A208-52875DF8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09461-A73B-4023-9A07-43D4AE45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8F29E-40F9-4E4A-9C77-32BA4119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FCDD6-7DE3-4A7D-A41D-6F70D2AD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38B-4926-47AC-8EF3-45A5296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CDF8D-5297-45CE-B2F1-32759DB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856A1-23F8-419B-ABC1-865F7C6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68F61-BC47-4C88-AE0B-7CE4536B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36AC-46FC-4344-8C06-02D32C3C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4E3A6-8106-46DF-AEC6-E69093E2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AEDD0-1160-4BC6-A42D-3A7ADDFC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EE9ED-EDF8-4AFE-91F3-55C4B43D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A392B-DD95-486A-B1FA-67DE0F51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51F1-E452-43B0-877B-5668B56E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A40AF-9BE4-42AA-B98C-1D478FBF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C92-A650-40FA-8858-0D41EEF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C711-B726-4CB3-926C-9D219068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481E8-BC7C-4972-A6DC-6E7993D4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5D4C8-C5B4-46B9-87E1-BA6D579E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F52FB-EA7A-48EB-88C9-30634933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82F19-5B88-499A-B7DB-6F5ADA7C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D09C1-CF59-4077-B015-A145962B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98012-2AA8-4B02-B632-D95C5ABA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347DB-F3B6-4FB5-8E8D-76424645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2D666-1AB1-4013-98EA-3EC6B61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61C7C-700A-441C-8918-151855D1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8B28-19AE-4C04-83F0-3B32E268FB6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E69C-0E1D-4E31-9F26-E24748FCDF9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1FD4-942C-4D3B-A612-3C4FA27A91D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53B9-B2CF-44B3-B50F-51E5095C04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C6F3-81B2-4192-BE25-34FD47CC0B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49E5-89B4-4279-BA06-CDE6CEADB0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5526-E46C-4119-9D65-03D96AAA6C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C90-5E18-4FB8-9EEE-5773B6227E3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FF53-5613-42FA-95C5-867E803AE2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D:\Картинки\Школьные\Рамочки\124772863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7" name="Заголовок 2" descr=""/>
          <p:cNvPicPr/>
          <p:nvPr/>
        </p:nvPicPr>
        <p:blipFill>
          <a:blip r:embed="rId2"/>
          <a:stretch/>
        </p:blipFill>
        <p:spPr>
          <a:xfrm>
            <a:off x="487440" y="-92160"/>
            <a:ext cx="3663720" cy="55976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85840" y="4642920"/>
            <a:ext cx="857232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БОУ «Гимназия №5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еверобайкальс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500040" y="532080"/>
            <a:ext cx="79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« Если мы будем учить сегодня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мы учили вчера, мы украдем у детей завт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жон Дью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Содержимое 5" descr="SDC17509.JPG"/>
          <p:cNvPicPr/>
          <p:nvPr/>
        </p:nvPicPr>
        <p:blipFill>
          <a:blip r:embed="rId1"/>
          <a:stretch/>
        </p:blipFill>
        <p:spPr>
          <a:xfrm>
            <a:off x="1643040" y="24289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"/>
          <p:cNvSpPr/>
          <p:nvPr/>
        </p:nvSpPr>
        <p:spPr>
          <a:xfrm>
            <a:off x="571680" y="583560"/>
            <a:ext cx="82152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а «Ассоциа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ое , что должен обеспечить урок - это создание комфортн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тановки для учащихся и ощущение комфорта учи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КОМФОР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Содержимое 7" descr="CIMG5566.JPG"/>
          <p:cNvPicPr/>
          <p:nvPr/>
        </p:nvPicPr>
        <p:blipFill>
          <a:blip r:embed="rId1"/>
          <a:stretch/>
        </p:blipFill>
        <p:spPr>
          <a:xfrm>
            <a:off x="3429000" y="2967120"/>
            <a:ext cx="52862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500040" y="285840"/>
          <a:ext cx="8072640" cy="5930640"/>
        </p:xfrm>
        <a:graphic>
          <a:graphicData uri="http://schemas.openxmlformats.org/drawingml/2006/table">
            <a:tbl>
              <a:tblPr/>
              <a:tblGrid>
                <a:gridCol w="357120"/>
                <a:gridCol w="2000520"/>
                <a:gridCol w="1928520"/>
                <a:gridCol w="2157480"/>
                <a:gridCol w="1629000"/>
              </a:tblGrid>
              <a:tr h="863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мпетент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ит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еатив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уль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чность, основа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дача , оптима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кры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ветстве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разованный, осозна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де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тив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тод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с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82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ант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рм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ункцион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унда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7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дых, осмысл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крытие, организова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у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ора, оза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д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зультат, рефлек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пл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ворч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ала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м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7"/>
          <p:cNvSpPr/>
          <p:nvPr/>
        </p:nvSpPr>
        <p:spPr>
          <a:xfrm>
            <a:off x="285840" y="1000080"/>
            <a:ext cx="2714400" cy="164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учебную програм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8"/>
          <p:cNvSpPr/>
          <p:nvPr/>
        </p:nvSpPr>
        <p:spPr>
          <a:xfrm>
            <a:off x="142920" y="3214800"/>
            <a:ext cx="2879640" cy="14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Выдел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ключевые ид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учебного предм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2"/>
          <p:cNvSpPr/>
          <p:nvPr/>
        </p:nvSpPr>
        <p:spPr>
          <a:xfrm>
            <a:off x="3143160" y="214200"/>
            <a:ext cx="2879640" cy="144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Использ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неординарные  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с установкой на успе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9"/>
          <p:cNvSpPr/>
          <p:nvPr/>
        </p:nvSpPr>
        <p:spPr>
          <a:xfrm>
            <a:off x="6072120" y="1000080"/>
            <a:ext cx="2879640" cy="144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Осуществл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межпредметные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1"/>
          <p:cNvSpPr/>
          <p:nvPr/>
        </p:nvSpPr>
        <p:spPr>
          <a:xfrm>
            <a:off x="6143760" y="3143160"/>
            <a:ext cx="2879640" cy="144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Примен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современн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1571760" y="5143680"/>
            <a:ext cx="2879640" cy="14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псих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и индивиду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особенности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5286240" y="5143680"/>
            <a:ext cx="2880000" cy="14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Выявлять з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ближайше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644e"/>
                </a:solidFill>
                <a:latin typeface="Arial"/>
              </a:rPr>
              <a:t>школь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Копия 1232317870_sun"/>
          <p:cNvPicPr/>
          <p:nvPr/>
        </p:nvPicPr>
        <p:blipFill>
          <a:blip r:embed="rId1"/>
          <a:stretch/>
        </p:blipFill>
        <p:spPr>
          <a:xfrm>
            <a:off x="2979720" y="1808280"/>
            <a:ext cx="3186000" cy="324000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9"/>
          <p:cNvSpPr/>
          <p:nvPr/>
        </p:nvSpPr>
        <p:spPr>
          <a:xfrm>
            <a:off x="3940560" y="32446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1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Так зажжём своей надеждой три погаснувшие свечи, несмотря на то, что сами сможем сгореть дот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Содержимое 9" descr="Love_Heart_-_candle_011183_29.jpg"/>
          <p:cNvPicPr/>
          <p:nvPr/>
        </p:nvPicPr>
        <p:blipFill>
          <a:blip r:embed="rId1"/>
          <a:stretch/>
        </p:blipFill>
        <p:spPr>
          <a:xfrm>
            <a:off x="5524560" y="414324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447" name="Содержимое 9" descr="Love_Heart_-_candle_011183_29.jpg"/>
          <p:cNvPicPr/>
          <p:nvPr/>
        </p:nvPicPr>
        <p:blipFill>
          <a:blip r:embed="rId2"/>
          <a:stretch/>
        </p:blipFill>
        <p:spPr>
          <a:xfrm>
            <a:off x="2071800" y="350028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448" name="Содержимое 9" descr="Love_Heart_-_candle_011183_29.jpg"/>
          <p:cNvPicPr/>
          <p:nvPr/>
        </p:nvPicPr>
        <p:blipFill>
          <a:blip r:embed="rId3"/>
          <a:stretch/>
        </p:blipFill>
        <p:spPr>
          <a:xfrm>
            <a:off x="0" y="178596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Picture 2" descr="D:\Картинки\Школьные\Рамочки\124772863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5"/>
          <p:cNvSpPr/>
          <p:nvPr/>
        </p:nvSpPr>
        <p:spPr>
          <a:xfrm>
            <a:off x="1428840" y="2357280"/>
            <a:ext cx="242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Благодарим 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0" y="457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"/>
          <p:cNvSpPr/>
          <p:nvPr/>
        </p:nvSpPr>
        <p:spPr>
          <a:xfrm>
            <a:off x="0" y="7621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85840" y="74124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«Учитель – свеч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оторая светит другим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горая сама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                                             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Джованни Руффини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99840"/>
            <a:ext cx="8553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Book"/>
              </a:rPr>
              <a:t>Личность учителя в современном образовательном пространстве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500040" y="32040"/>
            <a:ext cx="8215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« Урок – это зеркало общей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педагогической культуры учител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мерило его интеллектуального богатства , показатель его кругозора. эруди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1960" y="450720"/>
            <a:ext cx="8699760" cy="115272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5" descr="DSC00685.JPG"/>
          <p:cNvPicPr/>
          <p:nvPr/>
        </p:nvPicPr>
        <p:blipFill>
          <a:blip r:embed="rId2"/>
          <a:stretch/>
        </p:blipFill>
        <p:spPr>
          <a:xfrm>
            <a:off x="1643040" y="164304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4" descr="IMG_2117.JPG"/>
          <p:cNvPicPr/>
          <p:nvPr/>
        </p:nvPicPr>
        <p:blipFill>
          <a:blip r:embed="rId3"/>
          <a:stretch/>
        </p:blipFill>
        <p:spPr>
          <a:xfrm>
            <a:off x="4071960" y="3357720"/>
            <a:ext cx="4179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2"/>
          <p:cNvSpPr/>
          <p:nvPr/>
        </p:nvSpPr>
        <p:spPr>
          <a:xfrm>
            <a:off x="785880" y="2858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представления учителя    о современном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429000" y="1000080"/>
            <a:ext cx="5400720" cy="380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еник - субъект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429000" y="1643040"/>
            <a:ext cx="5394240" cy="1165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нообразие источников зн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лово учителя; самостоятельное наблюд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ебные пособия; игруш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боры и приспосо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3429000" y="3000240"/>
            <a:ext cx="5400720" cy="7621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руктура урока  динамична, присутств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ый набор разнообразных действий и опера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ъединенных в целесообразную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214200" y="3857760"/>
            <a:ext cx="8785440" cy="8571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поддерживает инициативу ученика в нужном направлении и обеспеч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оритет его деятельности по отношению к соб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179280" y="4857840"/>
            <a:ext cx="8785440" cy="8571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место цели урока на передний план выходит цель индивидуальной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ллективной деятельности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179280" y="5786280"/>
            <a:ext cx="8785440" cy="857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ритерии, по которым учитель  оценивает уче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ределены заранее и разделяются  обучающими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rcRect l="33440" t="-4265" r="0" b="0"/>
          <a:stretch/>
        </p:blipFill>
        <p:spPr>
          <a:xfrm>
            <a:off x="285840" y="857160"/>
            <a:ext cx="29527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214200" y="714240"/>
          <a:ext cx="8715600" cy="5857920"/>
        </p:xfrm>
        <a:graphic>
          <a:graphicData uri="http://schemas.openxmlformats.org/drawingml/2006/table">
            <a:tbl>
              <a:tblPr/>
              <a:tblGrid>
                <a:gridCol w="2376720"/>
                <a:gridCol w="3168360"/>
                <a:gridCol w="3170520"/>
              </a:tblGrid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редмет изме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Традиционная 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Деятельность учителя, работающего по ФГ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76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Подготовка к уро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пользуется жестко структурированным конспектом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пользуется сценарным планом урока, предоставляющим ему свободу в выборе форм, способов и приемов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 подготовке к уроку учитель использует учебник и методические рекоменд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 подготовке к уроку учитель использует учебник и методические рекомендации, интернет-ресурсы, материалы коллег. Обменивается конспектами с колле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Rectangle 1"/>
          <p:cNvSpPr/>
          <p:nvPr/>
        </p:nvSpPr>
        <p:spPr>
          <a:xfrm>
            <a:off x="39960" y="720"/>
            <a:ext cx="89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Характеристика изменений в деятельности педагога, работающего по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142920" y="457200"/>
          <a:ext cx="9001080" cy="7415280"/>
        </p:xfrm>
        <a:graphic>
          <a:graphicData uri="http://schemas.openxmlformats.org/drawingml/2006/table">
            <a:tbl>
              <a:tblPr/>
              <a:tblGrid>
                <a:gridCol w="1857240"/>
                <a:gridCol w="3013200"/>
                <a:gridCol w="4130640"/>
              </a:tblGrid>
              <a:tr h="1725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Основные 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ъяснение и закрепление учебного материала. Большое количество времени занимает реч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остоятельная деятельность обучающихся (более половины времени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8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Главная цель учителя на уро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спеть выполнить все, что запланиров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рганизовать деятельность дет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•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 поиску и обработке информац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•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общению способов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•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тановке учебной задачи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Формулирование заданий для обучающихся (определение деятельности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овки: решите, спишите, сравните, найдите, выпишите, выполните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овки: проанализируйте, докажите (объясните), сравните, выразите символом, создайте схему или модель, продолжите, обобщите (сделайте вывод), выберите решение или способ решения, исследуйте, оцените, измените, придумайте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8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214200" y="285840"/>
          <a:ext cx="8715600" cy="6215040"/>
        </p:xfrm>
        <a:graphic>
          <a:graphicData uri="http://schemas.openxmlformats.org/drawingml/2006/table">
            <a:tbl>
              <a:tblPr/>
              <a:tblGrid>
                <a:gridCol w="1873440"/>
                <a:gridCol w="2874960"/>
                <a:gridCol w="3967200"/>
              </a:tblGrid>
              <a:tr h="1285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Форм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имущественно фро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имущественно групповая и/или 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Нестандартное ведение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едет урок в параллельном классе, урок ведут два педагога (совместно с учителями информатики, психологами и логопедами), урок проходит с поддержкой тьютора или в присутствии родителей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Взаимодействие с родителями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исходит в виде лекций, родители не включены в образовательны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формированность родителей обучающихся. Они имеют возможность участвовать в образовательном процессе. Общение учителя с родителями школьников может осуществляться при помощи Интерн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8:45:48Z</dcterms:created>
  <dc:creator>Admin</dc:creator>
  <dc:description/>
  <dc:language>en-US</dc:language>
  <cp:lastModifiedBy>admin</cp:lastModifiedBy>
  <dcterms:modified xsi:type="dcterms:W3CDTF">2015-04-14T00:36:55Z</dcterms:modified>
  <cp:revision>87</cp:revision>
  <dc:subject/>
  <dc:title>Городской семинар  учителей начальных классов.</dc:title>
</cp:coreProperties>
</file>