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png" ContentType="image/png"/>
  <Override PartName="/ppt/media/image15.jpeg" ContentType="image/jpeg"/>
  <Override PartName="/ppt/media/image14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88C3-9194-49EA-9ECB-14A92DFF77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318D-D740-4964-B450-6C9344E5BB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0C63-DD76-4AF1-8B89-6BE4CF88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368D-C79F-41E2-9E61-4B3F6317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F59C1-B97F-43A4-BC3D-DEF8EF12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DF9CA-ABE8-4D05-90C1-E7B40896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3146C-4EA2-49BA-BEF3-B047E0F6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4E787-BB0C-49CC-8663-12EBD57B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BC2BB-DF3F-4C28-8CAE-4F675A02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C72FC-0098-4EE2-89DC-96E5ED87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847ED-80B6-4685-B90A-02815D28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C66FA-B90B-4330-AEE0-14D8E393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83EF4-7073-4DE7-9EA7-7FC8B27F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7348-B3FD-4D1B-90B8-7E92CC51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F6F9-B8FA-4CE8-9748-A439B7D7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4F75-5E78-481E-9450-8EC8FE99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66DE-9C21-4C0D-B866-7DAC4942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1582-3897-4E25-8774-E7E98C61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CC08-0A9A-415A-95F7-E8F53865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C5EE-343B-4226-BDB4-35EFA440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D79F-1019-458D-9B3B-06608404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C41F-6066-4343-8394-9F40D318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2B2-000F-4485-BA44-CA4BBCE4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3BD7-C7EA-40BD-8ABC-9162C008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0A33-4CD4-43E9-9147-93196D36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A997-21F3-421B-96B1-CAEAB5F2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762B-85B1-4206-87CE-F014286C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D7B5-7E53-4D8E-898F-DD0031ED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97E81-AF18-4974-87E5-5720EFBE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B7035-2026-408F-A9E1-6062608B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360B9-1E05-4F1C-91A1-C003DF89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D3BFF-DA33-4E21-A7D7-1E7B7E3C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B2875-B7DC-4F0D-9F44-9ABB6C76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347F-7264-45C0-B992-2652533C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E2B13-FEC0-4A59-8F68-8B9331D3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1EB23-8CBB-4373-86C7-73E05E85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7BC30-761C-4775-B95D-4009276C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A840A-24CA-4E30-BD90-9ABC4C99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404DD-396A-4592-BF68-1CF05C3E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EEA70-9DFC-42E5-AFFD-CA3AD564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41DD5-1C69-4368-9D10-54965E26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9808D-A22E-4218-AF85-1D3BCF5E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45689-7723-41EC-B8F8-C5CED00D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79BFC-72D9-4DEF-8AB0-4E45267D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5B63-EFC6-4C29-96B2-8A176F32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0A095-39BD-4084-A230-DE16BA3F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03D10-F2A1-420F-83E5-0122C335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8412E-5400-45AE-B244-EB68118E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1779E-C248-4FC6-A978-8B32D8A9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DC42A-7D9A-4336-AFC7-00A3C3F7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5F7F1-D7AA-4433-A1D5-0D4597BD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8A239-B003-41EB-8A27-8E94939F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6AF4D-3AE2-47DF-94B0-BD3B3F47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00FB2-8099-4B2A-B452-189B32B5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BFEA0-76E4-46A6-9393-1302F626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F9E1-7566-409B-B39B-2CA0EBF9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EA02C-7CDC-4CE9-88A6-417AF802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99C5C-8458-4749-AA9E-1353289F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DC522-80C5-4E5D-93D3-047C9129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FE364-ECCA-4F4D-B6BD-747A1CFE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0DCE4-365A-47BE-B541-1384365A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A182F-9186-4367-BB51-D063CDC6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6C66F-4008-4C30-8CF2-1ACBB13E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0EA7C-0E94-4561-9F22-1F88D928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46F51-C86C-43D2-AD7E-E07A9F1D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049EC-B57E-4416-A4C7-C7F4CF68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19FC-D65D-433C-B7C8-5AC0B021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32177-2E3A-470A-B18B-ABE2D94E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EC0D9-0187-444F-8DB0-4FA74CF6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515BC-C0BD-47AF-940F-96FA831B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4908F-94B9-4D13-9296-E2A3D13C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2C005-7B44-4E6C-9B50-E4BCF38F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79B1C-B7FE-4808-9675-132B2F1B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7FA13-538C-483E-ABCA-3A0C7C59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622DE-34B3-41E9-AC41-5437B1B2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56681-B3F0-427E-8AEC-7BC1DC01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6F5A2-AAD4-4663-A4B3-97683D75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B4D1-4941-4774-B94F-F7F67C84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E0151-201C-4698-98FA-B22564EF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1CDE0-356B-4988-B518-C0205F4F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63B06-0C6D-4E03-89BA-006AA152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57E82-D95A-44DC-8FEB-DE43B640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DF92C-B25C-4949-BD06-A82E6EBD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4FFDF-AD33-4AC1-8456-8E186953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7F007-2E81-47BC-B94F-6BAB5A4A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6F428-B2B9-4766-81AC-2A266386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28236-1114-4544-B850-ADB5E8B1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1005F-280D-4371-9584-6BE322DB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0B99-DEA8-4891-86EF-96350ED7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7C4D1-223A-46C2-83A3-F5E75C0F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5BF48-1B3F-49EB-AAD9-05A2EFC8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387F6-E100-419C-90F5-F98A9828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57F5E-ABC2-401F-A400-5262E676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9A659-227A-45DB-86A2-0D7E971E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3F481-8A66-40E2-B583-1C7FD3E6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6C445-6F6B-41BE-AA20-EFF83538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BCCE6-59BD-44A2-BE86-CB9111C0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4058F-5968-441D-8CDB-7D988355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E2ABB-B849-46FE-B9D7-B6B23767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C6A4-A00C-4B18-9DEE-E29B8CFD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1706C-1F4E-4567-B033-2FFC0EE0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9AF7D-5A91-435D-B4EF-3F864FDB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BCD73-A5D7-4A59-BC5F-BDBEA2FB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51ADA-13E2-4ABE-A977-16B504BA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9F666-1ECF-4540-9016-B00296FA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BE5B0-F647-4323-84D3-BD9125B0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4BD60-6EA0-4475-BC77-A2059754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21042-FDFB-49F0-B686-C06D95C8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AD61D-0315-4EBE-951C-5D6DC08E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0E8F0-8657-46BE-8F51-8A92519C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B21B-5BBB-46D8-A524-1A8C137E805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3FF0-1EC6-4B65-936E-A0DBDFF70C9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16A5-1FB6-4BC8-B5AB-DF5548CBEEF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D635-95CE-4D0D-9236-67CA66C30D7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201F-450E-40C8-980D-632B0D80BF9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AD08-32AE-4F25-9E42-D5B0094FF92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876D-EA78-4608-9E1D-69FC4E7FAF7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EB94-4EC3-4C80-8F67-2D8103497F2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52BD-C1EF-4619-9E7B-E839D3CAC50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D:\Картинки\Школьные\Рамочки\1247728631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7" name="Заголовок 2" descr=""/>
          <p:cNvPicPr/>
          <p:nvPr/>
        </p:nvPicPr>
        <p:blipFill>
          <a:blip r:embed="rId2"/>
          <a:stretch/>
        </p:blipFill>
        <p:spPr>
          <a:xfrm>
            <a:off x="487440" y="-92160"/>
            <a:ext cx="3663720" cy="55976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285840" y="4642920"/>
            <a:ext cx="857232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МБОУ «Гимназия №5»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еверобайкальск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"/>
          <p:cNvSpPr/>
          <p:nvPr/>
        </p:nvSpPr>
        <p:spPr>
          <a:xfrm>
            <a:off x="500040" y="532080"/>
            <a:ext cx="792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« Если мы будем учить сегодня т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как мы учили вчера, мы украдем у детей завтр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жон Дью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Содержимое 5" descr="SDC17509.JPG"/>
          <p:cNvPicPr/>
          <p:nvPr/>
        </p:nvPicPr>
        <p:blipFill>
          <a:blip r:embed="rId1"/>
          <a:stretch/>
        </p:blipFill>
        <p:spPr>
          <a:xfrm>
            <a:off x="1643040" y="242892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"/>
          <p:cNvSpPr/>
          <p:nvPr/>
        </p:nvSpPr>
        <p:spPr>
          <a:xfrm>
            <a:off x="571680" y="583560"/>
            <a:ext cx="82152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Игра «Ассоциац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вное , что должен обеспечить урок - это создание комфортно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бстановки для учащихся и ощущение комфорта учите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КОМФОР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4" name="Содержимое 7" descr="CIMG5566.JPG"/>
          <p:cNvPicPr/>
          <p:nvPr/>
        </p:nvPicPr>
        <p:blipFill>
          <a:blip r:embed="rId1"/>
          <a:stretch/>
        </p:blipFill>
        <p:spPr>
          <a:xfrm>
            <a:off x="3429000" y="2967120"/>
            <a:ext cx="528624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5" name=""/>
          <p:cNvGraphicFramePr/>
          <p:nvPr/>
        </p:nvGraphicFramePr>
        <p:xfrm>
          <a:off x="500040" y="285840"/>
          <a:ext cx="8072640" cy="5930640"/>
        </p:xfrm>
        <a:graphic>
          <a:graphicData uri="http://schemas.openxmlformats.org/drawingml/2006/table">
            <a:tbl>
              <a:tblPr/>
              <a:tblGrid>
                <a:gridCol w="357120"/>
                <a:gridCol w="2000520"/>
                <a:gridCol w="1928520"/>
                <a:gridCol w="2157480"/>
                <a:gridCol w="1629000"/>
              </a:tblGrid>
              <a:tr h="8636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мпетент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ритич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реатив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ультур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8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рганичность, основатель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дача , оптималь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кры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ветствен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разованный, осознан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1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одел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отив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тод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аст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82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антаз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орм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ункциона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ундам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778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дых, осмысл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крытие, организован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у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пора, озар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36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д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ви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с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зультат, рефлек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епл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ворче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алан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ем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Oval 7"/>
          <p:cNvSpPr/>
          <p:nvPr/>
        </p:nvSpPr>
        <p:spPr>
          <a:xfrm>
            <a:off x="285840" y="1000080"/>
            <a:ext cx="2714400" cy="1643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Зн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учебную програм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8"/>
          <p:cNvSpPr/>
          <p:nvPr/>
        </p:nvSpPr>
        <p:spPr>
          <a:xfrm>
            <a:off x="142920" y="3214800"/>
            <a:ext cx="2879640" cy="14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Выделя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ключевые иде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учебного предм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2"/>
          <p:cNvSpPr/>
          <p:nvPr/>
        </p:nvSpPr>
        <p:spPr>
          <a:xfrm>
            <a:off x="3143160" y="214200"/>
            <a:ext cx="2879640" cy="144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Использо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неординарные  ре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с установкой на успе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9"/>
          <p:cNvSpPr/>
          <p:nvPr/>
        </p:nvSpPr>
        <p:spPr>
          <a:xfrm>
            <a:off x="6072120" y="1000080"/>
            <a:ext cx="2879640" cy="144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Осуществля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межпредметные связ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1"/>
          <p:cNvSpPr/>
          <p:nvPr/>
        </p:nvSpPr>
        <p:spPr>
          <a:xfrm>
            <a:off x="6143760" y="3143160"/>
            <a:ext cx="2879640" cy="144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Применя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современные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6"/>
          <p:cNvSpPr/>
          <p:nvPr/>
        </p:nvSpPr>
        <p:spPr>
          <a:xfrm>
            <a:off x="1571760" y="5143680"/>
            <a:ext cx="2879640" cy="14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Зн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психолог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и индивиду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особенности учащих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5286240" y="5143680"/>
            <a:ext cx="2880000" cy="14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Выявлять з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ближайшего разви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школь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4" descr="Копия 1232317870_sun"/>
          <p:cNvPicPr/>
          <p:nvPr/>
        </p:nvPicPr>
        <p:blipFill>
          <a:blip r:embed="rId1"/>
          <a:stretch/>
        </p:blipFill>
        <p:spPr>
          <a:xfrm>
            <a:off x="2979720" y="1808280"/>
            <a:ext cx="3186000" cy="3240000"/>
          </a:xfrm>
          <a:prstGeom prst="rect">
            <a:avLst/>
          </a:prstGeom>
          <a:ln w="0">
            <a:noFill/>
          </a:ln>
        </p:spPr>
      </p:pic>
      <p:sp>
        <p:nvSpPr>
          <p:cNvPr id="444" name="Прямоугольник 9"/>
          <p:cNvSpPr/>
          <p:nvPr/>
        </p:nvSpPr>
        <p:spPr>
          <a:xfrm>
            <a:off x="3940560" y="324468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Прямоугольник 1"/>
          <p:cNvSpPr/>
          <p:nvPr/>
        </p:nvSpPr>
        <p:spPr>
          <a:xfrm>
            <a:off x="785880" y="357120"/>
            <a:ext cx="721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Так зажжём своей надеждой три погаснувшие свечи, несмотря на то, что сами сможем сгореть дот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Содержимое 9" descr="Love_Heart_-_candle_011183_29.jpg"/>
          <p:cNvPicPr/>
          <p:nvPr/>
        </p:nvPicPr>
        <p:blipFill>
          <a:blip r:embed="rId1"/>
          <a:stretch/>
        </p:blipFill>
        <p:spPr>
          <a:xfrm>
            <a:off x="5524560" y="4143240"/>
            <a:ext cx="3619440" cy="2714760"/>
          </a:xfrm>
          <a:prstGeom prst="rect">
            <a:avLst/>
          </a:prstGeom>
          <a:ln w="0">
            <a:noFill/>
          </a:ln>
        </p:spPr>
      </p:pic>
      <p:pic>
        <p:nvPicPr>
          <p:cNvPr id="447" name="Содержимое 9" descr="Love_Heart_-_candle_011183_29.jpg"/>
          <p:cNvPicPr/>
          <p:nvPr/>
        </p:nvPicPr>
        <p:blipFill>
          <a:blip r:embed="rId2"/>
          <a:stretch/>
        </p:blipFill>
        <p:spPr>
          <a:xfrm>
            <a:off x="2071800" y="3500280"/>
            <a:ext cx="3619440" cy="2714760"/>
          </a:xfrm>
          <a:prstGeom prst="rect">
            <a:avLst/>
          </a:prstGeom>
          <a:ln w="0">
            <a:noFill/>
          </a:ln>
        </p:spPr>
      </p:pic>
      <p:pic>
        <p:nvPicPr>
          <p:cNvPr id="448" name="Содержимое 9" descr="Love_Heart_-_candle_011183_29.jpg"/>
          <p:cNvPicPr/>
          <p:nvPr/>
        </p:nvPicPr>
        <p:blipFill>
          <a:blip r:embed="rId3"/>
          <a:stretch/>
        </p:blipFill>
        <p:spPr>
          <a:xfrm>
            <a:off x="0" y="178596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2" name="Picture 2" descr="D:\Картинки\Школьные\Рамочки\1247728631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5"/>
          <p:cNvSpPr/>
          <p:nvPr/>
        </p:nvSpPr>
        <p:spPr>
          <a:xfrm>
            <a:off x="1428840" y="2357280"/>
            <a:ext cx="242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Благодарим 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2"/>
          <p:cNvSpPr/>
          <p:nvPr/>
        </p:nvSpPr>
        <p:spPr>
          <a:xfrm>
            <a:off x="0" y="457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"/>
          <p:cNvSpPr/>
          <p:nvPr/>
        </p:nvSpPr>
        <p:spPr>
          <a:xfrm>
            <a:off x="0" y="7621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285840" y="741240"/>
            <a:ext cx="8215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  <a:ea typeface="Times New Roman"/>
              </a:rPr>
              <a:t>«Учитель – свеча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  <a:ea typeface="Times New Roman"/>
              </a:rPr>
              <a:t>которая светит другим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  <a:ea typeface="Times New Roman"/>
              </a:rPr>
              <a:t>сгорая сама…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                                                                         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Джованни Руффини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4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560" y="1599840"/>
            <a:ext cx="8553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Franklin Gothic Book"/>
              </a:rPr>
              <a:t>Личность учителя в современном образовательном пространстве.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"/>
          <p:cNvSpPr/>
          <p:nvPr/>
        </p:nvSpPr>
        <p:spPr>
          <a:xfrm>
            <a:off x="500040" y="32040"/>
            <a:ext cx="82152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« Урок – это зеркало общей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педагогической культуры учител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мерило его интеллектуального богатства , показатель его кругозора. эрудиц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В.А. Сухомлин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291960" y="450720"/>
            <a:ext cx="8699760" cy="1152720"/>
          </a:xfrm>
          <a:prstGeom prst="rect">
            <a:avLst/>
          </a:prstGeom>
          <a:ln w="0">
            <a:noFill/>
          </a:ln>
        </p:spPr>
      </p:pic>
      <p:pic>
        <p:nvPicPr>
          <p:cNvPr id="416" name="Содержимое 5" descr="DSC00685.JPG"/>
          <p:cNvPicPr/>
          <p:nvPr/>
        </p:nvPicPr>
        <p:blipFill>
          <a:blip r:embed="rId2"/>
          <a:stretch/>
        </p:blipFill>
        <p:spPr>
          <a:xfrm>
            <a:off x="1643040" y="1643040"/>
            <a:ext cx="1928880" cy="2571840"/>
          </a:xfrm>
          <a:prstGeom prst="rect">
            <a:avLst/>
          </a:prstGeom>
          <a:ln w="0">
            <a:noFill/>
          </a:ln>
        </p:spPr>
      </p:pic>
      <p:pic>
        <p:nvPicPr>
          <p:cNvPr id="417" name="Содержимое 4" descr="IMG_2117.JPG"/>
          <p:cNvPicPr/>
          <p:nvPr/>
        </p:nvPicPr>
        <p:blipFill>
          <a:blip r:embed="rId3"/>
          <a:stretch/>
        </p:blipFill>
        <p:spPr>
          <a:xfrm>
            <a:off x="4071960" y="3357720"/>
            <a:ext cx="41799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2"/>
          <p:cNvSpPr/>
          <p:nvPr/>
        </p:nvSpPr>
        <p:spPr>
          <a:xfrm>
            <a:off x="785880" y="2858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нение представления учителя    о современном ур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3429000" y="1000080"/>
            <a:ext cx="5400720" cy="38088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ченик - субъект учеб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3429000" y="1643040"/>
            <a:ext cx="5394240" cy="11653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нообразие источников знани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лово учителя; самостоятельное наблюде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чебные пособия; игруш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боры и приспособ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1"/>
          <p:cNvSpPr/>
          <p:nvPr/>
        </p:nvSpPr>
        <p:spPr>
          <a:xfrm>
            <a:off x="3429000" y="3000240"/>
            <a:ext cx="5400720" cy="7621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труктура урока  динамична, присутству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лый набор разнообразных действий и операц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бъединенных в целесообразную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214200" y="3857760"/>
            <a:ext cx="8785440" cy="85716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читель поддерживает инициативу ученика в нужном направлении и обеспечив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оритет его деятельности по отношению к собств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179280" y="4857840"/>
            <a:ext cx="8785440" cy="85716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место цели урока на передний план выходит цель индивидуальной 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ллективной деятельности обучаю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3"/>
          <p:cNvSpPr/>
          <p:nvPr/>
        </p:nvSpPr>
        <p:spPr>
          <a:xfrm>
            <a:off x="179280" y="5786280"/>
            <a:ext cx="8785440" cy="8575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ритерии, по которым учитель  оценивает учени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пределены заранее и разделяются  обучающими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1"/>
          <a:srcRect l="33440" t="-4265" r="0" b="0"/>
          <a:stretch/>
        </p:blipFill>
        <p:spPr>
          <a:xfrm>
            <a:off x="285840" y="857160"/>
            <a:ext cx="295272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214200" y="714240"/>
          <a:ext cx="8715600" cy="5857920"/>
        </p:xfrm>
        <a:graphic>
          <a:graphicData uri="http://schemas.openxmlformats.org/drawingml/2006/table">
            <a:tbl>
              <a:tblPr/>
              <a:tblGrid>
                <a:gridCol w="2376720"/>
                <a:gridCol w="3168360"/>
                <a:gridCol w="3170520"/>
              </a:tblGrid>
              <a:tr h="793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Предмет измен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Традиционная деятельност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Деятельность учителя, работающего по ФГ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6760"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Подготовка к уро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пользуется жестко структурированным конспектом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пользуется сценарным планом урока, предоставляющим ему свободу в выборе форм, способов и приемов об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и подготовке к уроку учитель использует учебник и методические рекоменд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и подготовке к уроку учитель использует учебник и методические рекомендации, интернет-ресурсы, материалы коллег. Обменивается конспектами с коллег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7" name="Rectangle 1"/>
          <p:cNvSpPr/>
          <p:nvPr/>
        </p:nvSpPr>
        <p:spPr>
          <a:xfrm>
            <a:off x="39960" y="720"/>
            <a:ext cx="89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Характеристика изменений в деятельности педагога, работающего по ФГ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"/>
          <p:cNvGraphicFramePr/>
          <p:nvPr/>
        </p:nvGraphicFramePr>
        <p:xfrm>
          <a:off x="142920" y="457200"/>
          <a:ext cx="9001080" cy="7415280"/>
        </p:xfrm>
        <a:graphic>
          <a:graphicData uri="http://schemas.openxmlformats.org/drawingml/2006/table">
            <a:tbl>
              <a:tblPr/>
              <a:tblGrid>
                <a:gridCol w="1857240"/>
                <a:gridCol w="3013200"/>
                <a:gridCol w="4130640"/>
              </a:tblGrid>
              <a:tr h="1725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Основные 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ъяснение и закрепление учебного материала. Большое количество времени занимает реч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амостоятельная деятельность обучающихся (более половины времени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ро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8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Главная цель учителя на уро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спеть выполнить все, что запланирова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рганизовать деятельность дете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•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 поиску и обработке информаци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•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общению способов действ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•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становке учебной задачи и т.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07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Формулирование заданий для обучающихся (определение деятельности дет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улировки: решите, спишите, сравните, найдите, выпишите, выполните и т.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улировки: проанализируйте, докажите (объясните), сравните, выразите символом, создайте схему или модель, продолжите, обобщите (сделайте вывод), выберите решение или способ решения, исследуйте, оцените, измените, придумайте и т.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8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214200" y="285840"/>
          <a:ext cx="8715600" cy="6215040"/>
        </p:xfrm>
        <a:graphic>
          <a:graphicData uri="http://schemas.openxmlformats.org/drawingml/2006/table">
            <a:tbl>
              <a:tblPr/>
              <a:tblGrid>
                <a:gridCol w="1873440"/>
                <a:gridCol w="2874960"/>
                <a:gridCol w="3967200"/>
              </a:tblGrid>
              <a:tr h="1285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Форма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еимущественно фро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еимущественно групповая и/или индивиду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Нестандартное ведение уро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ведет урок в параллельном классе, урок ведут два педагога (совместно с учителями информатики, психологами и логопедами), урок проходит с поддержкой тьютора или в присутствии родителей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3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Взаимодействие с родителями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исходит в виде лекций, родители не включены в образовательный проце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нформированность родителей обучающихся. Они имеют возможность участвовать в образовательном процессе. Общение учителя с родителями школьников может осуществляться при помощи Интерн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8:45:48Z</dcterms:created>
  <dc:creator>Admin</dc:creator>
  <dc:description/>
  <dc:language>en-US</dc:language>
  <cp:lastModifiedBy>admin</cp:lastModifiedBy>
  <dcterms:modified xsi:type="dcterms:W3CDTF">2015-04-14T00:36:55Z</dcterms:modified>
  <cp:revision>87</cp:revision>
  <dc:subject/>
  <dc:title>Городской семинар  учителей начальных классов.</dc:title>
</cp:coreProperties>
</file>