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3.jpeg" ContentType="image/jpeg"/>
  <Override PartName="/ppt/media/image11.gif" ContentType="image/gif"/>
  <Override PartName="/ppt/media/image17.gif" ContentType="image/gif"/>
  <Override PartName="/ppt/media/image16.gif" ContentType="image/gif"/>
  <Override PartName="/ppt/media/image1.wmf" ContentType="image/x-wmf"/>
  <Override PartName="/ppt/media/image2.png" ContentType="image/png"/>
  <Override PartName="/ppt/media/image9.jpeg" ContentType="image/jpeg"/>
  <Override PartName="/ppt/media/image14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8.wmf" ContentType="image/x-wmf"/>
  <Override PartName="/ppt/media/image10.gif" ContentType="image/gif"/>
  <Override PartName="/ppt/media/image15.gif" ContentType="image/gi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508-768B-42B9-AD2A-51D0951A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331-0220-4758-A816-F29558EE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326-AEA8-4E6B-957E-B05BDCE9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6ED-4C55-48A4-8805-56E77565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B46A-C325-4835-9384-D2DFCA06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CC2-465B-40E9-8498-5B88BFA4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102-EDF9-4050-9E07-D4D5C1B2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ADA-B204-4C08-B06A-7D81AE7F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EB4-AA89-449E-9BE8-37F3EB79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3FB-0CC2-4920-B4B4-BE129E70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531-0E66-4FB8-9B7B-822AC46A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548-7FBA-4709-BE09-CA8CCF4D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0B00-13C3-44AE-916A-42531A23E3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2.pn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6.xml"/><Relationship Id="rId8" Type="http://schemas.openxmlformats.org/officeDocument/2006/relationships/slide" Target="slide8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4.xml"/><Relationship Id="rId3" Type="http://schemas.openxmlformats.org/officeDocument/2006/relationships/image" Target="../media/image6.jpeg"/><Relationship Id="rId4" Type="http://schemas.openxmlformats.org/officeDocument/2006/relationships/slide" Target="slide14.xml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slide" Target="slide13.xml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пова Елена Викт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324000" y="907920"/>
            <a:ext cx="856908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гра </a:t>
            </a:r>
            <a:endParaRPr b="0" lang="en-US" sz="1800" spc="1" strike="noStrike">
              <a:ln w="12600">
                <a:solidFill>
                  <a:srgbClr val="990099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 кубановедению</a:t>
            </a:r>
            <a:endParaRPr b="0" lang="en-US" sz="1800" spc="1" strike="noStrike">
              <a:ln w="12600">
                <a:solidFill>
                  <a:srgbClr val="990099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ема: «Птицы нашего леса»</a:t>
            </a:r>
            <a:endParaRPr b="0" lang="en-US" sz="1800" spc="1" strike="noStrike">
              <a:ln w="12600">
                <a:solidFill>
                  <a:srgbClr val="990099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1055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, что это за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 вер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324000" y="4221000"/>
            <a:ext cx="2519280" cy="1800360"/>
          </a:xfrm>
          <a:custGeom>
            <a:avLst/>
            <a:gdLst>
              <a:gd name="textAreaLeft" fmla="*/ 574920 w 2519280"/>
              <a:gd name="textAreaRight" fmla="*/ 1944360 w 251928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3132000" y="4221000"/>
            <a:ext cx="2737080" cy="1800360"/>
          </a:xfrm>
          <a:custGeom>
            <a:avLst/>
            <a:gdLst>
              <a:gd name="textAreaLeft" fmla="*/ 624600 w 2737080"/>
              <a:gd name="textAreaRight" fmla="*/ 2112480 w 273708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стр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6156360" y="4292640"/>
            <a:ext cx="2736720" cy="165744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378360 h 1657440"/>
              <a:gd name="textAreaBottom" fmla="*/ 12790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лик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8101080" y="6021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3794"/>
                </a:moveTo>
                <a:lnTo>
                  <a:pt x="18994" y="10800"/>
                </a:lnTo>
                <a:lnTo>
                  <a:pt x="4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lar001"/>
          <p:cNvPicPr/>
          <p:nvPr/>
        </p:nvPicPr>
        <p:blipFill>
          <a:blip r:embed="rId1"/>
          <a:stretch/>
        </p:blipFill>
        <p:spPr>
          <a:xfrm>
            <a:off x="395280" y="1268280"/>
            <a:ext cx="4464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752472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bdis26"/>
          <p:cNvPicPr/>
          <p:nvPr/>
        </p:nvPicPr>
        <p:blipFill>
          <a:blip r:embed="rId1"/>
          <a:stretch/>
        </p:blipFill>
        <p:spPr>
          <a:xfrm>
            <a:off x="3276720" y="2349360"/>
            <a:ext cx="2519280" cy="30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82692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56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766764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bdis18"/>
          <p:cNvPicPr/>
          <p:nvPr/>
        </p:nvPicPr>
        <p:blipFill>
          <a:blip r:embed="rId1"/>
          <a:stretch/>
        </p:blipFill>
        <p:spPr>
          <a:xfrm>
            <a:off x="3203640" y="2133720"/>
            <a:ext cx="2448000" cy="30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900000" y="5445000"/>
            <a:ext cx="4478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47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ец, 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ld13"/>
          <p:cNvPicPr/>
          <p:nvPr/>
        </p:nvPicPr>
        <p:blipFill>
          <a:blip r:embed="rId1"/>
          <a:stretch/>
        </p:blipFill>
        <p:spPr>
          <a:xfrm>
            <a:off x="3851280" y="2133720"/>
            <a:ext cx="16034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52472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md15"/>
          <p:cNvPicPr/>
          <p:nvPr/>
        </p:nvPicPr>
        <p:blipFill>
          <a:blip r:embed="rId1"/>
          <a:stretch/>
        </p:blipFill>
        <p:spPr>
          <a:xfrm>
            <a:off x="3851280" y="2276640"/>
            <a:ext cx="1657440" cy="2952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900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79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узнать верные ответы щелк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чего дятел «барабан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клюв чи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у-то что-то сообщ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музыкой увлек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акие птицы самые быстрокрыл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соколы и ястре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асточки и стри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утки и ча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7667640" y="33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гра окончен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755640" y="1628640"/>
            <a:ext cx="7632720" cy="250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о новых            встреч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1" name="Picture 6" descr="md31"/>
          <p:cNvPicPr/>
          <p:nvPr/>
        </p:nvPicPr>
        <p:blipFill>
          <a:blip r:embed="rId1"/>
          <a:stretch/>
        </p:blipFill>
        <p:spPr>
          <a:xfrm>
            <a:off x="1692360" y="4365720"/>
            <a:ext cx="1036440" cy="151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md36"/>
          <p:cNvPicPr/>
          <p:nvPr/>
        </p:nvPicPr>
        <p:blipFill>
          <a:blip r:embed="rId2"/>
          <a:stretch/>
        </p:blipFill>
        <p:spPr>
          <a:xfrm>
            <a:off x="5940360" y="4437000"/>
            <a:ext cx="1152720" cy="1584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md33"/>
          <p:cNvPicPr/>
          <p:nvPr/>
        </p:nvPicPr>
        <p:blipFill>
          <a:blip r:embed="rId3"/>
          <a:stretch/>
        </p:blipFill>
        <p:spPr>
          <a:xfrm>
            <a:off x="3995640" y="2924280"/>
            <a:ext cx="1297080" cy="194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4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holiday62"/>
          <p:cNvPicPr/>
          <p:nvPr/>
        </p:nvPicPr>
        <p:blipFill>
          <a:blip r:embed="rId5"/>
          <a:stretch/>
        </p:blipFill>
        <p:spPr>
          <a:xfrm>
            <a:off x="2916360" y="549360"/>
            <a:ext cx="3186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97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бирай и игр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NA01361_"/>
          <p:cNvPicPr/>
          <p:nvPr/>
        </p:nvPicPr>
        <p:blipFill>
          <a:blip r:embed="rId1"/>
          <a:stretch/>
        </p:blipFill>
        <p:spPr>
          <a:xfrm>
            <a:off x="395280" y="692280"/>
            <a:ext cx="8423280" cy="59767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/>
          <p:cNvSpPr/>
          <p:nvPr/>
        </p:nvSpPr>
        <p:spPr>
          <a:xfrm>
            <a:off x="5580000" y="3357720"/>
            <a:ext cx="2592360" cy="1655640"/>
          </a:xfrm>
          <a:prstGeom prst="cloudCallout">
            <a:avLst>
              <a:gd name="adj1" fmla="val 6828"/>
              <a:gd name="adj2" fmla="val 38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икто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6372360" y="1341360"/>
            <a:ext cx="2305080" cy="1656000"/>
          </a:xfrm>
          <a:prstGeom prst="cloudCallout">
            <a:avLst>
              <a:gd name="adj1" fmla="val -5990"/>
              <a:gd name="adj2" fmla="val 7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468360" y="1052640"/>
            <a:ext cx="2374920" cy="1871640"/>
          </a:xfrm>
          <a:prstGeom prst="cloudCallout">
            <a:avLst>
              <a:gd name="adj1" fmla="val 1736"/>
              <a:gd name="adj2" fmla="val 8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вук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икто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1692360" y="4869000"/>
            <a:ext cx="1942920" cy="1368360"/>
          </a:xfrm>
          <a:prstGeom prst="cloudCallout">
            <a:avLst>
              <a:gd name="adj1" fmla="val 16995"/>
              <a:gd name="adj2" fmla="val -16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тичья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6372360" y="5084640"/>
            <a:ext cx="2303280" cy="1297080"/>
          </a:xfrm>
          <a:prstGeom prst="cloudCallout">
            <a:avLst>
              <a:gd name="adj1" fmla="val -2861"/>
              <a:gd name="adj2" fmla="val 231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Выйти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684360" y="2997360"/>
            <a:ext cx="2158920" cy="1655640"/>
          </a:xfrm>
          <a:prstGeom prst="cloudCallout">
            <a:avLst>
              <a:gd name="adj1" fmla="val -290736"/>
              <a:gd name="adj2" fmla="val -137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MAP.MID" descr=""/>
          <p:cNvPicPr/>
          <p:nvPr/>
        </p:nvPicPr>
        <p:blipFill>
          <a:blip r:embed="rId9"/>
          <a:stretch/>
        </p:blipFill>
        <p:spPr>
          <a:xfrm>
            <a:off x="324000" y="6165720"/>
            <a:ext cx="59184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72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гадки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ёлкай мышкой после каждой загадки п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вёзд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нём спит, ночью летает, прохожих пуг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е дровосек, не плотник, а первый в бору работ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удрая мудрёха зиму накарк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588000" y="2276640"/>
            <a:ext cx="165744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659640" y="3933720"/>
            <a:ext cx="165744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я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659640" y="5445000"/>
            <a:ext cx="165744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>
            <a:hlinkClick r:id="rId1" action="ppaction://hlinksldjump"/>
          </p:cNvPr>
          <p:cNvSpPr/>
          <p:nvPr/>
        </p:nvSpPr>
        <p:spPr>
          <a:xfrm>
            <a:off x="7596360" y="333360"/>
            <a:ext cx="863280" cy="863640"/>
          </a:xfrm>
          <a:custGeom>
            <a:avLst/>
            <a:gdLst>
              <a:gd name="textAreaLeft" fmla="*/ 55800 w 863280"/>
              <a:gd name="textAreaRight" fmla="*/ 807480 w 863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3794" y="3798"/>
                </a:moveTo>
                <a:lnTo>
                  <a:pt x="17806" y="10805"/>
                </a:lnTo>
                <a:lnTo>
                  <a:pt x="3794" y="1781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5148360" y="558972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055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, что это за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 вер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el005"/>
          <p:cNvPicPr/>
          <p:nvPr/>
        </p:nvPicPr>
        <p:blipFill>
          <a:blip r:embed="rId1"/>
          <a:stretch/>
        </p:blipFill>
        <p:spPr>
          <a:xfrm>
            <a:off x="539640" y="1484280"/>
            <a:ext cx="4038840" cy="25639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2"/>
          <p:cNvSpPr/>
          <p:nvPr/>
        </p:nvSpPr>
        <p:spPr>
          <a:xfrm>
            <a:off x="324000" y="4221000"/>
            <a:ext cx="2519280" cy="1800360"/>
          </a:xfrm>
          <a:custGeom>
            <a:avLst/>
            <a:gdLst>
              <a:gd name="textAreaLeft" fmla="*/ 574920 w 2519280"/>
              <a:gd name="textAreaRight" fmla="*/ 1944360 w 251928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Ча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3132000" y="4221000"/>
            <a:ext cx="2737080" cy="1800360"/>
          </a:xfrm>
          <a:custGeom>
            <a:avLst/>
            <a:gdLst>
              <a:gd name="textAreaLeft" fmla="*/ 624600 w 2737080"/>
              <a:gd name="textAreaRight" fmla="*/ 2112480 w 273708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Ястр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6156360" y="4292640"/>
            <a:ext cx="2736720" cy="165744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378360 h 1657440"/>
              <a:gd name="textAreaBottom" fmla="*/ 12790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елик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>
            <a:hlinkClick r:id="rId5" action="ppaction://hlinksldjump"/>
          </p:cNvPr>
          <p:cNvSpPr/>
          <p:nvPr/>
        </p:nvSpPr>
        <p:spPr>
          <a:xfrm>
            <a:off x="8101080" y="6021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3794"/>
                </a:moveTo>
                <a:lnTo>
                  <a:pt x="18994" y="10800"/>
                </a:lnTo>
                <a:lnTo>
                  <a:pt x="4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ец, правиль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1" action="ppaction://hlinksldjump"/>
          </p:cNvPr>
          <p:cNvSpPr/>
          <p:nvPr/>
        </p:nvSpPr>
        <p:spPr>
          <a:xfrm>
            <a:off x="7380360" y="4797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bdis08"/>
          <p:cNvPicPr/>
          <p:nvPr/>
        </p:nvPicPr>
        <p:blipFill>
          <a:blip r:embed="rId2"/>
          <a:stretch/>
        </p:blipFill>
        <p:spPr>
          <a:xfrm>
            <a:off x="2411280" y="2708280"/>
            <a:ext cx="25574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умай ещё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1" action="ppaction://hlinksldjump"/>
          </p:cNvPr>
          <p:cNvSpPr/>
          <p:nvPr/>
        </p:nvSpPr>
        <p:spPr>
          <a:xfrm>
            <a:off x="7596360" y="5157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bdis10"/>
          <p:cNvPicPr/>
          <p:nvPr/>
        </p:nvPicPr>
        <p:blipFill>
          <a:blip r:embed="rId2"/>
          <a:stretch/>
        </p:blipFill>
        <p:spPr>
          <a:xfrm>
            <a:off x="3203640" y="2276640"/>
            <a:ext cx="215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вуковая викторин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ж              сойка         си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 на птицу, которой принадлежит этот гол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большая синица.mp3" descr=""/>
          <p:cNvPicPr/>
          <p:nvPr/>
        </p:nvPicPr>
        <p:blipFill>
          <a:blip r:embed="rId1"/>
          <a:stretch/>
        </p:blipFill>
        <p:spPr>
          <a:xfrm>
            <a:off x="468360" y="595008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mhtml:file://E:\Птицы%20России.mht!http://www.makedonsky.ru/birds1/so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48000" y="1628640"/>
            <a:ext cx="2521080" cy="324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mhtml:file://E:\Птицы%20России.mht!http://www.makedonsky.ru/birds1/chi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95280" y="1628640"/>
            <a:ext cx="2592360" cy="331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Object 15"/>
          <p:cNvGraphicFramePr/>
          <p:nvPr/>
        </p:nvGraphicFramePr>
        <p:xfrm>
          <a:off x="6227640" y="1628640"/>
          <a:ext cx="2521080" cy="3240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0" name="Object 15" descr="">
                    <a:hlinkClick r:id="rId7" action="ppaction://hlinksldjump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7640" y="1628640"/>
                    <a:ext cx="25210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467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узнать верные ответы щелк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чего дятел «барабан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клюв чи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ому-то что-то сообщ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музыкой увлек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акие птицы самые быстрокрыл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соколы и ястре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ласточки и стри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утки и ча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>
            <a:hlinkClick r:id="rId1" action="ppaction://hlinksldjump"/>
          </p:cNvPr>
          <p:cNvSpPr/>
          <p:nvPr/>
        </p:nvSpPr>
        <p:spPr>
          <a:xfrm>
            <a:off x="7812000" y="40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тичья задач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летели галки, сели на пал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каждой палке сядет по одной гал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для одной галки не хватит па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же на каждой палке сядет по две гал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одна из палок будет без га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было пал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было гал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Для сверки с твоим ответом щелк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мышкой по звездоч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156360" y="5229360"/>
            <a:ext cx="2714760" cy="1058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га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па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788508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284720" y="551664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14:57:10Z</dcterms:created>
  <dc:creator>АЛЁНУШКА</dc:creator>
  <dc:description/>
  <dc:language>en-US</dc:language>
  <cp:lastModifiedBy>Алёна</cp:lastModifiedBy>
  <dcterms:modified xsi:type="dcterms:W3CDTF">2015-04-14T16:56:50Z</dcterms:modified>
  <cp:revision>6</cp:revision>
  <dc:subject/>
  <dc:title>Слайд 1</dc:title>
</cp:coreProperties>
</file>