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3.jpeg" ContentType="image/jpeg"/>
  <Override PartName="/ppt/media/image11.gif" ContentType="image/gif"/>
  <Override PartName="/ppt/media/image17.gif" ContentType="image/gif"/>
  <Override PartName="/ppt/media/image16.gif" ContentType="image/gif"/>
  <Override PartName="/ppt/media/image1.wmf" ContentType="image/x-wmf"/>
  <Override PartName="/ppt/media/image2.png" ContentType="image/png"/>
  <Override PartName="/ppt/media/image9.jpeg" ContentType="image/jpeg"/>
  <Override PartName="/ppt/media/image14.gif" ContentType="image/gif"/>
  <Override PartName="/ppt/media/image4.gif" ContentType="image/gif"/>
  <Override PartName="/ppt/media/image6.jpeg" ContentType="image/jpeg"/>
  <Override PartName="/ppt/media/image5.gif" ContentType="image/gif"/>
  <Override PartName="/ppt/media/image8.wmf" ContentType="image/x-wmf"/>
  <Override PartName="/ppt/media/image10.gif" ContentType="image/gif"/>
  <Override PartName="/ppt/media/image15.gif" ContentType="image/gif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1BAE-CD21-48E4-AA27-29ED0236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B434-6AD1-4A0D-9B85-7964C4F8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9F2-3915-4278-BE3A-D7961F07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686-5AC7-42C9-9CA5-516AE4C6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5339-75B6-40DD-A786-8E28B3EB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104-C7D3-4E7B-A403-34551087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C6D-7F10-46B3-BBF6-530A1FCE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E39-28E6-4781-9492-65900779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9B2F-E325-4A1B-BF0E-AACC07F7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DC86-F576-4445-916D-696DA154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EDFC-4D25-4CE6-A1F2-C129603F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4859-A04B-4269-9159-9E98B99D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30C5-4321-421E-B6D2-AA318A4F82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2.pn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6.xml"/><Relationship Id="rId8" Type="http://schemas.openxmlformats.org/officeDocument/2006/relationships/slide" Target="slide8.xm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4.xml"/><Relationship Id="rId3" Type="http://schemas.openxmlformats.org/officeDocument/2006/relationships/image" Target="../media/image6.jpeg"/><Relationship Id="rId4" Type="http://schemas.openxmlformats.org/officeDocument/2006/relationships/slide" Target="slide14.xml"/><Relationship Id="rId5" Type="http://schemas.openxmlformats.org/officeDocument/2006/relationships/image" Target="../media/image7.jpeg"/><Relationship Id="rId6" Type="http://schemas.openxmlformats.org/officeDocument/2006/relationships/oleObject" Target="../embeddings/oleObject1.bin"/><Relationship Id="rId7" Type="http://schemas.openxmlformats.org/officeDocument/2006/relationships/slide" Target="slide13.xml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пова Елена Викто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324000" y="907920"/>
            <a:ext cx="856908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99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гра </a:t>
            </a:r>
            <a:endParaRPr b="0" lang="en-US" sz="1800" spc="1" strike="noStrike">
              <a:ln w="12600">
                <a:solidFill>
                  <a:srgbClr val="990099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99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 кубановедению</a:t>
            </a:r>
            <a:endParaRPr b="0" lang="en-US" sz="1800" spc="1" strike="noStrike">
              <a:ln w="12600">
                <a:solidFill>
                  <a:srgbClr val="990099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99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ема: «Птицы нашего леса»</a:t>
            </a:r>
            <a:endParaRPr b="0" lang="en-US" sz="1800" spc="1" strike="noStrike">
              <a:ln w="12600">
                <a:solidFill>
                  <a:srgbClr val="990099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1055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, что это за п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и вер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324000" y="4221000"/>
            <a:ext cx="2519280" cy="1800360"/>
          </a:xfrm>
          <a:custGeom>
            <a:avLst/>
            <a:gdLst>
              <a:gd name="textAreaLeft" fmla="*/ 574920 w 2519280"/>
              <a:gd name="textAreaRight" fmla="*/ 1944360 w 2519280"/>
              <a:gd name="textAreaTop" fmla="*/ 410760 h 1800360"/>
              <a:gd name="textAreaBottom" fmla="*/ 13896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3132000" y="4221000"/>
            <a:ext cx="2737080" cy="1800360"/>
          </a:xfrm>
          <a:custGeom>
            <a:avLst/>
            <a:gdLst>
              <a:gd name="textAreaLeft" fmla="*/ 624600 w 2737080"/>
              <a:gd name="textAreaRight" fmla="*/ 2112480 w 2737080"/>
              <a:gd name="textAreaTop" fmla="*/ 410760 h 1800360"/>
              <a:gd name="textAreaBottom" fmla="*/ 13896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стре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6156360" y="4292640"/>
            <a:ext cx="2736720" cy="165744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378360 h 1657440"/>
              <a:gd name="textAreaBottom" fmla="*/ 127908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лик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8101080" y="602136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3794"/>
                </a:moveTo>
                <a:lnTo>
                  <a:pt x="18994" y="10800"/>
                </a:lnTo>
                <a:lnTo>
                  <a:pt x="49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lar001"/>
          <p:cNvPicPr/>
          <p:nvPr/>
        </p:nvPicPr>
        <p:blipFill>
          <a:blip r:embed="rId1"/>
          <a:stretch/>
        </p:blipFill>
        <p:spPr>
          <a:xfrm>
            <a:off x="395280" y="1268280"/>
            <a:ext cx="4464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р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752472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bdis26"/>
          <p:cNvPicPr/>
          <p:nvPr/>
        </p:nvPicPr>
        <p:blipFill>
          <a:blip r:embed="rId1"/>
          <a:stretch/>
        </p:blipFill>
        <p:spPr>
          <a:xfrm>
            <a:off x="3276720" y="2349360"/>
            <a:ext cx="2519280" cy="309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82692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56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766764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bdis18"/>
          <p:cNvPicPr/>
          <p:nvPr/>
        </p:nvPicPr>
        <p:blipFill>
          <a:blip r:embed="rId1"/>
          <a:stretch/>
        </p:blipFill>
        <p:spPr>
          <a:xfrm>
            <a:off x="3203640" y="2133720"/>
            <a:ext cx="2448000" cy="302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900000" y="5445000"/>
            <a:ext cx="4478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47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дец, вер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ld13"/>
          <p:cNvPicPr/>
          <p:nvPr/>
        </p:nvPicPr>
        <p:blipFill>
          <a:blip r:embed="rId1"/>
          <a:stretch/>
        </p:blipFill>
        <p:spPr>
          <a:xfrm>
            <a:off x="3851280" y="2133720"/>
            <a:ext cx="16034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752472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md15"/>
          <p:cNvPicPr/>
          <p:nvPr/>
        </p:nvPicPr>
        <p:blipFill>
          <a:blip r:embed="rId1"/>
          <a:stretch/>
        </p:blipFill>
        <p:spPr>
          <a:xfrm>
            <a:off x="3851280" y="2276640"/>
            <a:ext cx="1657440" cy="2952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2"/>
          <a:stretch/>
        </p:blipFill>
        <p:spPr>
          <a:xfrm>
            <a:off x="90000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79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узнать верные ответы щелк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чего дятел «барабан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клюв чи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у-то что-то сообщ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музыкой увлек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акие птицы самые быстрокрыл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соколы и ястре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ласточки и стри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утки и чай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7667640" y="33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Игра окончена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755640" y="1628640"/>
            <a:ext cx="7632720" cy="250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о новых            встреч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1" name="Picture 6" descr="md31"/>
          <p:cNvPicPr/>
          <p:nvPr/>
        </p:nvPicPr>
        <p:blipFill>
          <a:blip r:embed="rId1"/>
          <a:stretch/>
        </p:blipFill>
        <p:spPr>
          <a:xfrm>
            <a:off x="1692360" y="4365720"/>
            <a:ext cx="1036440" cy="1511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md36"/>
          <p:cNvPicPr/>
          <p:nvPr/>
        </p:nvPicPr>
        <p:blipFill>
          <a:blip r:embed="rId2"/>
          <a:stretch/>
        </p:blipFill>
        <p:spPr>
          <a:xfrm>
            <a:off x="5940360" y="4437000"/>
            <a:ext cx="1152720" cy="1584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md33"/>
          <p:cNvPicPr/>
          <p:nvPr/>
        </p:nvPicPr>
        <p:blipFill>
          <a:blip r:embed="rId3"/>
          <a:stretch/>
        </p:blipFill>
        <p:spPr>
          <a:xfrm>
            <a:off x="3995640" y="2924280"/>
            <a:ext cx="1297080" cy="194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4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holiday62"/>
          <p:cNvPicPr/>
          <p:nvPr/>
        </p:nvPicPr>
        <p:blipFill>
          <a:blip r:embed="rId5"/>
          <a:stretch/>
        </p:blipFill>
        <p:spPr>
          <a:xfrm>
            <a:off x="2916360" y="549360"/>
            <a:ext cx="3186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97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бирай и игра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NA01361_"/>
          <p:cNvPicPr/>
          <p:nvPr/>
        </p:nvPicPr>
        <p:blipFill>
          <a:blip r:embed="rId1"/>
          <a:stretch/>
        </p:blipFill>
        <p:spPr>
          <a:xfrm>
            <a:off x="395280" y="692280"/>
            <a:ext cx="8423280" cy="59767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7"/>
          <p:cNvSpPr/>
          <p:nvPr/>
        </p:nvSpPr>
        <p:spPr>
          <a:xfrm>
            <a:off x="5580000" y="3357720"/>
            <a:ext cx="2592360" cy="1655640"/>
          </a:xfrm>
          <a:prstGeom prst="cloudCallout">
            <a:avLst>
              <a:gd name="adj1" fmla="val 6828"/>
              <a:gd name="adj2" fmla="val 380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икто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6372360" y="1341360"/>
            <a:ext cx="2305080" cy="1656000"/>
          </a:xfrm>
          <a:prstGeom prst="cloudCallout">
            <a:avLst>
              <a:gd name="adj1" fmla="val -5990"/>
              <a:gd name="adj2" fmla="val 7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г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468360" y="1052640"/>
            <a:ext cx="2374920" cy="1871640"/>
          </a:xfrm>
          <a:prstGeom prst="cloudCallout">
            <a:avLst>
              <a:gd name="adj1" fmla="val 1736"/>
              <a:gd name="adj2" fmla="val 83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вук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икто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1692360" y="4869000"/>
            <a:ext cx="1942920" cy="1368360"/>
          </a:xfrm>
          <a:prstGeom prst="cloudCallout">
            <a:avLst>
              <a:gd name="adj1" fmla="val 16995"/>
              <a:gd name="adj2" fmla="val -16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Птичья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6372360" y="5084640"/>
            <a:ext cx="2303280" cy="1297080"/>
          </a:xfrm>
          <a:prstGeom prst="cloudCallout">
            <a:avLst>
              <a:gd name="adj1" fmla="val -2861"/>
              <a:gd name="adj2" fmla="val 231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Выйти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684360" y="2997360"/>
            <a:ext cx="2158920" cy="1655640"/>
          </a:xfrm>
          <a:prstGeom prst="cloudCallout">
            <a:avLst>
              <a:gd name="adj1" fmla="val -290736"/>
              <a:gd name="adj2" fmla="val -137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MAP.MID" descr=""/>
          <p:cNvPicPr/>
          <p:nvPr/>
        </p:nvPicPr>
        <p:blipFill>
          <a:blip r:embed="rId9"/>
          <a:stretch/>
        </p:blipFill>
        <p:spPr>
          <a:xfrm>
            <a:off x="324000" y="6165720"/>
            <a:ext cx="59184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72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гадки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ёлкай мышкой после каждой загадки п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вёздо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нём спит, ночью летает, прохожих пуг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Не дровосек, не плотник, а первый в бору работ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Мудрая мудрёха зиму накарк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6588000" y="2276640"/>
            <a:ext cx="165744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6659640" y="3933720"/>
            <a:ext cx="165744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я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659640" y="5445000"/>
            <a:ext cx="165744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>
            <a:hlinkClick r:id="rId1" action="ppaction://hlinksldjump"/>
          </p:cNvPr>
          <p:cNvSpPr/>
          <p:nvPr/>
        </p:nvSpPr>
        <p:spPr>
          <a:xfrm>
            <a:off x="7596360" y="333360"/>
            <a:ext cx="863280" cy="863640"/>
          </a:xfrm>
          <a:custGeom>
            <a:avLst/>
            <a:gdLst>
              <a:gd name="textAreaLeft" fmla="*/ 55800 w 863280"/>
              <a:gd name="textAreaRight" fmla="*/ 807480 w 8632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3794" y="3798"/>
                </a:moveTo>
                <a:lnTo>
                  <a:pt x="17806" y="10805"/>
                </a:lnTo>
                <a:lnTo>
                  <a:pt x="3794" y="1781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5148360" y="558972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1055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, что это за п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и вер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el005"/>
          <p:cNvPicPr/>
          <p:nvPr/>
        </p:nvPicPr>
        <p:blipFill>
          <a:blip r:embed="rId1"/>
          <a:stretch/>
        </p:blipFill>
        <p:spPr>
          <a:xfrm>
            <a:off x="539640" y="1484280"/>
            <a:ext cx="4038840" cy="25639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12"/>
          <p:cNvSpPr/>
          <p:nvPr/>
        </p:nvSpPr>
        <p:spPr>
          <a:xfrm>
            <a:off x="324000" y="4221000"/>
            <a:ext cx="2519280" cy="1800360"/>
          </a:xfrm>
          <a:custGeom>
            <a:avLst/>
            <a:gdLst>
              <a:gd name="textAreaLeft" fmla="*/ 574920 w 2519280"/>
              <a:gd name="textAreaRight" fmla="*/ 1944360 w 2519280"/>
              <a:gd name="textAreaTop" fmla="*/ 410760 h 1800360"/>
              <a:gd name="textAreaBottom" fmla="*/ 13896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Ча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3132000" y="4221000"/>
            <a:ext cx="2737080" cy="1800360"/>
          </a:xfrm>
          <a:custGeom>
            <a:avLst/>
            <a:gdLst>
              <a:gd name="textAreaLeft" fmla="*/ 624600 w 2737080"/>
              <a:gd name="textAreaRight" fmla="*/ 2112480 w 2737080"/>
              <a:gd name="textAreaTop" fmla="*/ 410760 h 1800360"/>
              <a:gd name="textAreaBottom" fmla="*/ 13896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Ястре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6156360" y="4292640"/>
            <a:ext cx="2736720" cy="165744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378360 h 1657440"/>
              <a:gd name="textAreaBottom" fmla="*/ 127908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елик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>
            <a:hlinkClick r:id="rId5" action="ppaction://hlinksldjump"/>
          </p:cNvPr>
          <p:cNvSpPr/>
          <p:nvPr/>
        </p:nvSpPr>
        <p:spPr>
          <a:xfrm>
            <a:off x="8101080" y="602136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3794"/>
                </a:moveTo>
                <a:lnTo>
                  <a:pt x="18994" y="10800"/>
                </a:lnTo>
                <a:lnTo>
                  <a:pt x="49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дец, правиль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>
            <a:hlinkClick r:id="rId1" action="ppaction://hlinksldjump"/>
          </p:cNvPr>
          <p:cNvSpPr/>
          <p:nvPr/>
        </p:nvSpPr>
        <p:spPr>
          <a:xfrm>
            <a:off x="7380360" y="4797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bdis08"/>
          <p:cNvPicPr/>
          <p:nvPr/>
        </p:nvPicPr>
        <p:blipFill>
          <a:blip r:embed="rId2"/>
          <a:stretch/>
        </p:blipFill>
        <p:spPr>
          <a:xfrm>
            <a:off x="2411280" y="2708280"/>
            <a:ext cx="25574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умай ещё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>
            <a:hlinkClick r:id="rId1" action="ppaction://hlinksldjump"/>
          </p:cNvPr>
          <p:cNvSpPr/>
          <p:nvPr/>
        </p:nvSpPr>
        <p:spPr>
          <a:xfrm>
            <a:off x="7596360" y="5157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bdis10"/>
          <p:cNvPicPr/>
          <p:nvPr/>
        </p:nvPicPr>
        <p:blipFill>
          <a:blip r:embed="rId2"/>
          <a:stretch/>
        </p:blipFill>
        <p:spPr>
          <a:xfrm>
            <a:off x="3203640" y="2276640"/>
            <a:ext cx="2158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вуковая викторин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иж              сойка         си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 на птицу, которой принадлежит этот гол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большая синица.mp3" descr=""/>
          <p:cNvPicPr/>
          <p:nvPr/>
        </p:nvPicPr>
        <p:blipFill>
          <a:blip r:embed="rId1"/>
          <a:stretch/>
        </p:blipFill>
        <p:spPr>
          <a:xfrm>
            <a:off x="468360" y="5950080"/>
            <a:ext cx="592200" cy="591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mhtml:file://E:\Птицы%20России.mht!http://www.makedonsky.ru/birds1/so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348000" y="1628640"/>
            <a:ext cx="2521080" cy="3240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mhtml:file://E:\Птицы%20России.mht!http://www.makedonsky.ru/birds1/chi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95280" y="1628640"/>
            <a:ext cx="2592360" cy="331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Object 15"/>
          <p:cNvGraphicFramePr/>
          <p:nvPr/>
        </p:nvGraphicFramePr>
        <p:xfrm>
          <a:off x="6227640" y="1628640"/>
          <a:ext cx="2521080" cy="3240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0" name="Object 15" descr="">
                    <a:hlinkClick r:id="rId7" action="ppaction://hlinksldjump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27640" y="1628640"/>
                    <a:ext cx="25210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4672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узнать верные ответы щелк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чего дятел «барабан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клюв чи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кому-то что-то сообщ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музыкой увлек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акие птицы самые быстрокрыл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соколы и ястре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ласточки и стри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утки и чай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>
            <a:hlinkClick r:id="rId1" action="ppaction://hlinksldjump"/>
          </p:cNvPr>
          <p:cNvSpPr/>
          <p:nvPr/>
        </p:nvSpPr>
        <p:spPr>
          <a:xfrm>
            <a:off x="7812000" y="404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тичья задач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летели галки, сели на пал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а каждой палке сядет по одной гал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для одной галки не хватит па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же на каждой палке сядет по две гал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одна из палок будет без га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было пал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было гал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Для сверки с твоим ответом щелк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мышкой по звездоч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156360" y="5229360"/>
            <a:ext cx="2714760" cy="1058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га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па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7885080" y="18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4284720" y="551664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14:57:10Z</dcterms:created>
  <dc:creator>АЛЁНУШКА</dc:creator>
  <dc:description/>
  <dc:language>en-US</dc:language>
  <cp:lastModifiedBy>Алёна</cp:lastModifiedBy>
  <dcterms:modified xsi:type="dcterms:W3CDTF">2015-04-14T16:56:50Z</dcterms:modified>
  <cp:revision>6</cp:revision>
  <dc:subject/>
  <dc:title>Слайд 1</dc:title>
</cp:coreProperties>
</file>