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BB2-BA24-41D2-9086-0E44B856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4CA-3A9E-443F-A69E-5713ADF4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B54-5D9A-4F12-821B-7D8A5EC2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2CA-A0B5-497D-832E-16191284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F1F-34A4-42B1-A2FC-0213CD6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520-7785-4186-B80F-4CE1655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223-3E1F-4477-A237-6905949D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538-BCDE-4922-835E-EF3B4E2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92A-8B4E-4FC7-88E6-E5D3E6D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D10-8B57-4531-92C2-8FDA5F7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58E-6A71-4200-8434-AC9123F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FAE-86C9-4EF3-8112-8B900BB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776-0B2A-4EC0-93EC-AC54E37C79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1111320" y="1251000"/>
            <a:ext cx="662472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Интерфейс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 Adobe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Photo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403280" y="404640"/>
            <a:ext cx="662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114560" y="1924200"/>
            <a:ext cx="577800" cy="39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49480" y="1433520"/>
            <a:ext cx="2917800" cy="123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783400" y="1916280"/>
            <a:ext cx="1944720" cy="42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128600" y="1608120"/>
            <a:ext cx="4896000" cy="268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5796000" y="1916280"/>
            <a:ext cx="194472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5796000" y="2708280"/>
            <a:ext cx="194472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5796000" y="3860640"/>
            <a:ext cx="1944720" cy="93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5796000" y="4797360"/>
            <a:ext cx="1944720" cy="13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2863440" y="21225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1837440" y="3068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2270160" y="2060640"/>
            <a:ext cx="243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486160" y="357336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и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926520" y="206064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иг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4573080" y="2852640"/>
            <a:ext cx="10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212720" y="4005360"/>
            <a:ext cx="15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4573080" y="5157720"/>
            <a:ext cx="11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Сохранение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20инструм"/>
          <p:cNvPicPr/>
          <p:nvPr/>
        </p:nvPicPr>
        <p:blipFill>
          <a:blip r:embed="rId1"/>
          <a:stretch/>
        </p:blipFill>
        <p:spPr>
          <a:xfrm>
            <a:off x="1434960" y="1413000"/>
            <a:ext cx="4797720" cy="4665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336000" y="208908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1080" y="364500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262920" y="427212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227320" y="1628640"/>
            <a:ext cx="3960720" cy="208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019320" y="3645000"/>
            <a:ext cx="230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059280" y="4005360"/>
            <a:ext cx="2304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 Ки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25инструм"/>
          <p:cNvPicPr/>
          <p:nvPr/>
        </p:nvPicPr>
        <p:blipFill>
          <a:blip r:embed="rId1"/>
          <a:stretch/>
        </p:blipFill>
        <p:spPr>
          <a:xfrm>
            <a:off x="936720" y="1255680"/>
            <a:ext cx="266364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9"/>
          <p:cNvPicPr/>
          <p:nvPr/>
        </p:nvPicPr>
        <p:blipFill>
          <a:blip r:embed="rId2"/>
          <a:stretch/>
        </p:blipFill>
        <p:spPr>
          <a:xfrm>
            <a:off x="216000" y="1112760"/>
            <a:ext cx="609480" cy="4122720"/>
          </a:xfrm>
          <a:prstGeom prst="rect">
            <a:avLst/>
          </a:prstGeom>
          <a:ln w="0">
            <a:noFill/>
          </a:ln>
        </p:spPr>
      </p:pic>
      <p:sp>
        <p:nvSpPr>
          <p:cNvPr id="71" name="Oval 6"/>
          <p:cNvSpPr/>
          <p:nvPr/>
        </p:nvSpPr>
        <p:spPr>
          <a:xfrm>
            <a:off x="504720" y="2120760"/>
            <a:ext cx="35892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23инструм"/>
          <p:cNvPicPr/>
          <p:nvPr/>
        </p:nvPicPr>
        <p:blipFill>
          <a:blip r:embed="rId3"/>
          <a:srcRect l="0" t="0" r="16918" b="41919"/>
          <a:stretch/>
        </p:blipFill>
        <p:spPr>
          <a:xfrm>
            <a:off x="936720" y="1255680"/>
            <a:ext cx="6299280" cy="444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008000" y="1255680"/>
            <a:ext cx="64764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914040" y="1751040"/>
            <a:ext cx="369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2089080" y="1255680"/>
            <a:ext cx="64764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48000" y="2060640"/>
            <a:ext cx="318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диаметра, жёсткости и формы к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168720" y="1255680"/>
            <a:ext cx="122400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168720" y="1687680"/>
            <a:ext cx="299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24инструм"/>
          <p:cNvPicPr/>
          <p:nvPr/>
        </p:nvPicPr>
        <p:blipFill>
          <a:blip r:embed="rId4"/>
          <a:stretch/>
        </p:blipFill>
        <p:spPr>
          <a:xfrm>
            <a:off x="3240000" y="1544760"/>
            <a:ext cx="1219320" cy="4630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8"/>
          <p:cNvSpPr/>
          <p:nvPr/>
        </p:nvSpPr>
        <p:spPr>
          <a:xfrm>
            <a:off x="4392720" y="1255680"/>
            <a:ext cx="1224000" cy="495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3960720" y="1903320"/>
            <a:ext cx="32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озр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5"/>
          <a:stretch/>
        </p:blipFill>
        <p:spPr>
          <a:xfrm>
            <a:off x="971640" y="1700280"/>
            <a:ext cx="2457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ор ц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19лл"/>
          <p:cNvPicPr/>
          <p:nvPr/>
        </p:nvPicPr>
        <p:blipFill>
          <a:blip r:embed="rId1"/>
          <a:stretch/>
        </p:blipFill>
        <p:spPr>
          <a:xfrm>
            <a:off x="1258920" y="2563920"/>
            <a:ext cx="60948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6инструм"/>
          <p:cNvPicPr/>
          <p:nvPr/>
        </p:nvPicPr>
        <p:blipFill>
          <a:blip r:embed="rId2"/>
          <a:stretch/>
        </p:blipFill>
        <p:spPr>
          <a:xfrm>
            <a:off x="2411280" y="1773360"/>
            <a:ext cx="4724640" cy="33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352320" y="2421000"/>
            <a:ext cx="45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 выбора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187280" y="2492280"/>
            <a:ext cx="72072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1476360" y="2781360"/>
            <a:ext cx="1727280" cy="64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188160" y="324180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а пере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206160" y="359712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а за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3205080" y="395136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цветов по умолч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952360" y="2924280"/>
            <a:ext cx="54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ключатель цвета переднего и заднего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1547640" y="2997360"/>
            <a:ext cx="1656000" cy="79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1403280" y="2997360"/>
            <a:ext cx="1800360" cy="107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1692360" y="2708280"/>
            <a:ext cx="129528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5075280" y="2205000"/>
            <a:ext cx="288720" cy="25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2482920" y="2205000"/>
            <a:ext cx="2592360" cy="25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5364000" y="2205000"/>
            <a:ext cx="719280" cy="79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5867280" y="2205000"/>
            <a:ext cx="503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9:25:57Z</dcterms:created>
  <dc:creator>User</dc:creator>
  <dc:description/>
  <dc:language>en-US</dc:language>
  <cp:lastModifiedBy>Анкушева</cp:lastModifiedBy>
  <dcterms:modified xsi:type="dcterms:W3CDTF">2015-04-14T08:47:32Z</dcterms:modified>
  <cp:revision>97</cp:revision>
  <dc:subject/>
  <dc:title>Слайд 1</dc:title>
</cp:coreProperties>
</file>