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1AE-8972-48EF-BA6F-FC4CBB07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B04-E5EE-4A70-883B-F345900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6CF-3FB3-479C-A858-5DCFD0F6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4D3-DF73-4BDA-A13F-A5816FB8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CFAB-254E-4F8E-97BE-B21BE205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08F9-7D1E-469F-A03D-A54412AF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2DAC-0372-4736-AF06-E2935C78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14B7-E769-408D-AD7F-1A7DFE04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DC00-402B-403B-8C01-D1095C26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06D9-871C-40B3-9A7B-26E47D39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3A2E-C303-470E-95CA-CC8167F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E81-70F5-4EFD-8B26-ABCFD078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1727-4520-4604-9696-2BA85BF6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6BA8-1C6F-46F5-BCA5-F6E1F67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64F-C227-4CB8-871D-FE7C893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9B53-86F5-4359-84FC-45E9C9CC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DFB1-9E5C-4C46-A316-6D1BF78C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9EE-383C-4C4F-B3E1-05E2D653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F54-453C-4491-B605-3F9B0ED6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7A5-1679-429D-B3A8-1192D983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D63-563E-41F6-8EA7-194F12D1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245-9CF8-495C-B2AF-2A67030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28D-F52F-4322-A32C-75C26B6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D2D-453A-4A8E-8962-B3DECC5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2FF5-735B-4E9E-8ABE-84A0D97DDC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4AA-1164-41F8-93C3-B3BAD0AD1D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343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дмет : русский язык  4 класс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ема : Сочинение по репродукции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И.И. Левитана «Март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64388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составлять текст-описание и выражать свои мысли по картине с помощью плана и опорн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стную и письменную речь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любовь к природе, чувство прекрас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ла :  Дикая Е.А.,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Красногорская СОШ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Левитан Исаак Ильич (1860-1900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ий художн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рода была единствен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мой всех его произве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ворчество Левитана – э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ая эпоха пейзажной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ивописи. Его наслед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олотая осень», «Берез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ща», «Март», «После дожд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с», «Первая зел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p0000005"/>
          <p:cNvPicPr/>
          <p:nvPr/>
        </p:nvPicPr>
        <p:blipFill>
          <a:blip r:embed="rId1"/>
          <a:stretch/>
        </p:blipFill>
        <p:spPr>
          <a:xfrm>
            <a:off x="684360" y="1844640"/>
            <a:ext cx="3582720" cy="367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.И. Левитан «Март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64000" y="1599840"/>
            <a:ext cx="360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настроение было у художника, когда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л эту карт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 призн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лижения весны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свещено солнц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так много голуб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жи о деревьях,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х берез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ут у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о твоему чув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шадь, запряженная в са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mart"/>
          <p:cNvPicPr/>
          <p:nvPr/>
        </p:nvPicPr>
        <p:blipFill>
          <a:blip r:embed="rId1"/>
          <a:stretch/>
        </p:blipFill>
        <p:spPr>
          <a:xfrm>
            <a:off x="108000" y="1620720"/>
            <a:ext cx="5256000" cy="442620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.И. Левитан «Март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720" y="1599840"/>
            <a:ext cx="3851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Опиши признаки прибл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ны : снег,небо,солнце,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Что освещено солнц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 вершины берез, лош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Что чувствуешь ты, 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шь на карт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орные слова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т –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яц весны, голубое неб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ый воздух, небесная лазур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ы берез, высокие сос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йные березы, лошад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яженная в сани, весен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, радостные чув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mart"/>
          <p:cNvPicPr/>
          <p:nvPr/>
        </p:nvPicPr>
        <p:blipFill>
          <a:blip r:embed="rId1"/>
          <a:stretch/>
        </p:blipFill>
        <p:spPr>
          <a:xfrm>
            <a:off x="108000" y="1628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46:08Z</dcterms:created>
  <dc:creator>Егор</dc:creator>
  <dc:description/>
  <dc:language>en-US</dc:language>
  <cp:lastModifiedBy>User</cp:lastModifiedBy>
  <dcterms:modified xsi:type="dcterms:W3CDTF">2012-04-03T11:32:05Z</dcterms:modified>
  <cp:revision>10</cp:revision>
  <dc:subject/>
  <dc:title>Картинное сочинение</dc:title>
</cp:coreProperties>
</file>