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1A9-5D6C-4FEF-8A28-2342A4CC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518-A801-4DC2-857C-4451B41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E69-B1D0-4C14-9008-13DA698F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86E-D719-448F-9836-6D0317BE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F4AC-7C31-4F5A-AFB8-5D85C84E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B00-6B44-4749-97DB-19ED3C5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76F-40EE-4121-9E9D-B1D00D37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AAD7-6CF1-4206-A5CF-E25BF0D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8A70-67F6-420F-B49D-7A9CBE69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D56-4008-4F7F-A43D-06965E9A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216F-1026-499E-8F48-BA03427B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4C2-BFDE-41F7-8261-E899A518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52F-47B8-44AB-8A11-D3457FE6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73F7-45FE-442C-8CBE-740FB84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2B76-3CC4-456C-9BAD-DD71EFD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889E-39B9-4C47-9865-28012EB5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9D5-3B2E-493D-B685-A949AEF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A8-51CE-40F0-BBCE-81410F1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DEC-786B-43EE-B7F0-C596AD81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D2F-C979-4095-8EB6-00AD6550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E81-3163-4241-93A6-D61EFE8B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3FF-C59A-4911-951F-3EDD8F0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F7D-23A1-4F7C-B900-3B891B9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DC-1D7D-4567-99B5-EEA0BD0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A852-D725-47A7-8C2E-B1C6365978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9C2-0725-4B2B-B996-D17BCC52B6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343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дмет : русский язык  4 класс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ма : Сочинение по репродукции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И.И. Левитана «Март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64388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оставлять текст-описание и выражать свои мысли по картине с помощью плана и опор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стную и письменную реч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любовь к природе, чувство прекрас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ла :  Дикая Е.А.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Красногорская СОШ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Левитан Исаак Ильич (1860-1900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й худож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рода была единствен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мой всех его произве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ворчество Левитана – э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ая эпоха пейзажной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ивописи. Его наслед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лотая осень», «Берез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ща», «Март», «После дожд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с», «Первая зел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p0000005"/>
          <p:cNvPicPr/>
          <p:nvPr/>
        </p:nvPicPr>
        <p:blipFill>
          <a:blip r:embed="rId1"/>
          <a:stretch/>
        </p:blipFill>
        <p:spPr>
          <a:xfrm>
            <a:off x="684360" y="1844640"/>
            <a:ext cx="3582720" cy="367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.И. Левитан «Мар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64000" y="1599840"/>
            <a:ext cx="360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настроение было у художника, когда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л эту карт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 призн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ения весны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свещено солнц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так много голуб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жи о деревьях,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х берез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ут у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о твоему чув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ь, запряженная в са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mart"/>
          <p:cNvPicPr/>
          <p:nvPr/>
        </p:nvPicPr>
        <p:blipFill>
          <a:blip r:embed="rId1"/>
          <a:stretch/>
        </p:blipFill>
        <p:spPr>
          <a:xfrm>
            <a:off x="108000" y="1620720"/>
            <a:ext cx="5256000" cy="4426200"/>
          </a:xfrm>
          <a:prstGeom prst="rect">
            <a:avLst/>
          </a:prstGeom>
          <a:ln w="0">
            <a:noFill/>
          </a:ln>
        </p:spPr>
      </p:pic>
    </p:spTree>
  </p:cSld>
  <p:transition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.И. Левитан «Мар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85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Опиши признаки прибл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ны : снег,небо,солнце,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Что освещено солнц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 вершины берез, лош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Что чувствуешь ты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шь на карт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ые слова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т –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яц весны, голубое неб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ый воздух, небесная лазу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ы берез, высокие сос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йные березы, лошад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яженная в сани, весен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, радостные чу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mart"/>
          <p:cNvPicPr/>
          <p:nvPr/>
        </p:nvPicPr>
        <p:blipFill>
          <a:blip r:embed="rId1"/>
          <a:stretch/>
        </p:blipFill>
        <p:spPr>
          <a:xfrm>
            <a:off x="108000" y="1628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6:08Z</dcterms:created>
  <dc:creator>Егор</dc:creator>
  <dc:description/>
  <dc:language>en-US</dc:language>
  <cp:lastModifiedBy>User</cp:lastModifiedBy>
  <dcterms:modified xsi:type="dcterms:W3CDTF">2012-04-03T11:32:05Z</dcterms:modified>
  <cp:revision>10</cp:revision>
  <dc:subject/>
  <dc:title>Картинное сочинение</dc:title>
</cp:coreProperties>
</file>