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22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46E-989F-4E30-B3C2-C5E210F1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715-C045-4E30-B603-4AAB867F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9D1-6037-4816-9A55-7B6EA30B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66C-8E09-42B6-AE04-C16F5718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0C04-D67B-48F9-9271-AF685137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C5F0-29B2-4AB6-95F5-05AB7BFD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377A-0F85-48DD-92BC-7054C447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932E-EDC2-4329-9D50-9AE210EE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7F03-545E-4226-A09F-6EAF07A7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B953-8703-421B-8394-5941CF05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97E8-8696-4398-89D5-B23CC56D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411-9CC7-43EC-8224-50D301EA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9CC0-6990-458A-9736-E32E7952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D59E-8159-4649-96E5-8DFFA189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EA9B-8AA5-4396-96AF-6A0DF763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F3F9-3768-4BEF-B79F-A9554483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D3AB-066E-41AE-BD55-9E5761D1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59F-2DE0-459B-A92D-D8CA5BCE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5AD-CD7D-4BEC-A9A6-D8E47A21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C41-B422-4F82-A7AA-22D9F3EA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D5A-D5A2-43C8-A1E2-F4A02BF9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F85-5482-4F0C-AB7F-CBFAF89A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83E-FE6D-4EB3-8D4E-E2F0056C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CFD-D862-4034-936E-C0D8630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C03E-A4B4-4206-B3E4-0E0DA23B3605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6BCB-F9B8-4413-A8DF-0C4ACD8514E9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89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5d78"/>
                </a:solidFill>
                <a:latin typeface="Constantia"/>
              </a:rPr>
              <a:t>Формирование познавательных универсальных  действий  в 1-ом классе на уроках русского языка используя задания творческого характе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3857760"/>
            <a:ext cx="4572000" cy="128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nstantia"/>
              </a:rPr>
              <a:t>учитель начальных классов  Лощакова С.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nstantia"/>
              </a:rPr>
              <a:t>БОУ СОШ № 29 МО Динской район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298440"/>
            <a:ext cx="8199360" cy="11890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447120" y="3143160"/>
            <a:ext cx="72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Буквенный   дикт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1" descr=""/>
          <p:cNvPicPr/>
          <p:nvPr/>
        </p:nvPicPr>
        <p:blipFill>
          <a:blip r:embed="rId1"/>
          <a:stretch/>
        </p:blipFill>
        <p:spPr>
          <a:xfrm>
            <a:off x="487440" y="12600"/>
            <a:ext cx="8083440" cy="11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786040" y="2643120"/>
          <a:ext cx="4000680" cy="2228760"/>
        </p:xfrm>
        <a:graphic>
          <a:graphicData uri="http://schemas.openxmlformats.org/drawingml/2006/table">
            <a:tbl>
              <a:tblPr/>
              <a:tblGrid>
                <a:gridCol w="2741760"/>
                <a:gridCol w="1258920"/>
              </a:tblGrid>
              <a:tr h="7430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утов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олап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"/>
          <p:cNvSpPr/>
          <p:nvPr/>
        </p:nvSpPr>
        <p:spPr>
          <a:xfrm>
            <a:off x="2801160" y="1431000"/>
            <a:ext cx="41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Admin\Мои документы\Мои рисунки\Анимашки и рисунки\Животные и мультяшки\Медвежата\Bears_02.gif"/>
          <p:cNvPicPr/>
          <p:nvPr/>
        </p:nvPicPr>
        <p:blipFill>
          <a:blip r:embed="rId2"/>
          <a:stretch/>
        </p:blipFill>
        <p:spPr>
          <a:xfrm>
            <a:off x="7429680" y="4187880"/>
            <a:ext cx="1214280" cy="1679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Admin\Мои документы\Мои рисунки\Анимашки и рисунки\Животные и мультяшки\животные\u17.gif"/>
          <p:cNvPicPr/>
          <p:nvPr/>
        </p:nvPicPr>
        <p:blipFill>
          <a:blip r:embed="rId3"/>
          <a:stretch/>
        </p:blipFill>
        <p:spPr>
          <a:xfrm>
            <a:off x="285840" y="2857680"/>
            <a:ext cx="1944720" cy="14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http://bestgif.narod.ru/jivotnie/animashki-100.gif"/>
          <p:cNvPicPr/>
          <p:nvPr/>
        </p:nvPicPr>
        <p:blipFill>
          <a:blip r:embed="rId4"/>
          <a:stretch/>
        </p:blipFill>
        <p:spPr>
          <a:xfrm>
            <a:off x="7072200" y="2281320"/>
            <a:ext cx="1714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1" descr=""/>
          <p:cNvPicPr/>
          <p:nvPr/>
        </p:nvPicPr>
        <p:blipFill>
          <a:blip r:embed="rId1"/>
          <a:stretch/>
        </p:blipFill>
        <p:spPr>
          <a:xfrm>
            <a:off x="285840" y="12600"/>
            <a:ext cx="8022960" cy="1187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"/>
          <p:cNvSpPr/>
          <p:nvPr/>
        </p:nvSpPr>
        <p:spPr>
          <a:xfrm>
            <a:off x="591840" y="1143000"/>
            <a:ext cx="721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авьте в текст прилаг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163440" y="1857240"/>
            <a:ext cx="874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__________ вес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урчали __________ руч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чки запели _________ песн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_______ жители радуются _______ теп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433440" y="0"/>
            <a:ext cx="7905600" cy="1511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0" y="1871280"/>
            <a:ext cx="914400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строят не языком, а рублем да рублем.   (Город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ехать и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долга.   (Дорог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мать. Умей за нее постоять.   (Родин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…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ловек добро помнит.   (Русск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Admin\Мои документы\Мои рисунки\Анимашки и рисунки\Школа\19_1.jpg"/>
          <p:cNvPicPr/>
          <p:nvPr/>
        </p:nvPicPr>
        <p:blipFill>
          <a:blip r:embed="rId1"/>
          <a:stretch/>
        </p:blipFill>
        <p:spPr>
          <a:xfrm>
            <a:off x="500040" y="357120"/>
            <a:ext cx="84456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128592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57120" y="673560"/>
            <a:ext cx="821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навательных универсальных действий младших школьников осуществляются на уроках русского языка. Детям предлагаются разнообразные задания творческого харак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:\Documents and Settings\Admin\Мои документы\Мои рисунки\Анимашки и рисунки\Школа\writingonbook.gif"/>
          <p:cNvPicPr/>
          <p:nvPr/>
        </p:nvPicPr>
        <p:blipFill>
          <a:blip r:embed="rId1"/>
          <a:stretch/>
        </p:blipFill>
        <p:spPr>
          <a:xfrm>
            <a:off x="6888240" y="4237200"/>
            <a:ext cx="2006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3" descr=""/>
          <p:cNvPicPr/>
          <p:nvPr/>
        </p:nvPicPr>
        <p:blipFill>
          <a:blip r:embed="rId1"/>
          <a:stretch/>
        </p:blipFill>
        <p:spPr>
          <a:xfrm>
            <a:off x="1116000" y="225360"/>
            <a:ext cx="6168960" cy="1189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857160" y="1302840"/>
            <a:ext cx="7715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вонкий –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лухой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едпоследняя буква в слове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следняя буква в слове 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Гласная буква с слове 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ервая буква в слове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оследняя буква в слове 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вонкий –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лухой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4143240" y="5572080"/>
            <a:ext cx="31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ере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:\Documents and Settings\Admin\Мои документы\Мои рисунки\Анимашки и рисунки\Школа\ico13.gif"/>
          <p:cNvPicPr/>
          <p:nvPr/>
        </p:nvPicPr>
        <p:blipFill>
          <a:blip r:embed="rId2"/>
          <a:stretch/>
        </p:blipFill>
        <p:spPr>
          <a:xfrm>
            <a:off x="7643880" y="4929120"/>
            <a:ext cx="1111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152280"/>
            <a:ext cx="7401240" cy="1189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71680" y="1797480"/>
            <a:ext cx="8286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, лиса, зая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уремар, Мальвина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ь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читаемое,уменьшаемое,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береза,  дуб, л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лень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, волк, 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852120" y="178596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р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576680" y="2286000"/>
            <a:ext cx="17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бол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356960" y="2786040"/>
            <a:ext cx="12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1076040" y="3286080"/>
            <a:ext cx="81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2216880" y="3714840"/>
            <a:ext cx="14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:\Documents and Settings\Admin\Мои документы\Мои рисунки\Анимашки и рисунки\Школа\ico35.gif"/>
          <p:cNvPicPr/>
          <p:nvPr/>
        </p:nvPicPr>
        <p:blipFill>
          <a:blip r:embed="rId2"/>
          <a:stretch/>
        </p:blipFill>
        <p:spPr>
          <a:xfrm>
            <a:off x="7143840" y="4357800"/>
            <a:ext cx="16621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2103480" y="79200"/>
            <a:ext cx="3584520" cy="1189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214200" y="208404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                   ТА                ТОЛИЙ         ТЕ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92480" y="3000240"/>
            <a:ext cx="12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576520" y="30718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571640" y="3071880"/>
            <a:ext cx="20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то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6935400" y="3143160"/>
            <a:ext cx="11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28760" y="478620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000600" y="48578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4581000" y="4857840"/>
            <a:ext cx="125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Мои документы\Мои рисунки\Анимашки и рисунки\Школа\image039.gif"/>
          <p:cNvPicPr/>
          <p:nvPr/>
        </p:nvPicPr>
        <p:blipFill>
          <a:blip r:embed="rId2"/>
          <a:stretch/>
        </p:blipFill>
        <p:spPr>
          <a:xfrm flipH="1">
            <a:off x="6643440" y="4000680"/>
            <a:ext cx="17859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1"/>
          <a:stretch/>
        </p:blipFill>
        <p:spPr>
          <a:xfrm>
            <a:off x="1695600" y="152280"/>
            <a:ext cx="5010120" cy="1189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501120" y="1571760"/>
            <a:ext cx="13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076840" y="1571760"/>
            <a:ext cx="13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77800" y="257184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93040" y="3714840"/>
            <a:ext cx="22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ЕЛИ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781880" y="157176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850640" y="257184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С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853520" y="36432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292120" y="264312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2507760" y="3714840"/>
            <a:ext cx="22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6792480" y="157176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785280" y="257184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6847920" y="36432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Admin\Мои документы\Мои рисунки\Анимашки и рисунки\Школа\21_1.jpg"/>
          <p:cNvPicPr/>
          <p:nvPr/>
        </p:nvPicPr>
        <p:blipFill>
          <a:blip r:embed="rId2"/>
          <a:stretch/>
        </p:blipFill>
        <p:spPr>
          <a:xfrm>
            <a:off x="4638600" y="4352760"/>
            <a:ext cx="1938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774720" y="152280"/>
            <a:ext cx="7242120" cy="1189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500040" y="128736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определению назови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506960" y="1930320"/>
            <a:ext cx="53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елое, красное, арома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10920" y="29304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енькая, пугливая, се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80760" y="3787560"/>
            <a:ext cx="51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итрая, рыжая, пуш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Admin\Мои документы\Мои рисунки\Анимашки и рисунки\Школа\funderar.jpg"/>
          <p:cNvPicPr/>
          <p:nvPr/>
        </p:nvPicPr>
        <p:blipFill>
          <a:blip r:embed="rId2"/>
          <a:stretch/>
        </p:blipFill>
        <p:spPr>
          <a:xfrm>
            <a:off x="6715080" y="4286160"/>
            <a:ext cx="221472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79200"/>
            <a:ext cx="9047160" cy="1189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"/>
          <p:cNvSpPr/>
          <p:nvPr/>
        </p:nvSpPr>
        <p:spPr>
          <a:xfrm>
            <a:off x="2028240" y="1101960"/>
            <a:ext cx="4872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 2   3  4   5   6   7   8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 Б  К И  Л  О  П 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85920" y="4214880"/>
          <a:ext cx="7072200" cy="743040"/>
        </p:xfrm>
        <a:graphic>
          <a:graphicData uri="http://schemas.openxmlformats.org/drawingml/2006/table">
            <a:tbl>
              <a:tblPr/>
              <a:tblGrid>
                <a:gridCol w="2521080"/>
                <a:gridCol w="2112840"/>
                <a:gridCol w="2438280"/>
              </a:tblGrid>
              <a:tr h="7430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184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8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21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2"/>
          <p:cNvSpPr/>
          <p:nvPr/>
        </p:nvSpPr>
        <p:spPr>
          <a:xfrm>
            <a:off x="732240" y="3359160"/>
            <a:ext cx="72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лова кроются под номер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1" descr=""/>
          <p:cNvPicPr/>
          <p:nvPr/>
        </p:nvPicPr>
        <p:blipFill>
          <a:blip r:embed="rId1"/>
          <a:stretch/>
        </p:blipFill>
        <p:spPr>
          <a:xfrm>
            <a:off x="49320" y="-42840"/>
            <a:ext cx="8783640" cy="10731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362160" y="1221120"/>
            <a:ext cx="834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еплый вечер-              Смелый мальчи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ая девочка-             Радостная встреч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е детство-           Строгий папа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510120" y="371916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учше _____ правда, чем______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мир лучше _______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0:49:55Z</dcterms:created>
  <dc:creator>Valued Acer Customer</dc:creator>
  <dc:description/>
  <cp:keywords/>
  <dc:language>en-US</dc:language>
  <cp:lastModifiedBy>Valued Acer Customer</cp:lastModifiedBy>
  <dcterms:modified xsi:type="dcterms:W3CDTF">2012-04-05T21:15:00Z</dcterms:modified>
  <cp:revision>26</cp:revision>
  <dc:subject/>
  <dc:title>Формирование познавательных универсальных действий  в 1-ом классе на уроках русского языка используя задания творческого харак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