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jpeg" ContentType="image/jpeg"/>
  <Override PartName="/ppt/media/image13.jpeg" ContentType="image/jpeg"/>
  <Override PartName="/ppt/media/image18.gif" ContentType="image/gif"/>
  <Override PartName="/ppt/media/image20.gif" ContentType="image/gif"/>
  <Override PartName="/ppt/media/image22.png" ContentType="image/png"/>
  <Override PartName="/ppt/media/image21.png" ContentType="image/png"/>
  <Override PartName="/ppt/media/image4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9.gif" ContentType="image/gif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82CC-2D6A-40EA-8EDC-DB97843D4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6466-3079-4E98-B37F-36FC5D31A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3882-D1C4-4A01-A30B-E431AF519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118C-18EF-4DE3-B1CB-3DD27D3F1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6BAE6-5765-46D7-AE23-9B2683FC1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81B2C-E05B-45EE-8FA8-9B8AA6AEA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EC2E0-514B-4559-B86F-F84602B25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73836-4DF1-4E35-9557-E5934CB30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B7B6A-471E-4051-B135-4A39B4332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0BBAE-4C91-4965-8507-71E276C33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522E1-02BC-4551-837F-B1CD33CBE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AEA9-1E82-4329-9AAC-F9804A05C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BE2BB-7B82-43E8-A06C-0903D93A7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DA385-57D6-4AC1-994A-D66AA304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054D2-7912-4851-AA71-624913F82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6A5C5-3B88-4FE4-8799-2198F41D2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B9E1E-0529-4BF2-8BF0-7CB66CDBE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E820-F17B-45EA-9283-E6DEA40C4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4DB0-AA90-4A6E-8F02-8CE02E8B3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3E2F-8C16-4A43-A3F9-519EB7B5F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FF69-0DFE-4064-9237-CD3D11E2F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AB71-EE62-46B2-AE86-BC9CD4618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9DF9-5925-4480-8723-C140509D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6050-1E12-44BB-AFD3-F721F0A8A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8B29D-E3CF-46D1-83F5-BD0B012B7D06}" type="slidenum">
              <a:rPr b="0" lang="en-US" sz="12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344D5-DA4C-4B75-A19B-C8A54A160B9C}" type="slidenum">
              <a:rPr b="0" lang="en-US" sz="12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89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e5d78"/>
                </a:solidFill>
                <a:latin typeface="Constantia"/>
              </a:rPr>
              <a:t>Формирование познавательных универсальных  действий  в 1-ом классе на уроках русского языка используя задания творческого характер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286000" y="3857760"/>
            <a:ext cx="4572000" cy="128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2060"/>
                </a:solidFill>
                <a:latin typeface="Constantia"/>
              </a:rPr>
              <a:t>учитель начальных классов  Лощакова С.И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2060"/>
                </a:solidFill>
                <a:latin typeface="Constantia"/>
              </a:rPr>
              <a:t>БОУ СОШ № 29 МО Динской район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Прямоугольник 1" descr=""/>
          <p:cNvPicPr/>
          <p:nvPr/>
        </p:nvPicPr>
        <p:blipFill>
          <a:blip r:embed="rId1"/>
          <a:stretch/>
        </p:blipFill>
        <p:spPr>
          <a:xfrm>
            <a:off x="23760" y="298440"/>
            <a:ext cx="8199360" cy="1189080"/>
          </a:xfrm>
          <a:prstGeom prst="rect">
            <a:avLst/>
          </a:prstGeom>
          <a:ln w="0">
            <a:noFill/>
          </a:ln>
        </p:spPr>
      </p:pic>
      <p:sp>
        <p:nvSpPr>
          <p:cNvPr id="137" name="Прямоугольник 2"/>
          <p:cNvSpPr/>
          <p:nvPr/>
        </p:nvSpPr>
        <p:spPr>
          <a:xfrm>
            <a:off x="447120" y="3143160"/>
            <a:ext cx="727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Arial"/>
              </a:rPr>
              <a:t>Буквенный   диктан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Прямоугольник 1" descr=""/>
          <p:cNvPicPr/>
          <p:nvPr/>
        </p:nvPicPr>
        <p:blipFill>
          <a:blip r:embed="rId1"/>
          <a:stretch/>
        </p:blipFill>
        <p:spPr>
          <a:xfrm>
            <a:off x="487440" y="12600"/>
            <a:ext cx="8083440" cy="118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9" name=""/>
          <p:cNvGraphicFramePr/>
          <p:nvPr/>
        </p:nvGraphicFramePr>
        <p:xfrm>
          <a:off x="2786040" y="2643120"/>
          <a:ext cx="4000680" cy="2228760"/>
        </p:xfrm>
        <a:graphic>
          <a:graphicData uri="http://schemas.openxmlformats.org/drawingml/2006/table">
            <a:tbl>
              <a:tblPr/>
              <a:tblGrid>
                <a:gridCol w="2741760"/>
                <a:gridCol w="1258920"/>
              </a:tblGrid>
              <a:tr h="743040">
                <a:tc>
                  <a:txBody>
                    <a:bodyPr lIns="66600" rIns="66600" tIns="66600" bIns="666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утовк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66600" rIns="66600" tIns="66600" bIns="666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ой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2680">
                <a:tc>
                  <a:txBody>
                    <a:bodyPr lIns="66600" rIns="66600" tIns="66600" bIns="666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солапый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Rectangle 1"/>
          <p:cNvSpPr/>
          <p:nvPr/>
        </p:nvSpPr>
        <p:spPr>
          <a:xfrm>
            <a:off x="2801160" y="1431000"/>
            <a:ext cx="411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кие живот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C:\Documents and Settings\Admin\Мои документы\Мои рисунки\Анимашки и рисунки\Животные и мультяшки\Медвежата\Bears_02.gif"/>
          <p:cNvPicPr/>
          <p:nvPr/>
        </p:nvPicPr>
        <p:blipFill>
          <a:blip r:embed="rId2"/>
          <a:stretch/>
        </p:blipFill>
        <p:spPr>
          <a:xfrm>
            <a:off x="7429680" y="4187880"/>
            <a:ext cx="1214280" cy="16794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C:\Documents and Settings\Admin\Мои документы\Мои рисунки\Анимашки и рисунки\Животные и мультяшки\животные\u17.gif"/>
          <p:cNvPicPr/>
          <p:nvPr/>
        </p:nvPicPr>
        <p:blipFill>
          <a:blip r:embed="rId3"/>
          <a:stretch/>
        </p:blipFill>
        <p:spPr>
          <a:xfrm>
            <a:off x="285840" y="2857680"/>
            <a:ext cx="1944720" cy="1404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http://bestgif.narod.ru/jivotnie/animashki-100.gif"/>
          <p:cNvPicPr/>
          <p:nvPr/>
        </p:nvPicPr>
        <p:blipFill>
          <a:blip r:embed="rId4"/>
          <a:stretch/>
        </p:blipFill>
        <p:spPr>
          <a:xfrm>
            <a:off x="7072200" y="2281320"/>
            <a:ext cx="171468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Прямоугольник 1" descr=""/>
          <p:cNvPicPr/>
          <p:nvPr/>
        </p:nvPicPr>
        <p:blipFill>
          <a:blip r:embed="rId1"/>
          <a:stretch/>
        </p:blipFill>
        <p:spPr>
          <a:xfrm>
            <a:off x="285840" y="12600"/>
            <a:ext cx="8022960" cy="1187640"/>
          </a:xfrm>
          <a:prstGeom prst="rect">
            <a:avLst/>
          </a:prstGeom>
          <a:ln w="0">
            <a:noFill/>
          </a:ln>
        </p:spPr>
      </p:pic>
      <p:sp>
        <p:nvSpPr>
          <p:cNvPr id="145" name="Прямоугольник 2"/>
          <p:cNvSpPr/>
          <p:nvPr/>
        </p:nvSpPr>
        <p:spPr>
          <a:xfrm>
            <a:off x="591840" y="1143000"/>
            <a:ext cx="721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ставьте в текст прилагатель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3"/>
          <p:cNvSpPr/>
          <p:nvPr/>
        </p:nvSpPr>
        <p:spPr>
          <a:xfrm>
            <a:off x="163440" y="1857240"/>
            <a:ext cx="8742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упила __________ весн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журчали __________ ручь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ички запели _________ песню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_______ жители радуются _______ теп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Прямоугольник 1"/>
          <p:cNvSpPr/>
          <p:nvPr/>
        </p:nvSpPr>
        <p:spPr>
          <a:xfrm>
            <a:off x="2286000" y="3105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Прямоугольник 2" descr=""/>
          <p:cNvPicPr/>
          <p:nvPr/>
        </p:nvPicPr>
        <p:blipFill>
          <a:blip r:embed="rId1"/>
          <a:stretch/>
        </p:blipFill>
        <p:spPr>
          <a:xfrm>
            <a:off x="433440" y="0"/>
            <a:ext cx="7905600" cy="151128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1"/>
          <p:cNvSpPr/>
          <p:nvPr/>
        </p:nvSpPr>
        <p:spPr>
          <a:xfrm>
            <a:off x="0" y="1871280"/>
            <a:ext cx="9144000" cy="28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…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строят не языком, а рублем да рублем.   (Город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му ехать и </a:t>
            </a:r>
            <a:r>
              <a:rPr b="1" lang="ru-RU" sz="3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…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долга.   (Дорога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…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- мать. Умей за нее постоять.   (Родина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…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человек добро помнит.   (Русский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C:\Documents and Settings\Admin\Мои документы\Мои рисунки\Анимашки и рисунки\Школа\19_1.jpg"/>
          <p:cNvPicPr/>
          <p:nvPr/>
        </p:nvPicPr>
        <p:blipFill>
          <a:blip r:embed="rId1"/>
          <a:stretch/>
        </p:blipFill>
        <p:spPr>
          <a:xfrm>
            <a:off x="500040" y="357120"/>
            <a:ext cx="8445600" cy="48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3"/>
          <p:cNvSpPr/>
          <p:nvPr/>
        </p:nvSpPr>
        <p:spPr>
          <a:xfrm>
            <a:off x="1285920" y="85716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357120" y="673560"/>
            <a:ext cx="8215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познавательных универсальных действий младших школьников осуществляются на уроках русского языка. Детям предлагаются разнообразные задания творческого характе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C:\Documents and Settings\Admin\Мои документы\Мои рисунки\Анимашки и рисунки\Школа\writingonbook.gif"/>
          <p:cNvPicPr/>
          <p:nvPr/>
        </p:nvPicPr>
        <p:blipFill>
          <a:blip r:embed="rId1"/>
          <a:stretch/>
        </p:blipFill>
        <p:spPr>
          <a:xfrm>
            <a:off x="6888240" y="4237200"/>
            <a:ext cx="2006640" cy="19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Прямоугольник 3" descr=""/>
          <p:cNvPicPr/>
          <p:nvPr/>
        </p:nvPicPr>
        <p:blipFill>
          <a:blip r:embed="rId1"/>
          <a:stretch/>
        </p:blipFill>
        <p:spPr>
          <a:xfrm>
            <a:off x="1116000" y="225360"/>
            <a:ext cx="6168960" cy="118908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4"/>
          <p:cNvSpPr/>
          <p:nvPr/>
        </p:nvSpPr>
        <p:spPr>
          <a:xfrm>
            <a:off x="857160" y="1302840"/>
            <a:ext cx="77155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Звонкий –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лухой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–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Предпоследняя буква в слове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«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вер</a:t>
            </a:r>
            <a:r>
              <a:rPr b="1" i="1" lang="ru-RU" sz="3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»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Последняя буква в слове «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Гласная буква с слове «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с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Первая буква в слове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«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чь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»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Последняя буква в слове «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о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Звонкий –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лухой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–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5"/>
          <p:cNvSpPr/>
          <p:nvPr/>
        </p:nvSpPr>
        <p:spPr>
          <a:xfrm>
            <a:off x="4143240" y="5572080"/>
            <a:ext cx="310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перен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C:\Documents and Settings\Admin\Мои документы\Мои рисунки\Анимашки и рисунки\Школа\ico13.gif"/>
          <p:cNvPicPr/>
          <p:nvPr/>
        </p:nvPicPr>
        <p:blipFill>
          <a:blip r:embed="rId2"/>
          <a:stretch/>
        </p:blipFill>
        <p:spPr>
          <a:xfrm>
            <a:off x="7643880" y="4929120"/>
            <a:ext cx="1111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Прямоугольник 3" descr=""/>
          <p:cNvPicPr/>
          <p:nvPr/>
        </p:nvPicPr>
        <p:blipFill>
          <a:blip r:embed="rId1"/>
          <a:stretch/>
        </p:blipFill>
        <p:spPr>
          <a:xfrm>
            <a:off x="633240" y="152280"/>
            <a:ext cx="7401240" cy="11890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4"/>
          <p:cNvSpPr/>
          <p:nvPr/>
        </p:nvSpPr>
        <p:spPr>
          <a:xfrm>
            <a:off x="571680" y="1797480"/>
            <a:ext cx="8286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ведь, лиса, зая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Дуремар, Мальвина,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ьер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Вычитаемое,уменьшаемое,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о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, береза,  дуб, ли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Олень,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, волк, бел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5"/>
          <p:cNvSpPr/>
          <p:nvPr/>
        </p:nvSpPr>
        <p:spPr>
          <a:xfrm>
            <a:off x="852120" y="1785960"/>
            <a:ext cx="174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Коро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6"/>
          <p:cNvSpPr/>
          <p:nvPr/>
        </p:nvSpPr>
        <p:spPr>
          <a:xfrm>
            <a:off x="4576680" y="2286000"/>
            <a:ext cx="170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йбол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7"/>
          <p:cNvSpPr/>
          <p:nvPr/>
        </p:nvSpPr>
        <p:spPr>
          <a:xfrm>
            <a:off x="7356960" y="2786040"/>
            <a:ext cx="126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8"/>
          <p:cNvSpPr/>
          <p:nvPr/>
        </p:nvSpPr>
        <p:spPr>
          <a:xfrm>
            <a:off x="1076040" y="3286080"/>
            <a:ext cx="81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9"/>
          <p:cNvSpPr/>
          <p:nvPr/>
        </p:nvSpPr>
        <p:spPr>
          <a:xfrm>
            <a:off x="2216880" y="3714840"/>
            <a:ext cx="145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ро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C:\Documents and Settings\Admin\Мои документы\Мои рисунки\Анимашки и рисунки\Школа\ico35.gif"/>
          <p:cNvPicPr/>
          <p:nvPr/>
        </p:nvPicPr>
        <p:blipFill>
          <a:blip r:embed="rId2"/>
          <a:stretch/>
        </p:blipFill>
        <p:spPr>
          <a:xfrm>
            <a:off x="7143840" y="4357800"/>
            <a:ext cx="1662120" cy="16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Прямоугольник 1" descr=""/>
          <p:cNvPicPr/>
          <p:nvPr/>
        </p:nvPicPr>
        <p:blipFill>
          <a:blip r:embed="rId1"/>
          <a:stretch/>
        </p:blipFill>
        <p:spPr>
          <a:xfrm>
            <a:off x="2103480" y="79200"/>
            <a:ext cx="3584520" cy="1189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"/>
          <p:cNvSpPr/>
          <p:nvPr/>
        </p:nvSpPr>
        <p:spPr>
          <a:xfrm>
            <a:off x="214200" y="2084040"/>
            <a:ext cx="8001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ША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                    ТА                ТОЛИЙ         ТЕ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Л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492480" y="3000240"/>
            <a:ext cx="126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у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4"/>
          <p:cNvSpPr/>
          <p:nvPr/>
        </p:nvSpPr>
        <p:spPr>
          <a:xfrm>
            <a:off x="2576520" y="3071880"/>
            <a:ext cx="165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та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4571640" y="3071880"/>
            <a:ext cx="201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натол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6935400" y="3143160"/>
            <a:ext cx="114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с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428760" y="4786200"/>
            <a:ext cx="181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ду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000600" y="485784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4581000" y="4857840"/>
            <a:ext cx="125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ем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C:\Documents and Settings\Admin\Мои документы\Мои рисунки\Анимашки и рисунки\Школа\image039.gif"/>
          <p:cNvPicPr/>
          <p:nvPr/>
        </p:nvPicPr>
        <p:blipFill>
          <a:blip r:embed="rId2"/>
          <a:stretch/>
        </p:blipFill>
        <p:spPr>
          <a:xfrm flipH="1">
            <a:off x="6643440" y="4000680"/>
            <a:ext cx="178596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Прямоугольник 1" descr=""/>
          <p:cNvPicPr/>
          <p:nvPr/>
        </p:nvPicPr>
        <p:blipFill>
          <a:blip r:embed="rId1"/>
          <a:stretch/>
        </p:blipFill>
        <p:spPr>
          <a:xfrm>
            <a:off x="1695600" y="152280"/>
            <a:ext cx="5010120" cy="1189080"/>
          </a:xfrm>
          <a:prstGeom prst="rect">
            <a:avLst/>
          </a:prstGeom>
          <a:ln w="0">
            <a:noFill/>
          </a:ln>
        </p:spPr>
      </p:pic>
      <p:sp>
        <p:nvSpPr>
          <p:cNvPr id="110" name="TextBox 2"/>
          <p:cNvSpPr/>
          <p:nvPr/>
        </p:nvSpPr>
        <p:spPr>
          <a:xfrm>
            <a:off x="501120" y="1571760"/>
            <a:ext cx="134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3"/>
          <p:cNvSpPr/>
          <p:nvPr/>
        </p:nvSpPr>
        <p:spPr>
          <a:xfrm>
            <a:off x="2076840" y="1571760"/>
            <a:ext cx="134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Р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4"/>
          <p:cNvSpPr/>
          <p:nvPr/>
        </p:nvSpPr>
        <p:spPr>
          <a:xfrm>
            <a:off x="577800" y="2571840"/>
            <a:ext cx="132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И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293040" y="3714840"/>
            <a:ext cx="22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ЬЕЛИЧ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6"/>
          <p:cNvSpPr/>
          <p:nvPr/>
        </p:nvSpPr>
        <p:spPr>
          <a:xfrm>
            <a:off x="4781880" y="1571760"/>
            <a:ext cx="19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С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4850640" y="257184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С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8"/>
          <p:cNvSpPr/>
          <p:nvPr/>
        </p:nvSpPr>
        <p:spPr>
          <a:xfrm>
            <a:off x="4853520" y="3643200"/>
            <a:ext cx="160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9"/>
          <p:cNvSpPr/>
          <p:nvPr/>
        </p:nvSpPr>
        <p:spPr>
          <a:xfrm>
            <a:off x="2292120" y="2643120"/>
            <a:ext cx="132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Е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0"/>
          <p:cNvSpPr/>
          <p:nvPr/>
        </p:nvSpPr>
        <p:spPr>
          <a:xfrm>
            <a:off x="2507760" y="3714840"/>
            <a:ext cx="22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Ч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1"/>
          <p:cNvSpPr/>
          <p:nvPr/>
        </p:nvSpPr>
        <p:spPr>
          <a:xfrm>
            <a:off x="6792480" y="1571760"/>
            <a:ext cx="19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БА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2"/>
          <p:cNvSpPr/>
          <p:nvPr/>
        </p:nvSpPr>
        <p:spPr>
          <a:xfrm>
            <a:off x="6785280" y="257184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3"/>
          <p:cNvSpPr/>
          <p:nvPr/>
        </p:nvSpPr>
        <p:spPr>
          <a:xfrm>
            <a:off x="6847920" y="3643200"/>
            <a:ext cx="160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О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" descr="C:\Documents and Settings\Admin\Мои документы\Мои рисунки\Анимашки и рисунки\Школа\21_1.jpg"/>
          <p:cNvPicPr/>
          <p:nvPr/>
        </p:nvPicPr>
        <p:blipFill>
          <a:blip r:embed="rId2"/>
          <a:stretch/>
        </p:blipFill>
        <p:spPr>
          <a:xfrm>
            <a:off x="4638600" y="4352760"/>
            <a:ext cx="193824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Прямоугольник 1" descr=""/>
          <p:cNvPicPr/>
          <p:nvPr/>
        </p:nvPicPr>
        <p:blipFill>
          <a:blip r:embed="rId1"/>
          <a:stretch/>
        </p:blipFill>
        <p:spPr>
          <a:xfrm>
            <a:off x="774720" y="152280"/>
            <a:ext cx="7242120" cy="118908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1"/>
          <p:cNvSpPr/>
          <p:nvPr/>
        </p:nvSpPr>
        <p:spPr>
          <a:xfrm>
            <a:off x="500040" y="1287360"/>
            <a:ext cx="728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 определению назови слов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1506960" y="1930320"/>
            <a:ext cx="53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пелое, красное, аромат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1510920" y="2930400"/>
            <a:ext cx="556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аленькая, пугливая, сер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1580760" y="3787560"/>
            <a:ext cx="519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хитрая, рыжая, пушист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C:\Documents and Settings\Admin\Мои документы\Мои рисунки\Анимашки и рисунки\Школа\funderar.jpg"/>
          <p:cNvPicPr/>
          <p:nvPr/>
        </p:nvPicPr>
        <p:blipFill>
          <a:blip r:embed="rId2"/>
          <a:stretch/>
        </p:blipFill>
        <p:spPr>
          <a:xfrm>
            <a:off x="6715080" y="4286160"/>
            <a:ext cx="2214720" cy="18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Прямоугольник 1" descr=""/>
          <p:cNvPicPr/>
          <p:nvPr/>
        </p:nvPicPr>
        <p:blipFill>
          <a:blip r:embed="rId1"/>
          <a:stretch/>
        </p:blipFill>
        <p:spPr>
          <a:xfrm>
            <a:off x="-12600" y="79200"/>
            <a:ext cx="9047160" cy="118908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1"/>
          <p:cNvSpPr/>
          <p:nvPr/>
        </p:nvSpPr>
        <p:spPr>
          <a:xfrm>
            <a:off x="2028240" y="1101960"/>
            <a:ext cx="48729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  2   3  4   5   6   7   8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 Б  К И  Л  О  П  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285920" y="4214880"/>
          <a:ext cx="7072200" cy="743040"/>
        </p:xfrm>
        <a:graphic>
          <a:graphicData uri="http://schemas.openxmlformats.org/drawingml/2006/table">
            <a:tbl>
              <a:tblPr/>
              <a:tblGrid>
                <a:gridCol w="2521080"/>
                <a:gridCol w="2112840"/>
                <a:gridCol w="2438280"/>
              </a:tblGrid>
              <a:tr h="743040">
                <a:tc>
                  <a:txBody>
                    <a:bodyPr lIns="66600" rIns="66600" tIns="66600" bIns="666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1842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18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213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Rectangle 2"/>
          <p:cNvSpPr/>
          <p:nvPr/>
        </p:nvSpPr>
        <p:spPr>
          <a:xfrm>
            <a:off x="732240" y="3359160"/>
            <a:ext cx="729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слова кроются под номерам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Прямоугольник 1" descr=""/>
          <p:cNvPicPr/>
          <p:nvPr/>
        </p:nvPicPr>
        <p:blipFill>
          <a:blip r:embed="rId1"/>
          <a:stretch/>
        </p:blipFill>
        <p:spPr>
          <a:xfrm>
            <a:off x="49320" y="-42840"/>
            <a:ext cx="8783640" cy="107316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1"/>
          <p:cNvSpPr/>
          <p:nvPr/>
        </p:nvSpPr>
        <p:spPr>
          <a:xfrm>
            <a:off x="362160" y="1221120"/>
            <a:ext cx="8348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Теплый вечер-              Смелый мальчик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ная девочка-             Радостная встреча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елое детство-           Строгий папа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510120" y="3719160"/>
            <a:ext cx="763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Лучше _____ правда, чем______ лож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мир лучше _______ вой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5T10:49:55Z</dcterms:created>
  <dc:creator>Valued Acer Customer</dc:creator>
  <dc:description/>
  <cp:keywords/>
  <dc:language>en-US</dc:language>
  <cp:lastModifiedBy>Valued Acer Customer</cp:lastModifiedBy>
  <dcterms:modified xsi:type="dcterms:W3CDTF">2012-04-05T21:15:00Z</dcterms:modified>
  <cp:revision>26</cp:revision>
  <dc:subject/>
  <dc:title>Формирование познавательных универсальных действий  в 1-ом классе на уроках русского языка используя задания творческого характер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9087009991</vt:lpwstr>
  </property>
</Properties>
</file>