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jpeg" ContentType="image/jpeg"/>
  <Override PartName="/ppt/media/image21.png" ContentType="image/png"/>
  <Override PartName="/ppt/media/image6.jpeg" ContentType="image/jpeg"/>
  <Override PartName="/ppt/media/image9.jpeg" ContentType="image/jpeg"/>
  <Override PartName="/ppt/media/image20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B83-8838-4435-9472-D8AE309C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E85-BB9F-49AF-8790-CEF2E9A6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D69-A54F-4DFD-92A3-D255DF95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244-E877-45D7-A5EA-6144FD58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D70-2D1F-4B4C-A812-C28E93A9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810-66FF-4BB9-ACDF-0DDF4F2E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517-D46D-4E74-AA4B-1219391C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30B-F404-40FC-A5A0-1A586568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B64E-4B8B-4487-BA92-ADC20A11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0BC-AD41-4CB0-BD93-460CA382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382-D35B-404B-BA8B-88313373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DA8-C2EC-4135-B709-6DB5B84D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6761-FCFB-4B07-A476-CDDE1DE1C6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877680" y="928800"/>
            <a:ext cx="45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УК – МОЙ Д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tnu.podelise.ru/pars_docs/refs/391/390066/390066_html_m25ee2400.png"/>
          <p:cNvPicPr/>
          <p:nvPr/>
        </p:nvPicPr>
        <p:blipFill>
          <a:blip r:embed="rId2"/>
          <a:stretch/>
        </p:blipFill>
        <p:spPr>
          <a:xfrm>
            <a:off x="1571760" y="1857240"/>
            <a:ext cx="41796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642960" y="2526480"/>
            <a:ext cx="5857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-порей отличается от двух предыдущих. Можно сказать, что на них он вообще не похож. Он уж больше напоминает чеснок, то есть верхнюю часть чеснока – стебель и листья. Но стебель лука-порея толще, чем стебель чеснока, да и на вкус они 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-порей используют как в салатах, так и в супах и вторых блюдах. Его также сушат и добавляют в качестве приправы к блюдам. В кулинарии используют светлые ложные стебли, а пока порей молодой, то и зеленые листья. Потом листья становятся жесткими и не вкусным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ук-порей по внешнему виду отличается от лука репчатого. Он не имеет луковицы как таковой, а оканчивается утолщенным стеблем, который и представляет пищевую ценность растения. Лук-порей имеет два вида: летний и зимний, отличающиеся стеблем (его утолщением). Зимний вид имеет толстый короткий стебель, летний — тонкий, вытянут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58" descr="http://img1.liveinternet.ru/images/attach/c/5/88/971/88971577_LUKaa0.jpg"/>
          <p:cNvPicPr/>
          <p:nvPr/>
        </p:nvPicPr>
        <p:blipFill>
          <a:blip r:embed="rId2"/>
          <a:stretch/>
        </p:blipFill>
        <p:spPr>
          <a:xfrm>
            <a:off x="1285920" y="357120"/>
            <a:ext cx="2643120" cy="19972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82" name="TextBox 4"/>
          <p:cNvSpPr/>
          <p:nvPr/>
        </p:nvSpPr>
        <p:spPr>
          <a:xfrm>
            <a:off x="6003360" y="8429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vniissok.ru/sites/default/files/images/2010_08_31/batun_russkiy_zimniy_2.preview.jpg"/>
          <p:cNvPicPr/>
          <p:nvPr/>
        </p:nvPicPr>
        <p:blipFill>
          <a:blip r:embed="rId2"/>
          <a:stretch/>
        </p:blipFill>
        <p:spPr>
          <a:xfrm>
            <a:off x="857160" y="1071720"/>
            <a:ext cx="4400640" cy="29289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85" name="Rectangle 3"/>
          <p:cNvSpPr/>
          <p:nvPr/>
        </p:nvSpPr>
        <p:spPr>
          <a:xfrm>
            <a:off x="1143000" y="2869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ук - ба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785880" y="4214880"/>
            <a:ext cx="5715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-батун — многолетнее пряно-ароматическое травянистое растение, относящееся к семейству луковых.Родиной его считают Китай и юг Восточной Сибири. Имеет другие названия: дудчатый, песчаный, татарка, зимний, китайский лук, непахучий чеснок. Лук-батун имеет несколько видов, наиболее распространен китайский, японский и русский. Лук-батун быстро разрастается из отдельно отсаженной луковицы, образуя кустик, подземная часть которого представляет из себя гнездо, состоящее из луковицы, а надземная — густую зеленую массу из п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6147000" y="84297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785880" y="5582520"/>
            <a:ext cx="5643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ь – этот то, за что ценится лук-батун.  Данный вид лука очень хорошо разрастается, хорошо ветвится, да и зеленые листья дает одним из первых среди других л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ун – зимостойкое многолетнее растение. На одном месте может расти до 5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стья батуна используют как для салатов, так и в супах и вторых блюдах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67" descr="http://pozernishku.ru/wp-content/uploads/2011/11/Onion_batun.jpg"/>
          <p:cNvPicPr/>
          <p:nvPr/>
        </p:nvPicPr>
        <p:blipFill>
          <a:blip r:embed="rId2"/>
          <a:stretch/>
        </p:blipFill>
        <p:spPr>
          <a:xfrm>
            <a:off x="928800" y="1143000"/>
            <a:ext cx="5118120" cy="38577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91" name="TextBox 4"/>
          <p:cNvSpPr/>
          <p:nvPr/>
        </p:nvSpPr>
        <p:spPr>
          <a:xfrm>
            <a:off x="6075360" y="8358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864360" y="35820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ук - шнит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117" descr="лук-шнитт"/>
          <p:cNvPicPr/>
          <p:nvPr/>
        </p:nvPicPr>
        <p:blipFill>
          <a:blip r:embed="rId2"/>
          <a:stretch/>
        </p:blipFill>
        <p:spPr>
          <a:xfrm>
            <a:off x="1000080" y="1071720"/>
            <a:ext cx="4214880" cy="396072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95" name="Прямоугольник 6"/>
          <p:cNvSpPr/>
          <p:nvPr/>
        </p:nvSpPr>
        <p:spPr>
          <a:xfrm>
            <a:off x="785880" y="5572080"/>
            <a:ext cx="5572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нитт-лук — многолетнее травянистое растение семейства луковых, широко распространенное по всему миру. Растет в диком виде в Азии и Европе, в России — повсеместно вплоть до Крайнего Севера в культурном или диком виде. Растение неприхотливое и холодостойкое, имеет другие названия: лук-резанец, сибирский лук, ск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932440" y="8358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714240" y="5004720"/>
            <a:ext cx="5572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нитт-лук часто выращивают на приусадебном участке, так как он растет красивым кустом, особенно в период цветения, когда выбрасывает шаровидные соцветия, состоящие из красно-фиолетовых, бледно-розовых или светло-фиолетовых цветочков. На вкус это тот же самый репчатый лук, только с очень нежным запах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шнитт очень похож на батун в том плане, что он также многолетний и также выращивается ради зел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34" descr="http://img1.liveinternet.ru/images/attach/c/1/51/340/51340910_luk_shniitt.jpg"/>
          <p:cNvPicPr/>
          <p:nvPr/>
        </p:nvPicPr>
        <p:blipFill>
          <a:blip r:embed="rId2"/>
          <a:stretch/>
        </p:blipFill>
        <p:spPr>
          <a:xfrm>
            <a:off x="1143000" y="1143000"/>
            <a:ext cx="4386240" cy="32860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00" name="TextBox 4"/>
          <p:cNvSpPr/>
          <p:nvPr/>
        </p:nvSpPr>
        <p:spPr>
          <a:xfrm>
            <a:off x="5789880" y="8358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www.rolv.no/images/medisinplanter/A/alli_cep_pro1.jpg"/>
          <p:cNvPicPr/>
          <p:nvPr/>
        </p:nvPicPr>
        <p:blipFill>
          <a:blip r:embed="rId2"/>
          <a:stretch/>
        </p:blipFill>
        <p:spPr>
          <a:xfrm>
            <a:off x="1643040" y="1285920"/>
            <a:ext cx="3357720" cy="46227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03" name="Rectangle 5"/>
          <p:cNvSpPr/>
          <p:nvPr/>
        </p:nvSpPr>
        <p:spPr>
          <a:xfrm>
            <a:off x="1214280" y="42984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ук многояру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1071720" y="6143760"/>
            <a:ext cx="521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многоярусный — пряно-ароматическое многолетнее травянистое растение семейства луковых. Произрастает во многих странах мира. Имеет другие названия: живородящий, рогатый, египетский, канадск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6147000" y="84297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s002.radikal.ru/i200/1003/75/438d47e91abb.jpg"/>
          <p:cNvPicPr/>
          <p:nvPr/>
        </p:nvPicPr>
        <p:blipFill>
          <a:blip r:embed="rId2"/>
          <a:stretch/>
        </p:blipFill>
        <p:spPr>
          <a:xfrm>
            <a:off x="928800" y="1214280"/>
            <a:ext cx="4481280" cy="32864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08" name="Прямоугольник 3"/>
          <p:cNvSpPr/>
          <p:nvPr/>
        </p:nvSpPr>
        <p:spPr>
          <a:xfrm>
            <a:off x="714240" y="5072040"/>
            <a:ext cx="578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ярусный лук напоминает по большинству показателей лук репчатый, но имеет свои особенности. Представляет собой пышный куст зелени, так как на второй-третий год растение сильно разрастается. Вместо цветков на нем в несколько ярусов образуются воздушные луковички. Растение засухоустойчивое и может переносить сильные морозы. По вкусовым качествам сходен с репчатым луком, немного острее его и содержит вдвое больше витам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932440" y="8358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642960" y="3592080"/>
            <a:ext cx="5857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лук среди других многолетних луков считается более витаминным, имеет лучшие фитонцидные свой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ин сезон может образовать до 4 ярусов воздушных луковиц. Луковички подчиняются принципу пирамиды, то есть чем выше ярус, тем меньшего размера луковички. Самые верхние из них размером с  зернышко. Самые маленькие луковички используют только для размножения. А вот луковицы с других ярусов применяют как для питания, так и для поса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лук очень оригинальный. Его маленькие луковички будут красиво смотреться в овощном ассорти. Можно использовать как зелень, так и луковички при приготовлении блю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18" descr="египетский лук или многоярусный"/>
          <p:cNvPicPr/>
          <p:nvPr/>
        </p:nvPicPr>
        <p:blipFill>
          <a:blip r:embed="rId2"/>
          <a:stretch/>
        </p:blipFill>
        <p:spPr>
          <a:xfrm>
            <a:off x="857160" y="500040"/>
            <a:ext cx="3857760" cy="2897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6075360" y="8572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642960" y="5011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ук - слиз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857160" y="6286680"/>
            <a:ext cx="557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- слизун — многолетнее пряно-ароматическое растение семейства крестоцветных. Это культурное растение растет повсеместно, даже в северных районах Нечерноземной зоны России. Имеет другое название: поникающий л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http://img-fotki.yandex.ru/get/3501/atachenka.1d/0_ebdd_98eea2c3_XL"/>
          <p:cNvPicPr/>
          <p:nvPr/>
        </p:nvPicPr>
        <p:blipFill>
          <a:blip r:embed="rId2"/>
          <a:stretch/>
        </p:blipFill>
        <p:spPr>
          <a:xfrm>
            <a:off x="1571760" y="1214280"/>
            <a:ext cx="3466800" cy="462312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18" name="TextBox 6"/>
          <p:cNvSpPr/>
          <p:nvPr/>
        </p:nvSpPr>
        <p:spPr>
          <a:xfrm>
            <a:off x="5861160" y="8358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i041.radikal.ru/1105/dc/555817efdd0a.jpg"/>
          <p:cNvPicPr/>
          <p:nvPr/>
        </p:nvPicPr>
        <p:blipFill>
          <a:blip r:embed="rId2"/>
          <a:stretch/>
        </p:blipFill>
        <p:spPr>
          <a:xfrm>
            <a:off x="1000080" y="857160"/>
            <a:ext cx="3905280" cy="29289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21" name="Прямоугольник 4"/>
          <p:cNvSpPr/>
          <p:nvPr/>
        </p:nvSpPr>
        <p:spPr>
          <a:xfrm>
            <a:off x="642960" y="4143240"/>
            <a:ext cx="5857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-слизун имеет плоские, толстые, гладкие с овальными конусами листья, имеющие слабо-зеленый цвет. От основного стебля отходят лучами толстые корни, на которых растут луковицы. Создается видимость одного большого куста. Лук-слизун не имеет других сортов, относится к лукам, выращиваемым из-за зелени, которая имеет слабоострый вкус и слабочесночный запах. Лук-слизун на втором-третьем году жизни цветет, выбрасывая стрелку-соцветие в виде зонтика со светло-сиреневыми или розовыми цветами. Цветы расправляются постепенно, созревание семян недружное. Часто лук-слизун на приусадебном участке служит его украш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6004080" y="8501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642960" y="785880"/>
            <a:ext cx="5715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№ 2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 рекомендуется использовать на уроках окружающего ми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чащихся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Устинова Т.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учащиеся 4Б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6288840" y="8501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785880" y="5512680"/>
            <a:ext cx="5786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вид лука относится к многолетним. Вы можете вырастить этот лук, как из семян, так и делением куста. У него плоские листья. Лук-слизун имеет много витаминов и минералов и в нем много солей железа. Благодаря железу его иногда называют еще и железист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-слизун можно использовать для приготовления салатов, а также приправ и марина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http://img3.proshkolu.ru/content/media/pic/std/2000000/1448000/1447613-9f755f6de0054bfd.jpg"/>
          <p:cNvPicPr/>
          <p:nvPr/>
        </p:nvPicPr>
        <p:blipFill>
          <a:blip r:embed="rId2"/>
          <a:stretch/>
        </p:blipFill>
        <p:spPr>
          <a:xfrm>
            <a:off x="1428840" y="571680"/>
            <a:ext cx="3429000" cy="45734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26" name="TextBox 6"/>
          <p:cNvSpPr/>
          <p:nvPr/>
        </p:nvSpPr>
        <p:spPr>
          <a:xfrm>
            <a:off x="6004080" y="8358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1214280" y="357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ЧЕБНЫЕ СВОЙСТВА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14240" y="4517280"/>
            <a:ext cx="5786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издавна считался хорошим средством при лечении многих болезней. В Древней Греции луку приписывали божественное происхождение. На праздниках, посвященных богу Пану, к его статуе возлагались венки из лука. Лук использовали для возбуждения аппетита и как «очищающее средство». Высоко ценили лук и в Древнем Египте — его изображения встречаются в пещерах и на стенах самых древних построек Римляне и греки приписывали луку способность пробуждать жизненную силу, храбрость, поэтому он в больших количествах вводился в питание во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img0.liveinternet.ru/images/attach/b/4/103/562/103562952_large_001.png"/>
          <p:cNvPicPr/>
          <p:nvPr/>
        </p:nvPicPr>
        <p:blipFill>
          <a:blip r:embed="rId2"/>
          <a:stretch/>
        </p:blipFill>
        <p:spPr>
          <a:xfrm>
            <a:off x="1285920" y="1285920"/>
            <a:ext cx="4127400" cy="32306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5718240" y="8501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1071720" y="3876120"/>
            <a:ext cx="5072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средневековья лук был одним из самых популярных лекарственных и пищевых продуктов одновременно. Его использовали даже как талисман, который охранял от сглаза, чар злых колдуний, ранения стрелой, мечом или копьем. Средневековые воины вешали на грудь под доспехи луковицу, говоря: «Лук, в твоих объятиях проходит всякая болез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globusgurme.ru/upload/iblock/d97/d97401567de3c306ebf51dcf4a98c30e.PNG"/>
          <p:cNvPicPr/>
          <p:nvPr/>
        </p:nvPicPr>
        <p:blipFill>
          <a:blip r:embed="rId2"/>
          <a:stretch/>
        </p:blipFill>
        <p:spPr>
          <a:xfrm>
            <a:off x="785880" y="-571680"/>
            <a:ext cx="5408640" cy="51436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5718240" y="84297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642960" y="4658400"/>
            <a:ext cx="5857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ревле во время эпидемий наши предки развешивали в комнатах связки луковиц. Таким образом в дом не проникала зараза, да и воздух в нем становился чище. Позже так поступали в военных госпиталях, чтобы у раненых не развилась газовая гангр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ным образом старались уберечь и скот: нанизывали на нитку побольше луковиц и чесночных головок и привязывали на шею коровам, лошадям и другим домашним животным, чтобы те не заразились «прилипчивыми»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19" descr="http://img1.liveinternet.ru/images/attach/c/1/57/988/57988123_1271694387_302.jpg"/>
          <p:cNvPicPr/>
          <p:nvPr/>
        </p:nvPicPr>
        <p:blipFill>
          <a:blip r:embed="rId2"/>
          <a:stretch/>
        </p:blipFill>
        <p:spPr>
          <a:xfrm>
            <a:off x="1357200" y="1214280"/>
            <a:ext cx="4173480" cy="29289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5575320" y="8358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642960" y="3735000"/>
            <a:ext cx="5857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 обладает бактерицидным, ранозаживляющим, противовоспалительным, противоцинготным, мочегонным, потогонным, отхаркивающим, кровоостанавливающим, противоопухолевым, легким послабляющим действием. Он тормозит процессы гниения и брожения в кишечнике, усиливает сердечную деятельность, используется в профилактике атеросклероза и злокачественных опухолей, улучшает деятельность желчного пузыря, способствует лучшей усвояемости организмом питательных веществ. Лук содержит много витаминов, в том числе витамины С, РР, Е, В1 В2, В3, В6, провитамин А, Кроме того, лук богат минеральными солями, эфирными маслами, сахарами, органическими кисло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" descr="http://s005.radikal.ru/i211/1007/18/a8e3ec01f8da.jpg"/>
          <p:cNvPicPr/>
          <p:nvPr/>
        </p:nvPicPr>
        <p:blipFill>
          <a:blip r:embed="rId2"/>
          <a:stretch/>
        </p:blipFill>
        <p:spPr>
          <a:xfrm>
            <a:off x="1285920" y="571680"/>
            <a:ext cx="3571920" cy="28638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6004080" y="84297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1071720" y="5366880"/>
            <a:ext cx="5143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помогает лук при легочных болезнях и заболеваниях верхних дыхательных путей. Поджаренный на сливочном масле лук смешивают с медом и употребляют при сильном кашле, сок лука с медом — при кашле, бронхите, коклюше, бронхиальной астме, охриплости гол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34" descr="http://stat18.privet.ru/lr/0a276b00ce883a49801102cacdf987d0"/>
          <p:cNvPicPr/>
          <p:nvPr/>
        </p:nvPicPr>
        <p:blipFill>
          <a:blip r:embed="rId2"/>
          <a:stretch/>
        </p:blipFill>
        <p:spPr>
          <a:xfrm>
            <a:off x="1285920" y="1857240"/>
            <a:ext cx="4300560" cy="28576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6147000" y="8501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928800" y="5793840"/>
            <a:ext cx="5357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нгине, гриппе и других простудных заболеваниях помогает также кашица из лука и яблок с добавлением меда: утром съедают столовую ложку смеси за завтраком, а перед сном этой же смесью с добавлением гусиного жира натирают грудь и переднюю часть ше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7" descr="http://stanmolod.ru/wp-content/uploads/2013/04/vrosshij-nogot-lechenie-narodnymi-sredstvami-5.jpg"/>
          <p:cNvPicPr/>
          <p:nvPr/>
        </p:nvPicPr>
        <p:blipFill>
          <a:blip r:embed="rId2"/>
          <a:stretch/>
        </p:blipFill>
        <p:spPr>
          <a:xfrm>
            <a:off x="1071720" y="1857240"/>
            <a:ext cx="5219640" cy="30718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51" name="TextBox 4"/>
          <p:cNvSpPr/>
          <p:nvPr/>
        </p:nvSpPr>
        <p:spPr>
          <a:xfrm>
            <a:off x="5932440" y="82868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714240" y="372240"/>
            <a:ext cx="4857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 лука с медом считается полезным средством при болезнях печени, желчного пузыря, физическом и нервном переутомлении. Печеные луковицы прикладывают к нарывам, ожогам, фурункулам, геморроидальным шишкам. Измельченный лук прикладывают к ушибам для снятия синяков и к ожогам для уменьшения воспалительного процесса и предупреждения образования пузы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000080" y="5785920"/>
            <a:ext cx="5429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овой кашицей или соком натирают зубы и десны, чтобы избавиться от пародонтоза, цинги, желтого налета и предупредить кариес. Кашицу используют и при зубной боли. Для этого измельченный лук заворачивают в кусочек марли и закладывают на 15 минут в ухо с противоположной стороны от больного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40" descr="http://solianka.net/wp-content/uploads/2012/03/pirozhki-s-gorohom-nateret-luk-1024x781.jpg"/>
          <p:cNvPicPr/>
          <p:nvPr/>
        </p:nvPicPr>
        <p:blipFill>
          <a:blip r:embed="rId2"/>
          <a:stretch/>
        </p:blipFill>
        <p:spPr>
          <a:xfrm>
            <a:off x="2428920" y="3857760"/>
            <a:ext cx="2500200" cy="190800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56" name="TextBox 5"/>
          <p:cNvSpPr/>
          <p:nvPr/>
        </p:nvSpPr>
        <p:spPr>
          <a:xfrm>
            <a:off x="5789880" y="84297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2"/>
          <p:cNvSpPr/>
          <p:nvPr/>
        </p:nvSpPr>
        <p:spPr>
          <a:xfrm>
            <a:off x="1941480" y="28584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3b"/>
                </a:solidFill>
                <a:latin typeface="Times New Roman"/>
                <a:ea typeface="Times New Roman"/>
              </a:rPr>
              <a:t>Стихи про 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"/>
          <p:cNvSpPr/>
          <p:nvPr/>
        </p:nvSpPr>
        <p:spPr>
          <a:xfrm>
            <a:off x="785880" y="857160"/>
            <a:ext cx="307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Громов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ртва я ужасных мук, 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вижу резать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плет он мне нос, глаз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цо уже в слеза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3571920" y="6572160"/>
            <a:ext cx="328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Ефремов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есть друг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– от семи недуг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- вкусный и полезны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о - золотистый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5"/>
          <p:cNvSpPr/>
          <p:nvPr/>
        </p:nvSpPr>
        <p:spPr>
          <a:xfrm>
            <a:off x="500040" y="421488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 Лена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стёт на огород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ольшой хитрец в природ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о одёжек он од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ишки на обе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отят его срыв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 слёзы проливать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143160" y="2857680"/>
            <a:ext cx="3429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Жуковская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, уж этот злющий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узнаешь столько мук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жет глаза и жжет язы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авит плакать в один миг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http://im9.gulfup.com/2011-09-17/1316246960311.gif"/>
          <p:cNvPicPr/>
          <p:nvPr/>
        </p:nvPicPr>
        <p:blipFill>
          <a:blip r:embed="rId2"/>
          <a:stretch/>
        </p:blipFill>
        <p:spPr>
          <a:xfrm>
            <a:off x="928800" y="2786040"/>
            <a:ext cx="1317600" cy="1357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zdoroviya.org.ru/images/stories/stati/zreen/luk2.png"/>
          <p:cNvPicPr/>
          <p:nvPr/>
        </p:nvPicPr>
        <p:blipFill>
          <a:blip r:embed="rId3"/>
          <a:stretch/>
        </p:blipFill>
        <p:spPr>
          <a:xfrm>
            <a:off x="1071720" y="7143840"/>
            <a:ext cx="1830240" cy="1482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kvetok.ru/sites/default/files/imagecache/prev/3324-4591-863-luk-300x278.png"/>
          <p:cNvPicPr/>
          <p:nvPr/>
        </p:nvPicPr>
        <p:blipFill>
          <a:blip r:embed="rId4"/>
          <a:stretch/>
        </p:blipFill>
        <p:spPr>
          <a:xfrm>
            <a:off x="4214880" y="5000760"/>
            <a:ext cx="1709640" cy="1581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http://cookguid.ru/wp-content/uploads/cookguid.ru/2008/03/luk.jpg"/>
          <p:cNvPicPr/>
          <p:nvPr/>
        </p:nvPicPr>
        <p:blipFill>
          <a:blip r:embed="rId5"/>
          <a:stretch/>
        </p:blipFill>
        <p:spPr>
          <a:xfrm>
            <a:off x="4000680" y="1285920"/>
            <a:ext cx="1941480" cy="14572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1"/>
          <p:cNvSpPr/>
          <p:nvPr/>
        </p:nvSpPr>
        <p:spPr>
          <a:xfrm>
            <a:off x="5861160" y="8501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1300320" y="430200"/>
            <a:ext cx="2437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5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гадки про 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1500120" y="1245600"/>
            <a:ext cx="4929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ист он и упру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полезен круглый…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Лу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иду он такой прост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й, крепкий, молод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нимешь кожур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иг оставишь ты игр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него заплачешь вдру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адались? Это …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Лу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http://img1.liveinternet.ru/images/attach/c/5/85/513/85513227_otakuonionblinklarge.gif"/>
          <p:cNvPicPr/>
          <p:nvPr/>
        </p:nvPicPr>
        <p:blipFill>
          <a:blip r:embed="rId2"/>
          <a:stretch/>
        </p:blipFill>
        <p:spPr>
          <a:xfrm>
            <a:off x="1285920" y="2000160"/>
            <a:ext cx="3786120" cy="3597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6"/>
          <p:cNvSpPr/>
          <p:nvPr/>
        </p:nvSpPr>
        <p:spPr>
          <a:xfrm>
            <a:off x="6075360" y="8572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368720" y="42876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ИДЫ Л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85880" y="928800"/>
            <a:ext cx="5286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— травянистое пряно-ароматическое растение, объединяющее целый род. Ботаники отличают около 400 видов луковичных растений, среди которых 228 видов являются овощными культурами, среди них есть как дикие, так и культур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642960" y="3214800"/>
            <a:ext cx="62150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известен человеку с древних времен. Родину его установить сложно. Большинство исследователей склонны считать ею Юго-Западную Азию. В разных климатических зонах предпочитают выращивать различные виды лука, такая традиция вырабатывалась долгие столетия. Лук и чеснок были известны у египтян за 3000 лет до н. э. Они ценили их как пряность и использовали как основной пищевой продукт. Геродот, древнегреческий историк, живший 2500 лет назад, отмечал, что на пирамиде Хеопса была надпись, сколько лука и чеснока истрачено в пищу рабочим. На гробнице Тутанхамона, относящейся к 1352 году до н. э., ученые археологи обнаружили изображение лука. Лук был доступен всем слоям общества, его ели сырым, добавляли в блюда. Очень рано стал окультуриваться человек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03360" y="8429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1300320" y="430200"/>
            <a:ext cx="2437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5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гадки про 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785880" y="1810800"/>
            <a:ext cx="4572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ноку любимый бра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икто не винова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его кто трон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иг слезу оброни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Л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т мыши полево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ылся в землю с голово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ху лишь тугие стрел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лнцу тянутся умел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от семи недуг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полезный спелый…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Л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6004080" y="8358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www.webklik.nl/user_files/2011_08/297477/uien14.gif"/>
          <p:cNvPicPr/>
          <p:nvPr/>
        </p:nvPicPr>
        <p:blipFill>
          <a:blip r:embed="rId2"/>
          <a:stretch/>
        </p:blipFill>
        <p:spPr>
          <a:xfrm>
            <a:off x="2571840" y="2643120"/>
            <a:ext cx="33415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2"/>
          <p:cNvSpPr/>
          <p:nvPr/>
        </p:nvSpPr>
        <p:spPr>
          <a:xfrm>
            <a:off x="785880" y="357120"/>
            <a:ext cx="5643360" cy="80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3b"/>
                </a:solidFill>
                <a:latin typeface="Times New Roman"/>
                <a:ea typeface="Times New Roman"/>
              </a:rPr>
              <a:t>Загадки про 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ит баба на грядках, вся в заплатках; кто ни взглянет — тот заплачет. (Луков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без боли и печали приводит в слезы? (Л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ит ожуха, за семью кожухам; кто кожух тронет — сам заплачет. (Луков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Тихон на грядках - весь халат в заплатках. (Л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поп низок, на нем сто ризок; ризки снимешь — сам заплачешь. (Л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ит барыня на грядке, вся в заплатках, кто ни взглянет, всяк заплачет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уков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чудо в семи шубах, кто его тронет - сам заплачет. (Л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елен и густ на грядке вырос куст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ук зелё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 шуб имеет, ни одна не греет. (Л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6147000" y="84297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1227960" y="35820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3b"/>
                </a:solidFill>
                <a:latin typeface="Times New Roman"/>
                <a:ea typeface="Times New Roman"/>
              </a:rPr>
              <a:t>Пословицы про 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714240" y="3876480"/>
            <a:ext cx="5643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добр и к бою и во щ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, что царь, стрелы, что посланни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семь недугов ле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ест лук, того бог избавит вечных м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испечь луковицу прежде, чем лук собран с огорода, то весь лук высох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от семи нед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2525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Лук с чесноком — родные брат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2525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Лук да баня всё прав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2525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Лук семь недугов лечит, а чеснок семь недугов изво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2525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Хрен да редька, лук да капуста лихого не допуст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2525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Лук — добро и в бою и во щ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http://www.clker.com/cliparts/e/7/8/c/12387039841453763416boobaloo_Onion.svg.hi.png"/>
          <p:cNvPicPr/>
          <p:nvPr/>
        </p:nvPicPr>
        <p:blipFill>
          <a:blip r:embed="rId2"/>
          <a:stretch/>
        </p:blipFill>
        <p:spPr>
          <a:xfrm>
            <a:off x="2000160" y="785880"/>
            <a:ext cx="1660680" cy="30002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5"/>
          <p:cNvSpPr/>
          <p:nvPr/>
        </p:nvSpPr>
        <p:spPr>
          <a:xfrm>
            <a:off x="6075360" y="8501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1semena.ru/published/publicdata/SHOPDB/attachments/SC/products_pictures/Luk_globo_enl.jpg"/>
          <p:cNvPicPr/>
          <p:nvPr/>
        </p:nvPicPr>
        <p:blipFill>
          <a:blip r:embed="rId2"/>
          <a:stretch/>
        </p:blipFill>
        <p:spPr>
          <a:xfrm>
            <a:off x="1357200" y="1500120"/>
            <a:ext cx="3714840" cy="37148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54" name="Rectangle 3"/>
          <p:cNvSpPr/>
          <p:nvPr/>
        </p:nvSpPr>
        <p:spPr>
          <a:xfrm>
            <a:off x="1357200" y="429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ук репча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785880" y="5650200"/>
            <a:ext cx="5643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репчатый — пряное культурное растение, относящееся к семейству лилейных. Самая распространенная пряность, употребляемая многими народами ежедневно. Родиной репчатого лука считают Юго-Западную Аз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003360" y="8429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1000080" y="5936040"/>
            <a:ext cx="550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репчатых луков есть сорта с различными вкусами. Среди них есть сладкие, слабо-острые, полуострые и острые сорта. Именно это разнообразие позволяет использовать его в разнообразнейших блюд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slova.by/wp-content/uploads/2012/02/152.jpg"/>
          <p:cNvPicPr/>
          <p:nvPr/>
        </p:nvPicPr>
        <p:blipFill>
          <a:blip r:embed="rId2"/>
          <a:stretch/>
        </p:blipFill>
        <p:spPr>
          <a:xfrm>
            <a:off x="928800" y="1714680"/>
            <a:ext cx="4836960" cy="364320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60" name="TextBox 7"/>
          <p:cNvSpPr/>
          <p:nvPr/>
        </p:nvSpPr>
        <p:spPr>
          <a:xfrm>
            <a:off x="6003360" y="8286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642960" y="5511240"/>
            <a:ext cx="5929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репчатый выращивается как двулетнее или трехлетнее растение. Это зависит от климатических условий. Название репчатого лука происходит от внешнего сходства подземной части его с репой. Используют надземную и подземную ча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личных стадиях ро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пчатого лука. В зависимости от вкуса выращивают различные его с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11" descr="виды лука для огорода"/>
          <p:cNvPicPr/>
          <p:nvPr/>
        </p:nvPicPr>
        <p:blipFill>
          <a:blip r:embed="rId2"/>
          <a:stretch/>
        </p:blipFill>
        <p:spPr>
          <a:xfrm>
            <a:off x="1143000" y="1143000"/>
            <a:ext cx="3786120" cy="38768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64" name="TextBox 6"/>
          <p:cNvSpPr/>
          <p:nvPr/>
        </p:nvSpPr>
        <p:spPr>
          <a:xfrm>
            <a:off x="6074640" y="8358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igreen.ucoz.ru/shop_inet/Allium_Shalot.jpg"/>
          <p:cNvPicPr/>
          <p:nvPr/>
        </p:nvPicPr>
        <p:blipFill>
          <a:blip r:embed="rId2"/>
          <a:stretch/>
        </p:blipFill>
        <p:spPr>
          <a:xfrm>
            <a:off x="1500120" y="1428840"/>
            <a:ext cx="3724200" cy="37148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67" name="Rectangle 3"/>
          <p:cNvSpPr/>
          <p:nvPr/>
        </p:nvSpPr>
        <p:spPr>
          <a:xfrm>
            <a:off x="1071720" y="5011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ук ша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928800" y="5286240"/>
            <a:ext cx="5572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-шалот — двулетнее травянистое растение, относящееся к семейству луковых. Родиной считают Малую Азию, где он встречается в диком виде. Выращивается как культурное растение в странах Азии, Америке, странах Закавказья. Имеет другие названия: сорокозубка, кущёвка, шарлотка, многодольны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6145920" y="8358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857160" y="3947760"/>
            <a:ext cx="5643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хорош для выращивания зелени. Уже в первый год при посеве семян образуются такие себе гнездышки из 4-5 луковиц. Ну, а каждая луковичка сопровождается зеленными перьями. Да и перьями не простыми, а более нежными и более сладкими, чем у репчатого л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соберете луковички и посадите их на следующий год, то вырастут вам уже от 20 до 30 луковичек. Весь секрет в том, что лук шалот склонен к ветвистости. Именно это свойство позволяет ему образовать хороший куст зелени и целый ряд луковичек вместо одной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леные листья и луковицы имеют нежный острый вкус и аром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13" descr="шалот"/>
          <p:cNvPicPr/>
          <p:nvPr/>
        </p:nvPicPr>
        <p:blipFill>
          <a:blip r:embed="rId2"/>
          <a:stretch/>
        </p:blipFill>
        <p:spPr>
          <a:xfrm>
            <a:off x="1285920" y="642960"/>
            <a:ext cx="3429000" cy="30002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73" name="TextBox 4"/>
          <p:cNvSpPr/>
          <p:nvPr/>
        </p:nvSpPr>
        <p:spPr>
          <a:xfrm>
            <a:off x="6074640" y="8501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babypodarok.ru/p/posts/origin/3263.jpg"/>
          <p:cNvPicPr/>
          <p:nvPr/>
        </p:nvPicPr>
        <p:blipFill>
          <a:blip r:embed="rId2"/>
          <a:stretch/>
        </p:blipFill>
        <p:spPr>
          <a:xfrm>
            <a:off x="1357200" y="1143000"/>
            <a:ext cx="3357720" cy="33242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76" name="Rectangle 3"/>
          <p:cNvSpPr/>
          <p:nvPr/>
        </p:nvSpPr>
        <p:spPr>
          <a:xfrm>
            <a:off x="857160" y="2869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3b"/>
                </a:solidFill>
                <a:latin typeface="Times New Roman"/>
                <a:ea typeface="Times New Roman"/>
              </a:rPr>
              <a:t>Лук - по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714240" y="4714920"/>
            <a:ext cx="5715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-порей — овощное двулетнее пряно-ароматическое растение, известное и употребляемое древними египтянами, греками и римлянами. Родиной считают Восточное Средиземноморье. Особенно любим был лук-порей римлянами. Знаменитый Нерон употреблял этот лук с маслом, считая, что он дает особую силу и звучание его голосу. Древнеримский поэт Марк Валерий Марционе, живший еще до нашей эры, посвятил луку-порею свои эпиграммы, в которых восхвалял его лечебные сво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6003360" y="8501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6T07:28:56Z</dcterms:created>
  <dc:creator>Устинова</dc:creator>
  <dc:description/>
  <dc:language>en-US</dc:language>
  <cp:lastModifiedBy>Устинова</cp:lastModifiedBy>
  <dcterms:modified xsi:type="dcterms:W3CDTF">2015-04-14T00:35:15Z</dcterms:modified>
  <cp:revision>2</cp:revision>
  <dc:subject/>
  <dc:title>Слайд 1</dc:title>
</cp:coreProperties>
</file>