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3AB-41F0-4695-A17A-9915B8F2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1F0-674F-495C-838E-64D7EDAD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FC7-0BED-4133-8AFA-AEA0D3F6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8A4-91EA-4715-8712-11A28E68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847-5C44-4E84-9417-B8C8A34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615-541A-4C8A-8929-F577D4DD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277-59C1-4CDC-8DFD-F836E6A9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E7F-2542-4D32-AE02-6CDE340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128-3003-411B-92F1-6A02FA8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22B-D834-4BC5-9396-E4130B8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AFE-8D43-438B-8829-9E22C9E9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19D-3CD0-46B6-A026-EDA8C90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7116-F897-4CB8-BD67-B3F44A22F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7200" y="1828800"/>
            <a:ext cx="76320" cy="4572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01040" y="532080"/>
            <a:ext cx="67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17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Пет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GP3347"/>
          <p:cNvPicPr/>
          <p:nvPr/>
        </p:nvPicPr>
        <p:blipFill>
          <a:blip r:embed="rId1"/>
          <a:stretch/>
        </p:blipFill>
        <p:spPr>
          <a:xfrm>
            <a:off x="228600" y="380880"/>
            <a:ext cx="1981080" cy="148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44" name="Rectangle 8"/>
          <p:cNvSpPr/>
          <p:nvPr/>
        </p:nvSpPr>
        <p:spPr>
          <a:xfrm>
            <a:off x="2340720" y="2544840"/>
            <a:ext cx="47070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ение педагогическ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я физ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 Нины Михайл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ж работы – 3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577320" y="61437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Петушки, 201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2209680" y="609480"/>
            <a:ext cx="6705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7"/>
          <p:cNvSpPr/>
          <p:nvPr/>
        </p:nvSpPr>
        <p:spPr>
          <a:xfrm>
            <a:off x="2209680" y="1600200"/>
            <a:ext cx="6705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астие школьников в научной конференции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P2159"/>
          <p:cNvPicPr/>
          <p:nvPr/>
        </p:nvPicPr>
        <p:blipFill>
          <a:blip r:embed="rId1"/>
          <a:stretch/>
        </p:blipFill>
        <p:spPr>
          <a:xfrm>
            <a:off x="304920" y="1676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580920" y="1904040"/>
            <a:ext cx="545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следование конструкций выс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шен как выдающихся творений строи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ки 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ранчиков Алексей, 7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е место в Петушинском рай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P3379-1"/>
          <p:cNvPicPr/>
          <p:nvPr/>
        </p:nvPicPr>
        <p:blipFill>
          <a:blip r:embed="rId2"/>
          <a:stretch/>
        </p:blipFill>
        <p:spPr>
          <a:xfrm>
            <a:off x="5410080" y="38862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457200" y="4572000"/>
            <a:ext cx="477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следование явления поверхно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яжения на примере капли вод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ентьева Ольга и Голубева Екате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H="1">
            <a:off x="3657600" y="36576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4267080" y="57913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sprep"/>
          <p:cNvPicPr/>
          <p:nvPr/>
        </p:nvPicPr>
        <p:blipFill>
          <a:blip r:embed="rId1"/>
          <a:stretch/>
        </p:blipFill>
        <p:spPr>
          <a:xfrm>
            <a:off x="6858000" y="2743200"/>
            <a:ext cx="2092320" cy="1919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х т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29200" y="1525680"/>
            <a:ext cx="777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движения жидкости по трубам. Изучение закона Бернулл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олубева Екатерина и Лаврентьева Ольга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эха. Использование эха для познания простран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ерасимов Александр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истории создания электрической лам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аврентьева Ольга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снежных кристал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яткина Анастасия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явления превращения одного вида энергии в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 самодельном приборе)» (Ильин Андрей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теплопроводности для различных веще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зерова Дарья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Практическая работа по изучению оптической системы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следование зрения учеников» (Богомолова Наталья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конструкций высотных башен как выдающихся тво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ной техники века» (Баранчиков Алексей, 6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Влияние электромагнитного излучения на жизнедеятельность раст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аранин Иван, 8 клас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73080" y="1882800"/>
            <a:ext cx="713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звитие познавательного интереса к физике у школьников через систему заданий 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&amp;t=1&amp;usg=__JFwsRsL_Vx9WkpuYMJFMchmEQ1o="/>
          <p:cNvPicPr/>
          <p:nvPr/>
        </p:nvPicPr>
        <p:blipFill>
          <a:blip r:embed="rId1"/>
          <a:stretch/>
        </p:blipFill>
        <p:spPr>
          <a:xfrm>
            <a:off x="327672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познавательного интереса к физике у школьников через систему заданий исследовательского харак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учение психолого-педагогической литературы по данной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опытом педагогов-новаторов, работающих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кскурсия со школьниками в дом-музей братьев Столетовых во Владимире с целью формирования и развития познавательного интереса к физ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дение семинара по теме «Физики Владимирского края», внеклассного кружка, проведение тематической недели физики с целью формирования и развития познавательного интереса к физ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возможных заданий исследовательских работ для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системы советов начинающему исследовате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участников научно-практической конференции «Шаг в будущее» в Петушинском рай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знавательный интер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м общем определении можно назвать избирательной деятельностью человека на познание предметов, явлений, событий окружающего мира, активизирующей психические процессы, деятельность  человека, его познавательные возможности»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уки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И. Педагогические проблемы формирования познавательных интересов учащихся.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.: Педагогика, 1988.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1 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терес к учебному предмет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ность личности на процесс овладения знаниями, избирательно обращенная к определенному учебному предмету. Интерес к учебному предмету - разновидность, частный случай познавательного интер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baby"/>
          <p:cNvPicPr/>
          <p:nvPr/>
        </p:nvPicPr>
        <p:blipFill>
          <a:blip r:embed="rId1"/>
          <a:stretch/>
        </p:blipFill>
        <p:spPr>
          <a:xfrm>
            <a:off x="609480" y="152280"/>
            <a:ext cx="12956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ходимость активизации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762120" y="1981080"/>
            <a:ext cx="7467480" cy="1828800"/>
            <a:chOff x="762120" y="1981080"/>
            <a:chExt cx="7467480" cy="1828800"/>
          </a:xfrm>
        </p:grpSpPr>
        <p:sp>
          <p:nvSpPr>
            <p:cNvPr id="57" name="Rectangle 4"/>
            <p:cNvSpPr/>
            <p:nvPr/>
          </p:nvSpPr>
          <p:spPr>
            <a:xfrm>
              <a:off x="762120" y="1981080"/>
              <a:ext cx="3047760" cy="18288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е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учебно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едмет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5181480" y="1981080"/>
              <a:ext cx="3048120" cy="18288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еленаправле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эффектив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сво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вой информ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7"/>
            <p:cNvSpPr/>
            <p:nvPr/>
          </p:nvSpPr>
          <p:spPr>
            <a:xfrm>
              <a:off x="3809880" y="28195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207720" y="4115160"/>
            <a:ext cx="89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олага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ивную познавательную пози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анную с периодическим и продолжитель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м поиск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убоко осмысленной и творчес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работкой информации науч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й мыслительных проце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особом реж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тико-прогностического свой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утем «проб и ошибо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ар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ми и личностны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рытия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76320" y="15084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ельские умения, приобрет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в ходе исследовательск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990720"/>
          <a:ext cx="8458200" cy="5790960"/>
        </p:xfrm>
        <a:graphic>
          <a:graphicData uri="http://schemas.openxmlformats.org/drawingml/2006/table">
            <a:tbl>
              <a:tblPr/>
              <a:tblGrid>
                <a:gridCol w="1904760"/>
                <a:gridCol w="655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ый перечень исследовательских умений и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тературы по теме исследования; анализ науч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графирование литературы по теме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рование литературы по изучаемому вопрос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цитировать. Ссылаться на авторов изученных литератур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ехнических средств для переработки информ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и исследования, разработка критериев их дости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формулирование гипотезы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набор конкретных методов и средств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ирование положительных и возможных отрицательных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хода исследования (сроков, этапов, содержа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птимального варианта структуры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ьного оснащения эксперимента (приборов, инструмент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промежуточных и конечных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полученных результатов с запланированны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результатов с результатами подобных исследов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результатов, исправление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актической эффективности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и защита результатов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ие вывод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отчета о проделанной раб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графических, наглядных средств при оформлении отч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доклада, реферата, написание статьи, тези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еред аудиторией (возражения оппонентов, аргументация собственной позиц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ыполнен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и активизации исследовательской активности школь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экскурс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инар «Физ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ладимирского края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круж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олимпиада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нучно-практической               конфере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GP3356"/>
          <p:cNvPicPr/>
          <p:nvPr/>
        </p:nvPicPr>
        <p:blipFill>
          <a:blip r:embed="rId1"/>
          <a:stretch/>
        </p:blipFill>
        <p:spPr>
          <a:xfrm>
            <a:off x="5257800" y="2038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уровня развития познавательной а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032440" y="1750320"/>
            <a:ext cx="27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высок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средн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низк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533520" y="1290600"/>
            <a:ext cx="3790800" cy="2676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533520" y="4049640"/>
            <a:ext cx="3800520" cy="264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4527720" y="4092480"/>
            <a:ext cx="3743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 экзамен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физике в форме презент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в 8 клас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562040" y="2209680"/>
            <a:ext cx="6019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Род</cp:lastModifiedBy>
  <dcterms:modified xsi:type="dcterms:W3CDTF">2015-04-07T18:46:18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