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B327-5ED1-4A46-9C0A-9F4A3A347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BFBD-7534-454C-B0ED-DC403FF2A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ACCE-DC64-4228-8D9A-120E2FB25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1E7B-C973-4A36-8DB8-F062C1F3C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9331-5953-4A51-909B-69689284A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E8E5-0C96-46F4-98F7-7783F42DD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9ACA-C768-4862-88F7-41337838F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877D-7EE9-426F-9738-A8D759683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330B-6615-4D5B-BFD8-6B861CF54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5B30-D76D-411D-8141-5BDAF444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FE41-F2C4-4D49-BE3D-102E95CE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82E3-BD97-432C-8196-DE03CAFB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3F88C-5EFA-471C-BA38-23CB1B4CC5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5"/>
          <p:cNvSpPr/>
          <p:nvPr/>
        </p:nvSpPr>
        <p:spPr>
          <a:xfrm>
            <a:off x="457200" y="1828800"/>
            <a:ext cx="76320" cy="45720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2201040" y="532080"/>
            <a:ext cx="6799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униципальное бюджет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щеобразовательное учрежд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Средняя общеобразовательная школа №17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. Петуш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IMGP3347"/>
          <p:cNvPicPr/>
          <p:nvPr/>
        </p:nvPicPr>
        <p:blipFill>
          <a:blip r:embed="rId1"/>
          <a:stretch/>
        </p:blipFill>
        <p:spPr>
          <a:xfrm>
            <a:off x="228600" y="380880"/>
            <a:ext cx="1981080" cy="148140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sp>
        <p:nvSpPr>
          <p:cNvPr id="44" name="Rectangle 8"/>
          <p:cNvSpPr/>
          <p:nvPr/>
        </p:nvSpPr>
        <p:spPr>
          <a:xfrm>
            <a:off x="2340720" y="2544840"/>
            <a:ext cx="4707000" cy="27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общение педагогического опы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ителя физ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сшей квалификационной катег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од Нины Михайлов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стаж работы – 36 л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1"/>
          <p:cNvSpPr/>
          <p:nvPr/>
        </p:nvSpPr>
        <p:spPr>
          <a:xfrm>
            <a:off x="3577320" y="6143760"/>
            <a:ext cx="208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. Петушки, 2015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6"/>
          <p:cNvSpPr/>
          <p:nvPr/>
        </p:nvSpPr>
        <p:spPr>
          <a:xfrm>
            <a:off x="2209680" y="609480"/>
            <a:ext cx="670572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7"/>
          <p:cNvSpPr/>
          <p:nvPr/>
        </p:nvSpPr>
        <p:spPr>
          <a:xfrm>
            <a:off x="2209680" y="1600200"/>
            <a:ext cx="670572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7772400" cy="147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частие школьников в научной конференции «Шаг в будуще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IMGP2159"/>
          <p:cNvPicPr/>
          <p:nvPr/>
        </p:nvPicPr>
        <p:blipFill>
          <a:blip r:embed="rId1"/>
          <a:stretch/>
        </p:blipFill>
        <p:spPr>
          <a:xfrm>
            <a:off x="304920" y="1676520"/>
            <a:ext cx="3200400" cy="24001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3580920" y="1904040"/>
            <a:ext cx="54507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Исследование конструкций высот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ашен как выдающихся творений строитель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хники века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аранчиков Алексей, 7 клас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-е место в Петушинском райо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IMGP3379-1"/>
          <p:cNvPicPr/>
          <p:nvPr/>
        </p:nvPicPr>
        <p:blipFill>
          <a:blip r:embed="rId2"/>
          <a:stretch/>
        </p:blipFill>
        <p:spPr>
          <a:xfrm>
            <a:off x="5410080" y="3886200"/>
            <a:ext cx="3353040" cy="25146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8"/>
          <p:cNvSpPr/>
          <p:nvPr/>
        </p:nvSpPr>
        <p:spPr>
          <a:xfrm>
            <a:off x="457200" y="4572000"/>
            <a:ext cx="477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Исследование явления поверхност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тяжения на примере капли воды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аврентьева Ольга и Голубева Екатери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7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0"/>
          <p:cNvSpPr/>
          <p:nvPr/>
        </p:nvSpPr>
        <p:spPr>
          <a:xfrm flipH="1">
            <a:off x="3657600" y="365760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1"/>
          <p:cNvSpPr/>
          <p:nvPr/>
        </p:nvSpPr>
        <p:spPr>
          <a:xfrm>
            <a:off x="4267080" y="579132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0" descr="asprep"/>
          <p:cNvPicPr/>
          <p:nvPr/>
        </p:nvPicPr>
        <p:blipFill>
          <a:blip r:embed="rId1"/>
          <a:stretch/>
        </p:blipFill>
        <p:spPr>
          <a:xfrm>
            <a:off x="6858000" y="2743200"/>
            <a:ext cx="2092320" cy="19191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меры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сследовательских тем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529200" y="1525680"/>
            <a:ext cx="7773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«Исследование движения жидкости по трубам. Изучение закона Бернулли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Голубева Екатерина и Лаврентьева Ольга, 8 класс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«Исследование эха. Использование эха для познания пространств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Герасимов Александр, 8 класс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«Изучение истории создания электрической ламп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Лаврентьева Ольга, 7 класс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«Изучение снежных кристалл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Прияткина Анастасия, 7 класс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«Исследование явления превращения одного вида энергии в друг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на самодельном приборе)» (Ильин Андрей, 7 класс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«Изучение теплопроводности для различных вещест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Озерова Дарья, 8 класс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«Практическая работа по изучению оптической системы гл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сследование зрения учеников» (Богомолова Наталья, 7 класс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«Исследование конструкций высотных башен как выдающихся твор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роительной техники века» (Баранчиков Алексей, 6 класс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Влияние электромагнитного излучения на жизнедеятельность растени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Гаранин Иван, 8 класс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5"/>
          <p:cNvSpPr/>
          <p:nvPr/>
        </p:nvSpPr>
        <p:spPr>
          <a:xfrm>
            <a:off x="973080" y="1882800"/>
            <a:ext cx="713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Благодарю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ма работ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Развитие познавательного интереса к физике у школьников через систему заданий исследовательского характ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&amp;t=1&amp;usg=__JFwsRsL_Vx9WkpuYMJFMchmEQ1o="/>
          <p:cNvPicPr/>
          <p:nvPr/>
        </p:nvPicPr>
        <p:blipFill>
          <a:blip r:embed="rId1"/>
          <a:stretch/>
        </p:blipFill>
        <p:spPr>
          <a:xfrm>
            <a:off x="3276720" y="411480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880" y="456840"/>
            <a:ext cx="838224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Цель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здание условий для развития познавательного интереса к физике у школьников через систему заданий исследовательского характе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зучение психолого-педагогической литературы по данной тем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знакомление с опытом педагогов-новаторов, работающих по данному вопросу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экскурсия со школьниками в дом-музей братьев Столетовых во Владимире с целью формирования и развития познавательного интереса к физик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оведение семинара по теме «Физики Владимирского края», внеклассного кружка, проведение тематической недели физики с целью формирования и развития познавательного интереса к физик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азработка возможных заданий исследовательских работ для ученико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азработка системы советов начинающему исследователю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дготовка участников научно-практической конференции «Шаг в будущее» в Петушинском район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сновные понят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знавательный интерес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мом общем определении можно назвать избирательной деятельностью человека на познание предметов, явлений, событий окружающего мира, активизирующей психические процессы, деятельность  человека, его познавательные возможности» 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Щукина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.И. Педагогические проблемы формирования познавательных интересов учащихся. 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М.: Педагогика, 1988.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21 с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Интерес к учебному предмету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правленность личности на процесс овладения знаниями, избирательно обращенная к определенному учебному предмету. Интерес к учебному предмету - разновидность, частный случай познавательного интере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baby"/>
          <p:cNvPicPr/>
          <p:nvPr/>
        </p:nvPicPr>
        <p:blipFill>
          <a:blip r:embed="rId1"/>
          <a:stretch/>
        </p:blipFill>
        <p:spPr>
          <a:xfrm>
            <a:off x="609480" y="152280"/>
            <a:ext cx="129564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обходимость активизации познавательного интере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9"/>
          <p:cNvGrpSpPr/>
          <p:nvPr/>
        </p:nvGrpSpPr>
        <p:grpSpPr>
          <a:xfrm>
            <a:off x="762120" y="1981080"/>
            <a:ext cx="7467480" cy="1828800"/>
            <a:chOff x="762120" y="1981080"/>
            <a:chExt cx="7467480" cy="1828800"/>
          </a:xfrm>
        </p:grpSpPr>
        <p:sp>
          <p:nvSpPr>
            <p:cNvPr id="57" name="Rectangle 4"/>
            <p:cNvSpPr/>
            <p:nvPr/>
          </p:nvSpPr>
          <p:spPr>
            <a:xfrm>
              <a:off x="762120" y="1981080"/>
              <a:ext cx="3047760" cy="18288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нтерес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 учебному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едмет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5181480" y="1981080"/>
              <a:ext cx="3048120" cy="18288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Целенаправленно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 эффективно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усво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овой информаци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7"/>
            <p:cNvSpPr/>
            <p:nvPr/>
          </p:nvSpPr>
          <p:spPr>
            <a:xfrm>
              <a:off x="3809880" y="2819520"/>
              <a:ext cx="1371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Rectangle 10"/>
          <p:cNvSpPr/>
          <p:nvPr/>
        </p:nvSpPr>
        <p:spPr>
          <a:xfrm>
            <a:off x="207720" y="4115160"/>
            <a:ext cx="8934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сследовательская деятельность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едполагает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ктивную познавательную позицию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вязанную с периодическим и продолжительным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нутренним поиско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лубоко осмысленной и творческой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ереработкой информации научного характер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ботой мыслительных процессо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 особом режим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налитико-прогностического свойст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ействие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утем «проб и ошибок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зарение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ичными и личностными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ткрытиям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76320" y="150840"/>
            <a:ext cx="899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сследовательские умения, приобретаем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бучающимися в ходе исследовательской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04920" y="990720"/>
          <a:ext cx="8458200" cy="5790960"/>
        </p:xfrm>
        <a:graphic>
          <a:graphicData uri="http://schemas.openxmlformats.org/drawingml/2006/table">
            <a:tbl>
              <a:tblPr/>
              <a:tblGrid>
                <a:gridCol w="1904760"/>
                <a:gridCol w="65534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ный перечень исследовательских умений и навы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учение литературы по теме исследования; анализ научной информ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блиографирование литературы по теме исследова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рование литературы по изучаемому вопрос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е цитировать. Ссылаться на авторов изученных литературных источник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е технических средств для переработки информац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ование иссле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ановка цели и задачи исследования, разработка критериев их достиже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и формулирование гипотезы исследова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и набор конкретных методов и средств исследова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нозирование положительных и возможных отрицательных результат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ование хода исследования (сроков, этапов, содержания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ор оптимального варианта структуры исследова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исслед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материального оснащения эксперимента (приборов, инструментов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эксперимент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ксация промежуточных и конечных результат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авнение полученных результатов с запланированны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авнение результатов с результатами подобных исследовани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ка результатов, исправление ошибо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практической эффективности исследова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формление и защита результатов иссле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снование вывод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ление отчета о проделанной работ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е графических, наглядных средств при оформлении отче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доклада, реферата, написание статьи, тезис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щита перед аудиторией (возражения оппонентов, аргументация собственной позиции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 выполненной работ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40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ути активизации исследовательской активности школьник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3818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- экскурси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еминар «Физик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ладимирского края»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частие в кружк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частие в олимпиадах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частие в нучно-практической               конференц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IMGP3356"/>
          <p:cNvPicPr/>
          <p:nvPr/>
        </p:nvPicPr>
        <p:blipFill>
          <a:blip r:embed="rId1"/>
          <a:stretch/>
        </p:blipFill>
        <p:spPr>
          <a:xfrm>
            <a:off x="5257800" y="2038320"/>
            <a:ext cx="35812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нализ уровня развития познавательной актив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5032440" y="1750320"/>
            <a:ext cx="273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-высоки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-средни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-низки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1" descr=""/>
          <p:cNvPicPr/>
          <p:nvPr/>
        </p:nvPicPr>
        <p:blipFill>
          <a:blip r:embed="rId1"/>
          <a:stretch/>
        </p:blipFill>
        <p:spPr>
          <a:xfrm>
            <a:off x="533520" y="1290600"/>
            <a:ext cx="3790800" cy="26766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2" descr=""/>
          <p:cNvPicPr/>
          <p:nvPr/>
        </p:nvPicPr>
        <p:blipFill>
          <a:blip r:embed="rId2"/>
          <a:stretch/>
        </p:blipFill>
        <p:spPr>
          <a:xfrm>
            <a:off x="533520" y="4049640"/>
            <a:ext cx="3800520" cy="264816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3" descr=""/>
          <p:cNvPicPr/>
          <p:nvPr/>
        </p:nvPicPr>
        <p:blipFill>
          <a:blip r:embed="rId3"/>
          <a:stretch/>
        </p:blipFill>
        <p:spPr>
          <a:xfrm>
            <a:off x="4527720" y="4092480"/>
            <a:ext cx="374328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ыбор экзамена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 физике в форме презентации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(в 8 классе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1" descr=""/>
          <p:cNvPicPr/>
          <p:nvPr/>
        </p:nvPicPr>
        <p:blipFill>
          <a:blip r:embed="rId1"/>
          <a:stretch/>
        </p:blipFill>
        <p:spPr>
          <a:xfrm>
            <a:off x="1562040" y="2209680"/>
            <a:ext cx="601992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ндрей Род</cp:lastModifiedBy>
  <dcterms:modified xsi:type="dcterms:W3CDTF">2015-04-07T18:46:18Z</dcterms:modified>
  <cp:revision>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