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7A8C-E6BC-4324-8E12-C4B43D758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394C-D666-4197-A051-C7F22F2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71CE-4F7A-4C83-A0C3-00482F1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0C90-050D-418B-8676-50C28A4C4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0EBF-B359-4554-8E7F-E19B007D9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BB547-3650-4834-BF12-EAF3F76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036E-DBD7-43FF-A9B7-456E637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0274D-B3E5-47FC-B2F3-49B1F5B9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E773F-4039-483D-90F7-882606F7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8E5D3-6D3A-4DF8-A037-F25913DF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9D3C0-8C40-48A7-B3A4-09E731C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E2F7-87EC-4778-A1C5-7E647B9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A54AB-A3CA-4793-BFCD-512C4BC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20E86-4AE8-42B7-87B6-7ED462E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8B229-1A50-4A51-92D7-49CFD095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CB1D-1EA6-4D7D-B3C6-30E55EE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0B81D-3EDD-4966-8964-E55D8E3A8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9823-7E4B-4C8B-911C-E508044BD0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7DE-B19C-4F33-B308-6B17BDA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3439-A9D5-48F0-8695-BD4B853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C3F4-E8A0-4A4B-92CB-DEB12068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7050-A8A3-4D5C-97E0-901ABF6E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B82C-75D7-47D4-AC74-49C51C2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7C9-45D6-43B1-89E1-57B8FD05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DAF6-3161-4E85-85B4-AE72869C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60F-D132-479C-9A3B-8E42F86F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6DE-7CE8-49A2-9F67-2A2E3B88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227C-3CB5-4EAF-8B79-2B03D37C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D91A-8F1E-47A9-AAC2-6FEC3AF4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471B-4283-49C8-9E76-F8E53AB79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BC1B3-60F1-4AFC-B666-51946625D0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BB8C6-F2A9-412E-A31B-A7C90A4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6C85E-C8D7-4094-BF70-6326493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F2AB-E5D6-4F3B-9CBF-37769B0C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E29EF-4644-40E5-ABF1-EFC06565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8C64C-886E-4007-9917-7A195DAE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38741-E4F9-4648-82F5-EDC0F40D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37C83-39EB-4F12-B80E-1F87EEA2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80823-769B-4605-BDD1-46B0AA3A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35BE2-9E6B-4AF6-803C-A771AB3F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AC864-10A2-4CED-BFE4-8DEEB963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64541-E1DF-43BF-8CF3-98F7E1A7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6E381-4658-46D6-B03D-9C356214C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910B2-CCBD-4E6D-B770-4740673E4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F669-0F79-459B-A83E-CB1F9D49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6A394-EE60-4923-B737-B2B851E2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25076-7111-4465-B5DF-72D7D30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B0328-48A5-4D25-9F4D-D2B053FD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B5D76-CE86-46F0-AE9E-FD8968EE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250EB-4B0A-4BAA-934C-35F58C61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33915-C3FA-4BCD-8659-9E648A58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D5AA4-93EF-4E56-8788-EDEE74A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20B95-0EDF-4877-A0EB-634A2A0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CC8CC-6A6D-417F-9E53-02F8D8F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0A6BC-22EC-4747-9D97-57B754EC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5000"/>
            <a:ext cx="8228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BE11-3CD0-4D10-A470-7CFF9720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741B4-4928-4F6C-94EB-5941C10ED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F254-A28B-4514-8FB6-0EBBFF08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2E18-85A6-4FD5-B61B-3EB6583C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847F-A9CA-4447-AE26-4159F41D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10440"/>
            <a:ext cx="2131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6310440"/>
            <a:ext cx="34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310440"/>
            <a:ext cx="2132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52B466-522B-49B8-9AD6-41526E0D5AC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-30240"/>
            <a:ext cx="9069480" cy="6889680"/>
            <a:chOff x="0" y="-30240"/>
            <a:chExt cx="9069480" cy="6889680"/>
          </a:xfrm>
        </p:grpSpPr>
        <p:sp>
          <p:nvSpPr>
            <p:cNvPr id="43" name=""/>
            <p:cNvSpPr/>
            <p:nvPr/>
          </p:nvSpPr>
          <p:spPr>
            <a:xfrm>
              <a:off x="19033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50680" y="0"/>
              <a:ext cx="384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74520" y="0"/>
              <a:ext cx="23184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31360" y="0"/>
              <a:ext cx="38412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0"/>
              <a:ext cx="3049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17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88920" y="0"/>
              <a:ext cx="14162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133360" y="0"/>
              <a:ext cx="3063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360520" y="0"/>
              <a:ext cx="3081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370160" y="0"/>
              <a:ext cx="4060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0"/>
              <a:ext cx="20628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89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75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79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265280" y="0"/>
              <a:ext cx="38412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589120" y="0"/>
              <a:ext cx="23184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73120" y="1440"/>
              <a:ext cx="612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045960" y="0"/>
              <a:ext cx="38412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6880" y="0"/>
              <a:ext cx="3049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7040" y="0"/>
              <a:ext cx="15228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63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84200" y="0"/>
              <a:ext cx="231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503520" y="0"/>
              <a:ext cx="14162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647960" y="0"/>
              <a:ext cx="3063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951440" y="0"/>
              <a:ext cx="1555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4760" y="0"/>
              <a:ext cx="4060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62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035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2120" y="0"/>
              <a:ext cx="1526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4440" y="0"/>
              <a:ext cx="15228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41800" y="0"/>
              <a:ext cx="384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103720" y="0"/>
              <a:ext cx="30816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367240" y="0"/>
              <a:ext cx="141624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324120" y="0"/>
              <a:ext cx="3063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170400" y="0"/>
              <a:ext cx="3078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614560" y="0"/>
              <a:ext cx="40644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6272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5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41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780240" y="0"/>
              <a:ext cx="23184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8024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464240" y="1440"/>
              <a:ext cx="612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237080" y="0"/>
              <a:ext cx="38412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866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932520" y="0"/>
              <a:ext cx="2318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6748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7732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4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23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9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456400" y="0"/>
              <a:ext cx="384120" cy="6858000"/>
            </a:xfrm>
            <a:prstGeom prst="line">
              <a:avLst/>
            </a:prstGeom>
            <a:ln w="507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8875800" y="-30240"/>
              <a:ext cx="19368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075160" y="0"/>
              <a:ext cx="40644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988120" y="1440"/>
              <a:ext cx="612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942160" y="0"/>
              <a:ext cx="79200" cy="685800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0800" y="0"/>
              <a:ext cx="15228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408280" y="0"/>
              <a:ext cx="307800" cy="685800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0"/>
              <a:ext cx="35244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008480" y="0"/>
              <a:ext cx="384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160760" y="0"/>
              <a:ext cx="993960" cy="685800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0"/>
              <a:ext cx="457200" cy="685944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057400"/>
            <a:ext cx="4803480" cy="2820960"/>
            <a:chOff x="0" y="2057400"/>
            <a:chExt cx="4803480" cy="2820960"/>
          </a:xfrm>
        </p:grpSpPr>
        <p:sp>
          <p:nvSpPr>
            <p:cNvPr id="128" name="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798800" y="2058840"/>
              <a:ext cx="468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3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4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B400F5-61D4-473F-9093-7FB592C4D87A}" type="slidenum"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-30240"/>
            <a:ext cx="9069480" cy="4846680"/>
            <a:chOff x="0" y="-30240"/>
            <a:chExt cx="9069480" cy="4846680"/>
          </a:xfrm>
        </p:grpSpPr>
        <p:sp>
          <p:nvSpPr>
            <p:cNvPr id="173" name=""/>
            <p:cNvSpPr/>
            <p:nvPr/>
          </p:nvSpPr>
          <p:spPr>
            <a:xfrm>
              <a:off x="19033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75068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4520" y="-7920"/>
              <a:ext cx="23184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-7920"/>
              <a:ext cx="2286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00200" y="-7920"/>
              <a:ext cx="91440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-7920"/>
              <a:ext cx="4572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31360" y="-7920"/>
              <a:ext cx="38412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668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280" y="-7920"/>
              <a:ext cx="3049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2440" y="-7920"/>
              <a:ext cx="152280" cy="4824360"/>
            </a:xfrm>
            <a:prstGeom prst="line">
              <a:avLst/>
            </a:prstGeom>
            <a:ln w="572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17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3240"/>
              <a:ext cx="457200" cy="48132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988920" y="-7920"/>
              <a:ext cx="14162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3360" y="-7920"/>
              <a:ext cx="3063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360520" y="-7920"/>
              <a:ext cx="3081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370160" y="-7920"/>
              <a:ext cx="40608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89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75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79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480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265280" y="-7920"/>
              <a:ext cx="38412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589120" y="-7920"/>
              <a:ext cx="23184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14600" y="-7920"/>
              <a:ext cx="2286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74560" y="-7920"/>
              <a:ext cx="468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-7920"/>
              <a:ext cx="45720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45960" y="-7920"/>
              <a:ext cx="38412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128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66880" y="-7920"/>
              <a:ext cx="3049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70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63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284200" y="-7920"/>
              <a:ext cx="23148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503520" y="-7920"/>
              <a:ext cx="14162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647960" y="-7920"/>
              <a:ext cx="3063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951440" y="-7920"/>
              <a:ext cx="1555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884760" y="-7920"/>
              <a:ext cx="40608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08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620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35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32120" y="-7920"/>
              <a:ext cx="1526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-7920"/>
              <a:ext cx="152280" cy="4824360"/>
            </a:xfrm>
            <a:prstGeom prst="line">
              <a:avLst/>
            </a:prstGeom>
            <a:ln w="572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94180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03720" y="-7920"/>
              <a:ext cx="30816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50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7240" y="-7920"/>
              <a:ext cx="141624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324120" y="-7920"/>
              <a:ext cx="30636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170400" y="-7920"/>
              <a:ext cx="3078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614560" y="-7920"/>
              <a:ext cx="40644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272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-7920"/>
              <a:ext cx="152280" cy="4824360"/>
            </a:xfrm>
            <a:prstGeom prst="line">
              <a:avLst/>
            </a:prstGeom>
            <a:ln w="572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80240" y="-7920"/>
              <a:ext cx="23184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80240" y="-7920"/>
              <a:ext cx="2286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465680" y="-7920"/>
              <a:ext cx="468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-7920"/>
              <a:ext cx="45720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237080" y="-7920"/>
              <a:ext cx="384120" cy="482436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7240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932520" y="-7920"/>
              <a:ext cx="2318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7732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232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904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05920" y="-7920"/>
              <a:ext cx="3808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45640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29600" y="-7920"/>
              <a:ext cx="152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875800" y="-30240"/>
              <a:ext cx="19368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075160" y="-7920"/>
              <a:ext cx="40644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77320" y="-7920"/>
              <a:ext cx="20628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988120" y="-7920"/>
              <a:ext cx="612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942160" y="-7920"/>
              <a:ext cx="79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0800" y="-7920"/>
              <a:ext cx="15228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-7920"/>
              <a:ext cx="380880" cy="4824360"/>
            </a:xfrm>
            <a:prstGeom prst="line">
              <a:avLst/>
            </a:prstGeom>
            <a:ln w="1908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408280" y="-7920"/>
              <a:ext cx="307800" cy="4824360"/>
            </a:xfrm>
            <a:prstGeom prst="line">
              <a:avLst/>
            </a:prstGeom>
            <a:ln w="4752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-7920"/>
              <a:ext cx="352440" cy="48243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08480" y="-7920"/>
              <a:ext cx="384120" cy="48243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160760" y="-7920"/>
              <a:ext cx="993960" cy="4824360"/>
            </a:xfrm>
            <a:prstGeom prst="line">
              <a:avLst/>
            </a:prstGeom>
            <a:ln w="284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-7920"/>
              <a:ext cx="457200" cy="4824360"/>
            </a:xfrm>
            <a:prstGeom prst="line">
              <a:avLst/>
            </a:prstGeom>
            <a:ln w="381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5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70CC52-D34A-4289-AC91-B8ED867C3C26}" type="slidenum">
              <a:rPr b="0" lang="ru-RU" sz="1200" spc="-1" strike="noStrike">
                <a:solidFill>
                  <a:srgbClr val="1d3641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"/>
          <p:cNvSpPr/>
          <p:nvPr/>
        </p:nvSpPr>
        <p:spPr>
          <a:xfrm>
            <a:off x="2637000" y="1712880"/>
            <a:ext cx="144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7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8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A8049D-2366-44D5-92BF-86D552220FFF}" type="slidenum"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"/>
          <p:cNvSpPr/>
          <p:nvPr/>
        </p:nvSpPr>
        <p:spPr>
          <a:xfrm>
            <a:off x="2637000" y="1712880"/>
            <a:ext cx="144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8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9"/>
          </p:nvPr>
        </p:nvSpPr>
        <p:spPr>
          <a:xfrm>
            <a:off x="457200" y="6311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1188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1251D7-2EFA-4C38-91EB-4E509590474D}" type="slidenum">
              <a:rPr b="0" lang="ru-RU" sz="1200" spc="-1" strike="noStrike">
                <a:solidFill>
                  <a:srgbClr val="dfe6d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571840" y="1835280"/>
            <a:ext cx="7900920" cy="3309840"/>
            <a:chOff x="2571840" y="1835280"/>
            <a:chExt cx="7900920" cy="330984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2571840" y="1835280"/>
              <a:ext cx="790092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571840" y="1835280"/>
              <a:ext cx="7900920" cy="33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393" name=""/>
          <p:cNvSpPr/>
          <p:nvPr/>
        </p:nvSpPr>
        <p:spPr>
          <a:xfrm rot="10800000">
            <a:off x="2555640" y="6740640"/>
            <a:ext cx="481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-90360" y="-34920"/>
            <a:ext cx="937872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371520" y="5151600"/>
            <a:ext cx="8381880" cy="1346040"/>
            <a:chOff x="371520" y="5151600"/>
            <a:chExt cx="8381880" cy="1346040"/>
          </a:xfrm>
        </p:grpSpPr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>
              <a:off x="371520" y="5151600"/>
              <a:ext cx="83818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371520" y="5151600"/>
              <a:ext cx="838188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879640" y="360360"/>
            <a:ext cx="3419640" cy="4803840"/>
            <a:chOff x="2879640" y="360360"/>
            <a:chExt cx="3419640" cy="4803840"/>
          </a:xfrm>
        </p:grpSpPr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>
              <a:off x="2879640" y="360360"/>
              <a:ext cx="3419640" cy="48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879640" y="360360"/>
              <a:ext cx="3419640" cy="48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53880" y="3208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"/>
          <p:cNvSpPr/>
          <p:nvPr/>
        </p:nvSpPr>
        <p:spPr>
          <a:xfrm>
            <a:off x="-108000" y="4268880"/>
            <a:ext cx="37911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« Не счесть алмазов в каменных пещерах… 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780000" y="3500280"/>
            <a:ext cx="5364000" cy="3364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661080" y="0"/>
            <a:ext cx="24829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28680" y="5473800"/>
            <a:ext cx="8381880" cy="1341360"/>
            <a:chOff x="328680" y="5473800"/>
            <a:chExt cx="8381880" cy="134136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328680" y="5473800"/>
              <a:ext cx="83818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28680" y="5473800"/>
              <a:ext cx="8381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933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3" marL="958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  <a:ea typeface="SimSun"/>
              </a:rPr>
              <a:t>До новых встреч !</a:t>
            </a:r>
            <a:endParaRPr b="0" lang="en-US" sz="9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560520" y="219240"/>
            <a:ext cx="8308800" cy="2017440"/>
            <a:chOff x="560520" y="219240"/>
            <a:chExt cx="8308800" cy="201744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560520" y="219240"/>
              <a:ext cx="8308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60520" y="219240"/>
              <a:ext cx="830880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1692360" y="2320920"/>
            <a:ext cx="604836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4175280" cy="336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140360" y="3363840"/>
            <a:ext cx="5003640" cy="35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5473800" y="4711680"/>
            <a:ext cx="3689280" cy="2408400"/>
            <a:chOff x="5473800" y="4711680"/>
            <a:chExt cx="3689280" cy="240840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5473800" y="4711680"/>
              <a:ext cx="36892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473800" y="4711680"/>
              <a:ext cx="368928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50920" y="0"/>
            <a:ext cx="536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dfe6d0"/>
                </a:solidFill>
                <a:latin typeface="Calibri"/>
                <a:ea typeface="SimSun"/>
              </a:rPr>
              <a:t>  </a:t>
            </a:r>
            <a:r>
              <a:rPr b="1" lang="ru-RU" sz="4000" spc="-1" strike="noStrike">
                <a:solidFill>
                  <a:srgbClr val="dfe6d0"/>
                </a:solidFill>
                <a:latin typeface="Calibri"/>
                <a:ea typeface="SimSun"/>
              </a:rPr>
              <a:t>Николай Андреевич   Римский-Корсаков 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– русский композитор,  педагог,  дирижер,  музыкально-общественный деятель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  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Основные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произведения –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оперы(15) на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сказочные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  <a:ea typeface="SimSun"/>
              </a:rPr>
              <a:t>сюжеты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324400" y="115920"/>
            <a:ext cx="3700440" cy="5013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3049560" y="2481120"/>
            <a:ext cx="2263680" cy="41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798640" y="115920"/>
            <a:ext cx="3132360" cy="4060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344952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-27000" y="0"/>
            <a:ext cx="197028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927080" y="-14400"/>
            <a:ext cx="722016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-3240" y="-25560"/>
            <a:ext cx="91854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900520" y="0"/>
            <a:ext cx="3346200" cy="41259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240" y="4095720"/>
            <a:ext cx="91407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800360" y="1079640"/>
            <a:ext cx="5870520" cy="465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2:44:35Z</dcterms:created>
  <dc:creator>Sasha</dc:creator>
  <dc:description/>
  <dc:language>en-US</dc:language>
  <cp:lastModifiedBy>Sasha</cp:lastModifiedBy>
  <dcterms:modified xsi:type="dcterms:W3CDTF">2013-11-28T18:03:36Z</dcterms:modified>
  <cp:revision>11</cp:revision>
  <dc:subject/>
  <dc:title>композитор дуэт дирижер балет опера увертюра декорации</dc:title>
</cp:coreProperties>
</file>