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1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450BF-4965-4624-B271-674E5BBE1C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661B5-DFB9-421E-9857-589E8334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7781B-E315-4805-A2FE-4AB36513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A754B-A88F-4EDA-AA77-208E2CE5AE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6CEE9-E1A4-4E04-8F66-5372BF5914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9435D-D1E6-49BB-97D4-7E066D92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D4ADE-DED6-49B1-A1CB-DC4F6E89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CEC34-96D6-492C-BA93-D34DF248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49AF4-1B87-4CEB-A184-5879DED52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25000"/>
            <a:ext cx="822816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3378B-B5B0-42F4-A8D6-D3D118B4E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91D2D-50D5-4E8D-9A93-E871EDB1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735E9-7215-4CC5-A397-D2965AE1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894EB-E090-413A-B0EB-F64BA23A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EC12A-FBAC-472E-81A9-6D29CA3B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A67B8-4E5E-457B-8B30-151BB901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4D830-B51E-461F-90B4-CC0AFCFF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0B59C-CB74-4C10-A911-9F571B38E0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0BAC-B4CD-4B93-BFB5-CCF1ECF6A7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A0F0-B7F6-4517-967F-11D2414C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DC466-7577-4935-B0D6-D63EC204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4761-1B91-48AE-8242-DA9C68A0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3B8D-7768-4D74-9919-DA468F23F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1D007-5D59-4C9C-9B97-61D739F6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25000"/>
            <a:ext cx="822816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2656-D0B6-4C58-992F-E3CE5C2A5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C603-AA4C-4209-A5FA-8860FC73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D06D-89CF-4407-8297-61DF8FE0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1856-06F6-4C53-85DE-3CB0960F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1DB4-201F-4821-928B-CB8B26B7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0477-035B-4029-8625-1C5C6956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CA15-F202-40A4-AE6F-DDE196A645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C009B2-6F50-41FD-BA23-37BA00F531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6413CD-06F1-45D5-B1DF-4F545839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3E3976-6507-4624-986B-598D0917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158E6-DAEF-4560-A7C3-D6856AD6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2E7FEE-D24C-4D59-8BC2-9F5EFDC8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D6FC6A-49B0-4EF0-9064-638C35EF1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25000"/>
            <a:ext cx="822816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45369E-8A4C-4901-BE9D-0E949E36B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F9C776-E0B4-4362-B7BF-879BA92D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9962A7-BFE2-4E5C-BB38-9DEA3B24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24A57A-23CB-4800-B56E-6B32A03A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C926D6-9437-474B-948D-2A34DF29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61E36A-406B-4826-AB7F-BF98D75A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787A87-EA51-4D20-9006-D58C081A44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E5980B-04D3-4EC0-82AA-0E2E40DEAF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85022-D90C-41D7-A4F2-989D1C3BC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DA3701-B39A-4837-ACC2-77516F2C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5DFCDD-C35C-4025-8DFF-4BBCAB29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DCA64A-10F7-4609-95A8-BA28AA8C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F02C93-7DDC-4F39-9C83-28D9AD690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25000"/>
            <a:ext cx="822816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B5424A-AB03-4FD1-B0BC-C379EA4AF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170732-3540-4204-BABB-4DB546A2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5675F3-2913-4C2A-B3BE-2CA162D8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CEAB88-E23C-4538-94B9-C3AD3498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31EF91-B8BA-40E9-B4A9-972A0F0F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80C48B-CABE-46A7-B808-F3FE56E3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25000"/>
            <a:ext cx="822816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18F84-E2DB-48F8-BC91-D256923A1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C9C9C2-3C9B-48E5-9681-2524B799F6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84A37-BFD3-435F-99F9-0D57E481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43824-227B-4568-9A00-A3EE472F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488EE-CA16-4280-935A-030BDFE3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310440"/>
            <a:ext cx="21319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830680" y="6310440"/>
            <a:ext cx="34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310440"/>
            <a:ext cx="21322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389E31-D0CD-4042-B0F6-F57F2A98018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-30240"/>
            <a:ext cx="9069480" cy="6889680"/>
            <a:chOff x="0" y="-30240"/>
            <a:chExt cx="9069480" cy="6889680"/>
          </a:xfrm>
        </p:grpSpPr>
        <p:sp>
          <p:nvSpPr>
            <p:cNvPr id="43" name=""/>
            <p:cNvSpPr/>
            <p:nvPr/>
          </p:nvSpPr>
          <p:spPr>
            <a:xfrm>
              <a:off x="1903320" y="0"/>
              <a:ext cx="15264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002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50680" y="0"/>
              <a:ext cx="384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74520" y="0"/>
              <a:ext cx="231840" cy="6858000"/>
            </a:xfrm>
            <a:prstGeom prst="line">
              <a:avLst/>
            </a:prstGeom>
            <a:ln w="284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00200" y="0"/>
              <a:ext cx="914400" cy="6858000"/>
            </a:xfrm>
            <a:prstGeom prst="line">
              <a:avLst/>
            </a:prstGeom>
            <a:ln w="284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80880" y="0"/>
              <a:ext cx="4572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531360" y="0"/>
              <a:ext cx="38412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066680" y="0"/>
              <a:ext cx="457200" cy="6858000"/>
            </a:xfrm>
            <a:prstGeom prst="line">
              <a:avLst/>
            </a:prstGeom>
            <a:ln w="381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2280" y="0"/>
              <a:ext cx="3049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224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1720" y="0"/>
              <a:ext cx="15264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85800" y="0"/>
              <a:ext cx="6094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988920" y="0"/>
              <a:ext cx="141624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2133360" y="0"/>
              <a:ext cx="3063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2360520" y="0"/>
              <a:ext cx="3081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370160" y="0"/>
              <a:ext cx="4060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9480" y="0"/>
              <a:ext cx="35244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71600" y="0"/>
              <a:ext cx="206280" cy="6858000"/>
            </a:xfrm>
            <a:prstGeom prst="line">
              <a:avLst/>
            </a:prstGeom>
            <a:ln w="507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88920" y="0"/>
              <a:ext cx="15264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17520" y="0"/>
              <a:ext cx="15264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17920" y="0"/>
              <a:ext cx="15264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148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4265280" y="0"/>
              <a:ext cx="384120" cy="6858000"/>
            </a:xfrm>
            <a:prstGeom prst="line">
              <a:avLst/>
            </a:prstGeom>
            <a:ln w="4752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589120" y="0"/>
              <a:ext cx="231840" cy="6858000"/>
            </a:xfrm>
            <a:prstGeom prst="line">
              <a:avLst/>
            </a:prstGeom>
            <a:ln w="284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51460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273120" y="1440"/>
              <a:ext cx="6120" cy="6858000"/>
            </a:xfrm>
            <a:prstGeom prst="line">
              <a:avLst/>
            </a:prstGeom>
            <a:ln w="284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95480" y="0"/>
              <a:ext cx="457200" cy="6858000"/>
            </a:xfrm>
            <a:prstGeom prst="line">
              <a:avLst/>
            </a:prstGeom>
            <a:ln w="4752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045960" y="0"/>
              <a:ext cx="384120" cy="6858000"/>
            </a:xfrm>
            <a:prstGeom prst="line">
              <a:avLst/>
            </a:prstGeom>
            <a:ln w="507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81280" y="0"/>
              <a:ext cx="457200" cy="6858000"/>
            </a:xfrm>
            <a:prstGeom prst="line">
              <a:avLst/>
            </a:prstGeom>
            <a:ln w="381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666880" y="0"/>
              <a:ext cx="3049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037040" y="0"/>
              <a:ext cx="152280" cy="6858000"/>
            </a:xfrm>
            <a:prstGeom prst="line">
              <a:avLst/>
            </a:prstGeom>
            <a:ln w="507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46320" y="0"/>
              <a:ext cx="15264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284200" y="0"/>
              <a:ext cx="2314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3503520" y="0"/>
              <a:ext cx="141624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4647960" y="0"/>
              <a:ext cx="3063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4951440" y="0"/>
              <a:ext cx="1555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884760" y="0"/>
              <a:ext cx="4060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24080" y="0"/>
              <a:ext cx="35244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862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503520" y="0"/>
              <a:ext cx="15264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32120" y="0"/>
              <a:ext cx="15264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94440" y="0"/>
              <a:ext cx="152280" cy="6858000"/>
            </a:xfrm>
            <a:prstGeom prst="line">
              <a:avLst/>
            </a:prstGeom>
            <a:ln w="507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341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41800" y="0"/>
              <a:ext cx="384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5103720" y="0"/>
              <a:ext cx="308160" cy="6858000"/>
            </a:xfrm>
            <a:prstGeom prst="line">
              <a:avLst/>
            </a:prstGeom>
            <a:ln w="284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67080" y="0"/>
              <a:ext cx="457200" cy="6858000"/>
            </a:xfrm>
            <a:prstGeom prst="line">
              <a:avLst/>
            </a:prstGeom>
            <a:ln w="381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150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367240" y="0"/>
              <a:ext cx="141624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6324120" y="0"/>
              <a:ext cx="3063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6170400" y="0"/>
              <a:ext cx="3078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5614560" y="0"/>
              <a:ext cx="40644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6272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10552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3412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6780240" y="0"/>
              <a:ext cx="231840" cy="6858000"/>
            </a:xfrm>
            <a:prstGeom prst="line">
              <a:avLst/>
            </a:prstGeom>
            <a:ln w="284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8024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7464240" y="1440"/>
              <a:ext cx="6120" cy="6858000"/>
            </a:xfrm>
            <a:prstGeom prst="line">
              <a:avLst/>
            </a:prstGeom>
            <a:ln w="284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86600" y="0"/>
              <a:ext cx="4572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7237080" y="0"/>
              <a:ext cx="38412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72400" y="0"/>
              <a:ext cx="457200" cy="6858000"/>
            </a:xfrm>
            <a:prstGeom prst="line">
              <a:avLst/>
            </a:prstGeom>
            <a:ln w="381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0866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6932520" y="0"/>
              <a:ext cx="23184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67480" y="0"/>
              <a:ext cx="35244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7732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94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923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09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059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8456400" y="0"/>
              <a:ext cx="384120" cy="6858000"/>
            </a:xfrm>
            <a:prstGeom prst="line">
              <a:avLst/>
            </a:prstGeom>
            <a:ln w="507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296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8875800" y="-30240"/>
              <a:ext cx="193680" cy="688824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8075160" y="0"/>
              <a:ext cx="406440" cy="6858000"/>
            </a:xfrm>
            <a:prstGeom prst="line">
              <a:avLst/>
            </a:prstGeom>
            <a:ln w="4752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7732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8988120" y="1440"/>
              <a:ext cx="612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5942160" y="0"/>
              <a:ext cx="79200" cy="6858000"/>
            </a:xfrm>
            <a:prstGeom prst="line">
              <a:avLst/>
            </a:prstGeom>
            <a:ln w="381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00800" y="0"/>
              <a:ext cx="152280" cy="6858000"/>
            </a:xfrm>
            <a:prstGeom prst="line">
              <a:avLst/>
            </a:prstGeom>
            <a:ln w="4752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77120" y="0"/>
              <a:ext cx="380880" cy="6858000"/>
            </a:xfrm>
            <a:prstGeom prst="line">
              <a:avLst/>
            </a:prstGeom>
            <a:ln w="1908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5408280" y="0"/>
              <a:ext cx="307800" cy="6858000"/>
            </a:xfrm>
            <a:prstGeom prst="line">
              <a:avLst/>
            </a:prstGeom>
            <a:ln w="4752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00800" y="0"/>
              <a:ext cx="35244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008480" y="0"/>
              <a:ext cx="384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7160760" y="0"/>
              <a:ext cx="993960" cy="6858000"/>
            </a:xfrm>
            <a:prstGeom prst="line">
              <a:avLst/>
            </a:prstGeom>
            <a:ln w="284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72000" y="0"/>
              <a:ext cx="457200" cy="6859440"/>
            </a:xfrm>
            <a:prstGeom prst="line">
              <a:avLst/>
            </a:prstGeom>
            <a:ln w="381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0" y="2057400"/>
            <a:ext cx="4803480" cy="2820960"/>
            <a:chOff x="0" y="2057400"/>
            <a:chExt cx="4803480" cy="2820960"/>
          </a:xfrm>
        </p:grpSpPr>
        <p:sp>
          <p:nvSpPr>
            <p:cNvPr id="128" name=""/>
            <p:cNvSpPr/>
            <p:nvPr/>
          </p:nvSpPr>
          <p:spPr>
            <a:xfrm>
              <a:off x="0" y="205740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487692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798800" y="2058840"/>
              <a:ext cx="4680" cy="281808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3"/>
          </p:nvPr>
        </p:nvSpPr>
        <p:spPr>
          <a:xfrm>
            <a:off x="457200" y="631188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dfe6d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4"/>
          </p:nvPr>
        </p:nvSpPr>
        <p:spPr>
          <a:xfrm>
            <a:off x="6552720" y="6311880"/>
            <a:ext cx="21322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dfe6d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9EEBF44-55DD-4253-8C72-E3DC3B564476}" type="slidenum">
              <a:rPr b="0" lang="ru-RU" sz="1200" spc="-1" strike="noStrike">
                <a:solidFill>
                  <a:srgbClr val="dfe6d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0" y="-30240"/>
            <a:ext cx="9069480" cy="4846680"/>
            <a:chOff x="0" y="-30240"/>
            <a:chExt cx="9069480" cy="4846680"/>
          </a:xfrm>
        </p:grpSpPr>
        <p:sp>
          <p:nvSpPr>
            <p:cNvPr id="173" name=""/>
            <p:cNvSpPr/>
            <p:nvPr/>
          </p:nvSpPr>
          <p:spPr>
            <a:xfrm>
              <a:off x="1903320" y="-7920"/>
              <a:ext cx="15264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0200" y="-7920"/>
              <a:ext cx="38088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1750680" y="-7920"/>
              <a:ext cx="38412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74520" y="-7920"/>
              <a:ext cx="231840" cy="4824360"/>
            </a:xfrm>
            <a:prstGeom prst="line">
              <a:avLst/>
            </a:prstGeom>
            <a:ln w="284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-7920"/>
              <a:ext cx="22860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00200" y="-7920"/>
              <a:ext cx="914400" cy="4824360"/>
            </a:xfrm>
            <a:prstGeom prst="line">
              <a:avLst/>
            </a:prstGeom>
            <a:ln w="284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0880" y="-7920"/>
              <a:ext cx="45720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531360" y="-7920"/>
              <a:ext cx="384120" cy="482436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66680" y="-7920"/>
              <a:ext cx="457200" cy="4824360"/>
            </a:xfrm>
            <a:prstGeom prst="line">
              <a:avLst/>
            </a:prstGeom>
            <a:ln w="381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2280" y="-7920"/>
              <a:ext cx="30492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22440" y="-7920"/>
              <a:ext cx="152280" cy="4824360"/>
            </a:xfrm>
            <a:prstGeom prst="line">
              <a:avLst/>
            </a:prstGeom>
            <a:ln w="572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1720" y="-7920"/>
              <a:ext cx="15264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8600" y="3240"/>
              <a:ext cx="457200" cy="48132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988920" y="-7920"/>
              <a:ext cx="141624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2133360" y="-7920"/>
              <a:ext cx="30636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2360520" y="-7920"/>
              <a:ext cx="30816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1370160" y="-7920"/>
              <a:ext cx="406080" cy="482436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9480" y="-7920"/>
              <a:ext cx="352440" cy="482436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71600" y="-7920"/>
              <a:ext cx="20628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88920" y="-7920"/>
              <a:ext cx="15264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17520" y="-7920"/>
              <a:ext cx="15264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17920" y="-7920"/>
              <a:ext cx="15264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14800" y="-7920"/>
              <a:ext cx="38088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265280" y="-7920"/>
              <a:ext cx="384120" cy="4824360"/>
            </a:xfrm>
            <a:prstGeom prst="line">
              <a:avLst/>
            </a:prstGeom>
            <a:ln w="4752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2589120" y="-7920"/>
              <a:ext cx="231840" cy="4824360"/>
            </a:xfrm>
            <a:prstGeom prst="line">
              <a:avLst/>
            </a:prstGeom>
            <a:ln w="284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514600" y="-7920"/>
              <a:ext cx="22860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274560" y="-7920"/>
              <a:ext cx="4680" cy="4824360"/>
            </a:xfrm>
            <a:prstGeom prst="line">
              <a:avLst/>
            </a:prstGeom>
            <a:ln w="284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895480" y="-7920"/>
              <a:ext cx="457200" cy="4824360"/>
            </a:xfrm>
            <a:prstGeom prst="line">
              <a:avLst/>
            </a:prstGeom>
            <a:ln w="4752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3045960" y="-7920"/>
              <a:ext cx="384120" cy="482436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81280" y="-7920"/>
              <a:ext cx="457200" cy="4824360"/>
            </a:xfrm>
            <a:prstGeom prst="line">
              <a:avLst/>
            </a:prstGeom>
            <a:ln w="381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66880" y="-7920"/>
              <a:ext cx="30492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037040" y="-7920"/>
              <a:ext cx="15228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46320" y="-7920"/>
              <a:ext cx="15264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2284200" y="-7920"/>
              <a:ext cx="231480" cy="482436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3503520" y="-7920"/>
              <a:ext cx="141624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4647960" y="-7920"/>
              <a:ext cx="30636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951440" y="-7920"/>
              <a:ext cx="15552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3884760" y="-7920"/>
              <a:ext cx="406080" cy="482436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24080" y="-7920"/>
              <a:ext cx="352440" cy="482436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86200" y="-7920"/>
              <a:ext cx="20628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03520" y="-7920"/>
              <a:ext cx="15264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732120" y="-7920"/>
              <a:ext cx="15264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94440" y="-7920"/>
              <a:ext cx="152280" cy="4824360"/>
            </a:xfrm>
            <a:prstGeom prst="line">
              <a:avLst/>
            </a:prstGeom>
            <a:ln w="572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34120" y="-7920"/>
              <a:ext cx="38088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941800" y="-7920"/>
              <a:ext cx="38412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103720" y="-7920"/>
              <a:ext cx="308160" cy="4824360"/>
            </a:xfrm>
            <a:prstGeom prst="line">
              <a:avLst/>
            </a:prstGeom>
            <a:ln w="284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-7920"/>
              <a:ext cx="457200" cy="4824360"/>
            </a:xfrm>
            <a:prstGeom prst="line">
              <a:avLst/>
            </a:prstGeom>
            <a:ln w="381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15000" y="-7920"/>
              <a:ext cx="15228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367240" y="-7920"/>
              <a:ext cx="141624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6324120" y="-7920"/>
              <a:ext cx="30636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170400" y="-7920"/>
              <a:ext cx="30780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5614560" y="-7920"/>
              <a:ext cx="406440" cy="482436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62720" y="-7920"/>
              <a:ext cx="20628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05520" y="-7920"/>
              <a:ext cx="152280" cy="4824360"/>
            </a:xfrm>
            <a:prstGeom prst="line">
              <a:avLst/>
            </a:prstGeom>
            <a:ln w="572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57800" y="-7920"/>
              <a:ext cx="15228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780240" y="-7920"/>
              <a:ext cx="231840" cy="4824360"/>
            </a:xfrm>
            <a:prstGeom prst="line">
              <a:avLst/>
            </a:prstGeom>
            <a:ln w="284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80240" y="-7920"/>
              <a:ext cx="22860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7465680" y="-7920"/>
              <a:ext cx="4680" cy="4824360"/>
            </a:xfrm>
            <a:prstGeom prst="line">
              <a:avLst/>
            </a:prstGeom>
            <a:ln w="284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86600" y="-7920"/>
              <a:ext cx="45720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7237080" y="-7920"/>
              <a:ext cx="384120" cy="482436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72400" y="-7920"/>
              <a:ext cx="457200" cy="4824360"/>
            </a:xfrm>
            <a:prstGeom prst="line">
              <a:avLst/>
            </a:prstGeom>
            <a:ln w="381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086600" y="-7920"/>
              <a:ext cx="15228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932520" y="-7920"/>
              <a:ext cx="231840" cy="482436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67480" y="-7920"/>
              <a:ext cx="352440" cy="482436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077320" y="-7920"/>
              <a:ext cx="20628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94640" y="-7920"/>
              <a:ext cx="15228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923240" y="-7920"/>
              <a:ext cx="15228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9040" y="-7920"/>
              <a:ext cx="15228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305920" y="-7920"/>
              <a:ext cx="38088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8456400" y="-7920"/>
              <a:ext cx="38412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29600" y="-7920"/>
              <a:ext cx="15228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8875800" y="-30240"/>
              <a:ext cx="193680" cy="484668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8075160" y="-7920"/>
              <a:ext cx="406440" cy="4824360"/>
            </a:xfrm>
            <a:prstGeom prst="line">
              <a:avLst/>
            </a:prstGeom>
            <a:ln w="4752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077320" y="-7920"/>
              <a:ext cx="20628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8988120" y="-7920"/>
              <a:ext cx="6120" cy="482436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5942160" y="-7920"/>
              <a:ext cx="79200" cy="4824360"/>
            </a:xfrm>
            <a:prstGeom prst="line">
              <a:avLst/>
            </a:prstGeom>
            <a:ln w="381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400800" y="-7920"/>
              <a:ext cx="152280" cy="4824360"/>
            </a:xfrm>
            <a:prstGeom prst="line">
              <a:avLst/>
            </a:prstGeom>
            <a:ln w="4752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77120" y="-7920"/>
              <a:ext cx="380880" cy="4824360"/>
            </a:xfrm>
            <a:prstGeom prst="line">
              <a:avLst/>
            </a:prstGeom>
            <a:ln w="1908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408280" y="-7920"/>
              <a:ext cx="307800" cy="4824360"/>
            </a:xfrm>
            <a:prstGeom prst="line">
              <a:avLst/>
            </a:prstGeom>
            <a:ln w="4752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00800" y="-7920"/>
              <a:ext cx="352440" cy="482436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008480" y="-7920"/>
              <a:ext cx="38412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7160760" y="-7920"/>
              <a:ext cx="993960" cy="4824360"/>
            </a:xfrm>
            <a:prstGeom prst="line">
              <a:avLst/>
            </a:prstGeom>
            <a:ln w="284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-7920"/>
              <a:ext cx="457200" cy="4824360"/>
            </a:xfrm>
            <a:prstGeom prst="line">
              <a:avLst/>
            </a:prstGeom>
            <a:ln w="381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5"/>
          </p:nvPr>
        </p:nvSpPr>
        <p:spPr>
          <a:xfrm>
            <a:off x="457200" y="631188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1d3641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1d3641"/>
                </a:solidFill>
                <a:latin typeface="Calibri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22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1d3641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4BD4C24-C2FA-4BEC-8945-B35DCB944863}" type="slidenum">
              <a:rPr b="0" lang="ru-RU" sz="1200" spc="-1" strike="noStrike">
                <a:solidFill>
                  <a:srgbClr val="1d3641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"/>
          <p:cNvSpPr/>
          <p:nvPr/>
        </p:nvSpPr>
        <p:spPr>
          <a:xfrm>
            <a:off x="2637000" y="1712880"/>
            <a:ext cx="144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7"/>
          </p:nvPr>
        </p:nvSpPr>
        <p:spPr>
          <a:xfrm>
            <a:off x="457200" y="631188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dfe6d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sldNum" idx="8"/>
          </p:nvPr>
        </p:nvSpPr>
        <p:spPr>
          <a:xfrm>
            <a:off x="6552720" y="6311880"/>
            <a:ext cx="21322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dfe6d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36CE65C-F7E2-48B2-8BFE-4B7BB4B8A671}" type="slidenum">
              <a:rPr b="0" lang="ru-RU" sz="1200" spc="-1" strike="noStrike">
                <a:solidFill>
                  <a:srgbClr val="dfe6d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"/>
          <p:cNvSpPr/>
          <p:nvPr/>
        </p:nvSpPr>
        <p:spPr>
          <a:xfrm>
            <a:off x="2637000" y="1712880"/>
            <a:ext cx="144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9"/>
          </p:nvPr>
        </p:nvSpPr>
        <p:spPr>
          <a:xfrm>
            <a:off x="457200" y="631188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dfe6d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sldNum" idx="10"/>
          </p:nvPr>
        </p:nvSpPr>
        <p:spPr>
          <a:xfrm>
            <a:off x="6552720" y="6311880"/>
            <a:ext cx="21322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dfe6d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F025A02-5783-4B0A-8B85-4A9955362066}" type="slidenum">
              <a:rPr b="0" lang="ru-RU" sz="1200" spc="-1" strike="noStrike">
                <a:solidFill>
                  <a:srgbClr val="dfe6d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"/>
          <p:cNvGrpSpPr/>
          <p:nvPr/>
        </p:nvGrpSpPr>
        <p:grpSpPr>
          <a:xfrm>
            <a:off x="2571840" y="1835280"/>
            <a:ext cx="7900920" cy="3309840"/>
            <a:chOff x="2571840" y="1835280"/>
            <a:chExt cx="7900920" cy="3309840"/>
          </a:xfrm>
        </p:grpSpPr>
        <p:pic>
          <p:nvPicPr>
            <p:cNvPr id="391" name="" descr=""/>
            <p:cNvPicPr/>
            <p:nvPr/>
          </p:nvPicPr>
          <p:blipFill>
            <a:blip r:embed="rId2"/>
            <a:stretch/>
          </p:blipFill>
          <p:spPr>
            <a:xfrm>
              <a:off x="2571840" y="1835280"/>
              <a:ext cx="7900920" cy="33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2571840" y="1835280"/>
              <a:ext cx="7900920" cy="33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393" name=""/>
          <p:cNvSpPr/>
          <p:nvPr/>
        </p:nvSpPr>
        <p:spPr>
          <a:xfrm rot="10800000">
            <a:off x="2555640" y="6740640"/>
            <a:ext cx="48164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67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-90360" y="-34920"/>
            <a:ext cx="9378720" cy="68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"/>
          <p:cNvGrpSpPr/>
          <p:nvPr/>
        </p:nvGrpSpPr>
        <p:grpSpPr>
          <a:xfrm>
            <a:off x="371520" y="5151600"/>
            <a:ext cx="8381880" cy="1346040"/>
            <a:chOff x="371520" y="5151600"/>
            <a:chExt cx="8381880" cy="1346040"/>
          </a:xfrm>
        </p:grpSpPr>
        <p:pic>
          <p:nvPicPr>
            <p:cNvPr id="433" name="" descr=""/>
            <p:cNvPicPr/>
            <p:nvPr/>
          </p:nvPicPr>
          <p:blipFill>
            <a:blip r:embed="rId2"/>
            <a:stretch/>
          </p:blipFill>
          <p:spPr>
            <a:xfrm>
              <a:off x="371520" y="5151600"/>
              <a:ext cx="838188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371520" y="5151600"/>
              <a:ext cx="8381880" cy="13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2879640" y="360360"/>
            <a:ext cx="3419640" cy="4803840"/>
            <a:chOff x="2879640" y="360360"/>
            <a:chExt cx="3419640" cy="4803840"/>
          </a:xfrm>
        </p:grpSpPr>
        <p:pic>
          <p:nvPicPr>
            <p:cNvPr id="436" name="" descr=""/>
            <p:cNvPicPr/>
            <p:nvPr/>
          </p:nvPicPr>
          <p:blipFill>
            <a:blip r:embed="rId3"/>
            <a:stretch/>
          </p:blipFill>
          <p:spPr>
            <a:xfrm>
              <a:off x="2879640" y="360360"/>
              <a:ext cx="3419640" cy="480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2879640" y="360360"/>
              <a:ext cx="3419640" cy="48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353880" y="3208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9" name=""/>
          <p:cNvSpPr/>
          <p:nvPr/>
        </p:nvSpPr>
        <p:spPr>
          <a:xfrm>
            <a:off x="-108000" y="4268880"/>
            <a:ext cx="3791160" cy="25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fe6d0"/>
                </a:solidFill>
                <a:latin typeface="Calibri"/>
                <a:ea typeface="SimSun"/>
              </a:rPr>
              <a:t>« Не счесть алмазов в каменных пещерах… »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3780000" y="3500280"/>
            <a:ext cx="5364000" cy="336420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6661080" y="0"/>
            <a:ext cx="2482920" cy="35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"/>
          <p:cNvGrpSpPr/>
          <p:nvPr/>
        </p:nvGrpSpPr>
        <p:grpSpPr>
          <a:xfrm>
            <a:off x="328680" y="5473800"/>
            <a:ext cx="8381880" cy="1341360"/>
            <a:chOff x="328680" y="5473800"/>
            <a:chExt cx="8381880" cy="1341360"/>
          </a:xfrm>
        </p:grpSpPr>
        <p:pic>
          <p:nvPicPr>
            <p:cNvPr id="443" name="" descr=""/>
            <p:cNvPicPr/>
            <p:nvPr/>
          </p:nvPicPr>
          <p:blipFill>
            <a:blip r:embed="rId2"/>
            <a:stretch/>
          </p:blipFill>
          <p:spPr>
            <a:xfrm>
              <a:off x="328680" y="5473800"/>
              <a:ext cx="838188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328680" y="5473800"/>
              <a:ext cx="838188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9332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3" marL="9586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b050"/>
                </a:solidFill>
                <a:latin typeface="Calibri"/>
                <a:ea typeface="SimSun"/>
              </a:rPr>
              <a:t>До новых встреч !</a:t>
            </a:r>
            <a:endParaRPr b="0" lang="en-US" sz="9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"/>
          <p:cNvGrpSpPr/>
          <p:nvPr/>
        </p:nvGrpSpPr>
        <p:grpSpPr>
          <a:xfrm>
            <a:off x="560520" y="219240"/>
            <a:ext cx="8308800" cy="2017440"/>
            <a:chOff x="560520" y="219240"/>
            <a:chExt cx="8308800" cy="2017440"/>
          </a:xfrm>
        </p:grpSpPr>
        <p:pic>
          <p:nvPicPr>
            <p:cNvPr id="395" name="" descr=""/>
            <p:cNvPicPr/>
            <p:nvPr/>
          </p:nvPicPr>
          <p:blipFill>
            <a:blip r:embed="rId2"/>
            <a:stretch/>
          </p:blipFill>
          <p:spPr>
            <a:xfrm>
              <a:off x="560520" y="219240"/>
              <a:ext cx="8308800" cy="201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560520" y="219240"/>
              <a:ext cx="8308800" cy="20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91440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1692360" y="2320920"/>
            <a:ext cx="6048360" cy="44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-34920" y="0"/>
            <a:ext cx="4175280" cy="336384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3"/>
          <a:stretch/>
        </p:blipFill>
        <p:spPr>
          <a:xfrm>
            <a:off x="4140360" y="3363840"/>
            <a:ext cx="5003640" cy="353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"/>
          <p:cNvGrpSpPr/>
          <p:nvPr/>
        </p:nvGrpSpPr>
        <p:grpSpPr>
          <a:xfrm>
            <a:off x="5473800" y="4711680"/>
            <a:ext cx="3689280" cy="2408400"/>
            <a:chOff x="5473800" y="4711680"/>
            <a:chExt cx="3689280" cy="240840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tretch/>
          </p:blipFill>
          <p:spPr>
            <a:xfrm>
              <a:off x="5473800" y="4711680"/>
              <a:ext cx="3689280" cy="24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5473800" y="4711680"/>
              <a:ext cx="3689280" cy="24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250920" y="0"/>
            <a:ext cx="536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dfe6d0"/>
                </a:solidFill>
                <a:latin typeface="Calibri"/>
                <a:ea typeface="SimSun"/>
              </a:rPr>
              <a:t>  </a:t>
            </a:r>
            <a:r>
              <a:rPr b="1" lang="ru-RU" sz="4000" spc="-1" strike="noStrike">
                <a:solidFill>
                  <a:srgbClr val="dfe6d0"/>
                </a:solidFill>
                <a:latin typeface="Calibri"/>
                <a:ea typeface="SimSun"/>
              </a:rPr>
              <a:t>Николай Андреевич   Римский-Корсаков </a:t>
            </a:r>
            <a:r>
              <a:rPr b="0" lang="ru-RU" sz="2400" spc="-1" strike="noStrike">
                <a:solidFill>
                  <a:srgbClr val="dfe6d0"/>
                </a:solidFill>
                <a:latin typeface="Calibri"/>
                <a:ea typeface="SimSun"/>
              </a:rPr>
              <a:t>– русский композитор,  педагог,  дирижер,  музыкально-общественный деятель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fe6d0"/>
                </a:solidFill>
                <a:latin typeface="Calibri"/>
                <a:ea typeface="SimSun"/>
              </a:rPr>
              <a:t>  </a:t>
            </a:r>
            <a:r>
              <a:rPr b="0" lang="ru-RU" sz="2400" spc="-1" strike="noStrike">
                <a:solidFill>
                  <a:srgbClr val="dfe6d0"/>
                </a:solidFill>
                <a:latin typeface="Calibri"/>
                <a:ea typeface="SimSun"/>
              </a:rPr>
              <a:t>Основные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fe6d0"/>
                </a:solidFill>
                <a:latin typeface="Calibri"/>
                <a:ea typeface="SimSun"/>
              </a:rPr>
              <a:t>произведения –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fe6d0"/>
                </a:solidFill>
                <a:latin typeface="Calibri"/>
                <a:ea typeface="SimSun"/>
              </a:rPr>
              <a:t>оперы(15) на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fe6d0"/>
                </a:solidFill>
                <a:latin typeface="Calibri"/>
                <a:ea typeface="SimSun"/>
              </a:rPr>
              <a:t>сказочные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fe6d0"/>
                </a:solidFill>
                <a:latin typeface="Calibri"/>
                <a:ea typeface="SimSun"/>
              </a:rPr>
              <a:t>сюжеты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5324400" y="115920"/>
            <a:ext cx="3700440" cy="501336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3049560" y="2481120"/>
            <a:ext cx="2263680" cy="41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2798640" y="115920"/>
            <a:ext cx="3132360" cy="40608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250920" y="2276640"/>
            <a:ext cx="3449520" cy="44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-27000" y="0"/>
            <a:ext cx="1970280" cy="68580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3"/>
          <a:stretch/>
        </p:blipFill>
        <p:spPr>
          <a:xfrm>
            <a:off x="1927080" y="-14400"/>
            <a:ext cx="7220160" cy="687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-3240" y="-25560"/>
            <a:ext cx="9185400" cy="688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2900520" y="0"/>
            <a:ext cx="3346200" cy="412596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3240" y="4095720"/>
            <a:ext cx="9140760" cy="27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1800360" y="1079640"/>
            <a:ext cx="5870520" cy="4653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8T12:44:35Z</dcterms:created>
  <dc:creator>Sasha</dc:creator>
  <dc:description/>
  <dc:language>en-US</dc:language>
  <cp:lastModifiedBy>Sasha</cp:lastModifiedBy>
  <dcterms:modified xsi:type="dcterms:W3CDTF">2013-11-28T18:03:36Z</dcterms:modified>
  <cp:revision>11</cp:revision>
  <dc:subject/>
  <dc:title>композитор дуэт дирижер балет опера увертюра декорации</dc:title>
</cp:coreProperties>
</file>