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5FE0-B3B2-49D0-9D74-860F5BE20A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B2C0-E2D3-43FC-882F-0F03D4E9CF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C26-497E-4A10-9AF2-443FACF2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872-CEC4-4AF0-8320-90220823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EA7-BA6E-48D1-98C2-C34B7119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6FD-8171-4CB2-BCFE-01BDBF80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95D-E82B-4D8B-BCC3-A07A5755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65F-860B-40EA-89B5-4CF78B5C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266-DAE2-44CC-A719-BC8E5CE4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76F-0046-4141-A460-4413CC23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48D-C1CF-4939-88B2-171125BF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120-E793-40A0-B3A7-F748E78A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7F9-2AE7-4713-ABBA-B0ECF84D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0B7-1287-4C25-9FB7-BBBA967E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09C7-0979-48A4-8884-B204260E5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tsarivan4"/>
          <p:cNvPicPr/>
          <p:nvPr/>
        </p:nvPicPr>
        <p:blipFill>
          <a:blip r:embed="rId2"/>
          <a:stretch/>
        </p:blipFill>
        <p:spPr>
          <a:xfrm>
            <a:off x="1214280" y="500040"/>
            <a:ext cx="3224520" cy="568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TextBox 5"/>
          <p:cNvSpPr/>
          <p:nvPr/>
        </p:nvSpPr>
        <p:spPr>
          <a:xfrm>
            <a:off x="5000760" y="1714680"/>
            <a:ext cx="371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ван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IV (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Грозный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)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– первый русский ц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5286240" y="578628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Кожемяко Лиза , 4 А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4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1357200" y="1000080"/>
            <a:ext cx="6286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428840" y="357120"/>
            <a:ext cx="6786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 середины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XVI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(16) века Русь стали называть Московским царством. А Москву считать главным городом русского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ервым русским царём бы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ВАН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IV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ГРОЗНЫЙ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Первый государь всея Руси Иоанн III Васильевич - Литературная газета"/>
          <p:cNvPicPr/>
          <p:nvPr/>
        </p:nvPicPr>
        <p:blipFill>
          <a:blip r:embed="rId2"/>
          <a:stretch/>
        </p:blipFill>
        <p:spPr>
          <a:xfrm>
            <a:off x="3786120" y="2714760"/>
            <a:ext cx="253044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Изображение 012"/>
          <p:cNvPicPr/>
          <p:nvPr/>
        </p:nvPicPr>
        <p:blipFill>
          <a:blip r:embed="rId3"/>
          <a:stretch/>
        </p:blipFill>
        <p:spPr>
          <a:xfrm>
            <a:off x="6500880" y="1785960"/>
            <a:ext cx="235728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9" descr="Изображение 006"/>
          <p:cNvPicPr/>
          <p:nvPr/>
        </p:nvPicPr>
        <p:blipFill>
          <a:blip r:embed="rId4"/>
          <a:stretch/>
        </p:blipFill>
        <p:spPr>
          <a:xfrm>
            <a:off x="428760" y="1857240"/>
            <a:ext cx="2695320" cy="25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TextBox 10"/>
          <p:cNvSpPr/>
          <p:nvPr/>
        </p:nvSpPr>
        <p:spPr>
          <a:xfrm>
            <a:off x="4929120" y="6357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285840" y="4572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Герб Москвы при Иване Гроз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1357200" y="1000080"/>
            <a:ext cx="6286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1643040" y="357120"/>
            <a:ext cx="535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Учреждено стрелецкое войск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429080" y="1214280"/>
            <a:ext cx="4357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Формирование стрелецкого войска началось в  1540  годы</a:t>
            </a:r>
            <a:r>
              <a:rPr b="0" lang="ru-RU" sz="2000" spc="-1" strike="noStrike" baseline="30000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 при Иване IV Грозном. В 1550 году  царь повелел учредить в Москве  -особое соединение царской рати — московское  стрелецкое  войско. Первое боевое крещение московские стрельцы приняли во время осады и штурма Казани в 1552 году и в дальнейшем являлись непременными участниками всех основных военных кампаний. В мирное время стрельцы московские и городовые несли гарнизонную службу, выполняя в городах функции  полиции и пожар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Первое регулярное войско на Руси &quot; SpyGun - мужской информац…"/>
          <p:cNvPicPr/>
          <p:nvPr/>
        </p:nvPicPr>
        <p:blipFill>
          <a:blip r:embed="rId2"/>
          <a:stretch/>
        </p:blipFill>
        <p:spPr>
          <a:xfrm>
            <a:off x="571680" y="4286160"/>
            <a:ext cx="3357360" cy="235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alternathistory.org.ua/files/resize/users/user305/3c8543f5078a-640x457.jpg"/>
          <p:cNvPicPr/>
          <p:nvPr/>
        </p:nvPicPr>
        <p:blipFill>
          <a:blip r:embed="rId3"/>
          <a:stretch/>
        </p:blipFill>
        <p:spPr>
          <a:xfrm>
            <a:off x="214200" y="1143000"/>
            <a:ext cx="4102200" cy="2928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2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928800" y="357120"/>
            <a:ext cx="750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Иван IV вошёл в историю не только как завоеватель. Он был одним из самых образованных людей своего времени, обладал феноменальной памятью. Он любил ездить по монастырям, интересовался описанием жизни великих царей прошл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2428920" y="42861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ommons:Featured pictures/chronological/2008-A Picture Gallery - Photo Gallery - Images"/>
          <p:cNvPicPr/>
          <p:nvPr/>
        </p:nvPicPr>
        <p:blipFill>
          <a:blip r:embed="rId2"/>
          <a:stretch/>
        </p:blipFill>
        <p:spPr>
          <a:xfrm>
            <a:off x="4714920" y="3214800"/>
            <a:ext cx="4213080" cy="3160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Иван Грозный. Обсуждение на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428760" y="1928880"/>
            <a:ext cx="4073400" cy="2857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1428840" y="214200"/>
            <a:ext cx="657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Типография Ивана Фёдоро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1143000" y="2714760"/>
            <a:ext cx="3214800" cy="355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5000760" y="3071880"/>
            <a:ext cx="3582720" cy="22143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7"/>
          <p:cNvSpPr/>
          <p:nvPr/>
        </p:nvSpPr>
        <p:spPr>
          <a:xfrm>
            <a:off x="428760" y="785880"/>
            <a:ext cx="84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Царь способствовал организации книгопечатания в Москве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На Руси начали печатать книги.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До этого книги писались от руки, а теперь по указанию Ивана Грозного книги стали печатать. На Руси начали печатать книги. Книга «Домострой» (руководство к жизни) о жизни и занятиях людей, живших в то время, о ведении хозяйства и отношениях между членами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5000760" y="521496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Первый печатный ста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Ивана   Федорова 156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7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928800" y="642960"/>
            <a:ext cx="7715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Первый букварь. Теперь в школе стали обучать детей грамоте с помощью этой книг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1143000" y="1785960"/>
            <a:ext cx="6985080" cy="4071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2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857160" y="500040"/>
            <a:ext cx="792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1550 году был введен в действие новый Судебник (судебником именовался свод действующих законов, нечто среднее между уголовником и конституцией), расширенный, гораздо более систематизированный и учитывающий то новое, что накопилось в судебной практике со времен введения старого Судебника (1497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Судебник ивана III"/>
          <p:cNvPicPr/>
          <p:nvPr/>
        </p:nvPicPr>
        <p:blipFill>
          <a:blip r:embed="rId2"/>
          <a:stretch/>
        </p:blipFill>
        <p:spPr>
          <a:xfrm>
            <a:off x="2000160" y="2214720"/>
            <a:ext cx="5214960" cy="3911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7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1143000" y="285840"/>
            <a:ext cx="757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Для России время правления Ивана Грозного осталось одной из самых мрачных полос её исто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и вступлении на престол Иван унаследовал 2,8 млн кв. км, а в результате его правления территория государства увеличилась почти вдвое — до 5.4 млн кв. км — чуть больше, чем вся остальная Европа. За то же время население России сократилось с примерно 9-10 млн до 6-7 млн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1571760" y="3214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5000760" y="2643120"/>
            <a:ext cx="3857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прочем, будем справедливы. За время царствования Ивана Грозного Россия превратилась в огромную державу, включившую земли Казанского и Астраханского ханств, Западной Сибири от Ледовитого океана до Каспийского моря, расширились  торговые и культурные связи со странами Европы и 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Королевская рать Записи в рубрике Королевская рать Дневник Татьяна_Ергунова :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428760" y="2857680"/>
            <a:ext cx="4276440" cy="3214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4786200" y="785880"/>
            <a:ext cx="39290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Первый русский царь Иван  </a:t>
            </a:r>
            <a:r>
              <a:rPr b="0" lang="en-US" sz="2500" spc="-1" strike="noStrike">
                <a:solidFill>
                  <a:srgbClr val="002060"/>
                </a:solidFill>
                <a:latin typeface="Calibri"/>
                <a:ea typeface="Tahoma"/>
              </a:rPr>
              <a:t>IV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  <a:ea typeface="Tahoma"/>
              </a:rPr>
              <a:t>  Грозный – одна из самых таинственных и противоречивых личностей в мировой истории. Он и кровавый деспот, и великий реформатор,и объединитель государства Российског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5286240" y="578628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cdn.famous101.com/wp-content/uploads/2013/05/Ivan-IV-Vasilyevich-228x300.jpg"/>
          <p:cNvPicPr/>
          <p:nvPr/>
        </p:nvPicPr>
        <p:blipFill>
          <a:blip r:embed="rId2"/>
          <a:stretch/>
        </p:blipFill>
        <p:spPr>
          <a:xfrm>
            <a:off x="642960" y="785880"/>
            <a:ext cx="3692520" cy="4857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H:\Documents and Settings\Aida\Рабочий стол\клипарты рамки фончики\karty\karty\map15.jpg"/>
          <p:cNvPicPr/>
          <p:nvPr/>
        </p:nvPicPr>
        <p:blipFill>
          <a:blip r:embed="rId2"/>
          <a:stretch/>
        </p:blipFill>
        <p:spPr>
          <a:xfrm>
            <a:off x="214200" y="571680"/>
            <a:ext cx="3946680" cy="321444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4214880" y="500040"/>
            <a:ext cx="4214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Из маленького городка Москва превратилась в центр большого княжества. К московскому княжеству присоединились многие города. Из Москвы ехали торговать в Киев, Новгород, Смоленск, Владим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 Москву приезжали люди, чтобы строить, шить одежду, печь хлеб. Население Москвы быстро росло, город расширялся  и богате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Olh\Desktop\img16.jpg"/>
          <p:cNvPicPr/>
          <p:nvPr/>
        </p:nvPicPr>
        <p:blipFill>
          <a:blip r:embed="rId3"/>
          <a:stretch/>
        </p:blipFill>
        <p:spPr>
          <a:xfrm>
            <a:off x="285840" y="3857760"/>
            <a:ext cx="3857400" cy="2724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3714840" y="5000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428760" y="4000680"/>
            <a:ext cx="8358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В летнюю ночь 1530 года над Москвой разразилась страшная буря. Переглядывались, перешёптывались лю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«Наступает недоброе время, быть беде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В ту страшную ночь родился будущий первый русский царь –   ИВАН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IV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Он рано потерял родителей, его окружали злые и равнодушные люди, которые думали не о судьбе мальчика, а о власти и деньгах. Горькое детство озлобило будущего царя, он стал подозрительным и жестоким. И прозвал народ ИВАН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IV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 – Гроз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elenaglinsk"/>
          <p:cNvPicPr/>
          <p:nvPr/>
        </p:nvPicPr>
        <p:blipFill>
          <a:blip r:embed="rId2"/>
          <a:stretch/>
        </p:blipFill>
        <p:spPr>
          <a:xfrm>
            <a:off x="1071720" y="285840"/>
            <a:ext cx="2344680" cy="278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vas3"/>
          <p:cNvPicPr/>
          <p:nvPr/>
        </p:nvPicPr>
        <p:blipFill>
          <a:blip r:embed="rId3"/>
          <a:stretch/>
        </p:blipFill>
        <p:spPr>
          <a:xfrm>
            <a:off x="6357960" y="285840"/>
            <a:ext cx="235728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TextBox 10"/>
          <p:cNvSpPr/>
          <p:nvPr/>
        </p:nvSpPr>
        <p:spPr>
          <a:xfrm>
            <a:off x="500040" y="32148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Мама Ивана Гроз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                     –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Елена Гл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6215040" y="321480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Отец- Василий </a:t>
            </a:r>
            <a:r>
              <a:rPr b="1" i="1" lang="en-US" sz="1800" spc="-1" strike="noStrike">
                <a:solidFill>
                  <a:srgbClr val="002060"/>
                </a:solidFill>
                <a:latin typeface="Calibri"/>
              </a:rPr>
              <a:t>III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великий князь всея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книга040"/>
          <p:cNvPicPr/>
          <p:nvPr/>
        </p:nvPicPr>
        <p:blipFill>
          <a:blip r:embed="rId4"/>
          <a:stretch/>
        </p:blipFill>
        <p:spPr>
          <a:xfrm>
            <a:off x="3786120" y="500040"/>
            <a:ext cx="2151000" cy="2357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1143000" y="500040"/>
            <a:ext cx="70722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16 января 1547 г. состоялась торжественная церемония – венчание на царств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Царский титул Ивана </a:t>
            </a:r>
            <a:r>
              <a:rPr b="0" lang="en-US" sz="2500" spc="-1" strike="noStrike">
                <a:solidFill>
                  <a:srgbClr val="002060"/>
                </a:solidFill>
                <a:latin typeface="Calibri"/>
                <a:ea typeface="Tahoma"/>
              </a:rPr>
              <a:t>IV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  <a:ea typeface="Tahoma"/>
              </a:rPr>
              <a:t>  «Царь и Великий князь всея Руси и Московского государства» был официально подтвержден константинопольским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Патриарх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книга032"/>
          <p:cNvPicPr/>
          <p:nvPr/>
        </p:nvPicPr>
        <p:blipFill>
          <a:blip r:embed="rId2"/>
          <a:stretch/>
        </p:blipFill>
        <p:spPr>
          <a:xfrm>
            <a:off x="428760" y="3071880"/>
            <a:ext cx="2358720" cy="242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книга036"/>
          <p:cNvPicPr/>
          <p:nvPr/>
        </p:nvPicPr>
        <p:blipFill>
          <a:blip r:embed="rId3"/>
          <a:srcRect l="14641" t="2172" r="4875" b="0"/>
          <a:stretch/>
        </p:blipFill>
        <p:spPr>
          <a:xfrm>
            <a:off x="6858000" y="2857680"/>
            <a:ext cx="2035080" cy="278604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714240" y="5929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Шапка казанская – к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Ивана Гроз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5929200" y="600084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Трон Ивана Гроз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244"/>
          <p:cNvPicPr/>
          <p:nvPr/>
        </p:nvPicPr>
        <p:blipFill>
          <a:blip r:embed="rId4"/>
          <a:stretch/>
        </p:blipFill>
        <p:spPr>
          <a:xfrm>
            <a:off x="3357720" y="2786040"/>
            <a:ext cx="2365200" cy="20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Box 10"/>
          <p:cNvSpPr/>
          <p:nvPr/>
        </p:nvSpPr>
        <p:spPr>
          <a:xfrm>
            <a:off x="3429000" y="52862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Скипетр и держа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857160" y="28584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ем  прославился Иван Грозный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114300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14240" y="1428840"/>
            <a:ext cx="807264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Подозрительный и жестокий правит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Опричники. Погром в Новгоро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Новый герб Моск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Укрепление русского войс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асширение территории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Начало книгопечатания на Руси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800px-0NevrevNV_Oprichniki_BISH"/>
          <p:cNvPicPr/>
          <p:nvPr/>
        </p:nvPicPr>
        <p:blipFill>
          <a:blip r:embed="rId2"/>
          <a:stretch/>
        </p:blipFill>
        <p:spPr>
          <a:xfrm>
            <a:off x="357120" y="2286000"/>
            <a:ext cx="4021200" cy="2714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1143000" y="571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000080" y="357120"/>
            <a:ext cx="7500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Calibri"/>
              </a:rPr>
              <a:t>Время царствования Ивана Грозного отмечается </a:t>
            </a:r>
            <a:r>
              <a:rPr b="0" lang="ru-RU" sz="25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массовыми казнями и убийствами, разгромом Новгорода и ряда других городов (Тверь, Клин, Торжок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Разорение Новгорода"/>
          <p:cNvPicPr/>
          <p:nvPr/>
        </p:nvPicPr>
        <p:blipFill>
          <a:blip r:embed="rId3"/>
          <a:stretch/>
        </p:blipFill>
        <p:spPr>
          <a:xfrm>
            <a:off x="4714920" y="3214800"/>
            <a:ext cx="4025880" cy="2714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8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3500280" y="714240"/>
            <a:ext cx="5214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1552 г. Штурмом  была взята Каз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азанское ханство  вошло в сост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Московского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1556 г. к Московскому государству б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рисоединена Астрахань, и 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казалась во владениях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честь покорения Казани у  кремлевских стен в 1555 – 1561 годах возвели храм Покрова Пресвятой Богородицы, более известный как храм Василия Блаж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книга037"/>
          <p:cNvPicPr/>
          <p:nvPr/>
        </p:nvPicPr>
        <p:blipFill>
          <a:blip r:embed="rId2"/>
          <a:stretch/>
        </p:blipFill>
        <p:spPr>
          <a:xfrm>
            <a:off x="1000080" y="642960"/>
            <a:ext cx="2071800" cy="266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Путешествия"/>
          <p:cNvPicPr/>
          <p:nvPr/>
        </p:nvPicPr>
        <p:blipFill>
          <a:blip r:embed="rId3"/>
          <a:stretch/>
        </p:blipFill>
        <p:spPr>
          <a:xfrm>
            <a:off x="1428840" y="3714840"/>
            <a:ext cx="4357440" cy="2925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Ответы@Mail.Ru: Быль или небыль."/>
          <p:cNvPicPr/>
          <p:nvPr/>
        </p:nvPicPr>
        <p:blipFill>
          <a:blip r:embed="rId4"/>
          <a:stretch/>
        </p:blipFill>
        <p:spPr>
          <a:xfrm>
            <a:off x="6429240" y="3643200"/>
            <a:ext cx="2000520" cy="2936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5" name="Picture 2" descr="C:\Users\Olh\Desktop\pp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357200" y="1000080"/>
            <a:ext cx="6286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1428840" y="1214280"/>
            <a:ext cx="6572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000080" y="285840"/>
            <a:ext cx="771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В годы правления Ивана Грозного территория Московского государства значительно выросла. Осенью  1582 г. казаки во главе с Ермаком разгромили Сибирское ханство Кучума. Отныне Сибирь стала российско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Иван Грозный: поиск альтернативных путей социально-политичес…"/>
          <p:cNvPicPr/>
          <p:nvPr/>
        </p:nvPicPr>
        <p:blipFill>
          <a:blip r:embed="rId2"/>
          <a:stretch/>
        </p:blipFill>
        <p:spPr>
          <a:xfrm>
            <a:off x="285840" y="1785960"/>
            <a:ext cx="3676680" cy="4762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Покорение Сибирского ханства. Эпизод - IV. Битва!"/>
          <p:cNvPicPr/>
          <p:nvPr/>
        </p:nvPicPr>
        <p:blipFill>
          <a:blip r:embed="rId3"/>
          <a:stretch/>
        </p:blipFill>
        <p:spPr>
          <a:xfrm>
            <a:off x="4286160" y="164304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Покорение Сибирского ханства. Эпизод - I."/>
          <p:cNvPicPr/>
          <p:nvPr/>
        </p:nvPicPr>
        <p:blipFill>
          <a:blip r:embed="rId4"/>
          <a:stretch/>
        </p:blipFill>
        <p:spPr>
          <a:xfrm>
            <a:off x="5572080" y="4143240"/>
            <a:ext cx="3332160" cy="2497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08:42:19Z</dcterms:created>
  <dc:creator>Olh</dc:creator>
  <dc:description/>
  <dc:language>en-US</dc:language>
  <cp:lastModifiedBy>Olh</cp:lastModifiedBy>
  <dcterms:modified xsi:type="dcterms:W3CDTF">2015-03-19T16:57:33Z</dcterms:modified>
  <cp:revision>26</cp:revision>
  <dc:subject/>
  <dc:title>Слайд 1</dc:title>
</cp:coreProperties>
</file>