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81CA-2EEF-48C3-BEC2-29B756550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AE5-2F5C-414E-AD3E-3062AE918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B4B-830C-43EF-9D58-20218DDD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621-ADB6-49E0-87E4-BA296AE3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18C-DB0E-41B6-9C11-40E10F4C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20F-1848-45B9-A157-FE05CE2E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611-CDEF-4464-9EFE-B769EE40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00C-5B3F-4622-A4CE-9C6D1F8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D5B-7B4A-47A4-9438-ED54682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80B-8DC5-4628-B52E-ACBDFE6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F32-D6F2-4A6E-A980-E7FEF3B2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81C-B3C8-425D-97CF-B9952D1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16B-CD73-4357-AE56-1FB85C7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1E1-06A1-46B9-ACA9-AAB6180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5B2E-8439-46B3-AACC-A9BFA463B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tsarivan4"/>
          <p:cNvPicPr/>
          <p:nvPr/>
        </p:nvPicPr>
        <p:blipFill>
          <a:blip r:embed="rId2"/>
          <a:stretch/>
        </p:blipFill>
        <p:spPr>
          <a:xfrm>
            <a:off x="1214280" y="500040"/>
            <a:ext cx="3224520" cy="568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TextBox 5"/>
          <p:cNvSpPr/>
          <p:nvPr/>
        </p:nvSpPr>
        <p:spPr>
          <a:xfrm>
            <a:off x="5000760" y="1714680"/>
            <a:ext cx="371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ван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IV (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розный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– первый русский ц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5286240" y="57862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Кожемяко Лиза , 4 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428840" y="357120"/>
            <a:ext cx="678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 середины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XVI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(16) века Русь стали называть Московским царством. А Москву считать главным городом рус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ервым русским царём б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ВАН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РОЗНЫЙ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Первый государь всея Руси Иоанн III Васильевич - Литературная газета"/>
          <p:cNvPicPr/>
          <p:nvPr/>
        </p:nvPicPr>
        <p:blipFill>
          <a:blip r:embed="rId2"/>
          <a:stretch/>
        </p:blipFill>
        <p:spPr>
          <a:xfrm>
            <a:off x="3786120" y="271476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Изображение 012"/>
          <p:cNvPicPr/>
          <p:nvPr/>
        </p:nvPicPr>
        <p:blipFill>
          <a:blip r:embed="rId3"/>
          <a:stretch/>
        </p:blipFill>
        <p:spPr>
          <a:xfrm>
            <a:off x="6500880" y="1785960"/>
            <a:ext cx="23572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9" descr="Изображение 006"/>
          <p:cNvPicPr/>
          <p:nvPr/>
        </p:nvPicPr>
        <p:blipFill>
          <a:blip r:embed="rId4"/>
          <a:stretch/>
        </p:blipFill>
        <p:spPr>
          <a:xfrm>
            <a:off x="428760" y="1857240"/>
            <a:ext cx="2695320" cy="25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Box 10"/>
          <p:cNvSpPr/>
          <p:nvPr/>
        </p:nvSpPr>
        <p:spPr>
          <a:xfrm>
            <a:off x="4929120" y="6357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28584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ерб Москвы при Иване Гроз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643040" y="357120"/>
            <a:ext cx="535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Учреждено стрелецкое войс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429080" y="1214280"/>
            <a:ext cx="435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Формирование стрелецкого войска началось в  1540  годы</a:t>
            </a:r>
            <a:r>
              <a:rPr b="0" lang="ru-RU" sz="2000" spc="-1" strike="noStrike" baseline="30000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при Иване IV Грозном. В 1550 году  царь повелел учредить в Москве  -особое соединение царской рати — московское  стрелецкое  войско. Первое боевое крещение московские стрельцы приняли во время осады и штурма Казани в 1552 году и в дальнейшем являлись непременными участниками всех основных военных кампаний. В мирное время стрельцы московские и городовые несли гарнизонную службу, выполняя в городах функции  полиции и пожар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Первое регулярное войско на Руси &quot; SpyGun - мужской информац…"/>
          <p:cNvPicPr/>
          <p:nvPr/>
        </p:nvPicPr>
        <p:blipFill>
          <a:blip r:embed="rId2"/>
          <a:stretch/>
        </p:blipFill>
        <p:spPr>
          <a:xfrm>
            <a:off x="571680" y="4286160"/>
            <a:ext cx="3357360" cy="235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alternathistory.org.ua/files/resize/users/user305/3c8543f5078a-640x457.jpg"/>
          <p:cNvPicPr/>
          <p:nvPr/>
        </p:nvPicPr>
        <p:blipFill>
          <a:blip r:embed="rId3"/>
          <a:stretch/>
        </p:blipFill>
        <p:spPr>
          <a:xfrm>
            <a:off x="214200" y="1143000"/>
            <a:ext cx="4102200" cy="2928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928800" y="357120"/>
            <a:ext cx="750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Иван IV вошёл в историю не только как завоеватель. Он был одним из самых образованных людей своего времени, обладал феноменальной памятью. Он любил ездить по монастырям, интересовался описанием жизни великих царей прошл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428920" y="42861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ommons:Featured pictures/chronological/2008-A Picture Gallery - Photo Gallery - Images"/>
          <p:cNvPicPr/>
          <p:nvPr/>
        </p:nvPicPr>
        <p:blipFill>
          <a:blip r:embed="rId2"/>
          <a:stretch/>
        </p:blipFill>
        <p:spPr>
          <a:xfrm>
            <a:off x="4714920" y="3214800"/>
            <a:ext cx="4213080" cy="316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Иван Грозный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428760" y="1928880"/>
            <a:ext cx="4073400" cy="285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428840" y="214200"/>
            <a:ext cx="657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Типография Ивана Фёдор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143000" y="2714760"/>
            <a:ext cx="3214800" cy="355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5000760" y="3071880"/>
            <a:ext cx="3582720" cy="2214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428760" y="785880"/>
            <a:ext cx="84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Царь способствовал организации книгопечатания в Москве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На Руси начали печатать книги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о этого книги писались от руки, а теперь по указанию Ивана Грозного книги стали печатать. На Руси начали печатать книги. Книга «Домострой» (руководство к жизни) о жизни и занятиях людей, живших в то время, о ведении хозяйства и отношениях между членами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000760" y="521496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Первый печатный ст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Ивана   Федорова 156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7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928800" y="642960"/>
            <a:ext cx="7715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ервый букварь. Теперь в школе стали обучать детей грамоте с помощью этой книг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6985080" cy="4071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2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857160" y="50004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0 году был введен в действие новый Судебник (судебником именовался свод действующих законов, нечто среднее между уголовником и конституцией), расширенный, гораздо более систематизированный и учитывающий то новое, что накопилось в судебной практике со времен введения старого Судебника (1497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Судебник ивана III"/>
          <p:cNvPicPr/>
          <p:nvPr/>
        </p:nvPicPr>
        <p:blipFill>
          <a:blip r:embed="rId2"/>
          <a:stretch/>
        </p:blipFill>
        <p:spPr>
          <a:xfrm>
            <a:off x="2000160" y="2214720"/>
            <a:ext cx="5214960" cy="3911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7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143000" y="2858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Для России время правления Ивана Грозного осталось одной из самых мрачных полос её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 вступлении на престол Иван унаследовал 2,8 млн кв. км, а в результате его правления территория государства увеличилась почти вдвое — до 5.4 млн кв. км — чуть больше, чем вся остальная Европа. За то же время население России сократилось с примерно 9-10 млн до 6-7 млн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1571760" y="3214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000760" y="2643120"/>
            <a:ext cx="3857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прочем, будем справедливы. За время царствования Ивана Грозного Россия превратилась в огромную державу, включившую земли Казанского и Астраханского ханств, Западной Сибири от Ледовитого океана до Каспийского моря, расширились  торговые и культурные связи со странами Европы и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Королевская рать Записи в рубрике Королевская рать Дневник Татьяна_Ергунова :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28760" y="2857680"/>
            <a:ext cx="4276440" cy="3214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786200" y="785880"/>
            <a:ext cx="3929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ервый русский царь Иван  </a:t>
            </a:r>
            <a:r>
              <a:rPr b="0" lang="en-US" sz="2500" spc="-1" strike="noStrike">
                <a:solidFill>
                  <a:srgbClr val="002060"/>
                </a:solidFill>
                <a:latin typeface="Calibri"/>
                <a:ea typeface="Tahoma"/>
              </a:rPr>
              <a:t>IV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  <a:ea typeface="Tahoma"/>
              </a:rPr>
              <a:t>  Грозный – одна из самых таинственных и противоречивых личностей в мировой истории. Он и кровавый деспот, и великий реформатор,и объединитель государства Российског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286240" y="57862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cdn.famous101.com/wp-content/uploads/2013/05/Ivan-IV-Vasilyevich-228x300.jpg"/>
          <p:cNvPicPr/>
          <p:nvPr/>
        </p:nvPicPr>
        <p:blipFill>
          <a:blip r:embed="rId2"/>
          <a:stretch/>
        </p:blipFill>
        <p:spPr>
          <a:xfrm>
            <a:off x="642960" y="785880"/>
            <a:ext cx="3692520" cy="4857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:\Documents and Settings\Aida\Рабочий стол\клипарты рамки фончики\karty\karty\map15.jpg"/>
          <p:cNvPicPr/>
          <p:nvPr/>
        </p:nvPicPr>
        <p:blipFill>
          <a:blip r:embed="rId2"/>
          <a:stretch/>
        </p:blipFill>
        <p:spPr>
          <a:xfrm>
            <a:off x="214200" y="571680"/>
            <a:ext cx="3946680" cy="3214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214880" y="50004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Из маленького городка Москва превратилась в центр большого княжества. К московскому княжеству присоединились многие города. Из Москвы ехали торговать в Киев, Новгород, Смоленск, Влади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Москву приезжали люди, чтобы строить, шить одежду, печь хлеб. Население Москвы быстро росло, город расширялся  и богате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Olh\Desktop\img16.jpg"/>
          <p:cNvPicPr/>
          <p:nvPr/>
        </p:nvPicPr>
        <p:blipFill>
          <a:blip r:embed="rId3"/>
          <a:stretch/>
        </p:blipFill>
        <p:spPr>
          <a:xfrm>
            <a:off x="285840" y="3857760"/>
            <a:ext cx="3857400" cy="2724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371484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28760" y="4000680"/>
            <a:ext cx="835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В летнюю ночь 1530 года над Москвой разразилась страшная буря. Переглядывались, перешёптывались лю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«Наступает недоброе время, быть беде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В ту страшную ночь родился будущий первый русский царь –   ИВАН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V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н рано потерял родителей, его окружали злые и равнодушные люди, которые думали не о судьбе мальчика, а о власти и деньгах. Горькое детство озлобило будущего царя, он стал подозрительным и жестоким. И прозвал народ ИВАН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V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– Гроз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elenaglinsk"/>
          <p:cNvPicPr/>
          <p:nvPr/>
        </p:nvPicPr>
        <p:blipFill>
          <a:blip r:embed="rId2"/>
          <a:stretch/>
        </p:blipFill>
        <p:spPr>
          <a:xfrm>
            <a:off x="1071720" y="285840"/>
            <a:ext cx="234468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vas3"/>
          <p:cNvPicPr/>
          <p:nvPr/>
        </p:nvPicPr>
        <p:blipFill>
          <a:blip r:embed="rId3"/>
          <a:stretch/>
        </p:blipFill>
        <p:spPr>
          <a:xfrm>
            <a:off x="6357960" y="285840"/>
            <a:ext cx="235728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0"/>
          <p:cNvSpPr/>
          <p:nvPr/>
        </p:nvSpPr>
        <p:spPr>
          <a:xfrm>
            <a:off x="500040" y="32148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Мама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                    –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Елена Гл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6215040" y="3214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Отец- Василий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великий князь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нига040"/>
          <p:cNvPicPr/>
          <p:nvPr/>
        </p:nvPicPr>
        <p:blipFill>
          <a:blip r:embed="rId4"/>
          <a:stretch/>
        </p:blipFill>
        <p:spPr>
          <a:xfrm>
            <a:off x="3786120" y="500040"/>
            <a:ext cx="2151000" cy="2357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1143000" y="500040"/>
            <a:ext cx="7072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16 января 1547 г. состоялась торжественная церемония – венчание на царств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Царский титул Ивана </a:t>
            </a:r>
            <a:r>
              <a:rPr b="0" lang="en-US" sz="2500" spc="-1" strike="noStrike">
                <a:solidFill>
                  <a:srgbClr val="002060"/>
                </a:solidFill>
                <a:latin typeface="Calibri"/>
                <a:ea typeface="Tahoma"/>
              </a:rPr>
              <a:t>IV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  <a:ea typeface="Tahoma"/>
              </a:rPr>
              <a:t>  «Царь и Великий князь всея Руси и Московского государства» был официально подтвержден константинопольским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атриарх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нига032"/>
          <p:cNvPicPr/>
          <p:nvPr/>
        </p:nvPicPr>
        <p:blipFill>
          <a:blip r:embed="rId2"/>
          <a:stretch/>
        </p:blipFill>
        <p:spPr>
          <a:xfrm>
            <a:off x="428760" y="3071880"/>
            <a:ext cx="2358720" cy="242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нига036"/>
          <p:cNvPicPr/>
          <p:nvPr/>
        </p:nvPicPr>
        <p:blipFill>
          <a:blip r:embed="rId3"/>
          <a:srcRect l="14641" t="2172" r="4875" b="0"/>
          <a:stretch/>
        </p:blipFill>
        <p:spPr>
          <a:xfrm>
            <a:off x="6858000" y="2857680"/>
            <a:ext cx="2035080" cy="2786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714240" y="5929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Шапка казанская –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929200" y="60008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Трон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44"/>
          <p:cNvPicPr/>
          <p:nvPr/>
        </p:nvPicPr>
        <p:blipFill>
          <a:blip r:embed="rId4"/>
          <a:stretch/>
        </p:blipFill>
        <p:spPr>
          <a:xfrm>
            <a:off x="3357720" y="2786040"/>
            <a:ext cx="236520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Box 10"/>
          <p:cNvSpPr/>
          <p:nvPr/>
        </p:nvSpPr>
        <p:spPr>
          <a:xfrm>
            <a:off x="3429000" y="52862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Скипетр и держ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857160" y="28584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м  прославился Иван Грозный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14300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14240" y="1428840"/>
            <a:ext cx="80726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одозрительный и жестокий прави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ичники. Погром в Новго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Новый герб Моск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крепление русского войс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сширение территории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Начало книгопечатания на Рус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800px-0NevrevNV_Oprichniki_BISH"/>
          <p:cNvPicPr/>
          <p:nvPr/>
        </p:nvPicPr>
        <p:blipFill>
          <a:blip r:embed="rId2"/>
          <a:stretch/>
        </p:blipFill>
        <p:spPr>
          <a:xfrm>
            <a:off x="357120" y="2286000"/>
            <a:ext cx="4021200" cy="2714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1143000" y="571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000080" y="357120"/>
            <a:ext cx="750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Время царствования Ивана Грозного отмечается 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массовыми казнями и убийствами, разгромом Новгорода и ряда других городов (Тверь, Клин, Торжок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Разорение Новгорода"/>
          <p:cNvPicPr/>
          <p:nvPr/>
        </p:nvPicPr>
        <p:blipFill>
          <a:blip r:embed="rId3"/>
          <a:stretch/>
        </p:blipFill>
        <p:spPr>
          <a:xfrm>
            <a:off x="4714920" y="3214800"/>
            <a:ext cx="4025880" cy="2714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3500280" y="714240"/>
            <a:ext cx="5214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2 г. Штурмом  была взята Каз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занское ханство  вошло в сост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осковского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6 г. к Московскому государству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соединена Астрахань, и 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казалась во владениях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честь покорения Казани у  кремлевских стен в 1555 – 1561 годах возвели храм Покрова Пресвятой Богородицы, более известный как храм Василия Блаж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книга037"/>
          <p:cNvPicPr/>
          <p:nvPr/>
        </p:nvPicPr>
        <p:blipFill>
          <a:blip r:embed="rId2"/>
          <a:stretch/>
        </p:blipFill>
        <p:spPr>
          <a:xfrm>
            <a:off x="1000080" y="642960"/>
            <a:ext cx="2071800" cy="266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Путешествия"/>
          <p:cNvPicPr/>
          <p:nvPr/>
        </p:nvPicPr>
        <p:blipFill>
          <a:blip r:embed="rId3"/>
          <a:stretch/>
        </p:blipFill>
        <p:spPr>
          <a:xfrm>
            <a:off x="1428840" y="3714840"/>
            <a:ext cx="4357440" cy="292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Ответы@Mail.Ru: Быль или небыль."/>
          <p:cNvPicPr/>
          <p:nvPr/>
        </p:nvPicPr>
        <p:blipFill>
          <a:blip r:embed="rId4"/>
          <a:stretch/>
        </p:blipFill>
        <p:spPr>
          <a:xfrm>
            <a:off x="6429240" y="3643200"/>
            <a:ext cx="2000520" cy="2936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5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428840" y="1214280"/>
            <a:ext cx="6572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000080" y="28584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годы правления Ивана Грозного территория Московского государства значительно выросла. Осенью  1582 г. казаки во главе с Ермаком разгромили Сибирское ханство Кучума. Отныне Сибирь стала российск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Иван Грозный: поиск альтернативных путей социально-политичес…"/>
          <p:cNvPicPr/>
          <p:nvPr/>
        </p:nvPicPr>
        <p:blipFill>
          <a:blip r:embed="rId2"/>
          <a:stretch/>
        </p:blipFill>
        <p:spPr>
          <a:xfrm>
            <a:off x="285840" y="1785960"/>
            <a:ext cx="3676680" cy="476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Покорение Сибирского ханства. Эпизод - IV. Битва!"/>
          <p:cNvPicPr/>
          <p:nvPr/>
        </p:nvPicPr>
        <p:blipFill>
          <a:blip r:embed="rId3"/>
          <a:stretch/>
        </p:blipFill>
        <p:spPr>
          <a:xfrm>
            <a:off x="4286160" y="16430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Покорение Сибирского ханства. Эпизод - I."/>
          <p:cNvPicPr/>
          <p:nvPr/>
        </p:nvPicPr>
        <p:blipFill>
          <a:blip r:embed="rId4"/>
          <a:stretch/>
        </p:blipFill>
        <p:spPr>
          <a:xfrm>
            <a:off x="5572080" y="4143240"/>
            <a:ext cx="3332160" cy="249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8:42:19Z</dcterms:created>
  <dc:creator>Olh</dc:creator>
  <dc:description/>
  <dc:language>en-US</dc:language>
  <cp:lastModifiedBy>Olh</cp:lastModifiedBy>
  <dcterms:modified xsi:type="dcterms:W3CDTF">2015-03-19T16:57:33Z</dcterms:modified>
  <cp:revision>26</cp:revision>
  <dc:subject/>
  <dc:title>Слайд 1</dc:title>
</cp:coreProperties>
</file>