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12.gif" ContentType="image/gif"/>
  <Override PartName="/ppt/media/image3.png" ContentType="image/png"/>
  <Override PartName="/ppt/media/image40.gif" ContentType="image/gif"/>
  <Override PartName="/ppt/media/image4.png" ContentType="image/png"/>
  <Override PartName="/ppt/media/image24.jpeg" ContentType="image/jpeg"/>
  <Override PartName="/ppt/media/image30.jpeg" ContentType="image/jpeg"/>
  <Override PartName="/ppt/media/image11.gif" ContentType="image/gif"/>
  <Override PartName="/ppt/media/image13.gif" ContentType="image/gif"/>
  <Override PartName="/ppt/media/image31.jpeg" ContentType="image/jpeg"/>
  <Override PartName="/ppt/media/image47.gif" ContentType="image/gif"/>
  <Override PartName="/ppt/media/image10.gif" ContentType="image/gif"/>
  <Override PartName="/ppt/media/image48.png" ContentType="image/png"/>
  <Override PartName="/ppt/media/image33.jpeg" ContentType="image/jpeg"/>
  <Override PartName="/ppt/media/image45.png" ContentType="image/png"/>
  <Override PartName="/ppt/media/image32.jpeg" ContentType="image/jpeg"/>
  <Override PartName="/ppt/media/image38.jpeg" ContentType="image/jpeg"/>
  <Override PartName="/ppt/media/image49.jpeg" ContentType="image/jpeg"/>
  <Override PartName="/ppt/media/image16.jpeg" ContentType="image/jpeg"/>
  <Override PartName="/ppt/media/image9.gif" ContentType="image/gif"/>
  <Override PartName="/ppt/media/image44.gif" ContentType="image/gif"/>
  <Override PartName="/ppt/media/image34.jpeg" ContentType="image/jpeg"/>
  <Override PartName="/ppt/media/image7.png" ContentType="image/png"/>
  <Override PartName="/ppt/media/image46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43.gif" ContentType="image/gif"/>
  <Override PartName="/ppt/media/image6.png" ContentType="image/png"/>
  <Override PartName="/ppt/media/image8.jpeg" ContentType="image/jpeg"/>
  <Override PartName="/ppt/media/image39.jpeg" ContentType="image/jpeg"/>
  <Override PartName="/ppt/media/image29.jpeg" ContentType="image/jpeg"/>
  <Override PartName="/ppt/media/image3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8B7-5CB5-499C-A431-EE7A1480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46D-B301-4B1E-9F52-BB8201CF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FA0-C13E-4528-9085-6FD200AA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C82-1EA6-47AB-8AD7-608DCCF2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3627-F48A-4862-8E5F-79BE99C2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71C4-A39B-430D-A047-71F9CB63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1360-8B98-42F2-9CD7-0065D403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3B40-E6A9-4F21-80F0-D0F0D22A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F0A1-0729-4F95-A49A-0ECCD246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242D-93C8-45DE-A4F6-C3110360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C645-9C1E-4EF2-9167-59515A4C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10F-E230-4E61-870B-79BCBB4A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B77D-9805-4D16-8CCD-E98EFB24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9227-7CF1-4A1B-800C-AA5A98A0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8488-9D39-4228-9EDD-E1F5BFC3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8853-1524-4D3E-91EE-D5BA349D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7E19-4EF0-4BC4-AD63-CCEE59C2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92E-955D-4995-998D-7D5BD39F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3A2-D5B0-474A-B4C8-B95DB323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CB0-8E61-41F9-B267-78F08389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984-CAEF-45D3-874F-15B6F504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858-2409-487A-978C-E95EAE2D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5A2-8D62-4EEE-9E10-317A90D2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369-DEC5-4BEE-82F9-D1B37FB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1B3-8DFE-45F5-A7C5-88B86964737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0A22-D8A9-4A54-9861-27227E13B8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0ECC-6190-4D9A-A4AD-29E130966FFF}" type="datetime">
              <a:rPr b="0" lang="ru-RU" sz="1000" spc="-1" strike="noStrike">
                <a:solidFill>
                  <a:srgbClr val="eaeae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86CF-3F4C-4383-B3BF-F0A4981C60FF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37.gif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99B6-0E17-4AF9-A0C3-34380ECE0F9F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Рисунок 6" descr="http://www.bel.ru/pics/news/2004/12/04/12835_257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6"/>
          <p:cNvSpPr txBox="1"/>
          <p:nvPr/>
        </p:nvSpPr>
        <p:spPr>
          <a:xfrm>
            <a:off x="228600" y="15228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Сила слова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7"/>
          <p:cNvSpPr txBox="1"/>
          <p:nvPr/>
        </p:nvSpPr>
        <p:spPr>
          <a:xfrm rot="19747800">
            <a:off x="3276720" y="533160"/>
            <a:ext cx="1266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ли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8"/>
          <p:cNvSpPr txBox="1"/>
          <p:nvPr/>
        </p:nvSpPr>
        <p:spPr>
          <a:xfrm>
            <a:off x="3962520" y="762120"/>
            <a:ext cx="5181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3333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д сквернословия"</a:t>
            </a:r>
            <a:endParaRPr b="0" lang="en-US" sz="1800" spc="1" strike="noStrike">
              <a:ln w="2232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3333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07FE-507B-4F06-8BBF-BAA893326ABC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асару Эмото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4" descr="emoto"/>
          <p:cNvPicPr/>
          <p:nvPr/>
        </p:nvPicPr>
        <p:blipFill>
          <a:blip r:embed="rId2"/>
          <a:stretch/>
        </p:blipFill>
        <p:spPr>
          <a:xfrm>
            <a:off x="304920" y="990720"/>
            <a:ext cx="3504960" cy="2993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emoto-editions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6629400" y="380880"/>
            <a:ext cx="2133720" cy="16765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7" descr="krasota124"/>
          <p:cNvPicPr/>
          <p:nvPr/>
        </p:nvPicPr>
        <p:blipFill>
          <a:blip r:embed="rId4"/>
          <a:stretch/>
        </p:blipFill>
        <p:spPr>
          <a:xfrm>
            <a:off x="6934320" y="380880"/>
            <a:ext cx="19047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D6C0-7631-4A7B-995E-606F69D5304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9" descr="k-vc"/>
          <p:cNvPicPr/>
          <p:nvPr/>
        </p:nvPicPr>
        <p:blipFill>
          <a:blip r:embed="rId1"/>
          <a:stretch/>
        </p:blipFill>
        <p:spPr>
          <a:xfrm>
            <a:off x="609480" y="990720"/>
            <a:ext cx="2286000" cy="17524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57" name="Picture 10" descr="k-vd"/>
          <p:cNvPicPr/>
          <p:nvPr/>
        </p:nvPicPr>
        <p:blipFill>
          <a:blip r:embed="rId2"/>
          <a:stretch/>
        </p:blipFill>
        <p:spPr>
          <a:xfrm>
            <a:off x="3581280" y="990720"/>
            <a:ext cx="2210040" cy="17715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58" name="Picture 11" descr="k-vnd"/>
          <p:cNvPicPr/>
          <p:nvPr/>
        </p:nvPicPr>
        <p:blipFill>
          <a:blip r:embed="rId3"/>
          <a:stretch/>
        </p:blipFill>
        <p:spPr>
          <a:xfrm>
            <a:off x="609480" y="3048120"/>
            <a:ext cx="2286000" cy="17809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59" name="Picture 12" descr="k-vl"/>
          <p:cNvPicPr/>
          <p:nvPr/>
        </p:nvPicPr>
        <p:blipFill>
          <a:blip r:embed="rId4"/>
          <a:stretch/>
        </p:blipFill>
        <p:spPr>
          <a:xfrm>
            <a:off x="3581280" y="3124080"/>
            <a:ext cx="2190960" cy="17240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60" name="Picture 13" descr="k-vf"/>
          <p:cNvPicPr/>
          <p:nvPr/>
        </p:nvPicPr>
        <p:blipFill>
          <a:blip r:embed="rId5"/>
          <a:stretch/>
        </p:blipFill>
        <p:spPr>
          <a:xfrm>
            <a:off x="6553080" y="3124080"/>
            <a:ext cx="2210040" cy="17337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61" name="Picture 14" descr="k-vlb"/>
          <p:cNvPicPr/>
          <p:nvPr/>
        </p:nvPicPr>
        <p:blipFill>
          <a:blip r:embed="rId6"/>
          <a:stretch/>
        </p:blipFill>
        <p:spPr>
          <a:xfrm>
            <a:off x="609480" y="5086440"/>
            <a:ext cx="2286000" cy="17715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62" name="Picture 15" descr="k-vp"/>
          <p:cNvPicPr/>
          <p:nvPr/>
        </p:nvPicPr>
        <p:blipFill>
          <a:blip r:embed="rId7"/>
          <a:stretch/>
        </p:blipFill>
        <p:spPr>
          <a:xfrm>
            <a:off x="3581280" y="5114880"/>
            <a:ext cx="2210040" cy="1743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63" name="Picture 16" descr="k-vn"/>
          <p:cNvPicPr/>
          <p:nvPr/>
        </p:nvPicPr>
        <p:blipFill>
          <a:blip r:embed="rId8"/>
          <a:stretch/>
        </p:blipFill>
        <p:spPr>
          <a:xfrm>
            <a:off x="6553080" y="990720"/>
            <a:ext cx="2210040" cy="1743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64" name="i-main-pic" descr="Картинка 784 из 3400"/>
          <p:cNvPicPr/>
          <p:nvPr/>
        </p:nvPicPr>
        <p:blipFill>
          <a:blip r:embed="rId9"/>
          <a:stretch/>
        </p:blipFill>
        <p:spPr>
          <a:xfrm>
            <a:off x="6553080" y="5113440"/>
            <a:ext cx="2211480" cy="17445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65" name="WordArt 20"/>
          <p:cNvSpPr txBox="1"/>
          <p:nvPr/>
        </p:nvSpPr>
        <p:spPr>
          <a:xfrm>
            <a:off x="1143000" y="228600"/>
            <a:ext cx="693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1295280" y="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Влияние слов на воду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0CF0-6718-4DA4-B85D-932B32AD98DB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Исследование вреда сквернослов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914040"/>
            <a:ext cx="4725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f1f4"/>
                </a:solidFill>
                <a:latin typeface="Times New Roman"/>
                <a:ea typeface="Times New Roman"/>
              </a:rPr>
              <a:t>«Ненормативная лексика очень активно воздействует на организм человека, со временем губя все живое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11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Член правления Уральского экологического союз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11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еннадий Чеур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11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imgb" descr="30103"/>
          <p:cNvPicPr/>
          <p:nvPr/>
        </p:nvPicPr>
        <p:blipFill>
          <a:blip r:embed="rId1"/>
          <a:stretch/>
        </p:blipFill>
        <p:spPr>
          <a:xfrm>
            <a:off x="5257800" y="1351080"/>
            <a:ext cx="3124080" cy="3030480"/>
          </a:xfrm>
          <a:prstGeom prst="rect">
            <a:avLst/>
          </a:prstGeom>
          <a:ln w="0">
            <a:noFill/>
          </a:ln>
        </p:spPr>
      </p:pic>
      <p:pic>
        <p:nvPicPr>
          <p:cNvPr id="271" name="i-main-pic" descr="Картинка 12 из 20"/>
          <p:cNvPicPr/>
          <p:nvPr/>
        </p:nvPicPr>
        <p:blipFill>
          <a:blip r:embed="rId2"/>
          <a:stretch/>
        </p:blipFill>
        <p:spPr>
          <a:xfrm>
            <a:off x="304920" y="4343400"/>
            <a:ext cx="1676160" cy="1990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verbalabuse1[1]"/>
          <p:cNvPicPr/>
          <p:nvPr/>
        </p:nvPicPr>
        <p:blipFill>
          <a:blip r:embed="rId3"/>
          <a:stretch/>
        </p:blipFill>
        <p:spPr>
          <a:xfrm>
            <a:off x="6400800" y="4114800"/>
            <a:ext cx="24382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95AB-F377-4E24-86EF-46B43912E565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Исследования вреда сквернослов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066320"/>
            <a:ext cx="6097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«Мы пришли к выводу, что ДНК специально приспособлены к восприятию речевых колебаний.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Любое произнесенное слово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-это не что иное, как волновая программа, которая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меняет вашу жизнь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Иногда слово срабатывает,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вызывая рак или, наоборот, устраняя болезнь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етр Гаряев, биолог, основатель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«Института квантовой генетики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i-main-pic" descr="Картинка 1 из 32"/>
          <p:cNvPicPr/>
          <p:nvPr/>
        </p:nvPicPr>
        <p:blipFill>
          <a:blip r:embed="rId1"/>
          <a:stretch/>
        </p:blipFill>
        <p:spPr>
          <a:xfrm>
            <a:off x="7238880" y="1143000"/>
            <a:ext cx="1905120" cy="2101680"/>
          </a:xfrm>
          <a:prstGeom prst="rect">
            <a:avLst/>
          </a:prstGeom>
          <a:ln w="0">
            <a:noFill/>
          </a:ln>
        </p:spPr>
      </p:pic>
      <p:pic>
        <p:nvPicPr>
          <p:cNvPr id="277" name="i-main-pic" descr="Картинка 6 из 32"/>
          <p:cNvPicPr/>
          <p:nvPr/>
        </p:nvPicPr>
        <p:blipFill>
          <a:blip r:embed="rId2"/>
          <a:stretch/>
        </p:blipFill>
        <p:spPr>
          <a:xfrm>
            <a:off x="5270400" y="3200400"/>
            <a:ext cx="3873600" cy="2921040"/>
          </a:xfrm>
          <a:prstGeom prst="rect">
            <a:avLst/>
          </a:prstGeom>
          <a:ln w="0">
            <a:noFill/>
          </a:ln>
        </p:spPr>
      </p:pic>
      <p:pic>
        <p:nvPicPr>
          <p:cNvPr id="278" name="imgb" descr="gariaev_1"/>
          <p:cNvPicPr/>
          <p:nvPr/>
        </p:nvPicPr>
        <p:blipFill>
          <a:blip r:embed="rId3"/>
          <a:stretch/>
        </p:blipFill>
        <p:spPr>
          <a:xfrm>
            <a:off x="533520" y="4419720"/>
            <a:ext cx="18288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10CF-5F35-4B9A-83D0-B7B6CA552381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Вред сквернослов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Негативно воздействует на генетический код  и наследственность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6" descr="cdb55057d5504bfd9e1ef3dbdff8c1eb"/>
          <p:cNvPicPr/>
          <p:nvPr/>
        </p:nvPicPr>
        <p:blipFill>
          <a:blip r:embed="rId1"/>
          <a:stretch/>
        </p:blipFill>
        <p:spPr>
          <a:xfrm>
            <a:off x="3657600" y="3228840"/>
            <a:ext cx="4495680" cy="3400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d38cb1f2e102a9f7f55f75e48c4f70c0[1]"/>
          <p:cNvPicPr/>
          <p:nvPr/>
        </p:nvPicPr>
        <p:blipFill>
          <a:blip r:embed="rId2"/>
          <a:stretch/>
        </p:blipFill>
        <p:spPr>
          <a:xfrm>
            <a:off x="533520" y="2793960"/>
            <a:ext cx="24876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F4B8-CE70-4734-8641-B09F281804AD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Picture 11" descr="MAN50"/>
          <p:cNvPicPr/>
          <p:nvPr/>
        </p:nvPicPr>
        <p:blipFill>
          <a:blip r:embed="rId1"/>
          <a:stretch/>
        </p:blipFill>
        <p:spPr>
          <a:xfrm>
            <a:off x="3487680" y="2587680"/>
            <a:ext cx="2151000" cy="28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8" name="Picture 9" descr="пшеница"/>
          <p:cNvPicPr/>
          <p:nvPr/>
        </p:nvPicPr>
        <p:blipFill>
          <a:blip r:embed="rId2"/>
          <a:stretch/>
        </p:blipFill>
        <p:spPr>
          <a:xfrm>
            <a:off x="457200" y="1905120"/>
            <a:ext cx="3352680" cy="388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Wheat_field"/>
          <p:cNvPicPr/>
          <p:nvPr/>
        </p:nvPicPr>
        <p:blipFill>
          <a:blip r:embed="rId3"/>
          <a:stretch/>
        </p:blipFill>
        <p:spPr>
          <a:xfrm>
            <a:off x="5486400" y="1828800"/>
            <a:ext cx="3352680" cy="3886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hands_uplifted_to_the_cross_md_wht"/>
          <p:cNvPicPr/>
          <p:nvPr/>
        </p:nvPicPr>
        <p:blipFill>
          <a:blip r:embed="rId4"/>
          <a:stretch/>
        </p:blipFill>
        <p:spPr>
          <a:xfrm>
            <a:off x="7620120" y="22860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9"/>
          <p:cNvSpPr/>
          <p:nvPr/>
        </p:nvSpPr>
        <p:spPr>
          <a:xfrm>
            <a:off x="0" y="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Эксперимент с зернами пшениц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F469-DB6F-4924-A3E1-98A754FAC031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1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Изучение влияния на растения энергетического потенциала сл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Рисунок 10" descr="Арабидопсис - живые достопримечательности России"/>
          <p:cNvPicPr/>
          <p:nvPr/>
        </p:nvPicPr>
        <p:blipFill>
          <a:blip r:embed="rId1"/>
          <a:stretch/>
        </p:blipFill>
        <p:spPr>
          <a:xfrm>
            <a:off x="219240" y="1905120"/>
            <a:ext cx="3590640" cy="441936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1" descr="Цветок Arabidopsis Thaliana, соcтоящий из четырех белых лепестков по 2-4 мм в ширину каждый."/>
          <p:cNvPicPr/>
          <p:nvPr/>
        </p:nvPicPr>
        <p:blipFill>
          <a:blip r:embed="rId2"/>
          <a:stretch/>
        </p:blipFill>
        <p:spPr>
          <a:xfrm>
            <a:off x="5181480" y="1905120"/>
            <a:ext cx="3591000" cy="4419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MAN50"/>
          <p:cNvPicPr/>
          <p:nvPr/>
        </p:nvPicPr>
        <p:blipFill>
          <a:blip r:embed="rId3"/>
          <a:stretch/>
        </p:blipFill>
        <p:spPr>
          <a:xfrm>
            <a:off x="3544920" y="2743200"/>
            <a:ext cx="2090880" cy="2819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f43"/>
          <p:cNvPicPr/>
          <p:nvPr/>
        </p:nvPicPr>
        <p:blipFill>
          <a:blip r:embed="rId4"/>
          <a:stretch/>
        </p:blipFill>
        <p:spPr>
          <a:xfrm>
            <a:off x="8077320" y="5099040"/>
            <a:ext cx="1523880" cy="175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2f3"/>
          <p:cNvPicPr/>
          <p:nvPr/>
        </p:nvPicPr>
        <p:blipFill>
          <a:blip r:embed="rId5"/>
          <a:stretch/>
        </p:blipFill>
        <p:spPr>
          <a:xfrm>
            <a:off x="-228600" y="-228600"/>
            <a:ext cx="1600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5C49-D5F7-4BB3-B122-933F43A02743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Состояние здоровья нас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Диаграмма 1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FA4D-4372-4827-8A52-D6CB56E690E7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Вывод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078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Единственный путь, ведущий к здоровью каждого человека – это изменение отношения человека к самому себе.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5" name="Picture 12" descr="AG00051_"/>
          <p:cNvPicPr/>
          <p:nvPr/>
        </p:nvPicPr>
        <p:blipFill>
          <a:blip r:embed="rId1"/>
          <a:stretch/>
        </p:blipFill>
        <p:spPr>
          <a:xfrm>
            <a:off x="0" y="2747880"/>
            <a:ext cx="619200" cy="290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Heart-Dance"/>
          <p:cNvPicPr/>
          <p:nvPr/>
        </p:nvPicPr>
        <p:blipFill>
          <a:blip r:embed="rId2"/>
          <a:stretch/>
        </p:blipFill>
        <p:spPr>
          <a:xfrm>
            <a:off x="617220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8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9AAD-6EA3-4DFF-B88A-6CE97814CEA7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85800" y="6019920"/>
            <a:ext cx="784872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9" name="Диаграмма 9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E727-6FD6-436D-9231-DE940E31F011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838080" y="6019920"/>
            <a:ext cx="769644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Диаграмма 1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8BD0-90F7-408E-B342-C72DE79F2F60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45352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Как избавиться от сквернослов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нять решени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 сквернословит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3" name="Picture 4" descr="1[1]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867280" y="1219320"/>
            <a:ext cx="2907000" cy="4068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imgpreview слово"/>
          <p:cNvPicPr/>
          <p:nvPr/>
        </p:nvPicPr>
        <p:blipFill>
          <a:blip r:embed="rId2"/>
          <a:stretch/>
        </p:blipFill>
        <p:spPr>
          <a:xfrm>
            <a:off x="533520" y="3200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0AD5-5E32-422E-B283-7B6757A17BA1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838080" y="6019920"/>
            <a:ext cx="769644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Диаграмма 5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B003-AD05-4BBF-9A07-CDA3A87DFF8C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838080" y="6019920"/>
            <a:ext cx="769644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Диаграмма 7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6938-482A-4A30-A62E-563A66F81CC0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838080" y="6019920"/>
            <a:ext cx="769644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Диаграмма 10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FF33-422A-4FDF-B293-B43E11D87BC3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838080" y="6019920"/>
            <a:ext cx="769644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Диаграмма 6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91F0-4DB6-46B0-99B8-C0F93837591F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4419720" cy="563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Сквернословие - это речь, наполненная неприличными выражениями, непристойными словами, бранью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6" descr="ao120[1]"/>
          <p:cNvPicPr/>
          <p:nvPr/>
        </p:nvPicPr>
        <p:blipFill>
          <a:blip r:embed="rId1"/>
          <a:stretch/>
        </p:blipFill>
        <p:spPr>
          <a:xfrm>
            <a:off x="5943600" y="1066680"/>
            <a:ext cx="2933640" cy="4191120"/>
          </a:xfrm>
          <a:prstGeom prst="rect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</a:ln>
        </p:spPr>
      </p:pic>
      <p:pic>
        <p:nvPicPr>
          <p:cNvPr id="236" name="Picture 7" descr="AG00343_"/>
          <p:cNvPicPr/>
          <p:nvPr/>
        </p:nvPicPr>
        <p:blipFill>
          <a:blip r:embed="rId2"/>
          <a:stretch/>
        </p:blipFill>
        <p:spPr>
          <a:xfrm>
            <a:off x="304920" y="1143000"/>
            <a:ext cx="99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97B5-0285-420C-BD5E-DF66DEF71641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Picture 4" descr="AN057"/>
          <p:cNvPicPr/>
          <p:nvPr/>
        </p:nvPicPr>
        <p:blipFill>
          <a:blip r:embed="rId1"/>
          <a:stretch/>
        </p:blipFill>
        <p:spPr>
          <a:xfrm>
            <a:off x="0" y="0"/>
            <a:ext cx="1693800" cy="190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1752480" y="2286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Древняя Русь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1523880" y="167652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В древней Руси мат являлся ни чем иным, как заклинанием. Наши предки произносили эти слова, призывая себе на помощь демонов зла. Ведьмы и колдуньи использовали сквернословие в своих наговорах, насылая прокляти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8" descr="AN472"/>
          <p:cNvPicPr/>
          <p:nvPr/>
        </p:nvPicPr>
        <p:blipFill>
          <a:blip r:embed="rId2"/>
          <a:stretch/>
        </p:blipFill>
        <p:spPr>
          <a:xfrm>
            <a:off x="0" y="2819520"/>
            <a:ext cx="1295280" cy="2079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AN505"/>
          <p:cNvPicPr/>
          <p:nvPr/>
        </p:nvPicPr>
        <p:blipFill>
          <a:blip r:embed="rId3"/>
          <a:stretch/>
        </p:blipFill>
        <p:spPr>
          <a:xfrm>
            <a:off x="7391520" y="5181480"/>
            <a:ext cx="1752480" cy="1460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AG00411_"/>
          <p:cNvPicPr/>
          <p:nvPr/>
        </p:nvPicPr>
        <p:blipFill>
          <a:blip r:embed="rId4"/>
          <a:stretch/>
        </p:blipFill>
        <p:spPr>
          <a:xfrm>
            <a:off x="-1276200" y="5035680"/>
            <a:ext cx="30286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760"/>
                            </p:stCondLst>
                            <p:childTnLst>
                              <p:par>
                                <p:cTn id="55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6898 C 0.01181 -0.10116 0.02778 -0.13125 0.05972 -0.13125 C 0.09583 -0.13125 0.10833 -0.10116 0.12014 -0.06898 C 0.13611 -0.03356 0.14792 0.00209 0.18819 0.00209 C 0.22431 0.00209 0.23611 -0.03356 0.25208 -0.06898 C 0.25972 -0.10116 0.27569 -0.13125 0.31181 -0.13125 C 0.34375 -0.13125 0.35972 -0.10116 0.37222 -0.06898 C 0.38403 -0.03356 0.4 0.00209 0.43611 0.00209 C 0.47222 0.00209 0.5 -0.06898 0.5 -0.06875 C 0.51181 -0.10116 0.52431 -0.13125 0.55972 -0.13125 C 0.59583 -0.13125 0.60833 -0.10116 0.62014 -0.06898 C 0.63611 -0.03356 0.64792 0.00209 0.68819 0.00209 C 0.72431 0.00209 0.73611 -0.03356 0.74792 -0.06898 C 0.76389 -0.10116 0.77569 -0.13125 0.81181 -0.13125 C 0.84375 -0.13125 0.85972 -0.10116 0.87222 -0.06898 C 0.88403 -0.03356 0.9 0.00209 0.93611 0.00209 C 0.97222 0.00209 0.98403 -0.03356 1 -0.06898 E">
                                      <p:cBhvr>
                                        <p:cTn id="56" dur="5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2F79-208C-45A2-A84C-17F58569CE77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WordArt 7"/>
          <p:cNvSpPr txBox="1"/>
          <p:nvPr/>
        </p:nvSpPr>
        <p:spPr>
          <a:xfrm>
            <a:off x="1066680" y="228600"/>
            <a:ext cx="8077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Губительная сила сл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6" descr="imgpreview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5085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images"/>
          <p:cNvPicPr/>
          <p:nvPr/>
        </p:nvPicPr>
        <p:blipFill>
          <a:blip r:embed="rId2"/>
          <a:stretch/>
        </p:blipFill>
        <p:spPr>
          <a:xfrm>
            <a:off x="914400" y="1295280"/>
            <a:ext cx="693432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u</cp:lastModifiedBy>
  <dcterms:modified xsi:type="dcterms:W3CDTF">2015-04-14T16:28:39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