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939D-D0E7-4A90-B37D-78E5CDED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F27-00D0-4EE6-AEF9-78ADA825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9EB-64E5-4297-8245-438B20AD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EB7-1C97-475B-9260-E3EDCD46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E96-6961-43DC-8A61-4051C042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052-05A3-4ADB-ABAD-9376DD1B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326A-4597-4AD6-84D4-0D90F649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C3B-86FF-45B1-B27E-25172C8F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B37D-A270-4E76-B8FB-D9340C8C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F7B0-DA90-4C9F-9E78-E5405413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51CB-A2AD-41DF-90C0-69966F54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7DB7-2F44-40D4-B17D-748182C4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588D-364A-467C-99B4-2DAAB38DC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tarworm13.chat.ru/lj/mati.jpe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45AD-3D7B-473C-B0B5-534BA9599D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Как избавиться от сквернослов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37339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противосто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ю ср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Слайд16"/>
          <p:cNvPicPr/>
          <p:nvPr/>
        </p:nvPicPr>
        <p:blipFill>
          <a:blip r:embed="rId1"/>
          <a:stretch/>
        </p:blipFill>
        <p:spPr>
          <a:xfrm>
            <a:off x="1676520" y="388620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45" name="i-main-pic" descr="Картинка 18 из 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3429000"/>
            <a:ext cx="3047760" cy="2401920"/>
          </a:xfrm>
          <a:prstGeom prst="rect">
            <a:avLst/>
          </a:prstGeom>
          <a:ln w="0">
            <a:noFill/>
          </a:ln>
        </p:spPr>
      </p:pic>
      <p:sp>
        <p:nvSpPr>
          <p:cNvPr id="46" name="Line 7"/>
          <p:cNvSpPr/>
          <p:nvPr/>
        </p:nvSpPr>
        <p:spPr>
          <a:xfrm flipV="1">
            <a:off x="3657600" y="3429000"/>
            <a:ext cx="2895480" cy="2362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3429000" y="3429000"/>
            <a:ext cx="3124080" cy="2438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imgpreview цветок"/>
          <p:cNvPicPr/>
          <p:nvPr/>
        </p:nvPicPr>
        <p:blipFill>
          <a:blip r:embed="rId4"/>
          <a:stretch/>
        </p:blipFill>
        <p:spPr>
          <a:xfrm>
            <a:off x="3581280" y="2286000"/>
            <a:ext cx="5189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E2A4-F955-4726-A1CA-008E04CAE2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Как избавиться от сквернослов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920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й речи как мож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позитив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ost-19349-1188772656[1]"/>
          <p:cNvPicPr/>
          <p:nvPr/>
        </p:nvPicPr>
        <p:blipFill>
          <a:blip r:embed="rId1"/>
          <a:stretch/>
        </p:blipFill>
        <p:spPr>
          <a:xfrm>
            <a:off x="4343400" y="3733920"/>
            <a:ext cx="4419720" cy="1795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1241270219_42331630_dumay[1]"/>
          <p:cNvPicPr/>
          <p:nvPr/>
        </p:nvPicPr>
        <p:blipFill>
          <a:blip r:embed="rId2"/>
          <a:stretch/>
        </p:blipFill>
        <p:spPr>
          <a:xfrm>
            <a:off x="6934320" y="1371600"/>
            <a:ext cx="1828800" cy="16081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54" name="Picture 7" descr="i"/>
          <p:cNvPicPr/>
          <p:nvPr/>
        </p:nvPicPr>
        <p:blipFill>
          <a:blip r:embed="rId3"/>
          <a:stretch/>
        </p:blipFill>
        <p:spPr>
          <a:xfrm>
            <a:off x="380880" y="4419720"/>
            <a:ext cx="3463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6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28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96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81D6-B767-4D32-96CD-C10A9B9235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Как избавиться от сквернослов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83808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позитивным методам расслаб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Изображение 008"/>
          <p:cNvPicPr/>
          <p:nvPr/>
        </p:nvPicPr>
        <p:blipFill>
          <a:blip r:embed="rId1"/>
          <a:stretch/>
        </p:blipFill>
        <p:spPr>
          <a:xfrm>
            <a:off x="1238400" y="4340160"/>
            <a:ext cx="3120840" cy="234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Изображение 040"/>
          <p:cNvPicPr/>
          <p:nvPr/>
        </p:nvPicPr>
        <p:blipFill>
          <a:blip r:embed="rId2"/>
          <a:stretch/>
        </p:blipFill>
        <p:spPr>
          <a:xfrm>
            <a:off x="179280" y="1989000"/>
            <a:ext cx="3206880" cy="2372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Изображение 039"/>
          <p:cNvPicPr/>
          <p:nvPr/>
        </p:nvPicPr>
        <p:blipFill>
          <a:blip r:embed="rId3"/>
          <a:stretch/>
        </p:blipFill>
        <p:spPr>
          <a:xfrm>
            <a:off x="5364000" y="1844640"/>
            <a:ext cx="3414960" cy="25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Изображение 099"/>
          <p:cNvPicPr/>
          <p:nvPr/>
        </p:nvPicPr>
        <p:blipFill>
          <a:blip r:embed="rId4"/>
          <a:stretch/>
        </p:blipFill>
        <p:spPr>
          <a:xfrm>
            <a:off x="4565520" y="4340160"/>
            <a:ext cx="305460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16:20:06Z</dcterms:created>
  <dc:creator>iru</dc:creator>
  <dc:description/>
  <dc:language>en-US</dc:language>
  <cp:lastModifiedBy>iru</cp:lastModifiedBy>
  <dcterms:modified xsi:type="dcterms:W3CDTF">2015-04-14T16:23:15Z</dcterms:modified>
  <cp:revision>3</cp:revision>
  <dc:subject/>
  <dc:title>Как избавиться от сквернословия?</dc:title>
</cp:coreProperties>
</file>