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C8B0-870D-4105-A446-BBBCEAD5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1F2D-BF5A-4427-89AF-B0CAC034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8F4-3D48-4EBB-B9B0-E2B93D3A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138C-D799-4985-AE49-D355E996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38E-0392-4A47-88DD-9576946F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5607-A01F-4A3A-AE36-B0C60E62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DB61-1C66-48FC-8938-81622866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172-85EE-40C0-8FFD-48F32ED6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2013-8A48-49C9-875D-EEF4E066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226-0A5F-40D3-B69A-D10242BF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34DB-906A-4D6B-9BD0-BB02014E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5017-B65D-41D7-841C-5391C491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5183-4669-4167-8CA4-C55F01D5D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tarworm13.chat.ru/lj/mati.jpe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21D9-D99D-4405-8DA4-75CBBE5D8A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Как избавиться от сквернослов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37339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противосто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ю ср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Слайд16"/>
          <p:cNvPicPr/>
          <p:nvPr/>
        </p:nvPicPr>
        <p:blipFill>
          <a:blip r:embed="rId1"/>
          <a:stretch/>
        </p:blipFill>
        <p:spPr>
          <a:xfrm>
            <a:off x="1676520" y="388620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45" name="i-main-pic" descr="Картинка 18 из 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3429000"/>
            <a:ext cx="3047760" cy="2401920"/>
          </a:xfrm>
          <a:prstGeom prst="rect">
            <a:avLst/>
          </a:prstGeom>
          <a:ln w="0">
            <a:noFill/>
          </a:ln>
        </p:spPr>
      </p:pic>
      <p:sp>
        <p:nvSpPr>
          <p:cNvPr id="46" name="Line 7"/>
          <p:cNvSpPr/>
          <p:nvPr/>
        </p:nvSpPr>
        <p:spPr>
          <a:xfrm flipV="1">
            <a:off x="3657600" y="3429000"/>
            <a:ext cx="2895480" cy="2362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3429000" y="3429000"/>
            <a:ext cx="3124080" cy="2438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imgpreview цветок"/>
          <p:cNvPicPr/>
          <p:nvPr/>
        </p:nvPicPr>
        <p:blipFill>
          <a:blip r:embed="rId4"/>
          <a:stretch/>
        </p:blipFill>
        <p:spPr>
          <a:xfrm>
            <a:off x="3581280" y="2286000"/>
            <a:ext cx="5189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A149-68E5-442D-AA20-7DC8A3B3FE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Как избавиться от сквернослов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920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й речи как мож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позитив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ost-19349-1188772656[1]"/>
          <p:cNvPicPr/>
          <p:nvPr/>
        </p:nvPicPr>
        <p:blipFill>
          <a:blip r:embed="rId1"/>
          <a:stretch/>
        </p:blipFill>
        <p:spPr>
          <a:xfrm>
            <a:off x="4343400" y="3733920"/>
            <a:ext cx="4419720" cy="1795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1241270219_42331630_dumay[1]"/>
          <p:cNvPicPr/>
          <p:nvPr/>
        </p:nvPicPr>
        <p:blipFill>
          <a:blip r:embed="rId2"/>
          <a:stretch/>
        </p:blipFill>
        <p:spPr>
          <a:xfrm>
            <a:off x="6934320" y="1371600"/>
            <a:ext cx="1828800" cy="16081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pic>
        <p:nvPicPr>
          <p:cNvPr id="54" name="Picture 7" descr="i"/>
          <p:cNvPicPr/>
          <p:nvPr/>
        </p:nvPicPr>
        <p:blipFill>
          <a:blip r:embed="rId3"/>
          <a:stretch/>
        </p:blipFill>
        <p:spPr>
          <a:xfrm>
            <a:off x="380880" y="4419720"/>
            <a:ext cx="3463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6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28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96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C032-3326-45F7-BE91-715DC43FFE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Как избавиться от сквернослов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83808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позитивным методам расслаб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Изображение 008"/>
          <p:cNvPicPr/>
          <p:nvPr/>
        </p:nvPicPr>
        <p:blipFill>
          <a:blip r:embed="rId1"/>
          <a:stretch/>
        </p:blipFill>
        <p:spPr>
          <a:xfrm>
            <a:off x="1238400" y="4340160"/>
            <a:ext cx="3120840" cy="234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Изображение 040"/>
          <p:cNvPicPr/>
          <p:nvPr/>
        </p:nvPicPr>
        <p:blipFill>
          <a:blip r:embed="rId2"/>
          <a:stretch/>
        </p:blipFill>
        <p:spPr>
          <a:xfrm>
            <a:off x="179280" y="1989000"/>
            <a:ext cx="3206880" cy="2372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Изображение 039"/>
          <p:cNvPicPr/>
          <p:nvPr/>
        </p:nvPicPr>
        <p:blipFill>
          <a:blip r:embed="rId3"/>
          <a:stretch/>
        </p:blipFill>
        <p:spPr>
          <a:xfrm>
            <a:off x="5364000" y="1844640"/>
            <a:ext cx="3414960" cy="25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Изображение 099"/>
          <p:cNvPicPr/>
          <p:nvPr/>
        </p:nvPicPr>
        <p:blipFill>
          <a:blip r:embed="rId4"/>
          <a:stretch/>
        </p:blipFill>
        <p:spPr>
          <a:xfrm>
            <a:off x="4565520" y="4340160"/>
            <a:ext cx="305460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16:20:06Z</dcterms:created>
  <dc:creator>iru</dc:creator>
  <dc:description/>
  <dc:language>en-US</dc:language>
  <cp:lastModifiedBy>iru</cp:lastModifiedBy>
  <dcterms:modified xsi:type="dcterms:W3CDTF">2015-04-14T16:23:15Z</dcterms:modified>
  <cp:revision>3</cp:revision>
  <dc:subject/>
  <dc:title>Как избавиться от сквернословия?</dc:title>
</cp:coreProperties>
</file>